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381-2BBA-4B13-8364-053958E6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113-74F2-497F-83A6-3B2B0DC2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95F-7399-4753-A599-B8CB8B8B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7BE-1621-4BE2-B3F7-516D4BE3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82A-EDB1-4C95-BD39-2310360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F4E-31C0-445A-BCFA-202DD195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391-FDE5-4322-A1D3-4A8EF130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DEB-5447-41FC-97B8-62DA7A6B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B24-A994-4EAA-87B1-8EC2037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E06-EBB7-4442-B744-4651727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46F-CDDE-4410-A369-EA022C9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81E-D405-49AD-A920-50BC80E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675C-DE71-4AC6-A9AD-98ABF44D33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250800" y="182880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prstGeom prst="pie">
              <a:avLst/>
            </a:pr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prstGeom prst="pie">
            <a:avLst/>
          </a:pr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8234F062-5A40-49EA-A7E2-E2B79B8C05DA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prstGeom prst="pie">
            <a:avLst/>
          </a:pr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prstGeom prst="pie">
            <a:avLst/>
          </a:pr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prstGeom prst="pie">
            <a:avLst/>
          </a:pr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USER-</cp:lastModifiedBy>
  <dcterms:modified xsi:type="dcterms:W3CDTF">2016-05-30T05:01:51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