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A2B-F243-406A-BBA9-B13A8617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A4B-140F-4986-BABF-6944D941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476-85D8-41F8-9B0D-10E439A8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F04-971D-4E78-BB56-10CFE5B3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AA2-C209-43F6-8AB0-B84CE456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2CF-149C-4E47-A0EB-DFFC7BDD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24A-7017-45E2-8820-33F8AA1E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987-B829-4D12-9CB8-0945474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E98-1251-4FBC-BF4F-B40CB7AA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C02-EF29-47E0-8A35-B1C0DAB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6B5-6FF1-4C42-99AE-77EB8FE2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E9F-66FC-4D8A-A5A3-B1C72EC5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237F-F968-4E9D-BB0E-E4BB4D9F98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B459-BE4C-4849-8BBA-B19ED660AF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6" descr=""/>
          <p:cNvPicPr/>
          <p:nvPr/>
        </p:nvPicPr>
        <p:blipFill>
          <a:blip r:embed="rId1"/>
          <a:stretch/>
        </p:blipFill>
        <p:spPr>
          <a:xfrm>
            <a:off x="-1440" y="0"/>
            <a:ext cx="3573360" cy="574524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44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64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Point Template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艺术抽象类应用模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1"/>
          <a:stretch/>
        </p:blipFill>
        <p:spPr>
          <a:xfrm>
            <a:off x="-1440" y="0"/>
            <a:ext cx="2485800" cy="574524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79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90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94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98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102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dc:language>en-US</dc:language>
  <cp:lastModifiedBy>微软用户</cp:lastModifiedBy>
  <dcterms:modified xsi:type="dcterms:W3CDTF">2014-09-06T14:37:13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