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34F-1171-4205-8AD6-B425F0D5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E17-FC23-4F23-93DE-4A7F06AE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F82-3BEE-41CA-8A7A-1C7437D1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D43-AB77-4D63-B388-27FF1005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563-BD4B-433D-96D5-0E107C10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E8A-B91A-499A-885A-C19F7B10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3C4-B143-4329-B236-90DB6D62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6C5-08A7-4AC4-BC62-CE9EDB07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42A-E1DF-4104-AA45-79ABACC6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AFC-F075-43B3-ADCF-E92E909E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77B-E300-4EF7-8F46-38573145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EE1-3D7F-40BE-BF31-97DBD5F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AFF1-F9C4-45F9-BDB2-20C790531F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DCCC-B313-49A5-B4E7-29CE03ABCB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6" descr=""/>
          <p:cNvPicPr/>
          <p:nvPr/>
        </p:nvPicPr>
        <p:blipFill>
          <a:blip r:embed="rId1"/>
          <a:stretch/>
        </p:blipFill>
        <p:spPr>
          <a:xfrm>
            <a:off x="-1440" y="0"/>
            <a:ext cx="3573360" cy="574524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44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64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Point Template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艺术抽象类应用模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1"/>
          <a:stretch/>
        </p:blipFill>
        <p:spPr>
          <a:xfrm>
            <a:off x="-1440" y="0"/>
            <a:ext cx="2485800" cy="574524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79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90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94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98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102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dc:language>en-US</dc:language>
  <cp:lastModifiedBy>微软用户</cp:lastModifiedBy>
  <dcterms:modified xsi:type="dcterms:W3CDTF">2014-09-06T14:37:13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