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403-9BCC-4894-BF82-E63B20E0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5D6-2663-4655-8756-A8CF5CC6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191-D3A6-49C6-8A3A-E764E0FC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DEC-FABC-4540-AFF9-B4800C5F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CA58-67C5-4B57-A0AC-1381038C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E205-CACE-43D2-B88D-000AB3A3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FDE0-D169-4ED7-8C9B-6FC52C83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C3E8-82E8-403B-8F2A-6A1271B6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806F-F104-441D-A7F6-34B3C990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946A-6BB0-4795-9391-5F308909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3BC4-2352-4499-92B5-73B62A38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A18-6BD3-4C83-90FA-D8D0D3D5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3EA3-222D-4FF2-83F5-7B3349CC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C96D-3E94-4D82-8760-CCB2ECEC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6312-7FFD-4966-B125-959BE3E5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B033-BFA9-4DD9-B0EC-A32C38CC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13B0-BD49-4A3E-9791-F99FA03F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D2641-E85B-415D-B147-287CA75F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2B6B-128E-4DED-979C-73717F17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63BCB-AE50-405D-A758-F264AF12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FA451-EE21-4498-A22B-E36854E5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27219-2873-4EC7-9AAE-64214749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8B1-2EA9-4C10-8DFD-1FFC5612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DBEBB-B599-4BD2-9177-7FDAF671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165C5-06C0-4514-9606-0DB44C6A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45803-D01B-40E7-937F-CD27767E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26F4C-D283-4813-A80D-40C19156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42ECA-9442-452A-B575-BBBC1F8A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A6A1E-056A-4BE1-899E-2A378AFF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DD58E-F07A-443B-BE45-AC5BB93D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32573-6E31-49EB-8E64-9621027A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B7A2-61DE-47E2-B3DD-13E34C62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D4A1C-01E0-4F49-9CDF-AA2C83D3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CE5-7EC0-4EDA-9F51-71D49368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E9245-A63A-4628-9F6D-A5480BF6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15A50-FA7D-478B-B7F8-4E432652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164FD-6722-4031-95CE-EB17117D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3B0F2-8BD1-4F6D-A171-AB104ECA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8146E-D748-460C-8D08-2CE21CC1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53A68-49FD-46D6-987A-B4E8B08E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75858-EA3E-4C2E-89EA-D8253B20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7D58B-1FDD-4775-B3CE-1F85211E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438BD-1E11-4EE9-A8D9-35505F12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25E-F06F-4FFE-A674-15705CDC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8CD-9F4D-4529-87A2-DD80C2EE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34D-1ABE-4C21-B82F-CCEFB93B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5EA-BEC8-45F9-BF94-01DEC66C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532-397B-4C68-BFD2-F8579B31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899B-8A3C-4D16-97E8-BABC537BF5E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84B2-45A3-4FCC-AD05-A0A267F133D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45EC-68EF-41DE-A8D4-0522B57A37C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D256-21DC-42C7-B218-524A8F56B53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35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37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9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40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1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42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4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45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47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9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50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1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52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55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6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57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60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1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62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4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75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76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8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79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1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84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85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88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0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93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94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97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603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5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606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608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611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613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5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616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620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24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49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54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57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60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63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66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68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0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71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73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76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7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78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81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83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87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89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1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92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3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94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97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99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1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702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719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2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3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4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5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6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2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3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4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5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6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54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80040" cy="3419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2" descr=""/>
          <p:cNvPicPr/>
          <p:nvPr/>
        </p:nvPicPr>
        <p:blipFill>
          <a:blip r:embed="rId2"/>
          <a:stretch/>
        </p:blipFill>
        <p:spPr>
          <a:xfrm>
            <a:off x="6100920" y="792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3" descr=""/>
          <p:cNvPicPr/>
          <p:nvPr/>
        </p:nvPicPr>
        <p:blipFill>
          <a:blip r:embed="rId3"/>
          <a:stretch/>
        </p:blipFill>
        <p:spPr>
          <a:xfrm>
            <a:off x="9151920" y="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4" descr=""/>
          <p:cNvPicPr/>
          <p:nvPr/>
        </p:nvPicPr>
        <p:blipFill>
          <a:blip r:embed="rId4"/>
          <a:stretch/>
        </p:blipFill>
        <p:spPr>
          <a:xfrm>
            <a:off x="610236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5" descr=""/>
          <p:cNvPicPr/>
          <p:nvPr/>
        </p:nvPicPr>
        <p:blipFill>
          <a:blip r:embed="rId5"/>
          <a:stretch/>
        </p:blipFill>
        <p:spPr>
          <a:xfrm>
            <a:off x="915192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6" descr=""/>
          <p:cNvPicPr/>
          <p:nvPr/>
        </p:nvPicPr>
        <p:blipFill>
          <a:blip r:embed="rId6"/>
          <a:stretch/>
        </p:blipFill>
        <p:spPr>
          <a:xfrm>
            <a:off x="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7" descr=""/>
          <p:cNvPicPr/>
          <p:nvPr/>
        </p:nvPicPr>
        <p:blipFill>
          <a:blip r:embed="rId7"/>
          <a:stretch/>
        </p:blipFill>
        <p:spPr>
          <a:xfrm>
            <a:off x="305748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8" descr=""/>
          <p:cNvPicPr/>
          <p:nvPr/>
        </p:nvPicPr>
        <p:blipFill>
          <a:blip r:embed="rId8"/>
          <a:stretch/>
        </p:blipFill>
        <p:spPr>
          <a:xfrm>
            <a:off x="61117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9" descr=""/>
          <p:cNvPicPr/>
          <p:nvPr/>
        </p:nvPicPr>
        <p:blipFill>
          <a:blip r:embed="rId9"/>
          <a:stretch/>
        </p:blipFill>
        <p:spPr>
          <a:xfrm>
            <a:off x="91519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10" descr=""/>
          <p:cNvPicPr/>
          <p:nvPr/>
        </p:nvPicPr>
        <p:blipFill>
          <a:blip r:embed="rId10"/>
          <a:stretch/>
        </p:blipFill>
        <p:spPr>
          <a:xfrm>
            <a:off x="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11" descr=""/>
          <p:cNvPicPr/>
          <p:nvPr/>
        </p:nvPicPr>
        <p:blipFill>
          <a:blip r:embed="rId11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2" descr=""/>
          <p:cNvPicPr/>
          <p:nvPr/>
        </p:nvPicPr>
        <p:blipFill>
          <a:blip r:embed="rId12"/>
          <a:stretch/>
        </p:blipFill>
        <p:spPr>
          <a:xfrm>
            <a:off x="610092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13" descr=""/>
          <p:cNvPicPr/>
          <p:nvPr/>
        </p:nvPicPr>
        <p:blipFill>
          <a:blip r:embed="rId13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802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"/>
          <p:cNvPicPr/>
          <p:nvPr/>
        </p:nvPicPr>
        <p:blipFill>
          <a:blip r:embed="rId1"/>
          <a:stretch/>
        </p:blipFill>
        <p:spPr>
          <a:xfrm>
            <a:off x="6080040" y="-4680"/>
            <a:ext cx="6112080" cy="343836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2" descr=""/>
          <p:cNvPicPr/>
          <p:nvPr/>
        </p:nvPicPr>
        <p:blipFill>
          <a:blip r:embed="rId2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3" descr=""/>
          <p:cNvPicPr/>
          <p:nvPr/>
        </p:nvPicPr>
        <p:blipFill>
          <a:blip r:embed="rId3"/>
          <a:stretch/>
        </p:blipFill>
        <p:spPr>
          <a:xfrm>
            <a:off x="0" y="342108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4" descr=""/>
          <p:cNvPicPr/>
          <p:nvPr/>
        </p:nvPicPr>
        <p:blipFill>
          <a:blip r:embed="rId4"/>
          <a:stretch/>
        </p:blipFill>
        <p:spPr>
          <a:xfrm>
            <a:off x="302436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5" descr=""/>
          <p:cNvPicPr/>
          <p:nvPr/>
        </p:nvPicPr>
        <p:blipFill>
          <a:blip r:embed="rId5"/>
          <a:stretch/>
        </p:blipFill>
        <p:spPr>
          <a:xfrm>
            <a:off x="608652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6" descr=""/>
          <p:cNvPicPr/>
          <p:nvPr/>
        </p:nvPicPr>
        <p:blipFill>
          <a:blip r:embed="rId6"/>
          <a:stretch/>
        </p:blipFill>
        <p:spPr>
          <a:xfrm>
            <a:off x="9151920" y="3438360"/>
            <a:ext cx="3040200" cy="171000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7" descr=""/>
          <p:cNvPicPr/>
          <p:nvPr/>
        </p:nvPicPr>
        <p:blipFill>
          <a:blip r:embed="rId7"/>
          <a:stretch/>
        </p:blipFill>
        <p:spPr>
          <a:xfrm>
            <a:off x="0" y="5140440"/>
            <a:ext cx="3040200" cy="171108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8" descr=""/>
          <p:cNvPicPr/>
          <p:nvPr/>
        </p:nvPicPr>
        <p:blipFill>
          <a:blip r:embed="rId8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9" descr=""/>
          <p:cNvPicPr/>
          <p:nvPr/>
        </p:nvPicPr>
        <p:blipFill>
          <a:blip r:embed="rId9"/>
          <a:stretch/>
        </p:blipFill>
        <p:spPr>
          <a:xfrm>
            <a:off x="609588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10" descr=""/>
          <p:cNvPicPr/>
          <p:nvPr/>
        </p:nvPicPr>
        <p:blipFill>
          <a:blip r:embed="rId10"/>
          <a:stretch/>
        </p:blipFill>
        <p:spPr>
          <a:xfrm>
            <a:off x="0" y="0"/>
            <a:ext cx="6064200" cy="341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99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501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504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5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506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8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509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0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511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3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3-03T09:23:01Z</dcterms:modified>
  <cp:revision>78</cp:revision>
  <dc:subject/>
  <dc:title>PowerPoint 演示文稿</dc:title>
</cp:coreProperties>
</file>