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12B-F5B8-4495-908D-8AEAEDF9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242-5C1E-410E-AB2B-DF89C35B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02D09-90B3-47D8-8764-B9E55EE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5D918-F142-476C-B489-DD50BB9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9412-61B0-441E-A951-A32F8C9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E8DA7-F300-40D2-8851-EDD030A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1F9C6-63C4-4D09-A7EA-A0F164A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27B75-913A-4BE5-B115-EDE0BD52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89916-63F7-4BA3-B448-BBD09881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DF16C-D6D9-4D54-9AB7-5E00D1E9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6D134-94C5-498B-960C-C65BA1C4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B0A2B-C95E-47F8-8626-BEB4390D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F73-9F8B-4D0A-909E-EECF62F3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03A13-BDFC-417F-AEF6-07BB4D41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FD425-2AB7-4A42-B564-7867D25F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6412-23F6-4396-ADB5-2DC1342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1DD4D-021B-4FFF-844F-B3090EC5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42824-BDFD-4BAE-8EDF-A76F7238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17AE0-3025-4156-87E9-6F6DF6AD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7210-5D90-43D0-9045-C714192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233F-FF6D-498C-A988-0F2BC6C7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5F92-8605-4291-B6B8-75AB3EF5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9F0EB-5D4F-4177-8A4B-0EBA7772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69C-21B3-4F9D-A819-6208C92C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E378E-1284-44CC-9BEE-25F7C18F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9635E-B85E-413B-87E3-532C09E9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A032C-F04A-4622-A5FA-EF3671D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0D821-523B-422C-B1A9-513866C8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FE632-C481-4C3C-914F-29D43846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11B1C-2549-475C-BAE3-F8A4AE93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FEC46-1A2B-4B2C-AD97-6DB7E575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D96F7-A130-4241-A359-DC596DA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4BA1B-0EEF-44A1-A0FB-54DBDB6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76A8F-5E4A-4833-B86A-6A9E300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FE42-4FDF-41E2-BC40-F103640E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C8DA-F123-4534-9701-009BB025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DEE7A-E46B-4D80-B8B5-0C2AE083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47B8A-F391-417E-99EA-1A62B174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C3AB-C091-4043-BCE7-9D7190F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96B-8D9D-4028-ADAA-53BB4EE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4420-E487-4E7A-A12E-D6A4E44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E306-C4AB-4530-BF2E-1682D81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4CC-515B-47B9-91DC-0F68D56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0674-E51D-4FB9-B785-DA9D330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D39-6CE9-462D-9520-017823EE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B481-A1FF-45F3-AB28-3883461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E6C-CFEE-4C00-8BBE-97453C51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189-8483-4A6A-B7A2-8526668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CB1A-E364-48FB-BCE2-CEC95106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7E14-F7B2-4F45-87CD-7EF1EF2C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36F6-EEA5-453F-9FA6-3FF11BC8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14F2-785A-47D6-9078-61491956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C66C-2842-457D-AB41-1FBC3BE7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2D43-E1BA-4066-BEA2-07A0C25C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0168-F48B-4F77-8D56-457199F1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56F-5C19-4880-A99A-3BC5AAE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D9EA-859D-483D-817B-6AA2C523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C216-1C47-48BE-B431-0A82BE73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3ED5-9433-47C2-99E5-043C62C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6CDCC-948D-4518-B4CB-FD9D1EE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B3CC-0DE9-4DC4-BD04-1E6420A2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9EB7-D079-4865-A6DC-5C3FD139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6E64-7C18-4052-BFF4-38BE7A90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1B83-CE54-487F-A0DA-223D4977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41CC-53EA-4B77-A7E1-37D271FA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8F0F2-C95D-4E09-8060-90C0A7E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47B-22E3-44D3-898A-9AD6AA6B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3C91-9DEE-4F92-B5C8-8F5D1A32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2B95-BFD0-469E-BCC2-84D0219A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A726F-3BAC-4FB6-8501-97B78CF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B7BD-7F96-4AD5-89F1-1ADEB00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64F6-23C2-40EE-9B52-428C09E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6C09-8C5A-4994-B10E-770A1943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7136-E2A1-47B7-97D8-C22DCA8C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98003-F7B4-4525-9CCA-5E8933F4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9CCC6-1A5A-4131-ACC6-4BD42495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6BD33-A002-4D66-9262-F2E223A7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0D4-26F0-454B-995F-C4A0ADB2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58E4A-B4A1-4F37-9302-4CD922C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8DCA-A058-4145-9E31-FE7D3C9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3C8B6-40BD-4644-9AED-2190CADC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E82C4-B201-43D3-8778-2588744F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CBBA-4A1A-4DC6-B371-3C85A4FD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D872-294B-4F5E-8DE7-6C53074F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19D1-37E4-4179-8931-20097010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8F8B-CD8E-4F8E-A8E6-2121854B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0CE25-EE4A-46A0-A8C2-2BE6FB17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1B292-F0AD-4F11-A391-22FEC153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3F3-103A-4B31-92B1-D62B7A0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56DC-BABC-4B81-BADF-8A11A343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8E3B-9C4F-4476-9478-F736873D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19B5C-114A-498A-91DD-86A62F5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DD3B-0851-467D-8905-C769225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063C-83FC-402A-9C2C-D3622829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4441-7173-4D1D-B77E-A032F2D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06C8-214F-4479-9026-62D9506E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A82A5-B9A0-4DBE-B8F8-AF3EE20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A42D7-7D6B-4AF6-8D51-8C31FBA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26393-BAFB-4EFE-A24B-90E0B39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5DC-22FE-4B3A-AB04-8CB770C1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ACC0A-23A5-4F82-859B-AEE35987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8EEEB-E3F1-4655-BD4D-69F060E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C3F8E-C808-4BC3-9861-698ADBC2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F2D54-DFF4-4361-9AF9-E93F5C8D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7F9DC-4677-4B3A-90F0-9317560E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BEEEC-0AB8-4184-A3DA-D7A20EAD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06EF1-65C9-4867-85C7-284D3C9B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E8723-464E-41FB-A9DC-8C56ADEE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64C0-FB75-4CE8-81AC-160947B4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A2836-41D3-4495-A313-E892394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E029-6CB2-47FF-8B0D-103D05F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C01F9-C860-45D3-879C-ED131C8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B0FEF-292A-49CC-B598-E3975E0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30853-46BF-4509-9253-B152E724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37CE4-5D30-4049-97EE-7030B416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1B666-A120-40D6-820A-1870A457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D0DC9-B9A8-4529-B014-15043A9A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27508-B15D-4B17-A208-C5ABC6E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60DA2-BADC-4E7F-8472-A2CB9A1D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B20F-0C0A-44BA-AD34-61726E5C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88E0-AD14-4A62-A58D-B7E2A06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DBE-F5E1-4DC5-BE7E-4E8F39F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B6820-3C63-40D3-B7FE-49FE156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4239-595C-4744-A218-23834A5F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D759-97AA-41D2-A578-0095AEA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D782-F2A6-41B3-B312-A8F417B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4B45-406E-4DEF-8618-3AEE776F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99F6C-E488-42A7-BEF2-7A6E84FB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5305-5E66-4B1D-A145-AEE9C9C9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1BBB6-7A7C-4B6D-B85F-560F9655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D5FD-1FF0-42F3-8A6A-552306A6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89C68-90D8-4941-8145-1697B95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B56F3-B10B-4407-AF21-4E0A4AF6D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D8B79-1CE2-441F-A25C-9304C63BB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DABB1-06D3-42D3-851E-E3F93447F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9C1DF-0F33-40AD-AB44-9E584644B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4A885D-6EA2-4E1B-8765-3EC3082E5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E9433-845E-4CB7-836B-7FFDD1A4F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583D6-685C-4459-9168-BEAB2CE3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65083-DDE6-40B8-925C-64080C72C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EB5BC-D2A6-4DAE-9192-CB5EDADCB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1BA28-BA7F-4740-AB5B-6219586CA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A69046-A372-4F27-9259-07AC1C42C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9" descr=""/>
          <p:cNvPicPr/>
          <p:nvPr/>
        </p:nvPicPr>
        <p:blipFill>
          <a:blip r:embed="rId2"/>
          <a:stretch/>
        </p:blipFill>
        <p:spPr>
          <a:xfrm>
            <a:off x="487440" y="2073240"/>
            <a:ext cx="3687840" cy="1133640"/>
          </a:xfrm>
          <a:prstGeom prst="rect">
            <a:avLst/>
          </a:prstGeom>
          <a:ln w="0">
            <a:noFill/>
          </a:ln>
        </p:spPr>
      </p:pic>
      <p:sp>
        <p:nvSpPr>
          <p:cNvPr id="452" name="页脚占位符 2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extBox 1" descr=""/>
          <p:cNvPicPr/>
          <p:nvPr/>
        </p:nvPicPr>
        <p:blipFill>
          <a:blip r:embed="rId2"/>
          <a:stretch/>
        </p:blipFill>
        <p:spPr>
          <a:xfrm>
            <a:off x="317520" y="42840"/>
            <a:ext cx="3267000" cy="1004760"/>
          </a:xfrm>
          <a:prstGeom prst="rect">
            <a:avLst/>
          </a:prstGeom>
          <a:ln w="0">
            <a:noFill/>
          </a:ln>
        </p:spPr>
      </p:pic>
      <p:pic>
        <p:nvPicPr>
          <p:cNvPr id="454" name="矩形 2" descr=""/>
          <p:cNvPicPr/>
          <p:nvPr/>
        </p:nvPicPr>
        <p:blipFill>
          <a:blip r:embed="rId3"/>
          <a:stretch/>
        </p:blipFill>
        <p:spPr>
          <a:xfrm>
            <a:off x="3975120" y="957240"/>
            <a:ext cx="1925640" cy="6159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/>
          <p:cNvSpPr/>
          <p:nvPr/>
        </p:nvSpPr>
        <p:spPr>
          <a:xfrm>
            <a:off x="2868480" y="2389320"/>
            <a:ext cx="23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页脚占位符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extBox 1" descr=""/>
          <p:cNvPicPr/>
          <p:nvPr/>
        </p:nvPicPr>
        <p:blipFill>
          <a:blip r:embed="rId2"/>
          <a:stretch/>
        </p:blipFill>
        <p:spPr>
          <a:xfrm>
            <a:off x="-42840" y="85680"/>
            <a:ext cx="3687840" cy="112716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2" descr="7Web_2_0_Frames_by_veeqi.com_china.png"/>
          <p:cNvPicPr/>
          <p:nvPr/>
        </p:nvPicPr>
        <p:blipFill>
          <a:blip r:embed="rId3"/>
          <a:stretch/>
        </p:blipFill>
        <p:spPr>
          <a:xfrm>
            <a:off x="1676520" y="743040"/>
            <a:ext cx="5106960" cy="36576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"/>
          <p:cNvSpPr/>
          <p:nvPr/>
        </p:nvSpPr>
        <p:spPr>
          <a:xfrm>
            <a:off x="2471760" y="4033800"/>
            <a:ext cx="23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sc115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页脚占位符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extBox 1" descr=""/>
          <p:cNvPicPr/>
          <p:nvPr/>
        </p:nvPicPr>
        <p:blipFill>
          <a:blip r:embed="rId2"/>
          <a:stretch/>
        </p:blipFill>
        <p:spPr>
          <a:xfrm>
            <a:off x="487440" y="695160"/>
            <a:ext cx="3687840" cy="1127160"/>
          </a:xfrm>
          <a:prstGeom prst="rect">
            <a:avLst/>
          </a:prstGeom>
          <a:ln w="0">
            <a:noFill/>
          </a:ln>
        </p:spPr>
      </p:pic>
      <p:sp>
        <p:nvSpPr>
          <p:cNvPr id="462" name="页脚占位符 2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dc:language>en-US</dc:language>
  <cp:lastModifiedBy>tukj</cp:lastModifiedBy>
  <dcterms:modified xsi:type="dcterms:W3CDTF">2012-06-19T16:43:18Z</dcterms:modified>
  <cp:revision>27</cp:revision>
  <dc:subject/>
  <dc:title>幻灯片 1</dc:title>
</cp:coreProperties>
</file>