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F52C-3E74-439E-BE7C-4B646DA5A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9FF1-AA89-473C-9477-5C110819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5DA44-7630-4B8A-B0D7-B86A2EAF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04ACC-084C-42BE-BC7B-A39E7977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DAB37-0291-4DF9-8E62-EDF65473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9CC92B-B219-4CF1-8417-85E9BF1D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4B558-2752-499B-8BCA-C20D8F03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FD7B6-0F98-4AAF-9010-DB4DE5ED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54DD2-DA8D-4147-84CE-2958FE2B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1065E-912A-412F-9DD8-9821B0EB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804A1-3F4B-419C-A3DE-CAF89AB81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59BE2-5482-490A-99C9-5C11DAB15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2B45-3F82-416F-91B5-8F75D5B5A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7A372-9827-41D3-9E7C-BFDBE7BB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163798-D950-4AEB-B852-52006329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2EBB7-135C-48D2-8386-A39E60B9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72222-6EF9-4730-8C30-7485C294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EC2A74-1FE9-4E8F-AC6A-36A49F6E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684798-583F-4F43-BDC4-154E6ED9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F40D79-CB5A-48EC-9002-73BD10E4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705C21-8F5E-408B-84ED-7A40493D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3CB13-6EB6-4799-8B8A-11A11855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1872A-8DA7-48F3-A9D4-3FE9E935F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01E8-0795-4C98-AC1A-AB3EDD91C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CAC5B-7AD2-4FAD-8360-AB994ED74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FBE90-4CB8-403C-AAFC-D95F5B7B0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36D67-70E8-4775-8431-780D2926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71400-2E32-4E75-9386-2BCD10C6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1A982-2133-4D1E-8A18-72C89ED9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6A49D-8D08-4152-B77A-59842CA5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D2EB2-1461-4848-9AF6-FFA9CBCB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760F4-D92F-44F1-9280-0ABF06AF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F6320-B8B7-4E0D-BDDA-D3BC629B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B4C94-9BC5-487F-ADAB-4C377A0B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7CBD-4EDC-4694-AC6B-85208B3E3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98FF5-FE62-4932-B583-4852C6DC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B91A5-2FE2-4ABC-9C16-FAF2AA8E0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F9D12-46F7-4B6E-9A9E-BF0CB441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3E49-19FB-45E5-95C3-CACAC8AA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F9D4-57B2-49DD-90FD-CC51E502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2AE4-B6CB-4DDC-A0B0-2B98642E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A0E5-077E-48F1-90F1-FF7752D8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64BA-5077-4840-A73C-E7D15BA3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E732-4D9E-4B8E-89EB-F06BAA25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36A8-7A49-4BCE-B6B5-188C98E6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C6DB-D5EE-4842-81E2-E4F47F4F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924D-49BF-49ED-ABD4-6A15AC23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AA43-A933-47AA-A13F-1661560F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4F24-1327-4E7B-BDD2-421E39BEC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2357-915B-443A-BFB3-7E34C619F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73378-A3B8-4696-B4E8-4FB32178D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48392-D9B1-4A0C-B430-FF7E0C1F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4F704-84A9-44CD-BDC1-BCCFA8AF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97ECE-F36E-4CC2-A357-5F4FF084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E6725-B3D4-43C3-8F66-0A19B9E8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2C27-CD9C-4898-9706-645BD9C0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FDE3B-D733-4683-92B4-F60BE45B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CCA7F-CC10-4935-8B17-CD9DE219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0E858-15B5-4D0D-A293-2861E4BD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B42CC-1F7C-45A0-8A6C-E0453525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3DF62-DBA7-4C56-B799-6F96D78F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69D22-FD4B-467F-8F36-DFC84559B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1600C-A3CF-44D9-93A2-F5D6C2225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8E191-64A9-4393-9E4C-5C7F743AA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954F0-6585-414F-B0BA-8BBABA35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5B846-E50A-425C-860E-D08E5ACB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9CBD-97B6-4A74-AA09-294AD05B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09942-FBE8-4F49-82AF-5AD761A3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79E8B-544B-490F-993A-A4D817A8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4894E-8AD1-437E-9BFC-CB7BFE54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3A541-98DD-4A79-B324-87C05E69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09550-F405-4B13-9EF4-82F24B41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B2B17-55B6-4153-ABD7-898A8260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A7769-DF60-428D-9271-0B316A9D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DAE37-D8F8-46FD-9FE2-AA6B96472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A2E9B-3FBE-4E88-B826-942353BFB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E5705-4255-4973-A2C8-1FFF76C99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FD0F-C688-49E5-8290-A145B7FC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752D0-BDBC-4094-876B-B0E28250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5C7FF-EF03-4B56-A684-1E4C5751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8D67A-8DD2-4745-8469-244D9BA3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65ED6-F3AD-4472-9AF2-923236A5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88FD4-EEA3-4F0D-8983-28E3DA06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D17CF-5CE1-461C-AD2C-AF9BB340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96FDB-BA7E-4EC9-A7C1-61EAC9CD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D20A0-29D4-44A3-BF7C-738D7862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E0E03-619E-400F-B054-3F55BBD3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8132F-99FC-4B46-B2C3-3E5480B3E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E27F-DBAB-4801-B1B8-9BF89E16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84B64-8D9E-42A9-97DC-4F716312B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FD84C-3D0D-42B9-8DEE-C2530601D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DD6E9-4170-4264-A57B-289AD87D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61F1A-448C-4E51-AB07-BEFE8190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00CFB-BFFD-4F5D-B796-4DA66B70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B8CB8-4C42-4BD0-8009-ADC2E4F3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B9DE7-91FC-4650-8168-1716E184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FBFD2-C6FD-4340-8B87-0802F622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AA3BA-1997-4D83-826D-C64C5216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DD606-E877-4E38-BDDF-4A4A0DC8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8C59-F567-4922-B730-09F3EA36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6D76F-A3E1-4CEF-A32B-E6A2D848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A7B8F-B864-4538-97B0-6FE6EC17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8FFF2-76C9-4DB5-AE0F-AACA70DA9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037E5-A1BB-4FC5-A8FF-FB43D2FB1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0E0CE-EE03-4A3B-A733-55C49AE8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8D714-B02C-4A19-B28A-B6AAE6C9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ADDC3-BD72-4D3D-8838-A4F0D1A1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13BE0-B435-4B23-B690-9DC1DE5F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18A79-C475-4762-A341-060D1EE7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0C508-F773-4153-9184-E12EE508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4816-C51F-4CD8-9B29-8765DE1C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313E6-5D39-4D39-9F0B-91A47296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193AF-81E1-431E-BFD1-0F3F3525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1974E-8153-427A-92BD-9C41B6C2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69D8F-8E28-4B97-BD16-DB05A281D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99B16-7717-45E4-A727-0B184F065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F3046-BC5D-479A-98EF-DF53C1A6A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7467B-E3EE-4BDC-83B4-A51C241C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4CA44-C48B-40FA-8C51-FF96C636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8C3AA-E381-4C95-B171-0FFD7C83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B559A-18C8-4BB3-A24F-7FD9A073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02F7-0FBB-4EF4-A54C-FA7A11EA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24D99-E210-4088-B0D9-21A07087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384BC-CBF8-4172-8D4B-CF6EE50E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49EC9-30DF-4FEC-958D-7615251F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D3359-459E-49E8-B2A3-EEAE3428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622E3-4A96-46F8-AE69-8B224003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B885B-10F0-4E97-AEE5-A1D49A5D4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2490E-A5B4-4A68-A105-82F480E33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788B6-42D0-4840-BA41-D30975313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7DB5F-9A8B-4F79-B534-38542A8A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BC671-869E-4504-A247-D964B23A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素彩网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sc115.com-ppt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模板免费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3FFDBA-F8CA-48CD-9246-0C40BAD193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D7CDE2-7F91-4702-BE7E-17CED2741E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C7D2E9-1A63-4DE9-9C1A-197C7F4BC3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604BC4-AE73-4A87-8543-63CD594FAA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AF650A-D341-4A1D-AB97-06FE31D897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603F62-7B03-4211-B483-DFFF849974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7A5535-B20F-4CCD-8D07-EA343CF57C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917A8B-A341-41C0-83CB-E1E613EBA2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C9C7C1-3005-470E-A172-5BD5AB7B4E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E9FCDE-DFE1-4AE3-92FC-1886126ADA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8CA566-BAE9-41BF-9021-D5FA338B86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TextBox 9" descr=""/>
          <p:cNvPicPr/>
          <p:nvPr/>
        </p:nvPicPr>
        <p:blipFill>
          <a:blip r:embed="rId2"/>
          <a:stretch/>
        </p:blipFill>
        <p:spPr>
          <a:xfrm>
            <a:off x="487440" y="2073240"/>
            <a:ext cx="3687840" cy="1133640"/>
          </a:xfrm>
          <a:prstGeom prst="rect">
            <a:avLst/>
          </a:prstGeom>
          <a:ln w="0">
            <a:noFill/>
          </a:ln>
        </p:spPr>
      </p:pic>
      <p:sp>
        <p:nvSpPr>
          <p:cNvPr id="452" name="页脚占位符 2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素彩网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sc115.com-ppt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模板免费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TextBox 1" descr=""/>
          <p:cNvPicPr/>
          <p:nvPr/>
        </p:nvPicPr>
        <p:blipFill>
          <a:blip r:embed="rId2"/>
          <a:stretch/>
        </p:blipFill>
        <p:spPr>
          <a:xfrm>
            <a:off x="317520" y="42840"/>
            <a:ext cx="3267000" cy="1004760"/>
          </a:xfrm>
          <a:prstGeom prst="rect">
            <a:avLst/>
          </a:prstGeom>
          <a:ln w="0">
            <a:noFill/>
          </a:ln>
        </p:spPr>
      </p:pic>
      <p:pic>
        <p:nvPicPr>
          <p:cNvPr id="454" name="矩形 2" descr=""/>
          <p:cNvPicPr/>
          <p:nvPr/>
        </p:nvPicPr>
        <p:blipFill>
          <a:blip r:embed="rId3"/>
          <a:stretch/>
        </p:blipFill>
        <p:spPr>
          <a:xfrm>
            <a:off x="3975120" y="957240"/>
            <a:ext cx="1925640" cy="61596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4"/>
          <p:cNvSpPr/>
          <p:nvPr/>
        </p:nvSpPr>
        <p:spPr>
          <a:xfrm>
            <a:off x="2868480" y="2389320"/>
            <a:ext cx="23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彩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sc115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页脚占位符 4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素彩网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sc115.com-ppt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模板免费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TextBox 1" descr=""/>
          <p:cNvPicPr/>
          <p:nvPr/>
        </p:nvPicPr>
        <p:blipFill>
          <a:blip r:embed="rId2"/>
          <a:stretch/>
        </p:blipFill>
        <p:spPr>
          <a:xfrm>
            <a:off x="-42840" y="85680"/>
            <a:ext cx="3687840" cy="1127160"/>
          </a:xfrm>
          <a:prstGeom prst="rect">
            <a:avLst/>
          </a:prstGeom>
          <a:ln w="0">
            <a:noFill/>
          </a:ln>
        </p:spPr>
      </p:pic>
      <p:pic>
        <p:nvPicPr>
          <p:cNvPr id="458" name="图片 2" descr="7Web_2_0_Frames_by_veeqi.com_china.png"/>
          <p:cNvPicPr/>
          <p:nvPr/>
        </p:nvPicPr>
        <p:blipFill>
          <a:blip r:embed="rId3"/>
          <a:stretch/>
        </p:blipFill>
        <p:spPr>
          <a:xfrm>
            <a:off x="1676520" y="743040"/>
            <a:ext cx="5106960" cy="365760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4"/>
          <p:cNvSpPr/>
          <p:nvPr/>
        </p:nvSpPr>
        <p:spPr>
          <a:xfrm>
            <a:off x="2471760" y="4033800"/>
            <a:ext cx="23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彩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sc115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页脚占位符 4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素彩网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sc115.com-ppt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模板免费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TextBox 1" descr=""/>
          <p:cNvPicPr/>
          <p:nvPr/>
        </p:nvPicPr>
        <p:blipFill>
          <a:blip r:embed="rId2"/>
          <a:stretch/>
        </p:blipFill>
        <p:spPr>
          <a:xfrm>
            <a:off x="487440" y="695160"/>
            <a:ext cx="3687840" cy="1127160"/>
          </a:xfrm>
          <a:prstGeom prst="rect">
            <a:avLst/>
          </a:prstGeom>
          <a:ln w="0">
            <a:noFill/>
          </a:ln>
        </p:spPr>
      </p:pic>
      <p:sp>
        <p:nvSpPr>
          <p:cNvPr id="462" name="页脚占位符 2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素彩网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sc115.com-ppt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模板免费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02:42:06Z</dcterms:created>
  <dc:creator>Arkey L</dc:creator>
  <dc:description/>
  <dc:language>en-US</dc:language>
  <cp:lastModifiedBy>tukj</cp:lastModifiedBy>
  <dcterms:modified xsi:type="dcterms:W3CDTF">2012-06-19T16:43:18Z</dcterms:modified>
  <cp:revision>27</cp:revision>
  <dc:subject/>
  <dc:title>幻灯片 1</dc:title>
</cp:coreProperties>
</file>