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268-EB15-4523-A80F-EF3B12D3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385-4F4A-4D12-8E2A-CDAF71E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A5E-0851-4525-894B-D02408A0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222-2972-4B0D-B47F-53A580B6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AE6-1886-45B0-AFD8-F56A5B50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5FE-49B2-4D86-B85C-BAD956D1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790-E7E5-4824-A5D1-45101623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6B1-E1A2-4DBF-B22C-7554D05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8C0-A626-45FC-A409-06B0D5A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9A0-7E52-4CE2-AE85-CA0E58F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99A-54B7-4F10-BD5F-F77A875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A07-E4F2-4F8B-AED0-E02B303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333089F2-F00E-4064-BD78-93CBE82B8488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3805200" y="427500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— 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By:@</a:t>
            </a:r>
            <a:r>
              <a:rPr b="1" lang="zh-CN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PPTer 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7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2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2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0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4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99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5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2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2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rcRect l="0" t="0" r="0" b="3665"/>
          <a:stretch/>
        </p:blipFill>
        <p:spPr>
          <a:xfrm>
            <a:off x="3381480" y="782640"/>
            <a:ext cx="2668320" cy="2498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" descr=""/>
          <p:cNvPicPr/>
          <p:nvPr/>
        </p:nvPicPr>
        <p:blipFill>
          <a:blip r:embed="rId3"/>
          <a:stretch/>
        </p:blipFill>
        <p:spPr>
          <a:xfrm>
            <a:off x="4365720" y="4559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5"/>
          <p:cNvSpPr/>
          <p:nvPr/>
        </p:nvSpPr>
        <p:spPr>
          <a:xfrm>
            <a:off x="3884760" y="3341520"/>
            <a:ext cx="15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创意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分享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生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微软用户</dc:creator>
  <dc:description/>
  <dc:language>en-US</dc:language>
  <cp:lastModifiedBy>admin</cp:lastModifiedBy>
  <dcterms:modified xsi:type="dcterms:W3CDTF">2016-10-09T05:00:15Z</dcterms:modified>
  <cp:revision>16</cp:revision>
  <dc:subject/>
  <dc:title>PowerPoint 演示文稿</dc:title>
</cp:coreProperties>
</file>