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65E-AABC-4A51-9D68-EE3F3312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30A-18E3-4FB6-A5C5-33120BD4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520D-B0FF-4172-8C9E-78FDFE82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80D-5FF4-406C-878E-4AB04DC8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52A7-43E2-4B0E-A551-4D0FEC76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E99-3BDD-4C27-BA7D-33FA6D11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EC47-C014-4767-878B-6B65236F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4A7C-7CBE-4A8E-91FC-292B0CB9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8BF6-8907-4B02-9DF7-92723A79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E964-8C82-4DBF-8ED1-FB0D50D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400C-6F4E-4730-AEFB-1E28032E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F08-E7B8-4E9E-BA0D-0BEF3FA6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A9AA-DA9D-4906-A141-9124370D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C9F-3432-4608-868D-7CA10E1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E49D-420D-4C0C-9C22-A2A7CBA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B5B1-6D4E-4925-9F87-9FEDF660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5FCD-0734-4573-8277-26AE0A73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F05-0B37-4700-A0E1-C3249C3C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3C2-94D3-42D8-9A79-EE696CD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0A9-F6AD-464F-B49A-A8EEB9E1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B09-1C75-480F-811A-274DC39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0E1-5DF7-4D99-B1DE-3DA68D6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C6A-AAAD-4028-9FBB-EFC88781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7E43-B4F4-44AE-A504-40BA43F0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70FE-A596-4F00-9CE4-88737B387F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5FAC-F6C4-4273-AF02-5A0763298E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round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6360" y="1955880"/>
            <a:ext cx="15084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3000" y="3660480"/>
            <a:ext cx="1962000" cy="20098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  <a:ea typeface="宋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6" y="0"/>
                </a:lnTo>
                <a:lnTo>
                  <a:pt x="21600" y="10800"/>
                </a:lnTo>
                <a:lnTo>
                  <a:pt x="19066" y="21600"/>
                </a:lnTo>
                <a:lnTo>
                  <a:pt x="0" y="21600"/>
                </a:lnTo>
                <a:lnTo>
                  <a:pt x="2534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dur="indefinite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培训行业从业者以及学习爱好者传播有关培训经验、培训知识、管理智慧等及时资讯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825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25"/>
                            </p:stCondLst>
                            <p:childTnLst>
                              <p:par>
                                <p:cTn id="5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825"/>
                            </p:stCondLst>
                            <p:childTnLst>
                              <p:par>
                                <p:cTn id="6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dc:language>en-US</dc:language>
  <cp:lastModifiedBy>Administrator</cp:lastModifiedBy>
  <dcterms:modified xsi:type="dcterms:W3CDTF">2016-05-02T13:42:3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