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CDF-34A4-43BA-9D06-55902C97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210-6A94-437D-B6ED-E85BC6D6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CE7-B539-4734-9B6E-3008E108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B6C-B840-4187-BF98-8668C750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623A-796A-4F51-8C41-D1D3A910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E25D-2C35-40AC-B3E5-F5585B4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E548-9136-459B-8DB9-4CB3F618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D731-792A-4DED-BA88-717A2031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74DF-270C-41B4-8B7D-D0B2AC62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BC5D-919A-4BB4-B469-CB073E99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A839-5886-4626-8B45-22C5176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6B6-49CC-4BDF-A926-1A168053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1405-E877-4208-99B1-A369877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23B3-C652-4825-AA19-23EA35E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D08E-938A-4B84-BD7F-7756F316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86EB-3C8C-4108-AA17-AED9A1A5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D989-3A97-49D3-A2C2-1AFB02A7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3F5-DACB-4C76-8738-610C8A8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936-0F19-41C3-BD9E-6A5D282B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7B1-90CC-47E3-A5FC-C829A500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319-EFB9-42EF-B823-3215CF1E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2EE-5F97-4131-9CB7-5A0FA8F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0DB-220C-4E0B-A216-412E359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E51-B8C7-46F5-9DFF-A401F5C8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3AFD-A898-4632-BAC2-34DAA5497E4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CE5F-5709-4557-8FC9-A70AA66CA6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over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40" y="1484280"/>
            <a:ext cx="91425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nt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>
              <a:gd name="textAreaLeft" fmla="*/ 0 w 114480"/>
              <a:gd name="textAreaRight" fmla="*/ 114840 w 1144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Transition p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>
              <a:gd name="textAreaLeft" fmla="*/ 0 w 68400"/>
              <a:gd name="textAreaRight" fmla="*/ 68760 w 684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>
              <a:gd name="textAreaLeft" fmla="*/ 0 w 68040"/>
              <a:gd name="textAreaRight" fmla="*/ 68400 w 680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>
              <a:gd name="textAreaLeft" fmla="*/ 0 w 68040"/>
              <a:gd name="textAreaRight" fmla="*/ 68400 w 6804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>
              <a:gd name="textAreaLeft" fmla="*/ 0 w 68040"/>
              <a:gd name="textAreaRight" fmla="*/ 68400 w 68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Transition p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94240" y="4240080"/>
            <a:ext cx="324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sus</dc:creator>
  <dc:description/>
  <dc:language>en-US</dc:language>
  <cp:lastModifiedBy>Administrator</cp:lastModifiedBy>
  <dcterms:modified xsi:type="dcterms:W3CDTF">2016-03-12T02:33:44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