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F12-1C22-490A-B584-9DC26486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32D-5074-473A-A852-B4633C61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30F-8B1A-4A2D-821B-9B9F841E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800-F9FC-461F-881C-88C69A6D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173-F27A-403B-B3A3-DB2244B9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012-0F6A-4E1B-AE65-FB69410A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CF0-A6DA-4146-B930-29BB2E3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16E-526B-41F0-B38F-E47977C1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56A3-55DA-4C56-8974-260897BD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6AF-1CC4-4928-A370-4BA3F99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FC1-615D-4572-A0DC-03E02BFA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C90-E46D-4306-97B2-D6F7D9D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738C-06A8-48C3-8BC2-9CD76412DD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442908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29000" y="52642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500120" y="571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0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569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783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926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497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61408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7118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5855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855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7836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69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426560" y="1357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26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426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569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09-02T09:58:40Z</dcterms:modified>
  <cp:revision>67</cp:revision>
  <dc:subject/>
  <dc:title>幻灯片 1</dc:title>
</cp:coreProperties>
</file>