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052-BBF2-4DC1-949E-9D3435EA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D04-4058-4639-A13C-9E9398F0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BC1-7661-4AAD-A311-4B77A308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75E-B28E-406D-AC34-276FB35F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3BAF-2BB6-444F-B252-E3969B5D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8A29-35CD-43D1-9801-CC1867D1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BD6-5E75-4614-A52B-0F43334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1DFA-896A-4E24-AC29-1802045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2CC4-170F-4E96-96F7-ECE7C87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E1DF-4EDD-44A1-9942-E2F355D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A23-6DA0-444D-9A73-8171193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F12-8B7C-4C04-8ECA-3BD5F1E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5B6-8FDE-4FCE-9514-6C0AE09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C7E-8959-413C-8D45-7BB3C05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B36-4CE9-4C70-8BD0-5CEFD2C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37A-152F-4E81-BD64-A8D5401A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DF06-57C0-490D-BFA3-053C2926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3FC-8155-4CCB-AF15-82A8B2F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804-582E-4AD3-9928-21F09B4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C24-0451-47D1-A700-7E29D0DA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651-3E83-43F8-AB16-D2DD4CE3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165-C58C-4880-9B0A-0C9A504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707-6EED-4A85-BE1C-2337A8A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4E7-C60E-4E5A-BED1-5C4A202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D42-0B11-47EE-BCE7-279D87381D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C212-5316-404D-BEF2-F2586A8A09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125-91EB-4A94-A3E7-463C89530F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BA1-736C-4713-AB21-08EA1CA891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526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554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559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563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567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571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576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581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98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611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616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617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622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623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628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630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cubicBezTo>
                  <a:pt x="2194" y="1702"/>
                  <a:pt x="1702" y="2193"/>
                  <a:pt x="1097" y="2194"/>
                </a:cubicBez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640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644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648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652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7" y="199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4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7" y="205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6" y="199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3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7" y="205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96" y="154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83" y="223"/>
                </a:lnTo>
                <a:lnTo>
                  <a:pt x="95" y="217"/>
                </a:lnTo>
                <a:lnTo>
                  <a:pt x="110" y="207"/>
                </a:lnTo>
                <a:lnTo>
                  <a:pt x="116" y="206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5" y="187"/>
                </a:lnTo>
                <a:lnTo>
                  <a:pt x="117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75" y="206"/>
                </a:lnTo>
                <a:lnTo>
                  <a:pt x="61" y="214"/>
                </a:lnTo>
                <a:lnTo>
                  <a:pt x="60" y="214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59" y="151"/>
                </a:lnTo>
                <a:lnTo>
                  <a:pt x="66" y="147"/>
                </a:lnTo>
                <a:lnTo>
                  <a:pt x="77" y="142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2" y="125"/>
                </a:lnTo>
                <a:lnTo>
                  <a:pt x="81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51" y="139"/>
                </a:lnTo>
                <a:lnTo>
                  <a:pt x="44" y="143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1" y="116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8" y="120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9" y="119"/>
                </a:lnTo>
                <a:lnTo>
                  <a:pt x="92" y="120"/>
                </a:lnTo>
                <a:lnTo>
                  <a:pt x="100" y="126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78" y="0"/>
                </a:lnTo>
                <a:lnTo>
                  <a:pt x="70" y="1"/>
                </a:lnTo>
                <a:lnTo>
                  <a:pt x="60" y="3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5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91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100" y="192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1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2" y="192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0" y="1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81" y="266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97" y="128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53" y="160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7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6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0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4" y="255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2" y="49"/>
                </a:lnTo>
                <a:lnTo>
                  <a:pt x="190" y="48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104" y="41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54" y="93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6" y="105"/>
                </a:lnTo>
                <a:lnTo>
                  <a:pt x="59" y="105"/>
                </a:lnTo>
                <a:lnTo>
                  <a:pt x="91" y="109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5" y="14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84" y="142"/>
                </a:lnTo>
                <a:lnTo>
                  <a:pt x="180" y="144"/>
                </a:lnTo>
                <a:lnTo>
                  <a:pt x="180" y="135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79" y="158"/>
                </a:lnTo>
                <a:lnTo>
                  <a:pt x="78" y="135"/>
                </a:lnTo>
                <a:lnTo>
                  <a:pt x="79" y="110"/>
                </a:lnTo>
                <a:lnTo>
                  <a:pt x="100" y="98"/>
                </a:lnTo>
                <a:lnTo>
                  <a:pt x="120" y="87"/>
                </a:lnTo>
                <a:lnTo>
                  <a:pt x="142" y="98"/>
                </a:lnTo>
                <a:lnTo>
                  <a:pt x="162" y="110"/>
                </a:lnTo>
                <a:lnTo>
                  <a:pt x="162" y="135"/>
                </a:lnTo>
                <a:lnTo>
                  <a:pt x="162" y="158"/>
                </a:lnTo>
                <a:lnTo>
                  <a:pt x="142" y="17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56" y="72"/>
                </a:lnTo>
                <a:lnTo>
                  <a:pt x="160" y="87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90" y="83"/>
                </a:lnTo>
                <a:lnTo>
                  <a:pt x="82" y="87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60" y="124"/>
                </a:lnTo>
                <a:lnTo>
                  <a:pt x="60" y="135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85" y="196"/>
                </a:lnTo>
                <a:lnTo>
                  <a:pt x="82" y="181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50" y="187"/>
                </a:lnTo>
                <a:lnTo>
                  <a:pt x="160" y="181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6" y="51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7" y="59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8" y="270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9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0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3" y="39"/>
                </a:lnTo>
                <a:lnTo>
                  <a:pt x="215" y="35"/>
                </a:lnTo>
                <a:lnTo>
                  <a:pt x="227" y="3"/>
                </a:lnTo>
                <a:lnTo>
                  <a:pt x="227" y="0"/>
                </a:lnTo>
                <a:lnTo>
                  <a:pt x="224" y="0"/>
                </a:lnTo>
                <a:lnTo>
                  <a:pt x="191" y="13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5" y="100"/>
                </a:lnTo>
                <a:lnTo>
                  <a:pt x="225" y="99"/>
                </a:lnTo>
                <a:lnTo>
                  <a:pt x="213" y="66"/>
                </a:lnTo>
                <a:lnTo>
                  <a:pt x="212" y="63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16" y="105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33" y="94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89" y="124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7" y="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94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94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3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361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364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367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370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375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378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382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386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390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394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398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402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406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409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412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415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422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0" y="96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440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445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451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461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466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471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476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481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499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505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511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517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哎呀小小草</dc:creator>
  <dc:description/>
  <cp:keywords/>
  <dc:language>en-US</dc:language>
  <cp:lastModifiedBy>my</cp:lastModifiedBy>
  <dcterms:modified xsi:type="dcterms:W3CDTF">2015-11-24T03:33:44Z</dcterms:modified>
  <cp:revision>31</cp:revision>
  <dc:subject/>
  <dc:title>PowerPoint 演示文稿</dc:title>
</cp:coreProperties>
</file>