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2A2-2FD8-42D1-A32D-6524BF3B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6E1-4ECA-42AE-96E6-1F91E83F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B8E-A82D-42D5-AC95-78498A39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A63-E3CC-4DE8-A071-ACF88302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7B2-3F2A-494E-ACDC-EAA07EC4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8C9-837C-47E0-89AF-D8AFB2C8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FF1-9C6E-43CF-BD0E-5DC71738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FA0-D807-4E47-AD1C-F399BD9A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F9A-87BC-48EE-93AB-C8F93716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93D-E83C-4A7C-A820-2A9E3DB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612-997F-429B-8A8B-84C619B2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F6F-0BA0-4B54-9D42-5326BF80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7B0E9-7C40-4591-9C7E-C3528A0D128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5D321-D5AF-41CC-8AEF-AEC00B0C3B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1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7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4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五角星 8"/>
            <p:cNvSpPr/>
            <p:nvPr/>
          </p:nvSpPr>
          <p:spPr>
            <a:xfrm>
              <a:off x="1245600" y="1314000"/>
              <a:ext cx="642240" cy="641880"/>
            </a:xfrm>
            <a:custGeom>
              <a:avLst/>
              <a:gdLst/>
              <a:ahLst/>
              <a:rect l="l" t="t" r="r" b="b"/>
              <a:pathLst>
                <a:path w="642254" h="642254">
                  <a:moveTo>
                    <a:pt x="1" y="245319"/>
                  </a:moveTo>
                  <a:lnTo>
                    <a:pt x="245321" y="245320"/>
                  </a:lnTo>
                  <a:lnTo>
                    <a:pt x="321127" y="0"/>
                  </a:lnTo>
                  <a:lnTo>
                    <a:pt x="396933" y="245320"/>
                  </a:lnTo>
                  <a:lnTo>
                    <a:pt x="642253" y="245319"/>
                  </a:lnTo>
                  <a:lnTo>
                    <a:pt x="443784" y="396933"/>
                  </a:lnTo>
                  <a:lnTo>
                    <a:pt x="519594" y="642252"/>
                  </a:lnTo>
                  <a:lnTo>
                    <a:pt x="321127" y="490635"/>
                  </a:lnTo>
                  <a:lnTo>
                    <a:pt x="122660" y="642252"/>
                  </a:lnTo>
                  <a:lnTo>
                    <a:pt x="198470" y="396933"/>
                  </a:lnTo>
                  <a:lnTo>
                    <a:pt x="1" y="24531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0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3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37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47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48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5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54Z</dcterms:modified>
  <cp:revision>7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10.1.0.5850</vt:lpwstr>
  </property>
</Properties>
</file>