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C0D-BE36-4F0A-974F-A5CEFB85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6D0-C73B-4FB5-8F8B-AF8A3FF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6D4-A862-4428-9B29-4E310ECC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0A9-4145-418E-8B4C-5C32B490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C7A-F272-4223-83D5-831417F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AE1-4B9C-4F07-9845-71248CA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0D-99EA-431F-9895-8888AE6A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4F-89C9-4C48-968D-89968DE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6B4-04E0-4534-BDE7-9E1157D3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9E5-05CA-49B7-B45C-F8C277A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940-58B6-43C8-A3F6-43A0784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9A9-C0C7-4C43-9CAB-893795B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7CA2A-63D8-47A2-ABC6-3278255B67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EE2F9-40CB-47F1-98FB-0499888FDF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7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4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五角星 8"/>
            <p:cNvSpPr/>
            <p:nvPr/>
          </p:nvSpPr>
          <p:spPr>
            <a:xfrm>
              <a:off x="1245600" y="1314000"/>
              <a:ext cx="642240" cy="641880"/>
            </a:xfrm>
            <a:custGeom>
              <a:avLst/>
              <a:gdLst/>
              <a:ahLst/>
              <a:rect l="l" t="t" r="r" b="b"/>
              <a:pathLst>
                <a:path w="642254" h="642254">
                  <a:moveTo>
                    <a:pt x="1" y="245319"/>
                  </a:moveTo>
                  <a:lnTo>
                    <a:pt x="245321" y="245320"/>
                  </a:lnTo>
                  <a:lnTo>
                    <a:pt x="321127" y="0"/>
                  </a:lnTo>
                  <a:lnTo>
                    <a:pt x="396933" y="245320"/>
                  </a:lnTo>
                  <a:lnTo>
                    <a:pt x="642253" y="245319"/>
                  </a:lnTo>
                  <a:lnTo>
                    <a:pt x="443784" y="396933"/>
                  </a:lnTo>
                  <a:lnTo>
                    <a:pt x="519594" y="642252"/>
                  </a:lnTo>
                  <a:lnTo>
                    <a:pt x="321127" y="490635"/>
                  </a:lnTo>
                  <a:lnTo>
                    <a:pt x="122660" y="642252"/>
                  </a:lnTo>
                  <a:lnTo>
                    <a:pt x="198470" y="396933"/>
                  </a:lnTo>
                  <a:lnTo>
                    <a:pt x="1" y="24531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0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3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7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7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48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5"/>
          <p:cNvSpPr/>
          <p:nvPr/>
        </p:nvSpPr>
        <p:spPr>
          <a:xfrm>
            <a:off x="450000" y="455940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更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800sucai.taoba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54Z</dcterms:modified>
  <cp:revision>7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10.1.0.5850</vt:lpwstr>
  </property>
</Properties>
</file>