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DE1-46F4-4778-B2F8-FAC98674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0C1-3947-483E-8297-FE744FA4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389-84AE-471E-8FBE-3229C27D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AA6-A45F-4124-A375-69114346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319-DC66-4891-9C91-4D27B480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547-94D1-4DDE-9A44-8C9BE096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BA9-63B6-474C-ABA0-3D1DC6F6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B0C-6158-46B6-9482-1D028C5E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AA8-9C1A-4C65-BF48-F6181455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6EA-8CA1-43D2-8E2F-C3A6A9C8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DCF-07AE-4308-A354-CA1FFBA9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FDB-E44F-439B-9A6D-EB338A3A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F919-2650-4CE7-BA1E-C3D9904A17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93A8-3C49-46A9-B270-EB0337C3C9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32"/>
          <p:cNvSpPr/>
          <p:nvPr/>
        </p:nvSpPr>
        <p:spPr>
          <a:xfrm>
            <a:off x="53964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51"/>
          <p:cNvSpPr/>
          <p:nvPr/>
        </p:nvSpPr>
        <p:spPr>
          <a:xfrm>
            <a:off x="13557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52"/>
          <p:cNvSpPr/>
          <p:nvPr/>
        </p:nvSpPr>
        <p:spPr>
          <a:xfrm>
            <a:off x="2178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3"/>
          <p:cNvSpPr/>
          <p:nvPr/>
        </p:nvSpPr>
        <p:spPr>
          <a:xfrm>
            <a:off x="2989440" y="-109440"/>
            <a:ext cx="1131840" cy="286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54"/>
          <p:cNvSpPr/>
          <p:nvPr/>
        </p:nvSpPr>
        <p:spPr>
          <a:xfrm>
            <a:off x="3637080" y="-514440"/>
            <a:ext cx="1761840" cy="32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55"/>
          <p:cNvSpPr/>
          <p:nvPr/>
        </p:nvSpPr>
        <p:spPr>
          <a:xfrm>
            <a:off x="4950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56"/>
          <p:cNvSpPr/>
          <p:nvPr/>
        </p:nvSpPr>
        <p:spPr>
          <a:xfrm>
            <a:off x="57675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7"/>
          <p:cNvSpPr/>
          <p:nvPr/>
        </p:nvSpPr>
        <p:spPr>
          <a:xfrm>
            <a:off x="6585120" y="-73080"/>
            <a:ext cx="11300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1" name="Freeform 73"/>
            <p:cNvSpPr/>
            <p:nvPr/>
          </p:nvSpPr>
          <p:spPr>
            <a:xfrm>
              <a:off x="4333680" y="2107080"/>
              <a:ext cx="185040" cy="636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4"/>
            <p:cNvSpPr/>
            <p:nvPr/>
          </p:nvSpPr>
          <p:spPr>
            <a:xfrm>
              <a:off x="4597200" y="2098080"/>
              <a:ext cx="196200" cy="633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6" name="Freeform 76"/>
            <p:cNvSpPr/>
            <p:nvPr/>
          </p:nvSpPr>
          <p:spPr>
            <a:xfrm>
              <a:off x="5378400" y="2357640"/>
              <a:ext cx="13176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7"/>
            <p:cNvSpPr/>
            <p:nvPr/>
          </p:nvSpPr>
          <p:spPr>
            <a:xfrm>
              <a:off x="5575320" y="2354400"/>
              <a:ext cx="131760" cy="38736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61" name="Freeform 79"/>
            <p:cNvSpPr/>
            <p:nvPr/>
          </p:nvSpPr>
          <p:spPr>
            <a:xfrm>
              <a:off x="6171840" y="2354400"/>
              <a:ext cx="1429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6386400" y="2357640"/>
              <a:ext cx="135000" cy="393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66" name="Freeform 82"/>
            <p:cNvSpPr/>
            <p:nvPr/>
          </p:nvSpPr>
          <p:spPr>
            <a:xfrm>
              <a:off x="6964200" y="2354400"/>
              <a:ext cx="1825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7218360" y="2354400"/>
              <a:ext cx="19836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71" name="Freeform 61"/>
            <p:cNvSpPr/>
            <p:nvPr/>
          </p:nvSpPr>
          <p:spPr>
            <a:xfrm>
              <a:off x="1123920" y="2343240"/>
              <a:ext cx="1537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934920" y="2343240"/>
              <a:ext cx="142920" cy="4078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76" name="Freeform 64"/>
            <p:cNvSpPr/>
            <p:nvPr/>
          </p:nvSpPr>
          <p:spPr>
            <a:xfrm rot="21430800">
              <a:off x="1788480" y="2355480"/>
              <a:ext cx="9828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927080" y="2351160"/>
              <a:ext cx="82440" cy="3952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81" name="Freeform 70"/>
            <p:cNvSpPr/>
            <p:nvPr/>
          </p:nvSpPr>
          <p:spPr>
            <a:xfrm>
              <a:off x="3471840" y="2354400"/>
              <a:ext cx="104760" cy="384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621240" y="2351160"/>
              <a:ext cx="109440" cy="390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86" name="Freeform 67"/>
            <p:cNvSpPr/>
            <p:nvPr/>
          </p:nvSpPr>
          <p:spPr>
            <a:xfrm>
              <a:off x="2604240" y="2354400"/>
              <a:ext cx="1141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8"/>
            <p:cNvSpPr/>
            <p:nvPr/>
          </p:nvSpPr>
          <p:spPr>
            <a:xfrm>
              <a:off x="2797200" y="2343240"/>
              <a:ext cx="201600" cy="3985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92" name="任意多边形 1"/>
            <p:cNvSpPr/>
            <p:nvPr/>
          </p:nvSpPr>
          <p:spPr>
            <a:xfrm>
              <a:off x="-44136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3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95" name="组合 90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96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任意多边形 21"/>
            <p:cNvSpPr/>
            <p:nvPr/>
          </p:nvSpPr>
          <p:spPr>
            <a:xfrm>
              <a:off x="8001000" y="213840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2"/>
            <p:cNvSpPr/>
            <p:nvPr/>
          </p:nvSpPr>
          <p:spPr>
            <a:xfrm>
              <a:off x="8086680" y="2235600"/>
              <a:ext cx="285840" cy="207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104" name="任意多边形 15"/>
          <p:cNvSpPr/>
          <p:nvPr/>
        </p:nvSpPr>
        <p:spPr>
          <a:xfrm>
            <a:off x="185760" y="1824120"/>
            <a:ext cx="5927760" cy="3355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119" name="任意多边形 17"/>
            <p:cNvSpPr/>
            <p:nvPr/>
          </p:nvSpPr>
          <p:spPr>
            <a:xfrm>
              <a:off x="1700640" y="2019240"/>
              <a:ext cx="774720" cy="4032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2"/>
          <p:cNvSpPr/>
          <p:nvPr/>
        </p:nvSpPr>
        <p:spPr>
          <a:xfrm>
            <a:off x="117360" y="-88920"/>
            <a:ext cx="1675080" cy="1708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124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19296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2096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147240" y="16084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23220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27684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261000" y="16084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19044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12096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44360" y="17640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22932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27684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258480" y="17640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74240" y="16545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4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140" name="任意多边形 644"/>
            <p:cNvSpPr/>
            <p:nvPr/>
          </p:nvSpPr>
          <p:spPr>
            <a:xfrm>
              <a:off x="768240" y="1117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2"/>
          <p:cNvSpPr/>
          <p:nvPr/>
        </p:nvSpPr>
        <p:spPr>
          <a:xfrm>
            <a:off x="4325760" y="1865160"/>
            <a:ext cx="4687920" cy="33940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4"/>
          <p:cNvSpPr/>
          <p:nvPr/>
        </p:nvSpPr>
        <p:spPr>
          <a:xfrm>
            <a:off x="6713640" y="177012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4"/>
          <p:cNvSpPr/>
          <p:nvPr/>
        </p:nvSpPr>
        <p:spPr>
          <a:xfrm>
            <a:off x="6143760" y="2519280"/>
            <a:ext cx="944280" cy="2556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4"/>
          <p:cNvSpPr/>
          <p:nvPr/>
        </p:nvSpPr>
        <p:spPr>
          <a:xfrm>
            <a:off x="5614920" y="334656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6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155" name="Freeform 6"/>
            <p:cNvSpPr/>
            <p:nvPr/>
          </p:nvSpPr>
          <p:spPr>
            <a:xfrm>
              <a:off x="354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66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379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3918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044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417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429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442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454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67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80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926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5052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517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530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543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55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68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80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5934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60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618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643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180" name="Freeform 6"/>
            <p:cNvSpPr/>
            <p:nvPr/>
          </p:nvSpPr>
          <p:spPr>
            <a:xfrm>
              <a:off x="3540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66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3792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3918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4044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170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296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4422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548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4674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4800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4926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5053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5179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5305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431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5557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5683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5809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5935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18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201" name="Freeform 6"/>
            <p:cNvSpPr/>
            <p:nvPr/>
          </p:nvSpPr>
          <p:spPr>
            <a:xfrm>
              <a:off x="354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3666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3792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3918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044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417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296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4422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4548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4674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4800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26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5052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5178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5304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430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219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121"/>
          <p:cNvSpPr/>
          <p:nvPr/>
        </p:nvSpPr>
        <p:spPr>
          <a:xfrm>
            <a:off x="5748480" y="-162000"/>
            <a:ext cx="3270240" cy="18194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00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223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890532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883332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859600" y="1665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94456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98920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973360" y="1665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890280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883332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8856720" y="1822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94168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898920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8970840" y="1822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86600" y="1712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41"/>
          <p:cNvSpPr/>
          <p:nvPr/>
        </p:nvSpPr>
        <p:spPr>
          <a:xfrm>
            <a:off x="866880" y="3224160"/>
            <a:ext cx="7881840" cy="35424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5"/>
          <p:cNvSpPr/>
          <p:nvPr/>
        </p:nvSpPr>
        <p:spPr>
          <a:xfrm>
            <a:off x="130320" y="3300480"/>
            <a:ext cx="2627280" cy="19238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23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241" name="任意多边形 227"/>
            <p:cNvSpPr/>
            <p:nvPr/>
          </p:nvSpPr>
          <p:spPr>
            <a:xfrm>
              <a:off x="3564000" y="1414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30"/>
          <p:cNvSpPr/>
          <p:nvPr/>
        </p:nvSpPr>
        <p:spPr>
          <a:xfrm>
            <a:off x="866880" y="3583080"/>
            <a:ext cx="166824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30"/>
          <p:cNvSpPr/>
          <p:nvPr/>
        </p:nvSpPr>
        <p:spPr>
          <a:xfrm>
            <a:off x="245124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0"/>
          <p:cNvSpPr/>
          <p:nvPr/>
        </p:nvSpPr>
        <p:spPr>
          <a:xfrm>
            <a:off x="403560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30"/>
          <p:cNvSpPr/>
          <p:nvPr/>
        </p:nvSpPr>
        <p:spPr>
          <a:xfrm>
            <a:off x="5618160" y="3583080"/>
            <a:ext cx="16686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30"/>
          <p:cNvSpPr/>
          <p:nvPr/>
        </p:nvSpPr>
        <p:spPr>
          <a:xfrm>
            <a:off x="7202520" y="3583080"/>
            <a:ext cx="15462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051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255" name="组合 1036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256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1038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259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1542600" y="24865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1357560" y="2533680"/>
                <a:ext cx="5832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1226160" y="26679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1179000" y="2853360"/>
                <a:ext cx="7380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1"/>
              <p:cNvSpPr/>
              <p:nvPr/>
            </p:nvSpPr>
            <p:spPr>
              <a:xfrm>
                <a:off x="1226160" y="30117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"/>
              <p:cNvSpPr/>
              <p:nvPr/>
            </p:nvSpPr>
            <p:spPr>
              <a:xfrm>
                <a:off x="1357560" y="3130200"/>
                <a:ext cx="5832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"/>
              <p:cNvSpPr/>
              <p:nvPr/>
            </p:nvSpPr>
            <p:spPr>
              <a:xfrm>
                <a:off x="1542600" y="31741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4"/>
              <p:cNvSpPr/>
              <p:nvPr/>
            </p:nvSpPr>
            <p:spPr>
              <a:xfrm>
                <a:off x="1698120" y="3130200"/>
                <a:ext cx="5400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>
                <a:off x="1812240" y="30117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1856520" y="2853360"/>
                <a:ext cx="7668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"/>
              <p:cNvSpPr/>
              <p:nvPr/>
            </p:nvSpPr>
            <p:spPr>
              <a:xfrm>
                <a:off x="1812240" y="26679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8"/>
              <p:cNvSpPr/>
              <p:nvPr/>
            </p:nvSpPr>
            <p:spPr>
              <a:xfrm>
                <a:off x="1698120" y="2533680"/>
                <a:ext cx="5400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"/>
              <p:cNvSpPr/>
              <p:nvPr/>
            </p:nvSpPr>
            <p:spPr>
              <a:xfrm>
                <a:off x="1519920" y="2830320"/>
                <a:ext cx="73800" cy="7416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360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275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05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278" name="组合 33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279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54"/>
            <p:cNvSpPr/>
            <p:nvPr/>
          </p:nvSpPr>
          <p:spPr>
            <a:xfrm>
              <a:off x="2886840" y="2583720"/>
              <a:ext cx="689760" cy="5961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053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283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36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286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39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289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3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292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角星 1034"/>
          <p:cNvSpPr/>
          <p:nvPr/>
        </p:nvSpPr>
        <p:spPr>
          <a:xfrm>
            <a:off x="4672080" y="25160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五角星 322"/>
          <p:cNvSpPr/>
          <p:nvPr/>
        </p:nvSpPr>
        <p:spPr>
          <a:xfrm>
            <a:off x="4572000" y="2400480"/>
            <a:ext cx="108000" cy="10764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五角星 323"/>
          <p:cNvSpPr/>
          <p:nvPr/>
        </p:nvSpPr>
        <p:spPr>
          <a:xfrm>
            <a:off x="4448160" y="251136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24"/>
          <p:cNvSpPr/>
          <p:nvPr/>
        </p:nvSpPr>
        <p:spPr>
          <a:xfrm>
            <a:off x="4761000" y="23684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54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301" name="Freeform 20"/>
            <p:cNvSpPr/>
            <p:nvPr/>
          </p:nvSpPr>
          <p:spPr>
            <a:xfrm>
              <a:off x="1542960" y="2577960"/>
              <a:ext cx="27000" cy="279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542960" y="2901960"/>
              <a:ext cx="2700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"/>
          <p:cNvSpPr/>
          <p:nvPr/>
        </p:nvSpPr>
        <p:spPr>
          <a:xfrm>
            <a:off x="6365880" y="2919240"/>
            <a:ext cx="222120" cy="41436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306" name="Freeform 7"/>
            <p:cNvSpPr/>
            <p:nvPr/>
          </p:nvSpPr>
          <p:spPr>
            <a:xfrm>
              <a:off x="4464000" y="2905200"/>
              <a:ext cx="74160" cy="59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10440" y="2778480"/>
              <a:ext cx="187920" cy="1605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475160" y="2787480"/>
              <a:ext cx="130320" cy="1195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356000" y="2722680"/>
              <a:ext cx="888840" cy="404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618800" y="2730240"/>
              <a:ext cx="59400" cy="1022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600080" y="2730240"/>
              <a:ext cx="38880" cy="874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9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313" name="Freeform 55"/>
            <p:cNvSpPr/>
            <p:nvPr/>
          </p:nvSpPr>
          <p:spPr>
            <a:xfrm>
              <a:off x="8028720" y="300492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7956720" y="2590920"/>
              <a:ext cx="161280" cy="1926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>
              <a:off x="7843680" y="3067920"/>
              <a:ext cx="387360" cy="12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015400" y="2773440"/>
              <a:ext cx="43560" cy="284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0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319" name="Freeform 60"/>
            <p:cNvSpPr/>
            <p:nvPr/>
          </p:nvSpPr>
          <p:spPr>
            <a:xfrm>
              <a:off x="7700400" y="2587680"/>
              <a:ext cx="676080" cy="1558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"/>
            <p:cNvSpPr/>
            <p:nvPr/>
          </p:nvSpPr>
          <p:spPr>
            <a:xfrm>
              <a:off x="7590960" y="2664000"/>
              <a:ext cx="11484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2"/>
            <p:cNvSpPr/>
            <p:nvPr/>
          </p:nvSpPr>
          <p:spPr>
            <a:xfrm>
              <a:off x="770328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7695360" y="264708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5"/>
            <p:cNvSpPr/>
            <p:nvPr/>
          </p:nvSpPr>
          <p:spPr>
            <a:xfrm>
              <a:off x="8260200" y="2664000"/>
              <a:ext cx="11448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6"/>
            <p:cNvSpPr/>
            <p:nvPr/>
          </p:nvSpPr>
          <p:spPr>
            <a:xfrm>
              <a:off x="837216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8"/>
            <p:cNvSpPr/>
            <p:nvPr/>
          </p:nvSpPr>
          <p:spPr>
            <a:xfrm>
              <a:off x="8363880" y="2647080"/>
              <a:ext cx="1872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9"/>
            <p:cNvSpPr/>
            <p:nvPr/>
          </p:nvSpPr>
          <p:spPr>
            <a:xfrm>
              <a:off x="758340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0"/>
            <p:cNvSpPr/>
            <p:nvPr/>
          </p:nvSpPr>
          <p:spPr>
            <a:xfrm>
              <a:off x="759708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1"/>
            <p:cNvSpPr/>
            <p:nvPr/>
          </p:nvSpPr>
          <p:spPr>
            <a:xfrm>
              <a:off x="825192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826596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8268480" y="2987640"/>
              <a:ext cx="207360" cy="82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7598880" y="3015000"/>
              <a:ext cx="44640" cy="586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7745760" y="3042000"/>
              <a:ext cx="30240" cy="25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7774200" y="3044160"/>
              <a:ext cx="28440" cy="26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7638840" y="3007440"/>
              <a:ext cx="50400" cy="54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8"/>
            <p:cNvSpPr/>
            <p:nvPr/>
          </p:nvSpPr>
          <p:spPr>
            <a:xfrm>
              <a:off x="7667280" y="3023640"/>
              <a:ext cx="59760" cy="49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9"/>
            <p:cNvSpPr/>
            <p:nvPr/>
          </p:nvSpPr>
          <p:spPr>
            <a:xfrm>
              <a:off x="7691400" y="2985840"/>
              <a:ext cx="64440" cy="81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任意多边形 193"/>
          <p:cNvSpPr/>
          <p:nvPr/>
        </p:nvSpPr>
        <p:spPr>
          <a:xfrm>
            <a:off x="138240" y="-30240"/>
            <a:ext cx="4392360" cy="3094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19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341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16380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914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117720" y="30895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20304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480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232200" y="3089520"/>
              <a:ext cx="3636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6092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14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4840" y="32461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20016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2480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229320" y="3246120"/>
              <a:ext cx="3636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44720" y="3136320"/>
              <a:ext cx="9648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356" name="任意多边形 3"/>
          <p:cNvSpPr/>
          <p:nvPr/>
        </p:nvSpPr>
        <p:spPr>
          <a:xfrm>
            <a:off x="2548080" y="-61920"/>
            <a:ext cx="6446520" cy="3787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1"/>
          <p:cNvSpPr/>
          <p:nvPr/>
        </p:nvSpPr>
        <p:spPr>
          <a:xfrm>
            <a:off x="1050840" y="2638440"/>
            <a:ext cx="14414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等腰三角形 11"/>
          <p:cNvSpPr/>
          <p:nvPr/>
        </p:nvSpPr>
        <p:spPr>
          <a:xfrm>
            <a:off x="2916360" y="2638440"/>
            <a:ext cx="14396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等腰三角形 11"/>
          <p:cNvSpPr/>
          <p:nvPr/>
        </p:nvSpPr>
        <p:spPr>
          <a:xfrm>
            <a:off x="475920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等腰三角形 11"/>
          <p:cNvSpPr/>
          <p:nvPr/>
        </p:nvSpPr>
        <p:spPr>
          <a:xfrm>
            <a:off x="658008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6989760" y="2938320"/>
            <a:ext cx="503280" cy="50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6873840" y="2987640"/>
            <a:ext cx="930240" cy="62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369" name="Freeform 9"/>
            <p:cNvSpPr/>
            <p:nvPr/>
          </p:nvSpPr>
          <p:spPr>
            <a:xfrm>
              <a:off x="3174840" y="2997360"/>
              <a:ext cx="382680" cy="61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463560" y="3573000"/>
              <a:ext cx="514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"/>
            <p:cNvSpPr/>
            <p:nvPr/>
          </p:nvSpPr>
          <p:spPr>
            <a:xfrm>
              <a:off x="3352320" y="3625920"/>
              <a:ext cx="59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3258360" y="3573000"/>
              <a:ext cx="50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374" name="Freeform 13"/>
            <p:cNvSpPr/>
            <p:nvPr/>
          </p:nvSpPr>
          <p:spPr>
            <a:xfrm>
              <a:off x="3578400" y="3204720"/>
              <a:ext cx="501480" cy="43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789000" y="3164040"/>
              <a:ext cx="1137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21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388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323520" y="2972520"/>
              <a:ext cx="393120" cy="65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3322800" y="2999880"/>
              <a:ext cx="394200" cy="60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>
              <a:off x="3752280" y="2904840"/>
              <a:ext cx="66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"/>
            <p:cNvSpPr/>
            <p:nvPr/>
          </p:nvSpPr>
          <p:spPr>
            <a:xfrm>
              <a:off x="3752280" y="2944440"/>
              <a:ext cx="766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8"/>
            <p:cNvSpPr/>
            <p:nvPr/>
          </p:nvSpPr>
          <p:spPr>
            <a:xfrm>
              <a:off x="3752280" y="2870280"/>
              <a:ext cx="4824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3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395" name="Freeform 37"/>
            <p:cNvSpPr/>
            <p:nvPr/>
          </p:nvSpPr>
          <p:spPr>
            <a:xfrm>
              <a:off x="5567760" y="2852640"/>
              <a:ext cx="42840" cy="13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5598720" y="2900880"/>
              <a:ext cx="669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9"/>
            <p:cNvSpPr/>
            <p:nvPr/>
          </p:nvSpPr>
          <p:spPr>
            <a:xfrm>
              <a:off x="5505480" y="2887920"/>
              <a:ext cx="464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2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399" name="Freeform 33"/>
            <p:cNvSpPr/>
            <p:nvPr/>
          </p:nvSpPr>
          <p:spPr>
            <a:xfrm>
              <a:off x="5655240" y="3317400"/>
              <a:ext cx="37080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987800" y="3097440"/>
              <a:ext cx="41652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5479200" y="3389760"/>
              <a:ext cx="1008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5108760" y="3303000"/>
              <a:ext cx="16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5337360" y="3067920"/>
              <a:ext cx="384480" cy="56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"/>
            <p:cNvSpPr/>
            <p:nvPr/>
          </p:nvSpPr>
          <p:spPr>
            <a:xfrm>
              <a:off x="5461560" y="3029040"/>
              <a:ext cx="13608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6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06" name="任意多边形 9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5"/>
          <p:cNvSpPr/>
          <p:nvPr/>
        </p:nvSpPr>
        <p:spPr>
          <a:xfrm>
            <a:off x="7677000" y="3948120"/>
            <a:ext cx="1330560" cy="1204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78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411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890856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83656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8862840" y="37501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>
              <a:off x="894780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899244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8976600" y="37501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"/>
            <p:cNvSpPr/>
            <p:nvPr/>
          </p:nvSpPr>
          <p:spPr>
            <a:xfrm>
              <a:off x="890604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"/>
            <p:cNvSpPr/>
            <p:nvPr/>
          </p:nvSpPr>
          <p:spPr>
            <a:xfrm>
              <a:off x="883656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8859960" y="390564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894492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"/>
            <p:cNvSpPr/>
            <p:nvPr/>
          </p:nvSpPr>
          <p:spPr>
            <a:xfrm>
              <a:off x="899244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"/>
            <p:cNvSpPr/>
            <p:nvPr/>
          </p:nvSpPr>
          <p:spPr>
            <a:xfrm>
              <a:off x="8974080" y="390564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889840" y="379620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6"/>
          <p:cNvSpPr/>
          <p:nvPr/>
        </p:nvSpPr>
        <p:spPr>
          <a:xfrm flipH="1">
            <a:off x="1338120" y="2890800"/>
            <a:ext cx="695520" cy="80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0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 14"/>
          <p:cNvSpPr/>
          <p:nvPr/>
        </p:nvSpPr>
        <p:spPr>
          <a:xfrm>
            <a:off x="146160" y="4886280"/>
            <a:ext cx="193680" cy="2574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0"/>
          <p:cNvSpPr/>
          <p:nvPr/>
        </p:nvSpPr>
        <p:spPr>
          <a:xfrm>
            <a:off x="196920" y="-90360"/>
            <a:ext cx="7594560" cy="478476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1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31" name="任意多边形 2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45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435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49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440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00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444" name="Freeform 6"/>
            <p:cNvSpPr/>
            <p:nvPr/>
          </p:nvSpPr>
          <p:spPr>
            <a:xfrm flipH="1">
              <a:off x="2304360" y="3598920"/>
              <a:ext cx="248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2304360" y="3575880"/>
              <a:ext cx="2484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2292840" y="3463920"/>
              <a:ext cx="4788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2271600" y="3622320"/>
              <a:ext cx="92160" cy="17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0"/>
          <p:cNvSpPr/>
          <p:nvPr/>
        </p:nvSpPr>
        <p:spPr>
          <a:xfrm flipH="1">
            <a:off x="2131920" y="3683160"/>
            <a:ext cx="123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1"/>
          <p:cNvSpPr/>
          <p:nvPr/>
        </p:nvSpPr>
        <p:spPr>
          <a:xfrm flipH="1">
            <a:off x="2066040" y="3809880"/>
            <a:ext cx="11772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"/>
          <p:cNvSpPr/>
          <p:nvPr/>
        </p:nvSpPr>
        <p:spPr>
          <a:xfrm flipH="1">
            <a:off x="2117880" y="3770280"/>
            <a:ext cx="21096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3"/>
          <p:cNvSpPr/>
          <p:nvPr/>
        </p:nvSpPr>
        <p:spPr>
          <a:xfrm flipH="1">
            <a:off x="2029680" y="4070520"/>
            <a:ext cx="220680" cy="37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53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454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5201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459" name="Freeform 88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9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0"/>
            <p:cNvSpPr/>
            <p:nvPr/>
          </p:nvSpPr>
          <p:spPr>
            <a:xfrm>
              <a:off x="4915800" y="1915920"/>
              <a:ext cx="3204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1"/>
            <p:cNvSpPr/>
            <p:nvPr/>
          </p:nvSpPr>
          <p:spPr>
            <a:xfrm>
              <a:off x="4841640" y="1924200"/>
              <a:ext cx="16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2"/>
            <p:cNvSpPr/>
            <p:nvPr/>
          </p:nvSpPr>
          <p:spPr>
            <a:xfrm>
              <a:off x="4911840" y="1889640"/>
              <a:ext cx="3384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5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313160" y="1568520"/>
              <a:ext cx="835200" cy="55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450680" y="1935360"/>
              <a:ext cx="13248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1"/>
            <p:cNvSpPr/>
            <p:nvPr/>
          </p:nvSpPr>
          <p:spPr>
            <a:xfrm>
              <a:off x="4918680" y="1687320"/>
              <a:ext cx="1324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2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5199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472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109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6"/>
          <p:cNvSpPr/>
          <p:nvPr/>
        </p:nvSpPr>
        <p:spPr>
          <a:xfrm>
            <a:off x="3114720" y="2868480"/>
            <a:ext cx="62208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>
            <a:off x="3110040" y="2486160"/>
            <a:ext cx="6699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9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480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22176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4976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176040" y="47152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6100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0564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89800" y="47152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1924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14976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173160" y="48708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5812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30564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87280" y="48708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203040" y="47613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95" name="任意多边形 1"/>
          <p:cNvSpPr/>
          <p:nvPr/>
        </p:nvSpPr>
        <p:spPr>
          <a:xfrm>
            <a:off x="304920" y="-55440"/>
            <a:ext cx="8637480" cy="35636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497" name="任意多边形 3"/>
            <p:cNvSpPr/>
            <p:nvPr/>
          </p:nvSpPr>
          <p:spPr>
            <a:xfrm>
              <a:off x="611280" y="11390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7305840" y="3726000"/>
            <a:ext cx="1726920" cy="14842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26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503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91468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884268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8868960" y="3546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895392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899856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8982720" y="3546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891216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884268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8866080" y="3703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895104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899856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980200" y="3703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1"/>
            <p:cNvSpPr/>
            <p:nvPr/>
          </p:nvSpPr>
          <p:spPr>
            <a:xfrm>
              <a:off x="8895960" y="3593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12:00Z</dcterms:created>
  <dc:creator>Administrator</dc:creator>
  <dc:description/>
  <dc:language>en-US</dc:language>
  <cp:lastModifiedBy>SUNNY-PC</cp:lastModifiedBy>
  <dcterms:modified xsi:type="dcterms:W3CDTF">2015-10-13T13:26:19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