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702-2EEA-4941-A5F4-E6FC823D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724-7F4F-4EEA-8E95-2E63D0B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1A5-0164-4602-B0F7-5FD06BC2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011-D1F2-44A6-8017-F0734125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FB93-D9CC-499E-B294-16D6FDF1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C32-29B7-454D-A4D9-DEB5B716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8DA8-E2B2-43C0-982D-196A4C1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5C3C-096D-40EF-ACF8-B8840115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E37-6169-45FB-84D4-62778BA0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2183-FB2C-42D1-B2B1-C94713C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A063-DBBF-4820-96D7-697A3F18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1F4-7F5E-4C42-8B1A-C90DF758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5A3C-62FA-45A1-A1AA-C5C40601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713E-8A89-41BF-8B7D-4E70B9F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CF6D-5BA7-483A-9421-FDFC23DB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7143-C96F-4F1F-81B8-D365D3CA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AC21-D210-4BAE-A43A-AD0A1B39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E7FB-BA78-48BD-8EBA-51E58557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565C-9DA0-493E-B1CE-F467BE5E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06AB-6C15-458C-9090-32AB4F2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9F45-0413-480C-95B1-B648951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51D5-F590-4098-8FC9-9F236BA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AE2-04CF-4874-9EC7-F59963E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C6BD-DBF4-4257-AD3A-AC5D9110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9C56-52E5-444C-A694-7308776F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03DD-B7C7-4256-B9C3-77FA0A6A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4D75-40F1-4D4D-A388-EACEBF9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97E1-3136-435C-95D9-14625A1D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9B66-3C19-4F2A-B5FE-AC27CD15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57E4-95C7-4592-B7F2-2910FFDB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5306-49D1-4532-A25D-16580133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6A5C-DFD7-4148-AC8C-76B7C43D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E9BF-FAC6-4814-A8A0-28E8A757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852-D723-4ADF-B4C6-FC81112E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A2B4-A2B4-4DAC-A7B8-C4FA0307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6F9F-8614-4B5D-B217-3881D6FB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5CB0-AA7B-4352-A3AA-B1EC9299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3A72-8223-401A-A3A6-426536D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88C8-7D88-4A0C-8444-C953E98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B37C-D33C-422A-B770-70842B5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3764-B8BC-44C2-9F3A-BC29C60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17A9-6199-45D7-B8AF-A33829C9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0E433-D850-4D08-A382-FD871D0F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036D4-EF00-4C07-A34E-C93D48D6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A57-32C0-4D18-9E77-67DC458B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2D67-EE41-40C6-BBE1-B2B6E33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7D37-D338-422F-9D2A-C64C1A9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21B5-595B-40CE-81DD-47026C2B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EDE6-BEC1-4A8B-B0EE-D232D4E4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F88A-B3FF-46EB-A574-72079345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8054-51DB-46BC-88F7-D2B8287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168EA-7753-477B-8694-7174AE3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526E-4012-4D4A-822F-6C0B834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5789-F97A-47AB-8ED2-B2287586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676E-E84A-46CA-AFDB-2A7ED459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055-1F56-4568-9740-56DFE007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E5B1-852D-494C-8F09-3FFDD823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F0FA-227A-4903-A080-34F9DDAF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54DAC-DBCD-48F5-87D5-C341D34E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7140-04EF-4C03-B00D-C2A50481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022CE-B690-4477-A0CC-07129E4C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70D30-C84C-4779-9671-9AC6D35A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A1B1-ABA2-4723-B2CF-F0903DB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E2BE6-D573-4E15-B616-DF31198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23C3-1351-4570-AB59-422F2A09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ACAD8-5E84-4DC8-B59F-855E843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628-B473-492F-B60B-2FCA45D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4E6A-47F7-401E-B2ED-0F352E55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E3E2-C625-43C8-8037-A45A1113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BE11-A7A3-4A1A-B818-21AFB71A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DDB0-AD06-4274-9065-4380380B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984E-00C8-4E0D-A5C0-C4159A78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8A32-F5A4-48DD-833C-DC07011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59E09-29AF-4594-862A-63EABEBB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F2A1-F977-4EE2-B4DC-7BE0256E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C7586-6C3E-476B-9ABC-FFEF0FF1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AB59F-2603-4D88-8B5C-D035A16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A00-B2D2-45B8-A3F0-0FCFA9B0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0668F-4672-4F2E-AEF1-8E08304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04D4D-852B-4D92-AF5A-9238830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539BC-4FDA-4E2B-AD4C-054ED041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EBFE4-FD01-43AF-A03C-79E6763A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B6E7-7462-42C2-A1F5-5964FF2F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5C946-E621-47AD-9EE0-64EC4C88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21A3F-5646-430D-A0E0-69CB7EFB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F452-EF29-421B-9203-2B1287D2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9E85A-0907-4EA1-9E8E-AE081FD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28EFC-8AEB-47D9-9E5C-3552B055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9F7-5A60-474A-A553-34C10AD1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B7E2F-592E-4288-A799-36A99E47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81FD5-C4A1-4DB7-AA40-081CB7E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B1B24-86CE-4388-A44D-775BBBC5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4CD4-F437-4854-964A-43ADDDD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8AAB4-E20D-4321-846E-870207C5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45E96-52E3-47DF-BEF3-1F3934D5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D6B27-74A0-4781-BE46-FA1D3AF8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A84A-A85A-4222-A64C-E34A5D0D91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69F-C219-4983-BBD1-5057220F3A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CF23-022E-4E7A-A1AE-69659DEA8D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F78-4A0F-4823-AF6C-2D94DA260B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1F28-1C81-4ED2-B582-688936F99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688-93AA-4BA0-A9D7-2BCFF18A3C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C3F0-B765-477E-8D89-F7605B7366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811E-81D1-4988-BB38-682A4D7A6A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9520" y="-86508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6480" y="2585880"/>
            <a:ext cx="9144000" cy="3143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239760" y="13953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64960" y="1860480"/>
            <a:ext cx="81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生活及相关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3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5" descr="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3" name="组合 5" descr=""/>
          <p:cNvPicPr/>
          <p:nvPr/>
        </p:nvPicPr>
        <p:blipFill>
          <a:blip r:embed="rId2"/>
          <a:stretch/>
        </p:blipFill>
        <p:spPr>
          <a:xfrm>
            <a:off x="2209680" y="23493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4" name="组合 5" descr=""/>
          <p:cNvPicPr/>
          <p:nvPr/>
        </p:nvPicPr>
        <p:blipFill>
          <a:blip r:embed="rId3"/>
          <a:stretch/>
        </p:blipFill>
        <p:spPr>
          <a:xfrm>
            <a:off x="2209680" y="310212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组合 5" descr=""/>
          <p:cNvPicPr/>
          <p:nvPr/>
        </p:nvPicPr>
        <p:blipFill>
          <a:blip r:embed="rId4"/>
          <a:stretch/>
        </p:blipFill>
        <p:spPr>
          <a:xfrm>
            <a:off x="2209680" y="3855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C:\Documents and Settings\Administrator\桌面\新建文件夹 (2)\LOGO白副本.png"/>
          <p:cNvPicPr/>
          <p:nvPr/>
        </p:nvPicPr>
        <p:blipFill>
          <a:blip r:embed="rId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组合 5" descr=""/>
          <p:cNvPicPr/>
          <p:nvPr/>
        </p:nvPicPr>
        <p:blipFill>
          <a:blip r:embed="rId1"/>
          <a:stretch/>
        </p:blipFill>
        <p:spPr>
          <a:xfrm>
            <a:off x="2209680" y="2604960"/>
            <a:ext cx="4724640" cy="5605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5"/>
          <p:cNvGrpSpPr/>
          <p:nvPr/>
        </p:nvGrpSpPr>
        <p:grpSpPr>
          <a:xfrm>
            <a:off x="881640" y="2076840"/>
            <a:ext cx="7435800" cy="1224000"/>
            <a:chOff x="881640" y="2076840"/>
            <a:chExt cx="7435800" cy="1224000"/>
          </a:xfrm>
        </p:grpSpPr>
        <p:grpSp>
          <p:nvGrpSpPr>
            <p:cNvPr id="351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2" name="Text Box 11"/>
            <p:cNvSpPr/>
            <p:nvPr/>
          </p:nvSpPr>
          <p:spPr>
            <a:xfrm>
              <a:off x="881640" y="2076840"/>
              <a:ext cx="74358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和图表素材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制设计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能培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68"/>
          <p:cNvGrpSpPr/>
          <p:nvPr/>
        </p:nvGrpSpPr>
        <p:grpSpPr>
          <a:xfrm>
            <a:off x="3901680" y="2680200"/>
            <a:ext cx="1131840" cy="703800"/>
            <a:chOff x="3901680" y="2680200"/>
            <a:chExt cx="1131840" cy="703800"/>
          </a:xfrm>
        </p:grpSpPr>
        <p:grpSp>
          <p:nvGrpSpPr>
            <p:cNvPr id="356" name="组合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7" name="Text Box 18"/>
            <p:cNvSpPr/>
            <p:nvPr/>
          </p:nvSpPr>
          <p:spPr>
            <a:xfrm>
              <a:off x="3901680" y="2680200"/>
              <a:ext cx="113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67"/>
          <p:cNvGrpSpPr/>
          <p:nvPr/>
        </p:nvGrpSpPr>
        <p:grpSpPr>
          <a:xfrm>
            <a:off x="1781280" y="1357200"/>
            <a:ext cx="2777760" cy="1256040"/>
            <a:chOff x="1781280" y="1357200"/>
            <a:chExt cx="2777760" cy="1256040"/>
          </a:xfrm>
        </p:grpSpPr>
        <p:grpSp>
          <p:nvGrpSpPr>
            <p:cNvPr id="359" name="组合 8"/>
            <p:cNvGrpSpPr/>
            <p:nvPr/>
          </p:nvGrpSpPr>
          <p:grpSpPr>
            <a:xfrm>
              <a:off x="1781280" y="1357200"/>
              <a:ext cx="2777760" cy="1256040"/>
              <a:chOff x="1781280" y="1357200"/>
              <a:chExt cx="2777760" cy="1256040"/>
            </a:xfrm>
          </p:grpSpPr>
          <p:grpSp>
            <p:nvGrpSpPr>
              <p:cNvPr id="360" name="组合 76"/>
              <p:cNvGrpSpPr/>
              <p:nvPr/>
            </p:nvGrpSpPr>
            <p:grpSpPr>
              <a:xfrm>
                <a:off x="1781280" y="1357200"/>
                <a:ext cx="2777760" cy="1256040"/>
                <a:chOff x="1781280" y="1357200"/>
                <a:chExt cx="2777760" cy="1256040"/>
              </a:xfrm>
            </p:grpSpPr>
            <p:sp>
              <p:nvSpPr>
                <p:cNvPr id="361" name="AutoShape 73"/>
                <p:cNvSpPr/>
                <p:nvPr/>
              </p:nvSpPr>
              <p:spPr>
                <a:xfrm rot="2700000">
                  <a:off x="3568680" y="1503720"/>
                  <a:ext cx="750240" cy="98892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圆角矩形 14"/>
                <p:cNvSpPr/>
                <p:nvPr/>
              </p:nvSpPr>
              <p:spPr>
                <a:xfrm>
                  <a:off x="1781280" y="1357200"/>
                  <a:ext cx="1836720" cy="6843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组合 2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64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9"/>
          <p:cNvGrpSpPr/>
          <p:nvPr/>
        </p:nvGrpSpPr>
        <p:grpSpPr>
          <a:xfrm>
            <a:off x="4600440" y="1357200"/>
            <a:ext cx="2678400" cy="1338840"/>
            <a:chOff x="4600440" y="1357200"/>
            <a:chExt cx="2678400" cy="1338840"/>
          </a:xfrm>
        </p:grpSpPr>
        <p:grpSp>
          <p:nvGrpSpPr>
            <p:cNvPr id="367" name="组合 62"/>
            <p:cNvGrpSpPr/>
            <p:nvPr/>
          </p:nvGrpSpPr>
          <p:grpSpPr>
            <a:xfrm>
              <a:off x="4600440" y="1357200"/>
              <a:ext cx="2678400" cy="1338840"/>
              <a:chOff x="4600440" y="1357200"/>
              <a:chExt cx="2678400" cy="1338840"/>
            </a:xfrm>
          </p:grpSpPr>
          <p:grpSp>
            <p:nvGrpSpPr>
              <p:cNvPr id="368" name="组合 48"/>
              <p:cNvGrpSpPr/>
              <p:nvPr/>
            </p:nvGrpSpPr>
            <p:grpSpPr>
              <a:xfrm>
                <a:off x="4600440" y="1357200"/>
                <a:ext cx="2678400" cy="1338840"/>
                <a:chOff x="4600440" y="1357200"/>
                <a:chExt cx="2678400" cy="1338840"/>
              </a:xfrm>
            </p:grpSpPr>
            <p:grpSp>
              <p:nvGrpSpPr>
                <p:cNvPr id="369" name="组合 74"/>
                <p:cNvGrpSpPr/>
                <p:nvPr/>
              </p:nvGrpSpPr>
              <p:grpSpPr>
                <a:xfrm>
                  <a:off x="4600440" y="1357200"/>
                  <a:ext cx="2678400" cy="1338840"/>
                  <a:chOff x="4600440" y="1357200"/>
                  <a:chExt cx="2678400" cy="1338840"/>
                </a:xfrm>
              </p:grpSpPr>
              <p:sp>
                <p:nvSpPr>
                  <p:cNvPr id="370" name="AutoShape 67"/>
                  <p:cNvSpPr/>
                  <p:nvPr/>
                </p:nvSpPr>
                <p:spPr>
                  <a:xfrm flipH="1" rot="18900000">
                    <a:off x="4812840" y="1594080"/>
                    <a:ext cx="830880" cy="94644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圆角矩形 54"/>
                  <p:cNvSpPr/>
                  <p:nvPr/>
                </p:nvSpPr>
                <p:spPr>
                  <a:xfrm>
                    <a:off x="5518440" y="1357200"/>
                    <a:ext cx="1760400" cy="75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组合 4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7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7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7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7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7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98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组合 4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82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385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386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387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组合 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0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5"/>
          <p:cNvGrpSpPr/>
          <p:nvPr/>
        </p:nvGrpSpPr>
        <p:grpSpPr>
          <a:xfrm>
            <a:off x="1781280" y="3340800"/>
            <a:ext cx="2684160" cy="1282680"/>
            <a:chOff x="1781280" y="3340800"/>
            <a:chExt cx="2684160" cy="1282680"/>
          </a:xfrm>
        </p:grpSpPr>
        <p:grpSp>
          <p:nvGrpSpPr>
            <p:cNvPr id="393" name="组合 22"/>
            <p:cNvGrpSpPr/>
            <p:nvPr/>
          </p:nvGrpSpPr>
          <p:grpSpPr>
            <a:xfrm>
              <a:off x="1781280" y="3340800"/>
              <a:ext cx="2684160" cy="1282680"/>
              <a:chOff x="1781280" y="3340800"/>
              <a:chExt cx="2684160" cy="1282680"/>
            </a:xfrm>
          </p:grpSpPr>
          <p:grpSp>
            <p:nvGrpSpPr>
              <p:cNvPr id="394" name="组合 78"/>
              <p:cNvGrpSpPr/>
              <p:nvPr/>
            </p:nvGrpSpPr>
            <p:grpSpPr>
              <a:xfrm>
                <a:off x="1781280" y="3340800"/>
                <a:ext cx="2684160" cy="1282680"/>
                <a:chOff x="1781280" y="3340800"/>
                <a:chExt cx="2684160" cy="1282680"/>
              </a:xfrm>
            </p:grpSpPr>
            <p:sp>
              <p:nvSpPr>
                <p:cNvPr id="395" name="AutoShape 75"/>
                <p:cNvSpPr/>
                <p:nvPr/>
              </p:nvSpPr>
              <p:spPr>
                <a:xfrm rot="18900000">
                  <a:off x="3365280" y="3562200"/>
                  <a:ext cx="957600" cy="799920"/>
                </a:xfrm>
                <a:prstGeom prst="rightArrow">
                  <a:avLst>
                    <a:gd name="adj1" fmla="val 70398"/>
                    <a:gd name="adj2" fmla="val 60321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圆角矩形 31"/>
                <p:cNvSpPr/>
                <p:nvPr/>
              </p:nvSpPr>
              <p:spPr>
                <a:xfrm>
                  <a:off x="1781280" y="3893760"/>
                  <a:ext cx="1756080" cy="729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组合 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8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71"/>
          <p:cNvGrpSpPr/>
          <p:nvPr/>
        </p:nvGrpSpPr>
        <p:grpSpPr>
          <a:xfrm>
            <a:off x="4537800" y="3415680"/>
            <a:ext cx="2741040" cy="1203120"/>
            <a:chOff x="4537800" y="3415680"/>
            <a:chExt cx="2741040" cy="1203120"/>
          </a:xfrm>
        </p:grpSpPr>
        <p:grpSp>
          <p:nvGrpSpPr>
            <p:cNvPr id="401" name="组合 64"/>
            <p:cNvGrpSpPr/>
            <p:nvPr/>
          </p:nvGrpSpPr>
          <p:grpSpPr>
            <a:xfrm>
              <a:off x="4537800" y="3415680"/>
              <a:ext cx="2741040" cy="1203120"/>
              <a:chOff x="4537800" y="3415680"/>
              <a:chExt cx="2741040" cy="1203120"/>
            </a:xfrm>
          </p:grpSpPr>
          <p:grpSp>
            <p:nvGrpSpPr>
              <p:cNvPr id="402" name="组合 32"/>
              <p:cNvGrpSpPr/>
              <p:nvPr/>
            </p:nvGrpSpPr>
            <p:grpSpPr>
              <a:xfrm>
                <a:off x="4537800" y="3415680"/>
                <a:ext cx="2741040" cy="1203120"/>
                <a:chOff x="4537800" y="3415680"/>
                <a:chExt cx="2741040" cy="1203120"/>
              </a:xfrm>
            </p:grpSpPr>
            <p:grpSp>
              <p:nvGrpSpPr>
                <p:cNvPr id="403" name="组合 72"/>
                <p:cNvGrpSpPr/>
                <p:nvPr/>
              </p:nvGrpSpPr>
              <p:grpSpPr>
                <a:xfrm>
                  <a:off x="4537800" y="3415680"/>
                  <a:ext cx="2741040" cy="1203120"/>
                  <a:chOff x="4537800" y="3415680"/>
                  <a:chExt cx="2741040" cy="1203120"/>
                </a:xfrm>
              </p:grpSpPr>
              <p:sp>
                <p:nvSpPr>
                  <p:cNvPr id="404" name="AutoShape 69"/>
                  <p:cNvSpPr/>
                  <p:nvPr/>
                </p:nvSpPr>
                <p:spPr>
                  <a:xfrm flipH="1" rot="2700000">
                    <a:off x="4644720" y="3660840"/>
                    <a:ext cx="988560" cy="712800"/>
                  </a:xfrm>
                  <a:prstGeom prst="rightArrow">
                    <a:avLst>
                      <a:gd name="adj1" fmla="val 70398"/>
                      <a:gd name="adj2" fmla="val 69587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38"/>
                  <p:cNvSpPr/>
                  <p:nvPr/>
                </p:nvSpPr>
                <p:spPr>
                  <a:xfrm>
                    <a:off x="5442480" y="3956400"/>
                    <a:ext cx="1836360" cy="651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组合 3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407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12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13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23560" y="2507760"/>
                <a:ext cx="1440" cy="2015280"/>
                <a:chOff x="2923560" y="2507760"/>
                <a:chExt cx="1440" cy="2015280"/>
              </a:xfrm>
            </p:grpSpPr>
            <p:sp>
              <p:nvSpPr>
                <p:cNvPr id="417" name="Line 11"/>
                <p:cNvSpPr/>
                <p:nvPr/>
              </p:nvSpPr>
              <p:spPr>
                <a:xfrm>
                  <a:off x="292356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92356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584240" y="2507760"/>
                <a:ext cx="1440" cy="2015280"/>
                <a:chOff x="4584240" y="2507760"/>
                <a:chExt cx="1440" cy="2015280"/>
              </a:xfrm>
            </p:grpSpPr>
            <p:sp>
              <p:nvSpPr>
                <p:cNvPr id="420" name="Line 12"/>
                <p:cNvSpPr/>
                <p:nvPr/>
              </p:nvSpPr>
              <p:spPr>
                <a:xfrm>
                  <a:off x="458424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458424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34480" y="2507760"/>
                <a:ext cx="2880" cy="2015280"/>
                <a:chOff x="6234480" y="2507760"/>
                <a:chExt cx="2880" cy="2015280"/>
              </a:xfrm>
            </p:grpSpPr>
            <p:sp>
              <p:nvSpPr>
                <p:cNvPr id="423" name="Line 13"/>
                <p:cNvSpPr/>
                <p:nvPr/>
              </p:nvSpPr>
              <p:spPr>
                <a:xfrm>
                  <a:off x="6234480" y="2507760"/>
                  <a:ext cx="288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6234480" y="2507760"/>
                  <a:ext cx="288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24440" y="2092320"/>
                <a:ext cx="360" cy="2431080"/>
                <a:chOff x="1324440" y="2092320"/>
                <a:chExt cx="360" cy="2431080"/>
              </a:xfrm>
            </p:grpSpPr>
            <p:sp>
              <p:nvSpPr>
                <p:cNvPr id="446" name="Line 8"/>
                <p:cNvSpPr/>
                <p:nvPr/>
              </p:nvSpPr>
              <p:spPr>
                <a:xfrm>
                  <a:off x="1324440" y="2092320"/>
                  <a:ext cx="0" cy="243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24440" y="2092320"/>
                  <a:ext cx="360" cy="243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315440" y="4523040"/>
                <a:ext cx="6476040" cy="360"/>
                <a:chOff x="1315440" y="4523040"/>
                <a:chExt cx="6476040" cy="360"/>
              </a:xfrm>
            </p:grpSpPr>
            <p:sp>
              <p:nvSpPr>
                <p:cNvPr id="449" name="Line 8"/>
                <p:cNvSpPr/>
                <p:nvPr/>
              </p:nvSpPr>
              <p:spPr>
                <a:xfrm>
                  <a:off x="1315440" y="4523400"/>
                  <a:ext cx="64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4553280" y="1285200"/>
                  <a:ext cx="360" cy="64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4"/>
          <p:cNvGrpSpPr/>
          <p:nvPr/>
        </p:nvGrpSpPr>
        <p:grpSpPr>
          <a:xfrm>
            <a:off x="4114800" y="1289880"/>
            <a:ext cx="1095120" cy="398880"/>
            <a:chOff x="4114800" y="1289880"/>
            <a:chExt cx="1095120" cy="398880"/>
          </a:xfrm>
        </p:grpSpPr>
        <p:grpSp>
          <p:nvGrpSpPr>
            <p:cNvPr id="452" name="组合 5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3" name="Rectangle 13"/>
            <p:cNvSpPr/>
            <p:nvPr/>
          </p:nvSpPr>
          <p:spPr>
            <a:xfrm>
              <a:off x="4114800" y="1289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1"/>
          <p:cNvSpPr/>
          <p:nvPr/>
        </p:nvSpPr>
        <p:spPr>
          <a:xfrm>
            <a:off x="1625760" y="4487760"/>
            <a:ext cx="5849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1773360" y="1147680"/>
            <a:ext cx="5595840" cy="32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C:\Documents and Settings\Administrator\桌面\新建文件夹 (2)\LOGO白副本.png"/>
          <p:cNvPicPr/>
          <p:nvPr/>
        </p:nvPicPr>
        <p:blipFill>
          <a:blip r:embed="rId10"/>
          <a:stretch/>
        </p:blipFill>
        <p:spPr>
          <a:xfrm>
            <a:off x="290520" y="51721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57" dur="15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59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61" dur="1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63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65" dur="1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67" dur="1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69" dur="1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71" dur="1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73" dur="15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Administrator</cp:lastModifiedBy>
  <dcterms:modified xsi:type="dcterms:W3CDTF">2016-04-18T03:22:0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