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9.jpeg" ContentType="image/jpeg"/>
  <Override PartName="/ppt/media/image40.png" ContentType="image/png"/>
  <Override PartName="/ppt/media/image43.png" ContentType="image/png"/>
  <Override PartName="/ppt/media/image44.png" ContentType="image/png"/>
  <Override PartName="/ppt/media/image45.png" ContentType="image/pn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51.png" ContentType="image/png"/>
  <Override PartName="/ppt/media/image31.jpeg" ContentType="image/jpeg"/>
  <Override PartName="/ppt/media/image53.png" ContentType="image/png"/>
  <Override PartName="/ppt/media/image42.png" ContentType="image/png"/>
  <Override PartName="/ppt/media/image54.png" ContentType="image/png"/>
  <Override PartName="/ppt/media/image30.jpeg" ContentType="image/jpeg"/>
  <Override PartName="/ppt/media/image27.jpeg" ContentType="image/jpe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35.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6A2B2-8E15-4C5F-8E36-9F4BE3F76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5528D-018A-4AC3-9715-39D4BA8B5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15505-C54F-49C3-B5F9-321175B48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A2BCB-7909-4C9C-BA08-94A9D9025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BA7BD-1DE0-42CE-B461-6A7F394A0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3228E-D664-4443-848B-17C92EF3C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1C4C0-DB9C-4A58-ADEE-CEE5CE23E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3D61E-D787-4B86-AC2C-927D4E4BF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311DC-F40A-4805-9B29-7FEC73120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ACAA5-424F-419D-9B86-B67CD97EC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44A1-4602-49B4-B158-7B97E1DC5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AC4A-2258-4CCC-846A-4B84A98E6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b1f5"/>
            </a:gs>
            <a:gs pos="100000">
              <a:srgbClr val="b2d63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7FD5-CA79-44F2-AA76-E65F013F9B01}" type="datetime">
              <a:rPr b="0" lang="zh-CN" sz="1200" spc="-1" strike="noStrike">
                <a:solidFill>
                  <a:srgbClr val="898989"/>
                </a:solidFill>
                <a:latin typeface="Calibri"/>
              </a:rPr>
              <a:t>26/7/30</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D440-6A33-44E0-98C1-51A061FD8A2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组合 37"/>
          <p:cNvGrpSpPr/>
          <p:nvPr/>
        </p:nvGrpSpPr>
        <p:grpSpPr>
          <a:xfrm>
            <a:off x="1947600" y="870120"/>
            <a:ext cx="138240" cy="137880"/>
            <a:chOff x="1947600" y="870120"/>
            <a:chExt cx="138240" cy="137880"/>
          </a:xfrm>
        </p:grpSpPr>
        <p:sp>
          <p:nvSpPr>
            <p:cNvPr id="42" name="直接连接符 35"/>
            <p:cNvSpPr/>
            <p:nvPr/>
          </p:nvSpPr>
          <p:spPr>
            <a:xfrm flipH="1">
              <a:off x="1947600" y="870120"/>
              <a:ext cx="137880" cy="137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直接连接符 36"/>
            <p:cNvSpPr/>
            <p:nvPr/>
          </p:nvSpPr>
          <p:spPr>
            <a:xfrm>
              <a:off x="1947960" y="870120"/>
              <a:ext cx="137880" cy="137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 name="组合 38"/>
          <p:cNvGrpSpPr/>
          <p:nvPr/>
        </p:nvGrpSpPr>
        <p:grpSpPr>
          <a:xfrm>
            <a:off x="2298600" y="2197080"/>
            <a:ext cx="136800" cy="136440"/>
            <a:chOff x="2298600" y="2197080"/>
            <a:chExt cx="136800" cy="136440"/>
          </a:xfrm>
        </p:grpSpPr>
        <p:sp>
          <p:nvSpPr>
            <p:cNvPr id="45" name="直接连接符 39"/>
            <p:cNvSpPr/>
            <p:nvPr/>
          </p:nvSpPr>
          <p:spPr>
            <a:xfrm flipH="1">
              <a:off x="2298600" y="2197080"/>
              <a:ext cx="13680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直接连接符 40"/>
            <p:cNvSpPr/>
            <p:nvPr/>
          </p:nvSpPr>
          <p:spPr>
            <a:xfrm>
              <a:off x="2298600" y="2197080"/>
              <a:ext cx="13680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7" name="组合 41"/>
          <p:cNvGrpSpPr/>
          <p:nvPr/>
        </p:nvGrpSpPr>
        <p:grpSpPr>
          <a:xfrm>
            <a:off x="1152360" y="2135160"/>
            <a:ext cx="138240" cy="138240"/>
            <a:chOff x="1152360" y="2135160"/>
            <a:chExt cx="138240" cy="138240"/>
          </a:xfrm>
        </p:grpSpPr>
        <p:sp>
          <p:nvSpPr>
            <p:cNvPr id="48"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 name="组合 44"/>
          <p:cNvGrpSpPr/>
          <p:nvPr/>
        </p:nvGrpSpPr>
        <p:grpSpPr>
          <a:xfrm>
            <a:off x="2230200" y="3811680"/>
            <a:ext cx="68400" cy="68040"/>
            <a:chOff x="2230200" y="3811680"/>
            <a:chExt cx="68400" cy="68040"/>
          </a:xfrm>
        </p:grpSpPr>
        <p:sp>
          <p:nvSpPr>
            <p:cNvPr id="51" name="直接连接符 45"/>
            <p:cNvSpPr/>
            <p:nvPr/>
          </p:nvSpPr>
          <p:spPr>
            <a:xfrm flipH="1">
              <a:off x="2230200" y="3811680"/>
              <a:ext cx="680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52" name="直接连接符 46"/>
            <p:cNvSpPr/>
            <p:nvPr/>
          </p:nvSpPr>
          <p:spPr>
            <a:xfrm>
              <a:off x="2230560" y="3811680"/>
              <a:ext cx="680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53" name="Freeform 5"/>
          <p:cNvSpPr/>
          <p:nvPr/>
        </p:nvSpPr>
        <p:spPr>
          <a:xfrm>
            <a:off x="6510240" y="-14382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Freeform 5"/>
          <p:cNvSpPr/>
          <p:nvPr/>
        </p:nvSpPr>
        <p:spPr>
          <a:xfrm>
            <a:off x="7342200" y="-129852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Freeform 5"/>
          <p:cNvSpPr/>
          <p:nvPr/>
        </p:nvSpPr>
        <p:spPr>
          <a:xfrm>
            <a:off x="8151840" y="-8859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Freeform 5"/>
          <p:cNvSpPr/>
          <p:nvPr/>
        </p:nvSpPr>
        <p:spPr>
          <a:xfrm>
            <a:off x="8796240" y="-2430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Freeform 5"/>
          <p:cNvSpPr/>
          <p:nvPr/>
        </p:nvSpPr>
        <p:spPr>
          <a:xfrm>
            <a:off x="9209160" y="5684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Freeform 5"/>
          <p:cNvSpPr/>
          <p:nvPr/>
        </p:nvSpPr>
        <p:spPr>
          <a:xfrm>
            <a:off x="9352080" y="1467000"/>
            <a:ext cx="69498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Freeform 5"/>
          <p:cNvSpPr/>
          <p:nvPr/>
        </p:nvSpPr>
        <p:spPr>
          <a:xfrm>
            <a:off x="9074160" y="2136600"/>
            <a:ext cx="6951600" cy="615816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Freeform 5"/>
          <p:cNvSpPr/>
          <p:nvPr/>
        </p:nvSpPr>
        <p:spPr>
          <a:xfrm>
            <a:off x="8796240" y="317664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Freeform 5"/>
          <p:cNvSpPr/>
          <p:nvPr/>
        </p:nvSpPr>
        <p:spPr>
          <a:xfrm>
            <a:off x="3760920" y="21146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Freeform 5"/>
          <p:cNvSpPr/>
          <p:nvPr/>
        </p:nvSpPr>
        <p:spPr>
          <a:xfrm>
            <a:off x="7342200" y="42321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Freeform 5"/>
          <p:cNvSpPr/>
          <p:nvPr/>
        </p:nvSpPr>
        <p:spPr>
          <a:xfrm>
            <a:off x="6281640" y="453708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Freeform 5"/>
          <p:cNvSpPr/>
          <p:nvPr/>
        </p:nvSpPr>
        <p:spPr>
          <a:xfrm>
            <a:off x="5543640" y="42321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Freeform 5"/>
          <p:cNvSpPr/>
          <p:nvPr/>
        </p:nvSpPr>
        <p:spPr>
          <a:xfrm>
            <a:off x="4734000" y="38196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Freeform 5"/>
          <p:cNvSpPr/>
          <p:nvPr/>
        </p:nvSpPr>
        <p:spPr>
          <a:xfrm>
            <a:off x="3514680" y="3220920"/>
            <a:ext cx="6951600" cy="615816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Freeform 5"/>
          <p:cNvSpPr/>
          <p:nvPr/>
        </p:nvSpPr>
        <p:spPr>
          <a:xfrm>
            <a:off x="4316400" y="227340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Freeform 5"/>
          <p:cNvSpPr/>
          <p:nvPr/>
        </p:nvSpPr>
        <p:spPr>
          <a:xfrm>
            <a:off x="3514680" y="116856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Freeform 5"/>
          <p:cNvSpPr/>
          <p:nvPr/>
        </p:nvSpPr>
        <p:spPr>
          <a:xfrm>
            <a:off x="2967120" y="5684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Freeform 5"/>
          <p:cNvSpPr/>
          <p:nvPr/>
        </p:nvSpPr>
        <p:spPr>
          <a:xfrm>
            <a:off x="4100400" y="-5868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Freeform 5"/>
          <p:cNvSpPr/>
          <p:nvPr/>
        </p:nvSpPr>
        <p:spPr>
          <a:xfrm>
            <a:off x="4354560" y="-108576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Freeform 5"/>
          <p:cNvSpPr/>
          <p:nvPr/>
        </p:nvSpPr>
        <p:spPr>
          <a:xfrm>
            <a:off x="3564000" y="-19224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文本框 73"/>
          <p:cNvSpPr/>
          <p:nvPr/>
        </p:nvSpPr>
        <p:spPr>
          <a:xfrm>
            <a:off x="6138720" y="2189160"/>
            <a:ext cx="5762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099d6"/>
                </a:solidFill>
                <a:latin typeface="微软雅黑"/>
                <a:ea typeface="微软雅黑"/>
              </a:rPr>
              <a:t>输入标题</a:t>
            </a:r>
            <a:r>
              <a:rPr b="1" lang="en-US" sz="4800" spc="-1" strike="noStrike">
                <a:solidFill>
                  <a:srgbClr val="3099d6"/>
                </a:solidFill>
                <a:latin typeface="微软雅黑"/>
                <a:ea typeface="微软雅黑"/>
              </a:rPr>
              <a:t> </a:t>
            </a:r>
            <a:r>
              <a:rPr b="1" lang="en-US" sz="4800" spc="-1" strike="noStrike">
                <a:solidFill>
                  <a:srgbClr val="3099d6"/>
                </a:solidFill>
                <a:latin typeface="微软雅黑"/>
                <a:ea typeface="微软雅黑"/>
              </a:rPr>
              <a:t>POWERPOINT</a:t>
            </a:r>
            <a:endParaRPr b="0" lang="en-US" sz="4800" spc="-1" strike="noStrike">
              <a:solidFill>
                <a:srgbClr val="000000"/>
              </a:solidFill>
              <a:latin typeface="Calibri"/>
            </a:endParaRPr>
          </a:p>
        </p:txBody>
      </p:sp>
      <p:sp>
        <p:nvSpPr>
          <p:cNvPr id="74" name="文本框 12"/>
          <p:cNvSpPr/>
          <p:nvPr/>
        </p:nvSpPr>
        <p:spPr>
          <a:xfrm>
            <a:off x="6138720" y="3746520"/>
            <a:ext cx="5710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3" name="组合 1"/>
          <p:cNvGrpSpPr/>
          <p:nvPr/>
        </p:nvGrpSpPr>
        <p:grpSpPr>
          <a:xfrm>
            <a:off x="529920" y="66960"/>
            <a:ext cx="1630080" cy="1447560"/>
            <a:chOff x="529920" y="66960"/>
            <a:chExt cx="1630080" cy="1447560"/>
          </a:xfrm>
        </p:grpSpPr>
        <p:grpSp>
          <p:nvGrpSpPr>
            <p:cNvPr id="484" name="组合 2"/>
            <p:cNvGrpSpPr/>
            <p:nvPr/>
          </p:nvGrpSpPr>
          <p:grpSpPr>
            <a:xfrm>
              <a:off x="529920" y="66960"/>
              <a:ext cx="1630080" cy="1447560"/>
              <a:chOff x="529920" y="66960"/>
              <a:chExt cx="1630080" cy="1447560"/>
            </a:xfrm>
          </p:grpSpPr>
          <p:sp>
            <p:nvSpPr>
              <p:cNvPr id="485"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8" name="组合 7"/>
              <p:cNvGrpSpPr/>
              <p:nvPr/>
            </p:nvGrpSpPr>
            <p:grpSpPr>
              <a:xfrm>
                <a:off x="529920" y="142200"/>
                <a:ext cx="1630080" cy="1372320"/>
                <a:chOff x="529920" y="142200"/>
                <a:chExt cx="1630080" cy="1372320"/>
              </a:xfrm>
            </p:grpSpPr>
            <p:sp>
              <p:nvSpPr>
                <p:cNvPr id="489"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20"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2</a:t>
              </a:r>
              <a:endParaRPr b="0" lang="en-US" sz="6600" spc="-1" strike="noStrike">
                <a:solidFill>
                  <a:srgbClr val="000000"/>
                </a:solidFill>
                <a:latin typeface="Calibri"/>
              </a:endParaRPr>
            </a:p>
          </p:txBody>
        </p:sp>
      </p:grpSp>
      <p:sp>
        <p:nvSpPr>
          <p:cNvPr id="521"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522" name="Text Placeholder 2"/>
          <p:cNvSpPr/>
          <p:nvPr/>
        </p:nvSpPr>
        <p:spPr>
          <a:xfrm>
            <a:off x="1440" y="5054760"/>
            <a:ext cx="3032280" cy="382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wen Stacy</a:t>
            </a:r>
            <a:endParaRPr b="0" lang="en-US" sz="1800" spc="-1" strike="noStrike">
              <a:solidFill>
                <a:srgbClr val="000000"/>
              </a:solidFill>
              <a:latin typeface="Calibri"/>
            </a:endParaRPr>
          </a:p>
        </p:txBody>
      </p:sp>
      <p:sp>
        <p:nvSpPr>
          <p:cNvPr id="523" name="Text Placeholder 3"/>
          <p:cNvSpPr/>
          <p:nvPr/>
        </p:nvSpPr>
        <p:spPr>
          <a:xfrm>
            <a:off x="1440" y="5283360"/>
            <a:ext cx="3032280" cy="314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under Presedent</a:t>
            </a:r>
            <a:endParaRPr b="0" lang="en-US" sz="1800" spc="-1" strike="noStrike">
              <a:solidFill>
                <a:srgbClr val="000000"/>
              </a:solidFill>
              <a:latin typeface="Calibri"/>
            </a:endParaRPr>
          </a:p>
        </p:txBody>
      </p:sp>
      <p:pic>
        <p:nvPicPr>
          <p:cNvPr id="524" name="Picture Placeholder 19" descr="9.jpg"/>
          <p:cNvPicPr/>
          <p:nvPr/>
        </p:nvPicPr>
        <p:blipFill>
          <a:blip r:embed="rId1"/>
          <a:stretch/>
        </p:blipFill>
        <p:spPr>
          <a:xfrm>
            <a:off x="-6480" y="1879560"/>
            <a:ext cx="3040200" cy="3040200"/>
          </a:xfrm>
          <a:prstGeom prst="rect">
            <a:avLst/>
          </a:prstGeom>
          <a:ln w="0">
            <a:noFill/>
          </a:ln>
        </p:spPr>
      </p:pic>
      <p:pic>
        <p:nvPicPr>
          <p:cNvPr id="525" name="Picture Placeholder 20" descr="14.jpg"/>
          <p:cNvPicPr/>
          <p:nvPr/>
        </p:nvPicPr>
        <p:blipFill>
          <a:blip r:embed="rId2"/>
          <a:stretch/>
        </p:blipFill>
        <p:spPr>
          <a:xfrm>
            <a:off x="3056040" y="1879560"/>
            <a:ext cx="3038400" cy="3040200"/>
          </a:xfrm>
          <a:prstGeom prst="rect">
            <a:avLst/>
          </a:prstGeom>
          <a:ln w="0">
            <a:noFill/>
          </a:ln>
        </p:spPr>
      </p:pic>
      <p:pic>
        <p:nvPicPr>
          <p:cNvPr id="526" name="Picture Placeholder 21" descr="17.jpg"/>
          <p:cNvPicPr/>
          <p:nvPr/>
        </p:nvPicPr>
        <p:blipFill>
          <a:blip r:embed="rId3"/>
          <a:stretch/>
        </p:blipFill>
        <p:spPr>
          <a:xfrm>
            <a:off x="6118200" y="1879560"/>
            <a:ext cx="3038400" cy="3040200"/>
          </a:xfrm>
          <a:prstGeom prst="rect">
            <a:avLst/>
          </a:prstGeom>
          <a:ln w="0">
            <a:noFill/>
          </a:ln>
        </p:spPr>
      </p:pic>
      <p:pic>
        <p:nvPicPr>
          <p:cNvPr id="527" name="Picture Placeholder 22" descr="1.jpg"/>
          <p:cNvPicPr/>
          <p:nvPr/>
        </p:nvPicPr>
        <p:blipFill>
          <a:blip r:embed="rId4"/>
          <a:stretch/>
        </p:blipFill>
        <p:spPr>
          <a:xfrm>
            <a:off x="9180360" y="1879560"/>
            <a:ext cx="3038760" cy="3040200"/>
          </a:xfrm>
          <a:prstGeom prst="rect">
            <a:avLst/>
          </a:prstGeom>
          <a:ln w="0">
            <a:noFill/>
          </a:ln>
        </p:spPr>
      </p:pic>
      <p:sp>
        <p:nvSpPr>
          <p:cNvPr id="528" name="Text Placeholder 9"/>
          <p:cNvSpPr/>
          <p:nvPr/>
        </p:nvSpPr>
        <p:spPr>
          <a:xfrm>
            <a:off x="3056040" y="5054760"/>
            <a:ext cx="3030480" cy="382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phie Laporte</a:t>
            </a:r>
            <a:endParaRPr b="0" lang="en-US" sz="1800" spc="-1" strike="noStrike">
              <a:solidFill>
                <a:srgbClr val="000000"/>
              </a:solidFill>
              <a:latin typeface="Calibri"/>
            </a:endParaRPr>
          </a:p>
        </p:txBody>
      </p:sp>
      <p:sp>
        <p:nvSpPr>
          <p:cNvPr id="529" name="Text Placeholder 10"/>
          <p:cNvSpPr/>
          <p:nvPr/>
        </p:nvSpPr>
        <p:spPr>
          <a:xfrm>
            <a:off x="3056040" y="5283360"/>
            <a:ext cx="3030480" cy="314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EO</a:t>
            </a:r>
            <a:endParaRPr b="0" lang="en-US" sz="1800" spc="-1" strike="noStrike">
              <a:solidFill>
                <a:srgbClr val="000000"/>
              </a:solidFill>
              <a:latin typeface="Calibri"/>
            </a:endParaRPr>
          </a:p>
        </p:txBody>
      </p:sp>
      <p:sp>
        <p:nvSpPr>
          <p:cNvPr id="530" name="Text Placeholder 11"/>
          <p:cNvSpPr/>
          <p:nvPr/>
        </p:nvSpPr>
        <p:spPr>
          <a:xfrm>
            <a:off x="6126120" y="5054760"/>
            <a:ext cx="3030480" cy="382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agan Sahota</a:t>
            </a:r>
            <a:endParaRPr b="0" lang="en-US" sz="1800" spc="-1" strike="noStrike">
              <a:solidFill>
                <a:srgbClr val="000000"/>
              </a:solidFill>
              <a:latin typeface="Calibri"/>
            </a:endParaRPr>
          </a:p>
        </p:txBody>
      </p:sp>
      <p:sp>
        <p:nvSpPr>
          <p:cNvPr id="531" name="Text Placeholder 12"/>
          <p:cNvSpPr/>
          <p:nvPr/>
        </p:nvSpPr>
        <p:spPr>
          <a:xfrm>
            <a:off x="6126120" y="5283360"/>
            <a:ext cx="3030480" cy="314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ief Executive Oporation</a:t>
            </a:r>
            <a:endParaRPr b="0" lang="en-US" sz="1800" spc="-1" strike="noStrike">
              <a:solidFill>
                <a:srgbClr val="000000"/>
              </a:solidFill>
              <a:latin typeface="Calibri"/>
            </a:endParaRPr>
          </a:p>
        </p:txBody>
      </p:sp>
      <p:sp>
        <p:nvSpPr>
          <p:cNvPr id="532" name="Text Placeholder 13"/>
          <p:cNvSpPr/>
          <p:nvPr/>
        </p:nvSpPr>
        <p:spPr>
          <a:xfrm>
            <a:off x="9188280" y="5054760"/>
            <a:ext cx="3030840" cy="382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ssica Yo</a:t>
            </a:r>
            <a:endParaRPr b="0" lang="en-US" sz="1800" spc="-1" strike="noStrike">
              <a:solidFill>
                <a:srgbClr val="000000"/>
              </a:solidFill>
              <a:latin typeface="Calibri"/>
            </a:endParaRPr>
          </a:p>
        </p:txBody>
      </p:sp>
      <p:sp>
        <p:nvSpPr>
          <p:cNvPr id="533" name="Text Placeholder 14"/>
          <p:cNvSpPr/>
          <p:nvPr/>
        </p:nvSpPr>
        <p:spPr>
          <a:xfrm>
            <a:off x="9188280" y="5283360"/>
            <a:ext cx="3030840" cy="314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ief Executive Offiser</a:t>
            </a:r>
            <a:endParaRPr b="0" lang="en-US" sz="1800" spc="-1" strike="noStrike">
              <a:solidFill>
                <a:srgbClr val="000000"/>
              </a:solidFill>
              <a:latin typeface="Calibri"/>
            </a:endParaRPr>
          </a:p>
        </p:txBody>
      </p:sp>
      <p:sp>
        <p:nvSpPr>
          <p:cNvPr id="534" name="Straight Connector 39"/>
          <p:cNvSpPr/>
          <p:nvPr/>
        </p:nvSpPr>
        <p:spPr>
          <a:xfrm>
            <a:off x="3046320" y="4919760"/>
            <a:ext cx="0" cy="8143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Straight Connector 43"/>
          <p:cNvSpPr/>
          <p:nvPr/>
        </p:nvSpPr>
        <p:spPr>
          <a:xfrm>
            <a:off x="6116760" y="4919760"/>
            <a:ext cx="0" cy="8143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Straight Connector 46"/>
          <p:cNvSpPr/>
          <p:nvPr/>
        </p:nvSpPr>
        <p:spPr>
          <a:xfrm>
            <a:off x="9175680" y="4919760"/>
            <a:ext cx="0" cy="8143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Placeholder 15" descr="bg21.jpg"/>
          <p:cNvPicPr/>
          <p:nvPr/>
        </p:nvPicPr>
        <p:blipFill>
          <a:blip r:embed="rId1"/>
          <a:srcRect l="0" t="7803" r="0" b="7803"/>
          <a:stretch/>
        </p:blipFill>
        <p:spPr>
          <a:xfrm>
            <a:off x="0" y="0"/>
            <a:ext cx="12192120" cy="6858000"/>
          </a:xfrm>
          <a:prstGeom prst="rect">
            <a:avLst/>
          </a:prstGeom>
          <a:ln w="0">
            <a:noFill/>
          </a:ln>
        </p:spPr>
      </p:pic>
      <p:sp>
        <p:nvSpPr>
          <p:cNvPr id="538" name="Rounded Rectangle 4"/>
          <p:cNvSpPr/>
          <p:nvPr/>
        </p:nvSpPr>
        <p:spPr>
          <a:xfrm>
            <a:off x="4943520" y="1841400"/>
            <a:ext cx="2263680" cy="4241880"/>
          </a:xfrm>
          <a:custGeom>
            <a:avLst/>
            <a:gdLst>
              <a:gd name="textAreaLeft" fmla="*/ 23400 w 2263680"/>
              <a:gd name="textAreaRight" fmla="*/ 2240280 w 2263680"/>
              <a:gd name="textAreaTop" fmla="*/ 23400 h 4241880"/>
              <a:gd name="textAreaBottom" fmla="*/ 4218480 h 4241880"/>
            </a:gdLst>
            <a:ahLst/>
            <a:rect l="textAreaLeft" t="textAreaTop" r="textAreaRight" b="textAreaBottom"/>
            <a:pathLst>
              <a:path w="21600" h="40473">
                <a:moveTo>
                  <a:pt x="770" y="0"/>
                </a:moveTo>
                <a:arcTo wR="770" hR="770" stAng="16200000" swAng="-5400000"/>
                <a:lnTo>
                  <a:pt x="0" y="39703"/>
                </a:lnTo>
                <a:arcTo wR="770" hR="770" stAng="10800000" swAng="-5400000"/>
                <a:lnTo>
                  <a:pt x="20830" y="40473"/>
                </a:lnTo>
                <a:arcTo wR="770" hR="770" stAng="5400000" swAng="-5400000"/>
                <a:lnTo>
                  <a:pt x="21600" y="770"/>
                </a:lnTo>
                <a:arcTo wR="770" hR="770" stAng="0" swAng="-5400000"/>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Rounded Rectangle 6"/>
          <p:cNvSpPr/>
          <p:nvPr/>
        </p:nvSpPr>
        <p:spPr>
          <a:xfrm>
            <a:off x="4971960" y="2451240"/>
            <a:ext cx="2202120" cy="3135240"/>
          </a:xfrm>
          <a:custGeom>
            <a:avLst/>
            <a:gdLst>
              <a:gd name="textAreaLeft" fmla="*/ 0 w 2202120"/>
              <a:gd name="textAreaRight" fmla="*/ 2202480 w 2202120"/>
              <a:gd name="textAreaTop" fmla="*/ 0 h 3135240"/>
              <a:gd name="textAreaBottom" fmla="*/ 3135600 h 3135240"/>
            </a:gdLst>
            <a:ahLst/>
            <a:rect l="textAreaLeft" t="textAreaTop" r="textAreaRight" b="textAreaBottom"/>
            <a:pathLst>
              <a:path w="21600" h="30751">
                <a:moveTo>
                  <a:pt x="0" y="0"/>
                </a:moveTo>
                <a:arcTo wR="0" hR="0" stAng="16200000" swAng="-5400000"/>
                <a:lnTo>
                  <a:pt x="0" y="30751"/>
                </a:lnTo>
                <a:arcTo wR="0" hR="0" stAng="10800000" swAng="-5400000"/>
                <a:lnTo>
                  <a:pt x="21600" y="30751"/>
                </a:lnTo>
                <a:arcTo wR="0" hR="0" stAng="16200000" swAng="-5400000"/>
                <a:lnTo>
                  <a:pt x="21600" y="0"/>
                </a:lnTo>
                <a:arcTo wR="0" hR="0" stAng="1080000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0" name="TextBox 7"/>
          <p:cNvSpPr/>
          <p:nvPr/>
        </p:nvSpPr>
        <p:spPr>
          <a:xfrm>
            <a:off x="4943520" y="1967040"/>
            <a:ext cx="2263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Business Plan</a:t>
            </a:r>
            <a:endParaRPr b="0" lang="en-US" sz="1800" spc="-1" strike="noStrike">
              <a:solidFill>
                <a:srgbClr val="000000"/>
              </a:solidFill>
              <a:latin typeface="Calibri"/>
            </a:endParaRPr>
          </a:p>
        </p:txBody>
      </p:sp>
      <p:sp>
        <p:nvSpPr>
          <p:cNvPr id="541" name="TextBox 8"/>
          <p:cNvSpPr/>
          <p:nvPr/>
        </p:nvSpPr>
        <p:spPr>
          <a:xfrm>
            <a:off x="4943520" y="3933720"/>
            <a:ext cx="226368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Roboto condensed"/>
              </a:rPr>
              <a:t>10 GB bandwith</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Roboto condensed"/>
              </a:rPr>
              <a:t>50 MB Max File Size</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Roboto condensed"/>
              </a:rPr>
              <a:t>5 GHZ CPU</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Roboto condensed"/>
              </a:rPr>
              <a:t>1024 MB memory</a:t>
            </a:r>
            <a:endParaRPr b="0" lang="en-US" sz="1100" spc="-1" strike="noStrike">
              <a:solidFill>
                <a:srgbClr val="000000"/>
              </a:solidFill>
              <a:latin typeface="Calibri"/>
            </a:endParaRPr>
          </a:p>
        </p:txBody>
      </p:sp>
      <p:grpSp>
        <p:nvGrpSpPr>
          <p:cNvPr id="542" name="Group 9"/>
          <p:cNvGrpSpPr/>
          <p:nvPr/>
        </p:nvGrpSpPr>
        <p:grpSpPr>
          <a:xfrm>
            <a:off x="4943520" y="2589120"/>
            <a:ext cx="2263680" cy="925920"/>
            <a:chOff x="4943520" y="2589120"/>
            <a:chExt cx="2263680" cy="925920"/>
          </a:xfrm>
        </p:grpSpPr>
        <p:sp>
          <p:nvSpPr>
            <p:cNvPr id="543" name="TextBox 12"/>
            <p:cNvSpPr/>
            <p:nvPr/>
          </p:nvSpPr>
          <p:spPr>
            <a:xfrm>
              <a:off x="4943520" y="2589120"/>
              <a:ext cx="2263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99d6"/>
                  </a:solidFill>
                  <a:latin typeface="Roboto condensed"/>
                </a:rPr>
                <a:t>20</a:t>
              </a:r>
              <a:endParaRPr b="0" lang="en-US" sz="4800" spc="-1" strike="noStrike">
                <a:solidFill>
                  <a:srgbClr val="000000"/>
                </a:solidFill>
                <a:latin typeface="Calibri"/>
              </a:endParaRPr>
            </a:p>
          </p:txBody>
        </p:sp>
        <p:sp>
          <p:nvSpPr>
            <p:cNvPr id="544" name="TextBox 13"/>
            <p:cNvSpPr/>
            <p:nvPr/>
          </p:nvSpPr>
          <p:spPr>
            <a:xfrm>
              <a:off x="5417640" y="2889720"/>
              <a:ext cx="601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99d6"/>
                  </a:solidFill>
                  <a:latin typeface="Roboto condensed"/>
                </a:rPr>
                <a:t>$</a:t>
              </a:r>
              <a:endParaRPr b="0" lang="en-US" sz="2800" spc="-1" strike="noStrike">
                <a:solidFill>
                  <a:srgbClr val="000000"/>
                </a:solidFill>
                <a:latin typeface="Calibri"/>
              </a:endParaRPr>
            </a:p>
          </p:txBody>
        </p:sp>
        <p:sp>
          <p:nvSpPr>
            <p:cNvPr id="545" name="TextBox 14"/>
            <p:cNvSpPr/>
            <p:nvPr/>
          </p:nvSpPr>
          <p:spPr>
            <a:xfrm>
              <a:off x="4943520" y="3170160"/>
              <a:ext cx="22636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099d6"/>
                  </a:solidFill>
                  <a:latin typeface="Roboto condensed"/>
                </a:rPr>
                <a:t>Per month</a:t>
              </a:r>
              <a:endParaRPr b="0" lang="en-US" sz="1100" spc="-1" strike="noStrike">
                <a:solidFill>
                  <a:srgbClr val="000000"/>
                </a:solidFill>
                <a:latin typeface="Calibri"/>
              </a:endParaRPr>
            </a:p>
          </p:txBody>
        </p:sp>
      </p:grpSp>
      <p:sp>
        <p:nvSpPr>
          <p:cNvPr id="546" name="Straight Connector 10"/>
          <p:cNvSpPr/>
          <p:nvPr/>
        </p:nvSpPr>
        <p:spPr>
          <a:xfrm>
            <a:off x="4971960" y="3722760"/>
            <a:ext cx="220212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7" name="TextBox 11"/>
          <p:cNvSpPr/>
          <p:nvPr/>
        </p:nvSpPr>
        <p:spPr>
          <a:xfrm>
            <a:off x="4943520" y="5637240"/>
            <a:ext cx="2263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Get Business Plan</a:t>
            </a:r>
            <a:endParaRPr b="0" lang="en-US" sz="1800" spc="-1" strike="noStrike">
              <a:solidFill>
                <a:srgbClr val="000000"/>
              </a:solidFill>
              <a:latin typeface="Calibri"/>
            </a:endParaRPr>
          </a:p>
        </p:txBody>
      </p:sp>
      <p:sp>
        <p:nvSpPr>
          <p:cNvPr id="548" name="Rounded Rectangle 19"/>
          <p:cNvSpPr/>
          <p:nvPr/>
        </p:nvSpPr>
        <p:spPr>
          <a:xfrm>
            <a:off x="7534440" y="2101680"/>
            <a:ext cx="2182680" cy="3745080"/>
          </a:xfrm>
          <a:custGeom>
            <a:avLst/>
            <a:gdLst>
              <a:gd name="textAreaLeft" fmla="*/ 22680 w 2182680"/>
              <a:gd name="textAreaRight" fmla="*/ 2160000 w 2182680"/>
              <a:gd name="textAreaTop" fmla="*/ 22680 h 3745080"/>
              <a:gd name="textAreaBottom" fmla="*/ 3722400 h 3745080"/>
            </a:gdLst>
            <a:ahLst/>
            <a:rect l="textAreaLeft" t="textAreaTop" r="textAreaRight" b="textAreaBottom"/>
            <a:pathLst>
              <a:path w="21600" h="37059">
                <a:moveTo>
                  <a:pt x="770" y="0"/>
                </a:moveTo>
                <a:arcTo wR="770" hR="770" stAng="16200000" swAng="-5400000"/>
                <a:lnTo>
                  <a:pt x="0" y="36289"/>
                </a:lnTo>
                <a:arcTo wR="770" hR="770" stAng="10800000" swAng="-5400000"/>
                <a:lnTo>
                  <a:pt x="20830" y="37059"/>
                </a:lnTo>
                <a:arcTo wR="770" hR="770" stAng="5400000" swAng="-5400000"/>
                <a:lnTo>
                  <a:pt x="21600" y="770"/>
                </a:lnTo>
                <a:arcTo wR="770" hR="770" stAng="0" swAng="-5400000"/>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Rounded Rectangle 20"/>
          <p:cNvSpPr/>
          <p:nvPr/>
        </p:nvSpPr>
        <p:spPr>
          <a:xfrm>
            <a:off x="7567560" y="2711520"/>
            <a:ext cx="2114640" cy="2658960"/>
          </a:xfrm>
          <a:custGeom>
            <a:avLst/>
            <a:gdLst>
              <a:gd name="textAreaLeft" fmla="*/ 0 w 2114640"/>
              <a:gd name="textAreaRight" fmla="*/ 2115000 w 2114640"/>
              <a:gd name="textAreaTop" fmla="*/ 0 h 2658960"/>
              <a:gd name="textAreaBottom" fmla="*/ 2659320 h 2658960"/>
            </a:gdLst>
            <a:ahLst/>
            <a:rect l="textAreaLeft" t="textAreaTop" r="textAreaRight" b="textAreaBottom"/>
            <a:pathLst>
              <a:path w="21600" h="27159">
                <a:moveTo>
                  <a:pt x="0" y="0"/>
                </a:moveTo>
                <a:arcTo wR="0" hR="0" stAng="16200000" swAng="-5400000"/>
                <a:lnTo>
                  <a:pt x="0" y="27159"/>
                </a:lnTo>
                <a:arcTo wR="0" hR="0" stAng="10800000" swAng="-5400000"/>
                <a:lnTo>
                  <a:pt x="21600" y="27159"/>
                </a:lnTo>
                <a:arcTo wR="0" hR="0" stAng="16200000" swAng="-5400000"/>
                <a:lnTo>
                  <a:pt x="21600" y="0"/>
                </a:lnTo>
                <a:arcTo wR="0" hR="0" stAng="1080000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TextBox 21"/>
          <p:cNvSpPr/>
          <p:nvPr/>
        </p:nvSpPr>
        <p:spPr>
          <a:xfrm>
            <a:off x="7534440" y="2228760"/>
            <a:ext cx="21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Gold Plan</a:t>
            </a:r>
            <a:endParaRPr b="0" lang="en-US" sz="1800" spc="-1" strike="noStrike">
              <a:solidFill>
                <a:srgbClr val="000000"/>
              </a:solidFill>
              <a:latin typeface="Calibri"/>
            </a:endParaRPr>
          </a:p>
        </p:txBody>
      </p:sp>
      <p:sp>
        <p:nvSpPr>
          <p:cNvPr id="551" name="TextBox 22"/>
          <p:cNvSpPr/>
          <p:nvPr/>
        </p:nvSpPr>
        <p:spPr>
          <a:xfrm>
            <a:off x="7534440" y="3905280"/>
            <a:ext cx="218268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Unlimited bandwith</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No Maximum File Size</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3 GHZ CPU</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2 GB memory</a:t>
            </a:r>
            <a:endParaRPr b="0" lang="en-US" sz="1100" spc="-1" strike="noStrike">
              <a:solidFill>
                <a:srgbClr val="000000"/>
              </a:solidFill>
              <a:latin typeface="Calibri"/>
            </a:endParaRPr>
          </a:p>
        </p:txBody>
      </p:sp>
      <p:grpSp>
        <p:nvGrpSpPr>
          <p:cNvPr id="552" name="Group 23"/>
          <p:cNvGrpSpPr/>
          <p:nvPr/>
        </p:nvGrpSpPr>
        <p:grpSpPr>
          <a:xfrm>
            <a:off x="7534440" y="2711520"/>
            <a:ext cx="2182680" cy="925920"/>
            <a:chOff x="7534440" y="2711520"/>
            <a:chExt cx="2182680" cy="925920"/>
          </a:xfrm>
        </p:grpSpPr>
        <p:sp>
          <p:nvSpPr>
            <p:cNvPr id="553" name="TextBox 26"/>
            <p:cNvSpPr/>
            <p:nvPr/>
          </p:nvSpPr>
          <p:spPr>
            <a:xfrm>
              <a:off x="7534440" y="2711520"/>
              <a:ext cx="2182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99d6"/>
                  </a:solidFill>
                  <a:latin typeface="Roboto condensed"/>
                </a:rPr>
                <a:t>25</a:t>
              </a:r>
              <a:endParaRPr b="0" lang="en-US" sz="4800" spc="-1" strike="noStrike">
                <a:solidFill>
                  <a:srgbClr val="000000"/>
                </a:solidFill>
                <a:latin typeface="Calibri"/>
              </a:endParaRPr>
            </a:p>
          </p:txBody>
        </p:sp>
        <p:sp>
          <p:nvSpPr>
            <p:cNvPr id="554" name="TextBox 27"/>
            <p:cNvSpPr/>
            <p:nvPr/>
          </p:nvSpPr>
          <p:spPr>
            <a:xfrm>
              <a:off x="7923600" y="3012120"/>
              <a:ext cx="601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99d6"/>
                  </a:solidFill>
                  <a:latin typeface="Roboto condensed"/>
                </a:rPr>
                <a:t>$</a:t>
              </a:r>
              <a:endParaRPr b="0" lang="en-US" sz="2800" spc="-1" strike="noStrike">
                <a:solidFill>
                  <a:srgbClr val="000000"/>
                </a:solidFill>
                <a:latin typeface="Calibri"/>
              </a:endParaRPr>
            </a:p>
          </p:txBody>
        </p:sp>
        <p:sp>
          <p:nvSpPr>
            <p:cNvPr id="555" name="TextBox 28"/>
            <p:cNvSpPr/>
            <p:nvPr/>
          </p:nvSpPr>
          <p:spPr>
            <a:xfrm>
              <a:off x="7534440" y="3292560"/>
              <a:ext cx="21826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099d6"/>
                  </a:solidFill>
                  <a:latin typeface="Roboto condensed"/>
                </a:rPr>
                <a:t>Per month</a:t>
              </a:r>
              <a:endParaRPr b="0" lang="en-US" sz="1100" spc="-1" strike="noStrike">
                <a:solidFill>
                  <a:srgbClr val="000000"/>
                </a:solidFill>
                <a:latin typeface="Calibri"/>
              </a:endParaRPr>
            </a:p>
          </p:txBody>
        </p:sp>
      </p:grpSp>
      <p:sp>
        <p:nvSpPr>
          <p:cNvPr id="556" name="Straight Connector 24"/>
          <p:cNvSpPr/>
          <p:nvPr/>
        </p:nvSpPr>
        <p:spPr>
          <a:xfrm>
            <a:off x="7567560" y="3787920"/>
            <a:ext cx="211464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TextBox 25"/>
          <p:cNvSpPr/>
          <p:nvPr/>
        </p:nvSpPr>
        <p:spPr>
          <a:xfrm>
            <a:off x="7534440" y="5405400"/>
            <a:ext cx="21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Get Gold Plan</a:t>
            </a:r>
            <a:endParaRPr b="0" lang="en-US" sz="1800" spc="-1" strike="noStrike">
              <a:solidFill>
                <a:srgbClr val="000000"/>
              </a:solidFill>
              <a:latin typeface="Calibri"/>
            </a:endParaRPr>
          </a:p>
        </p:txBody>
      </p:sp>
      <p:sp>
        <p:nvSpPr>
          <p:cNvPr id="558" name="Rounded Rectangle 86"/>
          <p:cNvSpPr/>
          <p:nvPr/>
        </p:nvSpPr>
        <p:spPr>
          <a:xfrm>
            <a:off x="2435400" y="2101680"/>
            <a:ext cx="2182680" cy="3745080"/>
          </a:xfrm>
          <a:custGeom>
            <a:avLst/>
            <a:gdLst>
              <a:gd name="textAreaLeft" fmla="*/ 22680 w 2182680"/>
              <a:gd name="textAreaRight" fmla="*/ 2160000 w 2182680"/>
              <a:gd name="textAreaTop" fmla="*/ 22680 h 3745080"/>
              <a:gd name="textAreaBottom" fmla="*/ 3722400 h 3745080"/>
            </a:gdLst>
            <a:ahLst/>
            <a:rect l="textAreaLeft" t="textAreaTop" r="textAreaRight" b="textAreaBottom"/>
            <a:pathLst>
              <a:path w="21600" h="37059">
                <a:moveTo>
                  <a:pt x="770" y="0"/>
                </a:moveTo>
                <a:arcTo wR="770" hR="770" stAng="16200000" swAng="-5400000"/>
                <a:lnTo>
                  <a:pt x="0" y="36289"/>
                </a:lnTo>
                <a:arcTo wR="770" hR="770" stAng="10800000" swAng="-5400000"/>
                <a:lnTo>
                  <a:pt x="20830" y="37059"/>
                </a:lnTo>
                <a:arcTo wR="770" hR="770" stAng="5400000" swAng="-5400000"/>
                <a:lnTo>
                  <a:pt x="21600" y="770"/>
                </a:lnTo>
                <a:arcTo wR="770" hR="770" stAng="0" swAng="-5400000"/>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ounded Rectangle 87"/>
          <p:cNvSpPr/>
          <p:nvPr/>
        </p:nvSpPr>
        <p:spPr>
          <a:xfrm>
            <a:off x="2470320" y="2711520"/>
            <a:ext cx="2112840" cy="2658960"/>
          </a:xfrm>
          <a:custGeom>
            <a:avLst/>
            <a:gdLst>
              <a:gd name="textAreaLeft" fmla="*/ 0 w 2112840"/>
              <a:gd name="textAreaRight" fmla="*/ 2113200 w 2112840"/>
              <a:gd name="textAreaTop" fmla="*/ 0 h 2658960"/>
              <a:gd name="textAreaBottom" fmla="*/ 2659320 h 2658960"/>
            </a:gdLst>
            <a:ahLst/>
            <a:rect l="textAreaLeft" t="textAreaTop" r="textAreaRight" b="textAreaBottom"/>
            <a:pathLst>
              <a:path w="21600" h="27182">
                <a:moveTo>
                  <a:pt x="0" y="0"/>
                </a:moveTo>
                <a:arcTo wR="0" hR="0" stAng="16200000" swAng="-5400000"/>
                <a:lnTo>
                  <a:pt x="0" y="27182"/>
                </a:lnTo>
                <a:arcTo wR="0" hR="0" stAng="10800000" swAng="-5400000"/>
                <a:lnTo>
                  <a:pt x="21600" y="27182"/>
                </a:lnTo>
                <a:arcTo wR="0" hR="0" stAng="16200000" swAng="-5400000"/>
                <a:lnTo>
                  <a:pt x="21600" y="0"/>
                </a:lnTo>
                <a:arcTo wR="0" hR="0" stAng="1080000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TextBox 88"/>
          <p:cNvSpPr/>
          <p:nvPr/>
        </p:nvSpPr>
        <p:spPr>
          <a:xfrm>
            <a:off x="2435400" y="2228760"/>
            <a:ext cx="21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Normal Plan</a:t>
            </a:r>
            <a:endParaRPr b="0" lang="en-US" sz="1800" spc="-1" strike="noStrike">
              <a:solidFill>
                <a:srgbClr val="000000"/>
              </a:solidFill>
              <a:latin typeface="Calibri"/>
            </a:endParaRPr>
          </a:p>
        </p:txBody>
      </p:sp>
      <p:sp>
        <p:nvSpPr>
          <p:cNvPr id="561" name="TextBox 89"/>
          <p:cNvSpPr/>
          <p:nvPr/>
        </p:nvSpPr>
        <p:spPr>
          <a:xfrm>
            <a:off x="2435400" y="3905280"/>
            <a:ext cx="218268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Unlimited bandwith</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No Maximum File Size</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3 GHZ CPU</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condensed"/>
              </a:rPr>
              <a:t>2 GB memory</a:t>
            </a:r>
            <a:endParaRPr b="0" lang="en-US" sz="1100" spc="-1" strike="noStrike">
              <a:solidFill>
                <a:srgbClr val="000000"/>
              </a:solidFill>
              <a:latin typeface="Calibri"/>
            </a:endParaRPr>
          </a:p>
        </p:txBody>
      </p:sp>
      <p:grpSp>
        <p:nvGrpSpPr>
          <p:cNvPr id="562" name="Group 90"/>
          <p:cNvGrpSpPr/>
          <p:nvPr/>
        </p:nvGrpSpPr>
        <p:grpSpPr>
          <a:xfrm>
            <a:off x="2435400" y="2711520"/>
            <a:ext cx="2182680" cy="925920"/>
            <a:chOff x="2435400" y="2711520"/>
            <a:chExt cx="2182680" cy="925920"/>
          </a:xfrm>
        </p:grpSpPr>
        <p:sp>
          <p:nvSpPr>
            <p:cNvPr id="563" name="TextBox 93"/>
            <p:cNvSpPr/>
            <p:nvPr/>
          </p:nvSpPr>
          <p:spPr>
            <a:xfrm>
              <a:off x="2435400" y="2711520"/>
              <a:ext cx="2182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99d6"/>
                  </a:solidFill>
                  <a:latin typeface="Roboto condensed"/>
                </a:rPr>
                <a:t>15</a:t>
              </a:r>
              <a:endParaRPr b="0" lang="en-US" sz="4800" spc="-1" strike="noStrike">
                <a:solidFill>
                  <a:srgbClr val="000000"/>
                </a:solidFill>
                <a:latin typeface="Calibri"/>
              </a:endParaRPr>
            </a:p>
          </p:txBody>
        </p:sp>
        <p:sp>
          <p:nvSpPr>
            <p:cNvPr id="564" name="TextBox 94"/>
            <p:cNvSpPr/>
            <p:nvPr/>
          </p:nvSpPr>
          <p:spPr>
            <a:xfrm>
              <a:off x="2824560" y="3012120"/>
              <a:ext cx="601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99d6"/>
                  </a:solidFill>
                  <a:latin typeface="Roboto condensed"/>
                </a:rPr>
                <a:t>$</a:t>
              </a:r>
              <a:endParaRPr b="0" lang="en-US" sz="2800" spc="-1" strike="noStrike">
                <a:solidFill>
                  <a:srgbClr val="000000"/>
                </a:solidFill>
                <a:latin typeface="Calibri"/>
              </a:endParaRPr>
            </a:p>
          </p:txBody>
        </p:sp>
        <p:sp>
          <p:nvSpPr>
            <p:cNvPr id="565" name="TextBox 95"/>
            <p:cNvSpPr/>
            <p:nvPr/>
          </p:nvSpPr>
          <p:spPr>
            <a:xfrm>
              <a:off x="2435400" y="3292560"/>
              <a:ext cx="21826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099d6"/>
                  </a:solidFill>
                  <a:latin typeface="Roboto condensed"/>
                </a:rPr>
                <a:t>Per month</a:t>
              </a:r>
              <a:endParaRPr b="0" lang="en-US" sz="1100" spc="-1" strike="noStrike">
                <a:solidFill>
                  <a:srgbClr val="000000"/>
                </a:solidFill>
                <a:latin typeface="Calibri"/>
              </a:endParaRPr>
            </a:p>
          </p:txBody>
        </p:sp>
      </p:grpSp>
      <p:sp>
        <p:nvSpPr>
          <p:cNvPr id="566" name="Straight Connector 91"/>
          <p:cNvSpPr/>
          <p:nvPr/>
        </p:nvSpPr>
        <p:spPr>
          <a:xfrm>
            <a:off x="2470320" y="3787920"/>
            <a:ext cx="211284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TextBox 92"/>
          <p:cNvSpPr/>
          <p:nvPr/>
        </p:nvSpPr>
        <p:spPr>
          <a:xfrm>
            <a:off x="2435400" y="5405400"/>
            <a:ext cx="21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boto condensed"/>
              </a:rPr>
              <a:t>Get Normal Plan</a:t>
            </a:r>
            <a:endParaRPr b="0" lang="en-US" sz="1800" spc="-1" strike="noStrike">
              <a:solidFill>
                <a:srgbClr val="000000"/>
              </a:solidFill>
              <a:latin typeface="Calibri"/>
            </a:endParaRPr>
          </a:p>
        </p:txBody>
      </p:sp>
      <p:grpSp>
        <p:nvGrpSpPr>
          <p:cNvPr id="568" name="组合 1"/>
          <p:cNvGrpSpPr/>
          <p:nvPr/>
        </p:nvGrpSpPr>
        <p:grpSpPr>
          <a:xfrm>
            <a:off x="529920" y="66960"/>
            <a:ext cx="1630080" cy="1447560"/>
            <a:chOff x="529920" y="66960"/>
            <a:chExt cx="1630080" cy="1447560"/>
          </a:xfrm>
        </p:grpSpPr>
        <p:grpSp>
          <p:nvGrpSpPr>
            <p:cNvPr id="569" name="组合 2"/>
            <p:cNvGrpSpPr/>
            <p:nvPr/>
          </p:nvGrpSpPr>
          <p:grpSpPr>
            <a:xfrm>
              <a:off x="529920" y="66960"/>
              <a:ext cx="1630080" cy="1447560"/>
              <a:chOff x="529920" y="66960"/>
              <a:chExt cx="1630080" cy="1447560"/>
            </a:xfrm>
          </p:grpSpPr>
          <p:sp>
            <p:nvSpPr>
              <p:cNvPr id="570"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3" name="组合 7"/>
              <p:cNvGrpSpPr/>
              <p:nvPr/>
            </p:nvGrpSpPr>
            <p:grpSpPr>
              <a:xfrm>
                <a:off x="529920" y="142200"/>
                <a:ext cx="1630080" cy="1372320"/>
                <a:chOff x="529920" y="142200"/>
                <a:chExt cx="1630080" cy="1372320"/>
              </a:xfrm>
            </p:grpSpPr>
            <p:sp>
              <p:nvSpPr>
                <p:cNvPr id="574"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6"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7"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5"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3</a:t>
              </a:r>
              <a:endParaRPr b="0" lang="en-US" sz="6600" spc="-1" strike="noStrike">
                <a:solidFill>
                  <a:srgbClr val="000000"/>
                </a:solidFill>
                <a:latin typeface="Calibri"/>
              </a:endParaRPr>
            </a:p>
          </p:txBody>
        </p:sp>
      </p:grpSp>
      <p:sp>
        <p:nvSpPr>
          <p:cNvPr id="606"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7" name="组合 1"/>
          <p:cNvGrpSpPr/>
          <p:nvPr/>
        </p:nvGrpSpPr>
        <p:grpSpPr>
          <a:xfrm>
            <a:off x="529920" y="66960"/>
            <a:ext cx="1630080" cy="1447560"/>
            <a:chOff x="529920" y="66960"/>
            <a:chExt cx="1630080" cy="1447560"/>
          </a:xfrm>
        </p:grpSpPr>
        <p:grpSp>
          <p:nvGrpSpPr>
            <p:cNvPr id="608" name="组合 2"/>
            <p:cNvGrpSpPr/>
            <p:nvPr/>
          </p:nvGrpSpPr>
          <p:grpSpPr>
            <a:xfrm>
              <a:off x="529920" y="66960"/>
              <a:ext cx="1630080" cy="1447560"/>
              <a:chOff x="529920" y="66960"/>
              <a:chExt cx="1630080" cy="1447560"/>
            </a:xfrm>
          </p:grpSpPr>
          <p:sp>
            <p:nvSpPr>
              <p:cNvPr id="609"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2" name="组合 7"/>
              <p:cNvGrpSpPr/>
              <p:nvPr/>
            </p:nvGrpSpPr>
            <p:grpSpPr>
              <a:xfrm>
                <a:off x="529920" y="142200"/>
                <a:ext cx="1630080" cy="1372320"/>
                <a:chOff x="529920" y="142200"/>
                <a:chExt cx="1630080" cy="1372320"/>
              </a:xfrm>
            </p:grpSpPr>
            <p:sp>
              <p:nvSpPr>
                <p:cNvPr id="613"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7"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44"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4</a:t>
              </a:r>
              <a:endParaRPr b="0" lang="en-US" sz="6600" spc="-1" strike="noStrike">
                <a:solidFill>
                  <a:srgbClr val="000000"/>
                </a:solidFill>
                <a:latin typeface="Calibri"/>
              </a:endParaRPr>
            </a:p>
          </p:txBody>
        </p:sp>
      </p:grpSp>
      <p:sp>
        <p:nvSpPr>
          <p:cNvPr id="645"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646" name="Arc 8"/>
          <p:cNvSpPr/>
          <p:nvPr/>
        </p:nvSpPr>
        <p:spPr>
          <a:xfrm>
            <a:off x="930240" y="2427120"/>
            <a:ext cx="1589040" cy="1589400"/>
          </a:xfrm>
          <a:custGeom>
            <a:avLst/>
            <a:gdLst/>
            <a:ahLst/>
            <a:rect l="l" t="t" r="r" b="b"/>
            <a:pathLst>
              <a:path stroke="0"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lnTo>
                  <a:pt x="794543" y="794543"/>
                </a:lnTo>
                <a:close/>
              </a:path>
              <a:path fill="none"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path>
            </a:pathLst>
          </a:custGeom>
          <a:noFill/>
          <a:ln w="25560">
            <a:solidFill>
              <a:srgbClr val="fefefe"/>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Oval 10"/>
          <p:cNvSpPr/>
          <p:nvPr/>
        </p:nvSpPr>
        <p:spPr>
          <a:xfrm>
            <a:off x="2163600" y="3100320"/>
            <a:ext cx="694080" cy="693720"/>
          </a:xfrm>
          <a:prstGeom prst="ellipse">
            <a:avLst/>
          </a:pr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AutoShape 137"/>
          <p:cNvSpPr/>
          <p:nvPr/>
        </p:nvSpPr>
        <p:spPr>
          <a:xfrm>
            <a:off x="2368440" y="3289320"/>
            <a:ext cx="322200" cy="320760"/>
          </a:xfrm>
          <a:custGeom>
            <a:avLst/>
            <a:gdLst/>
            <a:ahLst/>
            <a:rect l="l" t="t" r="r" b="b"/>
            <a:pathLst>
              <a:path w="21437" h="21437">
                <a:moveTo>
                  <a:pt x="19812" y="13283"/>
                </a:moveTo>
                <a:lnTo>
                  <a:pt x="15988" y="13630"/>
                </a:lnTo>
                <a:lnTo>
                  <a:pt x="11660" y="9301"/>
                </a:lnTo>
                <a:lnTo>
                  <a:pt x="21210" y="3526"/>
                </a:lnTo>
                <a:lnTo>
                  <a:pt x="19586" y="1902"/>
                </a:lnTo>
                <a:lnTo>
                  <a:pt x="7361" y="5002"/>
                </a:lnTo>
                <a:lnTo>
                  <a:pt x="2846" y="488"/>
                </a:lnTo>
                <a:cubicBezTo>
                  <a:pt x="2195" y="-163"/>
                  <a:pt x="1140" y="-163"/>
                  <a:pt x="488" y="488"/>
                </a:cubicBezTo>
                <a:cubicBezTo>
                  <a:pt x="-163" y="1140"/>
                  <a:pt x="-163" y="2195"/>
                  <a:pt x="488" y="2846"/>
                </a:cubicBezTo>
                <a:lnTo>
                  <a:pt x="5002" y="7360"/>
                </a:lnTo>
                <a:lnTo>
                  <a:pt x="1909" y="19578"/>
                </a:lnTo>
                <a:lnTo>
                  <a:pt x="3534" y="21203"/>
                </a:lnTo>
                <a:lnTo>
                  <a:pt x="9302" y="11659"/>
                </a:lnTo>
                <a:lnTo>
                  <a:pt x="13630" y="15988"/>
                </a:lnTo>
                <a:lnTo>
                  <a:pt x="13283" y="19812"/>
                </a:lnTo>
                <a:lnTo>
                  <a:pt x="14907" y="21437"/>
                </a:lnTo>
                <a:lnTo>
                  <a:pt x="17265" y="17265"/>
                </a:lnTo>
                <a:lnTo>
                  <a:pt x="21437" y="14907"/>
                </a:lnTo>
                <a:lnTo>
                  <a:pt x="19812" y="13283"/>
                </a:lnTo>
                <a:close/>
                <a:moveTo>
                  <a:pt x="19812" y="13283"/>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Text Placeholder 2"/>
          <p:cNvSpPr/>
          <p:nvPr/>
        </p:nvSpPr>
        <p:spPr>
          <a:xfrm>
            <a:off x="923760" y="2782800"/>
            <a:ext cx="1328760" cy="82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boto condensed light"/>
              </a:rPr>
              <a:t>25%</a:t>
            </a:r>
            <a:endParaRPr b="0" lang="en-US" sz="4400" spc="-1" strike="noStrike">
              <a:solidFill>
                <a:srgbClr val="000000"/>
              </a:solidFill>
              <a:latin typeface="Calibri"/>
            </a:endParaRPr>
          </a:p>
        </p:txBody>
      </p:sp>
      <p:grpSp>
        <p:nvGrpSpPr>
          <p:cNvPr id="650" name="Group 13"/>
          <p:cNvGrpSpPr/>
          <p:nvPr/>
        </p:nvGrpSpPr>
        <p:grpSpPr>
          <a:xfrm>
            <a:off x="669960" y="4141800"/>
            <a:ext cx="2100240" cy="1752480"/>
            <a:chOff x="669960" y="4141800"/>
            <a:chExt cx="2100240" cy="1752480"/>
          </a:xfrm>
        </p:grpSpPr>
        <p:sp>
          <p:nvSpPr>
            <p:cNvPr id="651" name="Text Placeholder 2"/>
            <p:cNvSpPr/>
            <p:nvPr/>
          </p:nvSpPr>
          <p:spPr>
            <a:xfrm>
              <a:off x="669960" y="4141800"/>
              <a:ext cx="2100240" cy="43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Air Plan</a:t>
              </a:r>
              <a:endParaRPr b="0" lang="en-US" sz="2000" spc="-1" strike="noStrike">
                <a:solidFill>
                  <a:srgbClr val="000000"/>
                </a:solidFill>
                <a:latin typeface="Calibri"/>
              </a:endParaRPr>
            </a:p>
          </p:txBody>
        </p:sp>
        <p:sp>
          <p:nvSpPr>
            <p:cNvPr id="652" name="Text Placeholder 8"/>
            <p:cNvSpPr/>
            <p:nvPr/>
          </p:nvSpPr>
          <p:spPr>
            <a:xfrm>
              <a:off x="669960" y="4449960"/>
              <a:ext cx="2100240" cy="14443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a:t>
              </a:r>
              <a:endParaRPr b="0" lang="en-US" sz="1100" spc="-1" strike="noStrike">
                <a:solidFill>
                  <a:srgbClr val="000000"/>
                </a:solidFill>
                <a:latin typeface="Calibri"/>
              </a:endParaRPr>
            </a:p>
          </p:txBody>
        </p:sp>
      </p:grpSp>
      <p:grpSp>
        <p:nvGrpSpPr>
          <p:cNvPr id="653" name="Group 22"/>
          <p:cNvGrpSpPr/>
          <p:nvPr/>
        </p:nvGrpSpPr>
        <p:grpSpPr>
          <a:xfrm>
            <a:off x="3559320" y="4141800"/>
            <a:ext cx="2098440" cy="1752480"/>
            <a:chOff x="3559320" y="4141800"/>
            <a:chExt cx="2098440" cy="1752480"/>
          </a:xfrm>
        </p:grpSpPr>
        <p:sp>
          <p:nvSpPr>
            <p:cNvPr id="654" name="Text Placeholder 2"/>
            <p:cNvSpPr/>
            <p:nvPr/>
          </p:nvSpPr>
          <p:spPr>
            <a:xfrm>
              <a:off x="3559320" y="4141800"/>
              <a:ext cx="2098440" cy="43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Multifunction</a:t>
              </a:r>
              <a:endParaRPr b="0" lang="en-US" sz="2000" spc="-1" strike="noStrike">
                <a:solidFill>
                  <a:srgbClr val="000000"/>
                </a:solidFill>
                <a:latin typeface="Calibri"/>
              </a:endParaRPr>
            </a:p>
          </p:txBody>
        </p:sp>
        <p:sp>
          <p:nvSpPr>
            <p:cNvPr id="655" name="Text Placeholder 8"/>
            <p:cNvSpPr/>
            <p:nvPr/>
          </p:nvSpPr>
          <p:spPr>
            <a:xfrm>
              <a:off x="3559320" y="4449960"/>
              <a:ext cx="2098440" cy="14443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a:t>
              </a:r>
              <a:endParaRPr b="0" lang="en-US" sz="1100" spc="-1" strike="noStrike">
                <a:solidFill>
                  <a:srgbClr val="000000"/>
                </a:solidFill>
                <a:latin typeface="Calibri"/>
              </a:endParaRPr>
            </a:p>
          </p:txBody>
        </p:sp>
      </p:grpSp>
      <p:grpSp>
        <p:nvGrpSpPr>
          <p:cNvPr id="656" name="Group 30"/>
          <p:cNvGrpSpPr/>
          <p:nvPr/>
        </p:nvGrpSpPr>
        <p:grpSpPr>
          <a:xfrm>
            <a:off x="6446880" y="4141800"/>
            <a:ext cx="2100240" cy="1752480"/>
            <a:chOff x="6446880" y="4141800"/>
            <a:chExt cx="2100240" cy="1752480"/>
          </a:xfrm>
        </p:grpSpPr>
        <p:sp>
          <p:nvSpPr>
            <p:cNvPr id="657" name="Text Placeholder 2"/>
            <p:cNvSpPr/>
            <p:nvPr/>
          </p:nvSpPr>
          <p:spPr>
            <a:xfrm>
              <a:off x="6446880" y="4141800"/>
              <a:ext cx="2100240" cy="43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Speedup</a:t>
              </a:r>
              <a:endParaRPr b="0" lang="en-US" sz="2000" spc="-1" strike="noStrike">
                <a:solidFill>
                  <a:srgbClr val="000000"/>
                </a:solidFill>
                <a:latin typeface="Calibri"/>
              </a:endParaRPr>
            </a:p>
          </p:txBody>
        </p:sp>
        <p:sp>
          <p:nvSpPr>
            <p:cNvPr id="658" name="Text Placeholder 8"/>
            <p:cNvSpPr/>
            <p:nvPr/>
          </p:nvSpPr>
          <p:spPr>
            <a:xfrm>
              <a:off x="6446880" y="4449960"/>
              <a:ext cx="2100240" cy="14443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a:t>
              </a:r>
              <a:endParaRPr b="0" lang="en-US" sz="1100" spc="-1" strike="noStrike">
                <a:solidFill>
                  <a:srgbClr val="000000"/>
                </a:solidFill>
                <a:latin typeface="Calibri"/>
              </a:endParaRPr>
            </a:p>
          </p:txBody>
        </p:sp>
      </p:grpSp>
      <p:grpSp>
        <p:nvGrpSpPr>
          <p:cNvPr id="659" name="Group 38"/>
          <p:cNvGrpSpPr/>
          <p:nvPr/>
        </p:nvGrpSpPr>
        <p:grpSpPr>
          <a:xfrm>
            <a:off x="9334440" y="4141800"/>
            <a:ext cx="2100240" cy="1752480"/>
            <a:chOff x="9334440" y="4141800"/>
            <a:chExt cx="2100240" cy="1752480"/>
          </a:xfrm>
        </p:grpSpPr>
        <p:sp>
          <p:nvSpPr>
            <p:cNvPr id="660" name="Text Placeholder 2"/>
            <p:cNvSpPr/>
            <p:nvPr/>
          </p:nvSpPr>
          <p:spPr>
            <a:xfrm>
              <a:off x="9334440" y="4141800"/>
              <a:ext cx="2100240" cy="43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Noisy Music</a:t>
              </a:r>
              <a:endParaRPr b="0" lang="en-US" sz="2000" spc="-1" strike="noStrike">
                <a:solidFill>
                  <a:srgbClr val="000000"/>
                </a:solidFill>
                <a:latin typeface="Calibri"/>
              </a:endParaRPr>
            </a:p>
          </p:txBody>
        </p:sp>
        <p:sp>
          <p:nvSpPr>
            <p:cNvPr id="661" name="Text Placeholder 8"/>
            <p:cNvSpPr/>
            <p:nvPr/>
          </p:nvSpPr>
          <p:spPr>
            <a:xfrm>
              <a:off x="9334440" y="4449960"/>
              <a:ext cx="2100240" cy="14443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a:t>
              </a:r>
              <a:endParaRPr b="0" lang="en-US" sz="1100" spc="-1" strike="noStrike">
                <a:solidFill>
                  <a:srgbClr val="000000"/>
                </a:solidFill>
                <a:latin typeface="Calibri"/>
              </a:endParaRPr>
            </a:p>
          </p:txBody>
        </p:sp>
      </p:grpSp>
      <p:sp>
        <p:nvSpPr>
          <p:cNvPr id="662" name="Arc 18"/>
          <p:cNvSpPr/>
          <p:nvPr/>
        </p:nvSpPr>
        <p:spPr>
          <a:xfrm>
            <a:off x="3819600" y="2427120"/>
            <a:ext cx="1589040" cy="1589400"/>
          </a:xfrm>
          <a:custGeom>
            <a:avLst/>
            <a:gdLst/>
            <a:ahLst/>
            <a:rect l="l" t="t" r="r" b="b"/>
            <a:pathLst>
              <a:path stroke="0"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lnTo>
                  <a:pt x="794543" y="794543"/>
                </a:lnTo>
                <a:close/>
              </a:path>
              <a:path fill="none"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path>
            </a:pathLst>
          </a:custGeom>
          <a:noFill/>
          <a:ln w="25560">
            <a:solidFill>
              <a:srgbClr val="fefefe"/>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Oval 19"/>
          <p:cNvSpPr/>
          <p:nvPr/>
        </p:nvSpPr>
        <p:spPr>
          <a:xfrm>
            <a:off x="5051520" y="3100320"/>
            <a:ext cx="693720" cy="693720"/>
          </a:xfrm>
          <a:prstGeom prst="ellipse">
            <a:avLst/>
          </a:pr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Placeholder 2"/>
          <p:cNvSpPr/>
          <p:nvPr/>
        </p:nvSpPr>
        <p:spPr>
          <a:xfrm>
            <a:off x="3811680" y="2782800"/>
            <a:ext cx="1330200" cy="82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boto condensed light"/>
              </a:rPr>
              <a:t>35%</a:t>
            </a:r>
            <a:endParaRPr b="0" lang="en-US" sz="4400" spc="-1" strike="noStrike">
              <a:solidFill>
                <a:srgbClr val="000000"/>
              </a:solidFill>
              <a:latin typeface="Calibri"/>
            </a:endParaRPr>
          </a:p>
        </p:txBody>
      </p:sp>
      <p:pic>
        <p:nvPicPr>
          <p:cNvPr id="665" name="Group 292" descr=""/>
          <p:cNvPicPr/>
          <p:nvPr/>
        </p:nvPicPr>
        <p:blipFill>
          <a:blip r:embed="rId1"/>
          <a:stretch/>
        </p:blipFill>
        <p:spPr>
          <a:xfrm>
            <a:off x="5227560" y="3295800"/>
            <a:ext cx="322200" cy="679320"/>
          </a:xfrm>
          <a:prstGeom prst="rect">
            <a:avLst/>
          </a:prstGeom>
          <a:ln w="0">
            <a:noFill/>
          </a:ln>
        </p:spPr>
      </p:pic>
      <p:sp>
        <p:nvSpPr>
          <p:cNvPr id="666" name="Arc 26"/>
          <p:cNvSpPr/>
          <p:nvPr/>
        </p:nvSpPr>
        <p:spPr>
          <a:xfrm>
            <a:off x="6707160" y="2427120"/>
            <a:ext cx="1589040" cy="1589400"/>
          </a:xfrm>
          <a:custGeom>
            <a:avLst/>
            <a:gdLst/>
            <a:ahLst/>
            <a:rect l="l" t="t" r="r" b="b"/>
            <a:pathLst>
              <a:path stroke="0"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lnTo>
                  <a:pt x="794543" y="794543"/>
                </a:lnTo>
                <a:close/>
              </a:path>
              <a:path fill="none"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path>
            </a:pathLst>
          </a:custGeom>
          <a:noFill/>
          <a:ln w="25560">
            <a:solidFill>
              <a:srgbClr val="fefefe"/>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Oval 27"/>
          <p:cNvSpPr/>
          <p:nvPr/>
        </p:nvSpPr>
        <p:spPr>
          <a:xfrm>
            <a:off x="7939080" y="3100320"/>
            <a:ext cx="693720" cy="693720"/>
          </a:xfrm>
          <a:prstGeom prst="ellipse">
            <a:avLst/>
          </a:pr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Text Placeholder 2"/>
          <p:cNvSpPr/>
          <p:nvPr/>
        </p:nvSpPr>
        <p:spPr>
          <a:xfrm>
            <a:off x="6700680" y="2782800"/>
            <a:ext cx="1328760" cy="82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boto condensed light"/>
              </a:rPr>
              <a:t>50%</a:t>
            </a:r>
            <a:endParaRPr b="0" lang="en-US" sz="4400" spc="-1" strike="noStrike">
              <a:solidFill>
                <a:srgbClr val="000000"/>
              </a:solidFill>
              <a:latin typeface="Calibri"/>
            </a:endParaRPr>
          </a:p>
        </p:txBody>
      </p:sp>
      <p:pic>
        <p:nvPicPr>
          <p:cNvPr id="669" name="Group 319" descr=""/>
          <p:cNvPicPr/>
          <p:nvPr/>
        </p:nvPicPr>
        <p:blipFill>
          <a:blip r:embed="rId2"/>
          <a:stretch/>
        </p:blipFill>
        <p:spPr>
          <a:xfrm>
            <a:off x="8137440" y="3298680"/>
            <a:ext cx="316080" cy="595440"/>
          </a:xfrm>
          <a:prstGeom prst="rect">
            <a:avLst/>
          </a:prstGeom>
          <a:ln w="0">
            <a:noFill/>
          </a:ln>
        </p:spPr>
      </p:pic>
      <p:sp>
        <p:nvSpPr>
          <p:cNvPr id="670" name="Arc 34"/>
          <p:cNvSpPr/>
          <p:nvPr/>
        </p:nvSpPr>
        <p:spPr>
          <a:xfrm>
            <a:off x="9594720" y="2427120"/>
            <a:ext cx="1589040" cy="1589400"/>
          </a:xfrm>
          <a:custGeom>
            <a:avLst/>
            <a:gdLst/>
            <a:ahLst/>
            <a:rect l="l" t="t" r="r" b="b"/>
            <a:pathLst>
              <a:path stroke="0"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lnTo>
                  <a:pt x="794543" y="794543"/>
                </a:lnTo>
                <a:close/>
              </a:path>
              <a:path fill="none" w="1589087" h="1589087">
                <a:moveTo>
                  <a:pt x="1285003" y="1419642"/>
                </a:moveTo>
                <a:cubicBezTo>
                  <a:pt x="1149957" y="1525792"/>
                  <a:pt x="979642" y="1589086"/>
                  <a:pt x="794544" y="1589086"/>
                </a:cubicBezTo>
                <a:cubicBezTo>
                  <a:pt x="355730" y="1589086"/>
                  <a:pt x="1" y="1233357"/>
                  <a:pt x="1" y="794543"/>
                </a:cubicBezTo>
                <a:cubicBezTo>
                  <a:pt x="1" y="355729"/>
                  <a:pt x="355730" y="0"/>
                  <a:pt x="794544" y="0"/>
                </a:cubicBezTo>
                <a:cubicBezTo>
                  <a:pt x="1136138" y="0"/>
                  <a:pt x="1427384" y="215566"/>
                  <a:pt x="1539619" y="517948"/>
                </a:cubicBezTo>
              </a:path>
            </a:pathLst>
          </a:custGeom>
          <a:noFill/>
          <a:ln w="25560">
            <a:solidFill>
              <a:srgbClr val="fefefe"/>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1" name="Oval 35"/>
          <p:cNvSpPr/>
          <p:nvPr/>
        </p:nvSpPr>
        <p:spPr>
          <a:xfrm>
            <a:off x="10828440" y="3100320"/>
            <a:ext cx="693720" cy="693720"/>
          </a:xfrm>
          <a:prstGeom prst="ellipse">
            <a:avLst/>
          </a:pr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2" name="Text Placeholder 2"/>
          <p:cNvSpPr/>
          <p:nvPr/>
        </p:nvSpPr>
        <p:spPr>
          <a:xfrm>
            <a:off x="9588600" y="2782800"/>
            <a:ext cx="1328760" cy="82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boto condensed light"/>
              </a:rPr>
              <a:t>59%</a:t>
            </a:r>
            <a:endParaRPr b="0" lang="en-US" sz="4400" spc="-1" strike="noStrike">
              <a:solidFill>
                <a:srgbClr val="000000"/>
              </a:solidFill>
              <a:latin typeface="Calibri"/>
            </a:endParaRPr>
          </a:p>
        </p:txBody>
      </p:sp>
      <p:sp>
        <p:nvSpPr>
          <p:cNvPr id="673" name="AutoShape 478"/>
          <p:cNvSpPr/>
          <p:nvPr/>
        </p:nvSpPr>
        <p:spPr>
          <a:xfrm>
            <a:off x="11039400" y="3295800"/>
            <a:ext cx="250920" cy="295200"/>
          </a:xfrm>
          <a:custGeom>
            <a:avLst/>
            <a:gdLst/>
            <a:ahLst/>
            <a:rect l="l" t="t" r="r" b="b"/>
            <a:pathLst>
              <a:path w="21600" h="21600">
                <a:moveTo>
                  <a:pt x="21592" y="1"/>
                </a:moveTo>
                <a:lnTo>
                  <a:pt x="19082" y="516"/>
                </a:lnTo>
                <a:lnTo>
                  <a:pt x="6546" y="3090"/>
                </a:lnTo>
                <a:lnTo>
                  <a:pt x="6497" y="3090"/>
                </a:lnTo>
                <a:lnTo>
                  <a:pt x="6497" y="15717"/>
                </a:lnTo>
                <a:cubicBezTo>
                  <a:pt x="5896" y="15513"/>
                  <a:pt x="5222" y="15396"/>
                  <a:pt x="4506" y="15396"/>
                </a:cubicBezTo>
                <a:cubicBezTo>
                  <a:pt x="2018" y="15396"/>
                  <a:pt x="0" y="16784"/>
                  <a:pt x="0" y="18498"/>
                </a:cubicBezTo>
                <a:cubicBezTo>
                  <a:pt x="0" y="20211"/>
                  <a:pt x="2018" y="21600"/>
                  <a:pt x="4506" y="21600"/>
                </a:cubicBezTo>
                <a:cubicBezTo>
                  <a:pt x="6970" y="21600"/>
                  <a:pt x="8969" y="20238"/>
                  <a:pt x="9009" y="18548"/>
                </a:cubicBezTo>
                <a:lnTo>
                  <a:pt x="9014" y="18548"/>
                </a:lnTo>
                <a:lnTo>
                  <a:pt x="9014" y="6363"/>
                </a:lnTo>
                <a:lnTo>
                  <a:pt x="19082" y="4299"/>
                </a:lnTo>
                <a:lnTo>
                  <a:pt x="19082" y="11873"/>
                </a:lnTo>
                <a:cubicBezTo>
                  <a:pt x="18481" y="11669"/>
                  <a:pt x="17807" y="11551"/>
                  <a:pt x="17092" y="11551"/>
                </a:cubicBezTo>
                <a:cubicBezTo>
                  <a:pt x="14603" y="11551"/>
                  <a:pt x="12585" y="12940"/>
                  <a:pt x="12585" y="14654"/>
                </a:cubicBezTo>
                <a:cubicBezTo>
                  <a:pt x="12585" y="16367"/>
                  <a:pt x="14603" y="17756"/>
                  <a:pt x="17092" y="17756"/>
                </a:cubicBezTo>
                <a:cubicBezTo>
                  <a:pt x="19556" y="17756"/>
                  <a:pt x="21555" y="16393"/>
                  <a:pt x="21595" y="14704"/>
                </a:cubicBezTo>
                <a:lnTo>
                  <a:pt x="21599" y="14704"/>
                </a:lnTo>
                <a:lnTo>
                  <a:pt x="21599" y="2065"/>
                </a:lnTo>
                <a:lnTo>
                  <a:pt x="21600" y="2065"/>
                </a:lnTo>
                <a:lnTo>
                  <a:pt x="21600" y="0"/>
                </a:lnTo>
                <a:lnTo>
                  <a:pt x="21592" y="1"/>
                </a:lnTo>
                <a:close/>
                <a:moveTo>
                  <a:pt x="21592" y="1"/>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4" name="组合 50"/>
          <p:cNvGrpSpPr/>
          <p:nvPr/>
        </p:nvGrpSpPr>
        <p:grpSpPr>
          <a:xfrm>
            <a:off x="3697200" y="293400"/>
            <a:ext cx="4754880" cy="4222080"/>
            <a:chOff x="3697200" y="293400"/>
            <a:chExt cx="4754880" cy="4222080"/>
          </a:xfrm>
        </p:grpSpPr>
        <p:grpSp>
          <p:nvGrpSpPr>
            <p:cNvPr id="675" name="组合 46"/>
            <p:cNvGrpSpPr/>
            <p:nvPr/>
          </p:nvGrpSpPr>
          <p:grpSpPr>
            <a:xfrm>
              <a:off x="3697200" y="293400"/>
              <a:ext cx="4754880" cy="4222080"/>
              <a:chOff x="3697200" y="293400"/>
              <a:chExt cx="4754880" cy="4222080"/>
            </a:xfrm>
          </p:grpSpPr>
          <p:sp>
            <p:nvSpPr>
              <p:cNvPr id="676" name="Freeform 5"/>
              <p:cNvSpPr/>
              <p:nvPr/>
            </p:nvSpPr>
            <p:spPr>
              <a:xfrm rot="19720800">
                <a:off x="4533480" y="778320"/>
                <a:ext cx="248256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Freeform 5"/>
              <p:cNvSpPr/>
              <p:nvPr/>
            </p:nvSpPr>
            <p:spPr>
              <a:xfrm rot="1976400">
                <a:off x="5416920" y="778320"/>
                <a:ext cx="208368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Freeform 5"/>
              <p:cNvSpPr/>
              <p:nvPr/>
            </p:nvSpPr>
            <p:spPr>
              <a:xfrm rot="3250200">
                <a:off x="5759640" y="77832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79" name="组合 45"/>
              <p:cNvGrpSpPr/>
              <p:nvPr/>
            </p:nvGrpSpPr>
            <p:grpSpPr>
              <a:xfrm>
                <a:off x="3697200" y="512640"/>
                <a:ext cx="4754880" cy="4002840"/>
                <a:chOff x="3697200" y="512640"/>
                <a:chExt cx="4754880" cy="4002840"/>
              </a:xfrm>
            </p:grpSpPr>
            <p:sp>
              <p:nvSpPr>
                <p:cNvPr id="680" name="Freeform 5"/>
                <p:cNvSpPr/>
                <p:nvPr/>
              </p:nvSpPr>
              <p:spPr>
                <a:xfrm rot="20532600">
                  <a:off x="4875480" y="9547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Freeform 5"/>
                <p:cNvSpPr/>
                <p:nvPr/>
              </p:nvSpPr>
              <p:spPr>
                <a:xfrm rot="20387400">
                  <a:off x="4533480" y="9021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Freeform 5"/>
                <p:cNvSpPr/>
                <p:nvPr/>
              </p:nvSpPr>
              <p:spPr>
                <a:xfrm rot="20532600">
                  <a:off x="4875480" y="10789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Freeform 5"/>
                <p:cNvSpPr/>
                <p:nvPr/>
              </p:nvSpPr>
              <p:spPr>
                <a:xfrm rot="1976400">
                  <a:off x="5416920" y="90216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Freeform 5"/>
                <p:cNvSpPr/>
                <p:nvPr/>
              </p:nvSpPr>
              <p:spPr>
                <a:xfrm rot="3757200">
                  <a:off x="5759280" y="9021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Freeform 5"/>
                <p:cNvSpPr/>
                <p:nvPr/>
              </p:nvSpPr>
              <p:spPr>
                <a:xfrm rot="21089400">
                  <a:off x="4533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Freeform 5"/>
                <p:cNvSpPr/>
                <p:nvPr/>
              </p:nvSpPr>
              <p:spPr>
                <a:xfrm rot="20532600">
                  <a:off x="4875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Freeform 5"/>
                <p:cNvSpPr/>
                <p:nvPr/>
              </p:nvSpPr>
              <p:spPr>
                <a:xfrm rot="1976400">
                  <a:off x="5416920" y="10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Freeform 5"/>
                <p:cNvSpPr/>
                <p:nvPr/>
              </p:nvSpPr>
              <p:spPr>
                <a:xfrm rot="2876400">
                  <a:off x="5759280" y="102600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Freeform 5"/>
                <p:cNvSpPr/>
                <p:nvPr/>
              </p:nvSpPr>
              <p:spPr>
                <a:xfrm rot="20387400">
                  <a:off x="4533480" y="11498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Freeform 5"/>
                <p:cNvSpPr/>
                <p:nvPr/>
              </p:nvSpPr>
              <p:spPr>
                <a:xfrm rot="20532600">
                  <a:off x="4875480" y="13269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Freeform 5"/>
                <p:cNvSpPr/>
                <p:nvPr/>
              </p:nvSpPr>
              <p:spPr>
                <a:xfrm rot="20387400">
                  <a:off x="4437360" y="15494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Freeform 5"/>
                <p:cNvSpPr/>
                <p:nvPr/>
              </p:nvSpPr>
              <p:spPr>
                <a:xfrm rot="3757200">
                  <a:off x="5954760" y="13006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Freeform 5"/>
                <p:cNvSpPr/>
                <p:nvPr/>
              </p:nvSpPr>
              <p:spPr>
                <a:xfrm rot="20387400">
                  <a:off x="4533480" y="12740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Freeform 5"/>
                <p:cNvSpPr/>
                <p:nvPr/>
              </p:nvSpPr>
              <p:spPr>
                <a:xfrm rot="20532600">
                  <a:off x="4875480" y="14508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Freeform 5"/>
                <p:cNvSpPr/>
                <p:nvPr/>
              </p:nvSpPr>
              <p:spPr>
                <a:xfrm rot="1976400">
                  <a:off x="5416920" y="127404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Freeform 5"/>
                <p:cNvSpPr/>
                <p:nvPr/>
              </p:nvSpPr>
              <p:spPr>
                <a:xfrm rot="3757200">
                  <a:off x="5759280" y="127404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Freeform 5"/>
                <p:cNvSpPr/>
                <p:nvPr/>
              </p:nvSpPr>
              <p:spPr>
                <a:xfrm rot="20387400">
                  <a:off x="4533480" y="13978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Freeform 5"/>
                <p:cNvSpPr/>
                <p:nvPr/>
              </p:nvSpPr>
              <p:spPr>
                <a:xfrm rot="20532600">
                  <a:off x="4875480" y="15746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Freeform 5"/>
                <p:cNvSpPr/>
                <p:nvPr/>
              </p:nvSpPr>
              <p:spPr>
                <a:xfrm rot="1976400">
                  <a:off x="5416920" y="139788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Freeform 5"/>
                <p:cNvSpPr/>
                <p:nvPr/>
              </p:nvSpPr>
              <p:spPr>
                <a:xfrm rot="3757200">
                  <a:off x="5835960" y="18579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Freeform 5"/>
                <p:cNvSpPr/>
                <p:nvPr/>
              </p:nvSpPr>
              <p:spPr>
                <a:xfrm rot="20387400">
                  <a:off x="4533480" y="15220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Freeform 5"/>
                <p:cNvSpPr/>
                <p:nvPr/>
              </p:nvSpPr>
              <p:spPr>
                <a:xfrm rot="20532600">
                  <a:off x="4875480" y="1698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Freeform 5"/>
                <p:cNvSpPr/>
                <p:nvPr/>
              </p:nvSpPr>
              <p:spPr>
                <a:xfrm rot="4993800">
                  <a:off x="5736600" y="15220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Freeform 5"/>
                <p:cNvSpPr/>
                <p:nvPr/>
              </p:nvSpPr>
              <p:spPr>
                <a:xfrm rot="20387400">
                  <a:off x="424188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Freeform 5"/>
                <p:cNvSpPr/>
                <p:nvPr/>
              </p:nvSpPr>
              <p:spPr>
                <a:xfrm rot="20387400">
                  <a:off x="4533480" y="164592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Freeform 5"/>
                <p:cNvSpPr/>
                <p:nvPr/>
              </p:nvSpPr>
              <p:spPr>
                <a:xfrm rot="20532600">
                  <a:off x="4947840" y="1823040"/>
                  <a:ext cx="233784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Freeform 5"/>
                <p:cNvSpPr/>
                <p:nvPr/>
              </p:nvSpPr>
              <p:spPr>
                <a:xfrm rot="1976400">
                  <a:off x="5338440" y="19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Freeform 5"/>
                <p:cNvSpPr/>
                <p:nvPr/>
              </p:nvSpPr>
              <p:spPr>
                <a:xfrm>
                  <a:off x="4752360" y="20016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Freeform 5"/>
                <p:cNvSpPr/>
                <p:nvPr/>
              </p:nvSpPr>
              <p:spPr>
                <a:xfrm rot="1976400">
                  <a:off x="409536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Freeform 5"/>
                <p:cNvSpPr/>
                <p:nvPr/>
              </p:nvSpPr>
              <p:spPr>
                <a:xfrm rot="19703400">
                  <a:off x="4236120" y="1833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11" name="文本框 44"/>
            <p:cNvSpPr/>
            <p:nvPr/>
          </p:nvSpPr>
          <p:spPr>
            <a:xfrm>
              <a:off x="4705200" y="765000"/>
              <a:ext cx="278172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3099d6"/>
                  </a:solidFill>
                  <a:latin typeface="微软雅黑"/>
                  <a:ea typeface="微软雅黑"/>
                </a:rPr>
                <a:t>3</a:t>
              </a:r>
              <a:endParaRPr b="0" lang="en-US" sz="19900" spc="-1" strike="noStrike">
                <a:solidFill>
                  <a:srgbClr val="000000"/>
                </a:solidFill>
                <a:latin typeface="Calibri"/>
              </a:endParaRPr>
            </a:p>
          </p:txBody>
        </p:sp>
      </p:grpSp>
      <p:sp>
        <p:nvSpPr>
          <p:cNvPr id="712" name="文本框 48"/>
          <p:cNvSpPr/>
          <p:nvPr/>
        </p:nvSpPr>
        <p:spPr>
          <a:xfrm>
            <a:off x="1392120" y="4714920"/>
            <a:ext cx="940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东方御匠 </a:t>
            </a:r>
            <a:r>
              <a:rPr b="1" lang="en-US" sz="3200" spc="-1" strike="noStrike">
                <a:solidFill>
                  <a:srgbClr val="ffffff"/>
                </a:solidFill>
                <a:latin typeface="微软雅黑"/>
                <a:ea typeface="微软雅黑"/>
              </a:rPr>
              <a:t>POWERPOINT</a:t>
            </a:r>
            <a:endParaRPr b="0" lang="en-US" sz="3200" spc="-1" strike="noStrike">
              <a:solidFill>
                <a:srgbClr val="000000"/>
              </a:solidFill>
              <a:latin typeface="Calibri"/>
            </a:endParaRPr>
          </a:p>
        </p:txBody>
      </p:sp>
      <p:sp>
        <p:nvSpPr>
          <p:cNvPr id="713"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grpSp>
        <p:nvGrpSpPr>
          <p:cNvPr id="714" name="组合 41"/>
          <p:cNvGrpSpPr/>
          <p:nvPr/>
        </p:nvGrpSpPr>
        <p:grpSpPr>
          <a:xfrm>
            <a:off x="1152360" y="2135160"/>
            <a:ext cx="138240" cy="138240"/>
            <a:chOff x="1152360" y="2135160"/>
            <a:chExt cx="138240" cy="138240"/>
          </a:xfrm>
        </p:grpSpPr>
        <p:sp>
          <p:nvSpPr>
            <p:cNvPr id="715"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17" name="组合 47"/>
          <p:cNvGrpSpPr/>
          <p:nvPr/>
        </p:nvGrpSpPr>
        <p:grpSpPr>
          <a:xfrm>
            <a:off x="2143080" y="1252440"/>
            <a:ext cx="138240" cy="138240"/>
            <a:chOff x="2143080" y="1252440"/>
            <a:chExt cx="138240" cy="138240"/>
          </a:xfrm>
        </p:grpSpPr>
        <p:sp>
          <p:nvSpPr>
            <p:cNvPr id="718" name="直接连接符 51"/>
            <p:cNvSpPr/>
            <p:nvPr/>
          </p:nvSpPr>
          <p:spPr>
            <a:xfrm flipH="1">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直接连接符 52"/>
            <p:cNvSpPr/>
            <p:nvPr/>
          </p:nvSpPr>
          <p:spPr>
            <a:xfrm>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0" name="组合 53"/>
          <p:cNvGrpSpPr/>
          <p:nvPr/>
        </p:nvGrpSpPr>
        <p:grpSpPr>
          <a:xfrm>
            <a:off x="2544480" y="3079800"/>
            <a:ext cx="138240" cy="136440"/>
            <a:chOff x="2544480" y="3079800"/>
            <a:chExt cx="138240" cy="136440"/>
          </a:xfrm>
        </p:grpSpPr>
        <p:sp>
          <p:nvSpPr>
            <p:cNvPr id="721" name="直接连接符 54"/>
            <p:cNvSpPr/>
            <p:nvPr/>
          </p:nvSpPr>
          <p:spPr>
            <a:xfrm flipH="1">
              <a:off x="254448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直接连接符 55"/>
            <p:cNvSpPr/>
            <p:nvPr/>
          </p:nvSpPr>
          <p:spPr>
            <a:xfrm>
              <a:off x="254484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3" name="组合 56"/>
          <p:cNvGrpSpPr/>
          <p:nvPr/>
        </p:nvGrpSpPr>
        <p:grpSpPr>
          <a:xfrm>
            <a:off x="10661400" y="1319040"/>
            <a:ext cx="138240" cy="136800"/>
            <a:chOff x="10661400" y="1319040"/>
            <a:chExt cx="138240" cy="136800"/>
          </a:xfrm>
        </p:grpSpPr>
        <p:sp>
          <p:nvSpPr>
            <p:cNvPr id="724" name="直接连接符 57"/>
            <p:cNvSpPr/>
            <p:nvPr/>
          </p:nvSpPr>
          <p:spPr>
            <a:xfrm flipH="1">
              <a:off x="1066140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直接连接符 58"/>
            <p:cNvSpPr/>
            <p:nvPr/>
          </p:nvSpPr>
          <p:spPr>
            <a:xfrm>
              <a:off x="1066176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6" name="组合 59"/>
          <p:cNvGrpSpPr/>
          <p:nvPr/>
        </p:nvGrpSpPr>
        <p:grpSpPr>
          <a:xfrm>
            <a:off x="9210240" y="3511440"/>
            <a:ext cx="103680" cy="104760"/>
            <a:chOff x="9210240" y="3511440"/>
            <a:chExt cx="103680" cy="104760"/>
          </a:xfrm>
        </p:grpSpPr>
        <p:sp>
          <p:nvSpPr>
            <p:cNvPr id="727" name="直接连接符 60"/>
            <p:cNvSpPr/>
            <p:nvPr/>
          </p:nvSpPr>
          <p:spPr>
            <a:xfrm flipH="1">
              <a:off x="921024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8" name="直接连接符 61"/>
            <p:cNvSpPr/>
            <p:nvPr/>
          </p:nvSpPr>
          <p:spPr>
            <a:xfrm>
              <a:off x="921060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组合 1"/>
          <p:cNvGrpSpPr/>
          <p:nvPr/>
        </p:nvGrpSpPr>
        <p:grpSpPr>
          <a:xfrm>
            <a:off x="529920" y="66960"/>
            <a:ext cx="1630080" cy="1447560"/>
            <a:chOff x="529920" y="66960"/>
            <a:chExt cx="1630080" cy="1447560"/>
          </a:xfrm>
        </p:grpSpPr>
        <p:grpSp>
          <p:nvGrpSpPr>
            <p:cNvPr id="730" name="组合 2"/>
            <p:cNvGrpSpPr/>
            <p:nvPr/>
          </p:nvGrpSpPr>
          <p:grpSpPr>
            <a:xfrm>
              <a:off x="529920" y="66960"/>
              <a:ext cx="1630080" cy="1447560"/>
              <a:chOff x="529920" y="66960"/>
              <a:chExt cx="1630080" cy="1447560"/>
            </a:xfrm>
          </p:grpSpPr>
          <p:sp>
            <p:nvSpPr>
              <p:cNvPr id="731"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4" name="组合 7"/>
              <p:cNvGrpSpPr/>
              <p:nvPr/>
            </p:nvGrpSpPr>
            <p:grpSpPr>
              <a:xfrm>
                <a:off x="529920" y="142200"/>
                <a:ext cx="1630080" cy="1372320"/>
                <a:chOff x="529920" y="142200"/>
                <a:chExt cx="1630080" cy="1372320"/>
              </a:xfrm>
            </p:grpSpPr>
            <p:sp>
              <p:nvSpPr>
                <p:cNvPr id="735"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0"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1"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2"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66"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1</a:t>
              </a:r>
              <a:endParaRPr b="0" lang="en-US" sz="6600" spc="-1" strike="noStrike">
                <a:solidFill>
                  <a:srgbClr val="000000"/>
                </a:solidFill>
                <a:latin typeface="Calibri"/>
              </a:endParaRPr>
            </a:p>
          </p:txBody>
        </p:sp>
      </p:grpSp>
      <p:sp>
        <p:nvSpPr>
          <p:cNvPr id="767"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grpSp>
        <p:nvGrpSpPr>
          <p:cNvPr id="768" name="그룹 38"/>
          <p:cNvGrpSpPr/>
          <p:nvPr/>
        </p:nvGrpSpPr>
        <p:grpSpPr>
          <a:xfrm>
            <a:off x="4557600" y="5121360"/>
            <a:ext cx="1335240" cy="844560"/>
            <a:chOff x="4557600" y="5121360"/>
            <a:chExt cx="1335240" cy="844560"/>
          </a:xfrm>
        </p:grpSpPr>
        <p:sp>
          <p:nvSpPr>
            <p:cNvPr id="769" name="TextBox 18"/>
            <p:cNvSpPr/>
            <p:nvPr/>
          </p:nvSpPr>
          <p:spPr>
            <a:xfrm>
              <a:off x="4557600" y="5121360"/>
              <a:ext cx="1335240" cy="271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boto condensed"/>
                </a:rPr>
                <a:t>Lorem Ipsum</a:t>
              </a:r>
              <a:endParaRPr b="0" lang="en-US" sz="2000" spc="-1" strike="noStrike">
                <a:solidFill>
                  <a:srgbClr val="000000"/>
                </a:solidFill>
                <a:latin typeface="Calibri"/>
              </a:endParaRPr>
            </a:p>
          </p:txBody>
        </p:sp>
        <p:sp>
          <p:nvSpPr>
            <p:cNvPr id="770" name="TextBox 19"/>
            <p:cNvSpPr/>
            <p:nvPr/>
          </p:nvSpPr>
          <p:spPr>
            <a:xfrm>
              <a:off x="4557600" y="5420520"/>
              <a:ext cx="1335240" cy="54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Roboto condensed"/>
                  <a:ea typeface="Roboto Light"/>
                </a:rPr>
                <a:t>Sed dignissim lacinia nunc. Curabitur tortor.</a:t>
              </a:r>
              <a:endParaRPr b="0" lang="en-US" sz="1100" spc="-1" strike="noStrike">
                <a:solidFill>
                  <a:srgbClr val="000000"/>
                </a:solidFill>
                <a:latin typeface="Calibri"/>
              </a:endParaRPr>
            </a:p>
          </p:txBody>
        </p:sp>
      </p:grpSp>
      <p:grpSp>
        <p:nvGrpSpPr>
          <p:cNvPr id="771" name="그룹 33"/>
          <p:cNvGrpSpPr/>
          <p:nvPr/>
        </p:nvGrpSpPr>
        <p:grpSpPr>
          <a:xfrm>
            <a:off x="4557600" y="2854440"/>
            <a:ext cx="1335240" cy="846000"/>
            <a:chOff x="4557600" y="2854440"/>
            <a:chExt cx="1335240" cy="846000"/>
          </a:xfrm>
        </p:grpSpPr>
        <p:sp>
          <p:nvSpPr>
            <p:cNvPr id="772" name="TextBox 21"/>
            <p:cNvSpPr/>
            <p:nvPr/>
          </p:nvSpPr>
          <p:spPr>
            <a:xfrm>
              <a:off x="4557600" y="3153960"/>
              <a:ext cx="1335240" cy="54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Roboto condensed"/>
                  <a:ea typeface="Roboto Light"/>
                </a:rPr>
                <a:t>Sed dignissim lacinia nunc. Curabitur tortor.</a:t>
              </a:r>
              <a:endParaRPr b="0" lang="en-US" sz="1100" spc="-1" strike="noStrike">
                <a:solidFill>
                  <a:srgbClr val="000000"/>
                </a:solidFill>
                <a:latin typeface="Calibri"/>
              </a:endParaRPr>
            </a:p>
          </p:txBody>
        </p:sp>
        <p:sp>
          <p:nvSpPr>
            <p:cNvPr id="773" name="TextBox 22"/>
            <p:cNvSpPr/>
            <p:nvPr/>
          </p:nvSpPr>
          <p:spPr>
            <a:xfrm>
              <a:off x="4557600" y="2854440"/>
              <a:ext cx="1335240" cy="271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boto condensed"/>
                </a:rPr>
                <a:t>Lorem Ipsum</a:t>
              </a:r>
              <a:endParaRPr b="0" lang="en-US" sz="2000" spc="-1" strike="noStrike">
                <a:solidFill>
                  <a:srgbClr val="000000"/>
                </a:solidFill>
                <a:latin typeface="Calibri"/>
              </a:endParaRPr>
            </a:p>
          </p:txBody>
        </p:sp>
      </p:grpSp>
      <p:grpSp>
        <p:nvGrpSpPr>
          <p:cNvPr id="774" name="그룹 35"/>
          <p:cNvGrpSpPr/>
          <p:nvPr/>
        </p:nvGrpSpPr>
        <p:grpSpPr>
          <a:xfrm>
            <a:off x="10393200" y="4167360"/>
            <a:ext cx="1335240" cy="846000"/>
            <a:chOff x="10393200" y="4167360"/>
            <a:chExt cx="1335240" cy="846000"/>
          </a:xfrm>
        </p:grpSpPr>
        <p:sp>
          <p:nvSpPr>
            <p:cNvPr id="775" name="TextBox 24"/>
            <p:cNvSpPr/>
            <p:nvPr/>
          </p:nvSpPr>
          <p:spPr>
            <a:xfrm>
              <a:off x="10393200" y="4167360"/>
              <a:ext cx="1335240" cy="2718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boto condensed"/>
                </a:rPr>
                <a:t>Lorem Ipsum</a:t>
              </a:r>
              <a:endParaRPr b="0" lang="en-US" sz="2000" spc="-1" strike="noStrike">
                <a:solidFill>
                  <a:srgbClr val="000000"/>
                </a:solidFill>
                <a:latin typeface="Calibri"/>
              </a:endParaRPr>
            </a:p>
          </p:txBody>
        </p:sp>
        <p:sp>
          <p:nvSpPr>
            <p:cNvPr id="776" name="TextBox 25"/>
            <p:cNvSpPr/>
            <p:nvPr/>
          </p:nvSpPr>
          <p:spPr>
            <a:xfrm>
              <a:off x="10393200" y="4466880"/>
              <a:ext cx="1335240" cy="54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Roboto condensed"/>
                  <a:ea typeface="Roboto Light"/>
                </a:rPr>
                <a:t>Sed dignissim lacinia nunc. Curabitur tortor.</a:t>
              </a:r>
              <a:endParaRPr b="0" lang="en-US" sz="1100" spc="-1" strike="noStrike">
                <a:solidFill>
                  <a:srgbClr val="000000"/>
                </a:solidFill>
                <a:latin typeface="Calibri"/>
              </a:endParaRPr>
            </a:p>
          </p:txBody>
        </p:sp>
      </p:grpSp>
      <p:grpSp>
        <p:nvGrpSpPr>
          <p:cNvPr id="777" name="그룹 34"/>
          <p:cNvGrpSpPr/>
          <p:nvPr/>
        </p:nvGrpSpPr>
        <p:grpSpPr>
          <a:xfrm>
            <a:off x="10393200" y="1900080"/>
            <a:ext cx="1335240" cy="846360"/>
            <a:chOff x="10393200" y="1900080"/>
            <a:chExt cx="1335240" cy="846360"/>
          </a:xfrm>
        </p:grpSpPr>
        <p:sp>
          <p:nvSpPr>
            <p:cNvPr id="778" name="TextBox 28"/>
            <p:cNvSpPr/>
            <p:nvPr/>
          </p:nvSpPr>
          <p:spPr>
            <a:xfrm>
              <a:off x="10393200" y="1900080"/>
              <a:ext cx="1335240" cy="272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boto condensed"/>
                </a:rPr>
                <a:t>Lorem Ipsum</a:t>
              </a:r>
              <a:endParaRPr b="0" lang="en-US" sz="2000" spc="-1" strike="noStrike">
                <a:solidFill>
                  <a:srgbClr val="000000"/>
                </a:solidFill>
                <a:latin typeface="Calibri"/>
              </a:endParaRPr>
            </a:p>
          </p:txBody>
        </p:sp>
        <p:sp>
          <p:nvSpPr>
            <p:cNvPr id="779" name="TextBox 29"/>
            <p:cNvSpPr/>
            <p:nvPr/>
          </p:nvSpPr>
          <p:spPr>
            <a:xfrm>
              <a:off x="10393200" y="2199960"/>
              <a:ext cx="1335240" cy="54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Roboto condensed"/>
                  <a:ea typeface="Roboto Light"/>
                </a:rPr>
                <a:t>Sed dignissim lacinia nunc. Curabitur tortor.</a:t>
              </a:r>
              <a:endParaRPr b="0" lang="en-US" sz="1100" spc="-1" strike="noStrike">
                <a:solidFill>
                  <a:srgbClr val="000000"/>
                </a:solidFill>
                <a:latin typeface="Calibri"/>
              </a:endParaRPr>
            </a:p>
          </p:txBody>
        </p:sp>
      </p:grpSp>
      <p:sp>
        <p:nvSpPr>
          <p:cNvPr id="780" name="Freeform 7"/>
          <p:cNvSpPr/>
          <p:nvPr/>
        </p:nvSpPr>
        <p:spPr>
          <a:xfrm rot="18900000">
            <a:off x="7518240" y="1817280"/>
            <a:ext cx="1746360" cy="1746360"/>
          </a:xfrm>
          <a:custGeom>
            <a:avLst/>
            <a:gdLst/>
            <a:ahLst/>
            <a:rect l="l" t="t" r="r" b="b"/>
            <a:pathLst>
              <a:path w="720" h="720">
                <a:moveTo>
                  <a:pt x="720" y="275"/>
                </a:moveTo>
                <a:cubicBezTo>
                  <a:pt x="720" y="318"/>
                  <a:pt x="686" y="352"/>
                  <a:pt x="643" y="352"/>
                </a:cubicBezTo>
                <a:cubicBezTo>
                  <a:pt x="643" y="352"/>
                  <a:pt x="643" y="352"/>
                  <a:pt x="643" y="352"/>
                </a:cubicBezTo>
                <a:cubicBezTo>
                  <a:pt x="639" y="352"/>
                  <a:pt x="621" y="351"/>
                  <a:pt x="603" y="336"/>
                </a:cubicBezTo>
                <a:cubicBezTo>
                  <a:pt x="592" y="327"/>
                  <a:pt x="580" y="313"/>
                  <a:pt x="569" y="313"/>
                </a:cubicBezTo>
                <a:cubicBezTo>
                  <a:pt x="559" y="313"/>
                  <a:pt x="550" y="323"/>
                  <a:pt x="543" y="356"/>
                </a:cubicBezTo>
                <a:cubicBezTo>
                  <a:pt x="542" y="359"/>
                  <a:pt x="542" y="362"/>
                  <a:pt x="542" y="365"/>
                </a:cubicBezTo>
                <a:cubicBezTo>
                  <a:pt x="542" y="542"/>
                  <a:pt x="542" y="542"/>
                  <a:pt x="542" y="542"/>
                </a:cubicBezTo>
                <a:cubicBezTo>
                  <a:pt x="542" y="542"/>
                  <a:pt x="542" y="542"/>
                  <a:pt x="542" y="542"/>
                </a:cubicBezTo>
                <a:cubicBezTo>
                  <a:pt x="356" y="542"/>
                  <a:pt x="356" y="542"/>
                  <a:pt x="356" y="542"/>
                </a:cubicBezTo>
                <a:cubicBezTo>
                  <a:pt x="352" y="542"/>
                  <a:pt x="349" y="543"/>
                  <a:pt x="345" y="543"/>
                </a:cubicBezTo>
                <a:cubicBezTo>
                  <a:pt x="315" y="550"/>
                  <a:pt x="300" y="559"/>
                  <a:pt x="296" y="572"/>
                </a:cubicBezTo>
                <a:cubicBezTo>
                  <a:pt x="292" y="586"/>
                  <a:pt x="304" y="599"/>
                  <a:pt x="314" y="610"/>
                </a:cubicBezTo>
                <a:cubicBezTo>
                  <a:pt x="316" y="613"/>
                  <a:pt x="318" y="615"/>
                  <a:pt x="320" y="617"/>
                </a:cubicBezTo>
                <a:cubicBezTo>
                  <a:pt x="335" y="634"/>
                  <a:pt x="335" y="651"/>
                  <a:pt x="335" y="652"/>
                </a:cubicBezTo>
                <a:cubicBezTo>
                  <a:pt x="335" y="690"/>
                  <a:pt x="304" y="720"/>
                  <a:pt x="266" y="720"/>
                </a:cubicBezTo>
                <a:cubicBezTo>
                  <a:pt x="229" y="720"/>
                  <a:pt x="198" y="690"/>
                  <a:pt x="198" y="652"/>
                </a:cubicBezTo>
                <a:cubicBezTo>
                  <a:pt x="198" y="652"/>
                  <a:pt x="198" y="652"/>
                  <a:pt x="198" y="652"/>
                </a:cubicBezTo>
                <a:cubicBezTo>
                  <a:pt x="198" y="651"/>
                  <a:pt x="197" y="634"/>
                  <a:pt x="212" y="617"/>
                </a:cubicBezTo>
                <a:cubicBezTo>
                  <a:pt x="214" y="615"/>
                  <a:pt x="216" y="613"/>
                  <a:pt x="219" y="610"/>
                </a:cubicBezTo>
                <a:cubicBezTo>
                  <a:pt x="229" y="599"/>
                  <a:pt x="241" y="586"/>
                  <a:pt x="237" y="572"/>
                </a:cubicBezTo>
                <a:cubicBezTo>
                  <a:pt x="233" y="559"/>
                  <a:pt x="217" y="550"/>
                  <a:pt x="187" y="543"/>
                </a:cubicBezTo>
                <a:cubicBezTo>
                  <a:pt x="184" y="543"/>
                  <a:pt x="180" y="542"/>
                  <a:pt x="177" y="542"/>
                </a:cubicBezTo>
                <a:cubicBezTo>
                  <a:pt x="0" y="542"/>
                  <a:pt x="0" y="542"/>
                  <a:pt x="0" y="542"/>
                </a:cubicBezTo>
                <a:cubicBezTo>
                  <a:pt x="0" y="365"/>
                  <a:pt x="0" y="365"/>
                  <a:pt x="0" y="365"/>
                </a:cubicBezTo>
                <a:cubicBezTo>
                  <a:pt x="0" y="363"/>
                  <a:pt x="0" y="360"/>
                  <a:pt x="1" y="358"/>
                </a:cubicBezTo>
                <a:cubicBezTo>
                  <a:pt x="8" y="324"/>
                  <a:pt x="17" y="321"/>
                  <a:pt x="19" y="321"/>
                </a:cubicBezTo>
                <a:cubicBezTo>
                  <a:pt x="24" y="321"/>
                  <a:pt x="33" y="329"/>
                  <a:pt x="40" y="335"/>
                </a:cubicBezTo>
                <a:cubicBezTo>
                  <a:pt x="42" y="338"/>
                  <a:pt x="45" y="340"/>
                  <a:pt x="47" y="342"/>
                </a:cubicBezTo>
                <a:cubicBezTo>
                  <a:pt x="67" y="359"/>
                  <a:pt x="87" y="360"/>
                  <a:pt x="92" y="360"/>
                </a:cubicBezTo>
                <a:cubicBezTo>
                  <a:pt x="93" y="360"/>
                  <a:pt x="93" y="360"/>
                  <a:pt x="93" y="360"/>
                </a:cubicBezTo>
                <a:cubicBezTo>
                  <a:pt x="140" y="360"/>
                  <a:pt x="178" y="322"/>
                  <a:pt x="178" y="275"/>
                </a:cubicBezTo>
                <a:cubicBezTo>
                  <a:pt x="178" y="229"/>
                  <a:pt x="140" y="190"/>
                  <a:pt x="93" y="190"/>
                </a:cubicBezTo>
                <a:cubicBezTo>
                  <a:pt x="92" y="190"/>
                  <a:pt x="92" y="190"/>
                  <a:pt x="92" y="190"/>
                </a:cubicBezTo>
                <a:cubicBezTo>
                  <a:pt x="87" y="190"/>
                  <a:pt x="67" y="192"/>
                  <a:pt x="47" y="209"/>
                </a:cubicBezTo>
                <a:cubicBezTo>
                  <a:pt x="45" y="211"/>
                  <a:pt x="42" y="213"/>
                  <a:pt x="40" y="215"/>
                </a:cubicBezTo>
                <a:cubicBezTo>
                  <a:pt x="33" y="222"/>
                  <a:pt x="24" y="230"/>
                  <a:pt x="19" y="230"/>
                </a:cubicBezTo>
                <a:cubicBezTo>
                  <a:pt x="17" y="230"/>
                  <a:pt x="8" y="227"/>
                  <a:pt x="1" y="193"/>
                </a:cubicBezTo>
                <a:cubicBezTo>
                  <a:pt x="0" y="190"/>
                  <a:pt x="0" y="188"/>
                  <a:pt x="0" y="186"/>
                </a:cubicBezTo>
                <a:cubicBezTo>
                  <a:pt x="0" y="0"/>
                  <a:pt x="0" y="0"/>
                  <a:pt x="0" y="0"/>
                </a:cubicBezTo>
                <a:cubicBezTo>
                  <a:pt x="177" y="0"/>
                  <a:pt x="177" y="0"/>
                  <a:pt x="177" y="0"/>
                </a:cubicBezTo>
                <a:cubicBezTo>
                  <a:pt x="180" y="0"/>
                  <a:pt x="183" y="1"/>
                  <a:pt x="186" y="1"/>
                </a:cubicBezTo>
                <a:cubicBezTo>
                  <a:pt x="257" y="18"/>
                  <a:pt x="223" y="42"/>
                  <a:pt x="206" y="61"/>
                </a:cubicBezTo>
                <a:cubicBezTo>
                  <a:pt x="189" y="82"/>
                  <a:pt x="190" y="102"/>
                  <a:pt x="190" y="102"/>
                </a:cubicBezTo>
                <a:cubicBezTo>
                  <a:pt x="190" y="144"/>
                  <a:pt x="224" y="179"/>
                  <a:pt x="266" y="179"/>
                </a:cubicBezTo>
                <a:cubicBezTo>
                  <a:pt x="309" y="179"/>
                  <a:pt x="343" y="144"/>
                  <a:pt x="343" y="102"/>
                </a:cubicBezTo>
                <a:cubicBezTo>
                  <a:pt x="343" y="102"/>
                  <a:pt x="344" y="82"/>
                  <a:pt x="327" y="61"/>
                </a:cubicBezTo>
                <a:cubicBezTo>
                  <a:pt x="310" y="42"/>
                  <a:pt x="276" y="18"/>
                  <a:pt x="347" y="1"/>
                </a:cubicBezTo>
                <a:cubicBezTo>
                  <a:pt x="350" y="1"/>
                  <a:pt x="353" y="0"/>
                  <a:pt x="356" y="0"/>
                </a:cubicBezTo>
                <a:cubicBezTo>
                  <a:pt x="542" y="0"/>
                  <a:pt x="542" y="0"/>
                  <a:pt x="542" y="0"/>
                </a:cubicBezTo>
                <a:cubicBezTo>
                  <a:pt x="542" y="186"/>
                  <a:pt x="542" y="186"/>
                  <a:pt x="542" y="186"/>
                </a:cubicBezTo>
                <a:cubicBezTo>
                  <a:pt x="542" y="189"/>
                  <a:pt x="542" y="192"/>
                  <a:pt x="543" y="194"/>
                </a:cubicBezTo>
                <a:cubicBezTo>
                  <a:pt x="550" y="228"/>
                  <a:pt x="559" y="238"/>
                  <a:pt x="569" y="238"/>
                </a:cubicBezTo>
                <a:cubicBezTo>
                  <a:pt x="580" y="238"/>
                  <a:pt x="592" y="224"/>
                  <a:pt x="603" y="215"/>
                </a:cubicBezTo>
                <a:cubicBezTo>
                  <a:pt x="620" y="200"/>
                  <a:pt x="638" y="199"/>
                  <a:pt x="642" y="199"/>
                </a:cubicBezTo>
                <a:cubicBezTo>
                  <a:pt x="643" y="199"/>
                  <a:pt x="643" y="199"/>
                  <a:pt x="643" y="199"/>
                </a:cubicBezTo>
                <a:cubicBezTo>
                  <a:pt x="686" y="199"/>
                  <a:pt x="720" y="233"/>
                  <a:pt x="720" y="275"/>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1" name="Group 506" descr=""/>
          <p:cNvPicPr/>
          <p:nvPr/>
        </p:nvPicPr>
        <p:blipFill>
          <a:blip r:embed="rId1"/>
          <a:stretch/>
        </p:blipFill>
        <p:spPr>
          <a:xfrm>
            <a:off x="8210520" y="2584440"/>
            <a:ext cx="309600" cy="647640"/>
          </a:xfrm>
          <a:prstGeom prst="rect">
            <a:avLst/>
          </a:prstGeom>
          <a:ln w="0">
            <a:noFill/>
          </a:ln>
        </p:spPr>
      </p:pic>
      <p:sp>
        <p:nvSpPr>
          <p:cNvPr id="782" name="Freeform 6"/>
          <p:cNvSpPr/>
          <p:nvPr/>
        </p:nvSpPr>
        <p:spPr>
          <a:xfrm rot="18900000">
            <a:off x="8169120" y="3083040"/>
            <a:ext cx="1751040" cy="1746000"/>
          </a:xfrm>
          <a:custGeom>
            <a:avLst/>
            <a:gdLst/>
            <a:ahLst/>
            <a:rect l="l" t="t" r="r" b="b"/>
            <a:pathLst>
              <a:path w="721" h="720">
                <a:moveTo>
                  <a:pt x="720" y="356"/>
                </a:moveTo>
                <a:cubicBezTo>
                  <a:pt x="721" y="542"/>
                  <a:pt x="721" y="542"/>
                  <a:pt x="721" y="542"/>
                </a:cubicBezTo>
                <a:cubicBezTo>
                  <a:pt x="535" y="542"/>
                  <a:pt x="535" y="542"/>
                  <a:pt x="535" y="542"/>
                </a:cubicBezTo>
                <a:cubicBezTo>
                  <a:pt x="532" y="542"/>
                  <a:pt x="529" y="542"/>
                  <a:pt x="526" y="543"/>
                </a:cubicBezTo>
                <a:cubicBezTo>
                  <a:pt x="455" y="559"/>
                  <a:pt x="489" y="583"/>
                  <a:pt x="506" y="603"/>
                </a:cubicBezTo>
                <a:cubicBezTo>
                  <a:pt x="523" y="623"/>
                  <a:pt x="522" y="643"/>
                  <a:pt x="522" y="643"/>
                </a:cubicBezTo>
                <a:cubicBezTo>
                  <a:pt x="522" y="686"/>
                  <a:pt x="488" y="720"/>
                  <a:pt x="445" y="720"/>
                </a:cubicBezTo>
                <a:cubicBezTo>
                  <a:pt x="403" y="720"/>
                  <a:pt x="369" y="686"/>
                  <a:pt x="369" y="643"/>
                </a:cubicBezTo>
                <a:cubicBezTo>
                  <a:pt x="369" y="643"/>
                  <a:pt x="368" y="623"/>
                  <a:pt x="385" y="603"/>
                </a:cubicBezTo>
                <a:cubicBezTo>
                  <a:pt x="402" y="583"/>
                  <a:pt x="436" y="559"/>
                  <a:pt x="365" y="543"/>
                </a:cubicBezTo>
                <a:cubicBezTo>
                  <a:pt x="362" y="542"/>
                  <a:pt x="359" y="542"/>
                  <a:pt x="356" y="542"/>
                </a:cubicBezTo>
                <a:cubicBezTo>
                  <a:pt x="179" y="542"/>
                  <a:pt x="179" y="542"/>
                  <a:pt x="179" y="542"/>
                </a:cubicBezTo>
                <a:cubicBezTo>
                  <a:pt x="179" y="356"/>
                  <a:pt x="179" y="356"/>
                  <a:pt x="179" y="356"/>
                </a:cubicBezTo>
                <a:cubicBezTo>
                  <a:pt x="179" y="353"/>
                  <a:pt x="178" y="349"/>
                  <a:pt x="177" y="346"/>
                </a:cubicBezTo>
                <a:cubicBezTo>
                  <a:pt x="172" y="322"/>
                  <a:pt x="163" y="296"/>
                  <a:pt x="143" y="296"/>
                </a:cubicBezTo>
                <a:cubicBezTo>
                  <a:pt x="131" y="296"/>
                  <a:pt x="120" y="305"/>
                  <a:pt x="110" y="314"/>
                </a:cubicBezTo>
                <a:cubicBezTo>
                  <a:pt x="108" y="317"/>
                  <a:pt x="106" y="319"/>
                  <a:pt x="104" y="321"/>
                </a:cubicBezTo>
                <a:cubicBezTo>
                  <a:pt x="88" y="334"/>
                  <a:pt x="72" y="335"/>
                  <a:pt x="69" y="335"/>
                </a:cubicBezTo>
                <a:cubicBezTo>
                  <a:pt x="68" y="335"/>
                  <a:pt x="68" y="335"/>
                  <a:pt x="68" y="335"/>
                </a:cubicBezTo>
                <a:cubicBezTo>
                  <a:pt x="31" y="335"/>
                  <a:pt x="0" y="304"/>
                  <a:pt x="0" y="267"/>
                </a:cubicBezTo>
                <a:cubicBezTo>
                  <a:pt x="0" y="229"/>
                  <a:pt x="31" y="198"/>
                  <a:pt x="68" y="198"/>
                </a:cubicBezTo>
                <a:cubicBezTo>
                  <a:pt x="69" y="198"/>
                  <a:pt x="69" y="198"/>
                  <a:pt x="69" y="198"/>
                </a:cubicBezTo>
                <a:cubicBezTo>
                  <a:pt x="71" y="198"/>
                  <a:pt x="75" y="199"/>
                  <a:pt x="82" y="200"/>
                </a:cubicBezTo>
                <a:cubicBezTo>
                  <a:pt x="88" y="202"/>
                  <a:pt x="96" y="206"/>
                  <a:pt x="104" y="213"/>
                </a:cubicBezTo>
                <a:cubicBezTo>
                  <a:pt x="106" y="215"/>
                  <a:pt x="108" y="217"/>
                  <a:pt x="110" y="219"/>
                </a:cubicBezTo>
                <a:cubicBezTo>
                  <a:pt x="120" y="228"/>
                  <a:pt x="131" y="238"/>
                  <a:pt x="143" y="238"/>
                </a:cubicBezTo>
                <a:cubicBezTo>
                  <a:pt x="163" y="238"/>
                  <a:pt x="172" y="211"/>
                  <a:pt x="177" y="188"/>
                </a:cubicBezTo>
                <a:cubicBezTo>
                  <a:pt x="178" y="184"/>
                  <a:pt x="179" y="181"/>
                  <a:pt x="179" y="177"/>
                </a:cubicBezTo>
                <a:cubicBezTo>
                  <a:pt x="179" y="0"/>
                  <a:pt x="179" y="0"/>
                  <a:pt x="179" y="0"/>
                </a:cubicBezTo>
                <a:cubicBezTo>
                  <a:pt x="179" y="0"/>
                  <a:pt x="179" y="0"/>
                  <a:pt x="179" y="0"/>
                </a:cubicBezTo>
                <a:cubicBezTo>
                  <a:pt x="179" y="0"/>
                  <a:pt x="179" y="0"/>
                  <a:pt x="179" y="0"/>
                </a:cubicBezTo>
                <a:cubicBezTo>
                  <a:pt x="356" y="0"/>
                  <a:pt x="356" y="0"/>
                  <a:pt x="356" y="0"/>
                </a:cubicBezTo>
                <a:cubicBezTo>
                  <a:pt x="358" y="0"/>
                  <a:pt x="360" y="0"/>
                  <a:pt x="363" y="1"/>
                </a:cubicBezTo>
                <a:cubicBezTo>
                  <a:pt x="394" y="8"/>
                  <a:pt x="399" y="16"/>
                  <a:pt x="400" y="18"/>
                </a:cubicBezTo>
                <a:cubicBezTo>
                  <a:pt x="401" y="23"/>
                  <a:pt x="392" y="33"/>
                  <a:pt x="386" y="40"/>
                </a:cubicBezTo>
                <a:cubicBezTo>
                  <a:pt x="383" y="42"/>
                  <a:pt x="381" y="45"/>
                  <a:pt x="379" y="47"/>
                </a:cubicBezTo>
                <a:cubicBezTo>
                  <a:pt x="360" y="69"/>
                  <a:pt x="360" y="90"/>
                  <a:pt x="360" y="93"/>
                </a:cubicBezTo>
                <a:cubicBezTo>
                  <a:pt x="360" y="140"/>
                  <a:pt x="399" y="178"/>
                  <a:pt x="445" y="178"/>
                </a:cubicBezTo>
                <a:cubicBezTo>
                  <a:pt x="492" y="178"/>
                  <a:pt x="530" y="140"/>
                  <a:pt x="530" y="93"/>
                </a:cubicBezTo>
                <a:cubicBezTo>
                  <a:pt x="530" y="90"/>
                  <a:pt x="531" y="68"/>
                  <a:pt x="512" y="47"/>
                </a:cubicBezTo>
                <a:cubicBezTo>
                  <a:pt x="510" y="45"/>
                  <a:pt x="508" y="42"/>
                  <a:pt x="505" y="40"/>
                </a:cubicBezTo>
                <a:cubicBezTo>
                  <a:pt x="499" y="33"/>
                  <a:pt x="490" y="23"/>
                  <a:pt x="491" y="18"/>
                </a:cubicBezTo>
                <a:cubicBezTo>
                  <a:pt x="492" y="16"/>
                  <a:pt x="497" y="8"/>
                  <a:pt x="528" y="1"/>
                </a:cubicBezTo>
                <a:cubicBezTo>
                  <a:pt x="530" y="0"/>
                  <a:pt x="533" y="0"/>
                  <a:pt x="535" y="0"/>
                </a:cubicBezTo>
                <a:cubicBezTo>
                  <a:pt x="721" y="0"/>
                  <a:pt x="721" y="0"/>
                  <a:pt x="721" y="0"/>
                </a:cubicBezTo>
                <a:cubicBezTo>
                  <a:pt x="720" y="177"/>
                  <a:pt x="720" y="177"/>
                  <a:pt x="720" y="177"/>
                </a:cubicBezTo>
                <a:cubicBezTo>
                  <a:pt x="720" y="180"/>
                  <a:pt x="720" y="183"/>
                  <a:pt x="719" y="186"/>
                </a:cubicBezTo>
                <a:cubicBezTo>
                  <a:pt x="712" y="219"/>
                  <a:pt x="703" y="229"/>
                  <a:pt x="693" y="229"/>
                </a:cubicBezTo>
                <a:cubicBezTo>
                  <a:pt x="682" y="229"/>
                  <a:pt x="670" y="215"/>
                  <a:pt x="659" y="206"/>
                </a:cubicBezTo>
                <a:cubicBezTo>
                  <a:pt x="642" y="191"/>
                  <a:pt x="624" y="190"/>
                  <a:pt x="620" y="190"/>
                </a:cubicBezTo>
                <a:cubicBezTo>
                  <a:pt x="619" y="190"/>
                  <a:pt x="619" y="190"/>
                  <a:pt x="619" y="190"/>
                </a:cubicBezTo>
                <a:cubicBezTo>
                  <a:pt x="576" y="190"/>
                  <a:pt x="542" y="224"/>
                  <a:pt x="542" y="267"/>
                </a:cubicBezTo>
                <a:cubicBezTo>
                  <a:pt x="542" y="309"/>
                  <a:pt x="576" y="343"/>
                  <a:pt x="619" y="343"/>
                </a:cubicBezTo>
                <a:cubicBezTo>
                  <a:pt x="619" y="343"/>
                  <a:pt x="619" y="343"/>
                  <a:pt x="620" y="343"/>
                </a:cubicBezTo>
                <a:cubicBezTo>
                  <a:pt x="623" y="343"/>
                  <a:pt x="641" y="342"/>
                  <a:pt x="659" y="327"/>
                </a:cubicBezTo>
                <a:cubicBezTo>
                  <a:pt x="670" y="318"/>
                  <a:pt x="682" y="304"/>
                  <a:pt x="693" y="304"/>
                </a:cubicBezTo>
                <a:cubicBezTo>
                  <a:pt x="703" y="304"/>
                  <a:pt x="712" y="314"/>
                  <a:pt x="719" y="348"/>
                </a:cubicBezTo>
                <a:cubicBezTo>
                  <a:pt x="720" y="350"/>
                  <a:pt x="720" y="353"/>
                  <a:pt x="720" y="356"/>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3" name="Group 675" descr=""/>
          <p:cNvPicPr/>
          <p:nvPr/>
        </p:nvPicPr>
        <p:blipFill>
          <a:blip r:embed="rId2"/>
          <a:stretch/>
        </p:blipFill>
        <p:spPr>
          <a:xfrm>
            <a:off x="8899560" y="3743280"/>
            <a:ext cx="231840" cy="797040"/>
          </a:xfrm>
          <a:prstGeom prst="rect">
            <a:avLst/>
          </a:prstGeom>
          <a:ln w="0">
            <a:noFill/>
          </a:ln>
        </p:spPr>
      </p:pic>
      <p:sp>
        <p:nvSpPr>
          <p:cNvPr id="784" name="Freeform 5"/>
          <p:cNvSpPr/>
          <p:nvPr/>
        </p:nvSpPr>
        <p:spPr>
          <a:xfrm rot="18900000">
            <a:off x="6907320" y="3736440"/>
            <a:ext cx="1746000" cy="1746360"/>
          </a:xfrm>
          <a:custGeom>
            <a:avLst/>
            <a:gdLst/>
            <a:ahLst/>
            <a:rect l="l" t="t" r="r" b="b"/>
            <a:pathLst>
              <a:path w="720" h="720">
                <a:moveTo>
                  <a:pt x="720" y="534"/>
                </a:moveTo>
                <a:cubicBezTo>
                  <a:pt x="720" y="720"/>
                  <a:pt x="720" y="720"/>
                  <a:pt x="720" y="720"/>
                </a:cubicBezTo>
                <a:cubicBezTo>
                  <a:pt x="720" y="720"/>
                  <a:pt x="720" y="720"/>
                  <a:pt x="720" y="720"/>
                </a:cubicBezTo>
                <a:cubicBezTo>
                  <a:pt x="543" y="720"/>
                  <a:pt x="543" y="720"/>
                  <a:pt x="543" y="720"/>
                </a:cubicBezTo>
                <a:cubicBezTo>
                  <a:pt x="540" y="720"/>
                  <a:pt x="537" y="719"/>
                  <a:pt x="534" y="719"/>
                </a:cubicBezTo>
                <a:cubicBezTo>
                  <a:pt x="463" y="702"/>
                  <a:pt x="496" y="678"/>
                  <a:pt x="513" y="659"/>
                </a:cubicBezTo>
                <a:cubicBezTo>
                  <a:pt x="531" y="639"/>
                  <a:pt x="530" y="618"/>
                  <a:pt x="530" y="618"/>
                </a:cubicBezTo>
                <a:cubicBezTo>
                  <a:pt x="530" y="576"/>
                  <a:pt x="495" y="541"/>
                  <a:pt x="453" y="541"/>
                </a:cubicBezTo>
                <a:cubicBezTo>
                  <a:pt x="411" y="541"/>
                  <a:pt x="376" y="576"/>
                  <a:pt x="376" y="618"/>
                </a:cubicBezTo>
                <a:cubicBezTo>
                  <a:pt x="376" y="618"/>
                  <a:pt x="375" y="639"/>
                  <a:pt x="393" y="659"/>
                </a:cubicBezTo>
                <a:cubicBezTo>
                  <a:pt x="410" y="678"/>
                  <a:pt x="444" y="702"/>
                  <a:pt x="372" y="719"/>
                </a:cubicBezTo>
                <a:cubicBezTo>
                  <a:pt x="369" y="719"/>
                  <a:pt x="366" y="720"/>
                  <a:pt x="363" y="720"/>
                </a:cubicBezTo>
                <a:cubicBezTo>
                  <a:pt x="178" y="720"/>
                  <a:pt x="178" y="720"/>
                  <a:pt x="178" y="720"/>
                </a:cubicBezTo>
                <a:cubicBezTo>
                  <a:pt x="178" y="534"/>
                  <a:pt x="178" y="534"/>
                  <a:pt x="178" y="534"/>
                </a:cubicBezTo>
                <a:cubicBezTo>
                  <a:pt x="178" y="531"/>
                  <a:pt x="178" y="528"/>
                  <a:pt x="177" y="526"/>
                </a:cubicBezTo>
                <a:cubicBezTo>
                  <a:pt x="169" y="492"/>
                  <a:pt x="160" y="482"/>
                  <a:pt x="150" y="482"/>
                </a:cubicBezTo>
                <a:cubicBezTo>
                  <a:pt x="139" y="482"/>
                  <a:pt x="127" y="496"/>
                  <a:pt x="117" y="505"/>
                </a:cubicBezTo>
                <a:cubicBezTo>
                  <a:pt x="99" y="520"/>
                  <a:pt x="81" y="521"/>
                  <a:pt x="77" y="521"/>
                </a:cubicBezTo>
                <a:cubicBezTo>
                  <a:pt x="77" y="521"/>
                  <a:pt x="76" y="521"/>
                  <a:pt x="76" y="521"/>
                </a:cubicBezTo>
                <a:cubicBezTo>
                  <a:pt x="34" y="521"/>
                  <a:pt x="0" y="487"/>
                  <a:pt x="0" y="445"/>
                </a:cubicBezTo>
                <a:cubicBezTo>
                  <a:pt x="0" y="402"/>
                  <a:pt x="34" y="368"/>
                  <a:pt x="76" y="368"/>
                </a:cubicBezTo>
                <a:cubicBezTo>
                  <a:pt x="76" y="368"/>
                  <a:pt x="76" y="368"/>
                  <a:pt x="77" y="368"/>
                </a:cubicBezTo>
                <a:cubicBezTo>
                  <a:pt x="81" y="368"/>
                  <a:pt x="99" y="369"/>
                  <a:pt x="117" y="384"/>
                </a:cubicBezTo>
                <a:cubicBezTo>
                  <a:pt x="127" y="393"/>
                  <a:pt x="139" y="407"/>
                  <a:pt x="150" y="407"/>
                </a:cubicBezTo>
                <a:cubicBezTo>
                  <a:pt x="160" y="407"/>
                  <a:pt x="169" y="397"/>
                  <a:pt x="177" y="364"/>
                </a:cubicBezTo>
                <a:cubicBezTo>
                  <a:pt x="178" y="361"/>
                  <a:pt x="178" y="358"/>
                  <a:pt x="178" y="355"/>
                </a:cubicBezTo>
                <a:cubicBezTo>
                  <a:pt x="178" y="178"/>
                  <a:pt x="178" y="178"/>
                  <a:pt x="178" y="178"/>
                </a:cubicBezTo>
                <a:cubicBezTo>
                  <a:pt x="363" y="178"/>
                  <a:pt x="363" y="178"/>
                  <a:pt x="363" y="178"/>
                </a:cubicBezTo>
                <a:cubicBezTo>
                  <a:pt x="367" y="178"/>
                  <a:pt x="371" y="177"/>
                  <a:pt x="374" y="177"/>
                </a:cubicBezTo>
                <a:cubicBezTo>
                  <a:pt x="404" y="170"/>
                  <a:pt x="419" y="161"/>
                  <a:pt x="423" y="148"/>
                </a:cubicBezTo>
                <a:cubicBezTo>
                  <a:pt x="428" y="134"/>
                  <a:pt x="416" y="121"/>
                  <a:pt x="405" y="110"/>
                </a:cubicBezTo>
                <a:cubicBezTo>
                  <a:pt x="403" y="107"/>
                  <a:pt x="401" y="105"/>
                  <a:pt x="399" y="103"/>
                </a:cubicBezTo>
                <a:cubicBezTo>
                  <a:pt x="384" y="86"/>
                  <a:pt x="385" y="69"/>
                  <a:pt x="385" y="68"/>
                </a:cubicBezTo>
                <a:cubicBezTo>
                  <a:pt x="385" y="30"/>
                  <a:pt x="415" y="0"/>
                  <a:pt x="453" y="0"/>
                </a:cubicBezTo>
                <a:cubicBezTo>
                  <a:pt x="491" y="0"/>
                  <a:pt x="521" y="30"/>
                  <a:pt x="521" y="68"/>
                </a:cubicBezTo>
                <a:cubicBezTo>
                  <a:pt x="521" y="68"/>
                  <a:pt x="521" y="68"/>
                  <a:pt x="521" y="68"/>
                </a:cubicBezTo>
                <a:cubicBezTo>
                  <a:pt x="521" y="69"/>
                  <a:pt x="522" y="86"/>
                  <a:pt x="507" y="103"/>
                </a:cubicBezTo>
                <a:cubicBezTo>
                  <a:pt x="505" y="105"/>
                  <a:pt x="503" y="107"/>
                  <a:pt x="501" y="110"/>
                </a:cubicBezTo>
                <a:cubicBezTo>
                  <a:pt x="490" y="121"/>
                  <a:pt x="479" y="134"/>
                  <a:pt x="483" y="148"/>
                </a:cubicBezTo>
                <a:cubicBezTo>
                  <a:pt x="487" y="161"/>
                  <a:pt x="502" y="170"/>
                  <a:pt x="532" y="177"/>
                </a:cubicBezTo>
                <a:cubicBezTo>
                  <a:pt x="536" y="177"/>
                  <a:pt x="539" y="178"/>
                  <a:pt x="543" y="178"/>
                </a:cubicBezTo>
                <a:cubicBezTo>
                  <a:pt x="720" y="178"/>
                  <a:pt x="720" y="178"/>
                  <a:pt x="720" y="178"/>
                </a:cubicBezTo>
                <a:cubicBezTo>
                  <a:pt x="720" y="355"/>
                  <a:pt x="720" y="355"/>
                  <a:pt x="720" y="355"/>
                </a:cubicBezTo>
                <a:cubicBezTo>
                  <a:pt x="720" y="357"/>
                  <a:pt x="720" y="360"/>
                  <a:pt x="719" y="362"/>
                </a:cubicBezTo>
                <a:cubicBezTo>
                  <a:pt x="711" y="396"/>
                  <a:pt x="703" y="399"/>
                  <a:pt x="701" y="399"/>
                </a:cubicBezTo>
                <a:cubicBezTo>
                  <a:pt x="695" y="399"/>
                  <a:pt x="687" y="391"/>
                  <a:pt x="680" y="385"/>
                </a:cubicBezTo>
                <a:cubicBezTo>
                  <a:pt x="677" y="382"/>
                  <a:pt x="675" y="380"/>
                  <a:pt x="672" y="378"/>
                </a:cubicBezTo>
                <a:cubicBezTo>
                  <a:pt x="653" y="361"/>
                  <a:pt x="633" y="360"/>
                  <a:pt x="627" y="360"/>
                </a:cubicBezTo>
                <a:cubicBezTo>
                  <a:pt x="626" y="360"/>
                  <a:pt x="626" y="360"/>
                  <a:pt x="626" y="360"/>
                </a:cubicBezTo>
                <a:cubicBezTo>
                  <a:pt x="580" y="360"/>
                  <a:pt x="541" y="398"/>
                  <a:pt x="541" y="445"/>
                </a:cubicBezTo>
                <a:cubicBezTo>
                  <a:pt x="541" y="491"/>
                  <a:pt x="580" y="530"/>
                  <a:pt x="626" y="530"/>
                </a:cubicBezTo>
                <a:cubicBezTo>
                  <a:pt x="627" y="530"/>
                  <a:pt x="627" y="530"/>
                  <a:pt x="627" y="530"/>
                </a:cubicBezTo>
                <a:cubicBezTo>
                  <a:pt x="633" y="530"/>
                  <a:pt x="653" y="528"/>
                  <a:pt x="673" y="511"/>
                </a:cubicBezTo>
                <a:cubicBezTo>
                  <a:pt x="675" y="509"/>
                  <a:pt x="677" y="507"/>
                  <a:pt x="680" y="505"/>
                </a:cubicBezTo>
                <a:cubicBezTo>
                  <a:pt x="687" y="498"/>
                  <a:pt x="695" y="490"/>
                  <a:pt x="701" y="490"/>
                </a:cubicBezTo>
                <a:cubicBezTo>
                  <a:pt x="703" y="490"/>
                  <a:pt x="711" y="493"/>
                  <a:pt x="719" y="527"/>
                </a:cubicBezTo>
                <a:cubicBezTo>
                  <a:pt x="720" y="530"/>
                  <a:pt x="720" y="532"/>
                  <a:pt x="720" y="534"/>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5" name="Group 336" descr=""/>
          <p:cNvPicPr/>
          <p:nvPr/>
        </p:nvPicPr>
        <p:blipFill>
          <a:blip r:embed="rId3"/>
          <a:stretch/>
        </p:blipFill>
        <p:spPr>
          <a:xfrm>
            <a:off x="7567560" y="4392720"/>
            <a:ext cx="397080" cy="563400"/>
          </a:xfrm>
          <a:prstGeom prst="rect">
            <a:avLst/>
          </a:prstGeom>
          <a:ln w="0">
            <a:noFill/>
          </a:ln>
        </p:spPr>
      </p:pic>
      <p:sp>
        <p:nvSpPr>
          <p:cNvPr id="786" name="Freeform 8"/>
          <p:cNvSpPr/>
          <p:nvPr/>
        </p:nvSpPr>
        <p:spPr>
          <a:xfrm rot="18900000">
            <a:off x="6254640" y="2471400"/>
            <a:ext cx="1746360" cy="1746360"/>
          </a:xfrm>
          <a:custGeom>
            <a:avLst/>
            <a:gdLst/>
            <a:ahLst/>
            <a:rect l="l" t="t" r="r" b="b"/>
            <a:pathLst>
              <a:path w="720" h="720">
                <a:moveTo>
                  <a:pt x="720" y="453"/>
                </a:moveTo>
                <a:cubicBezTo>
                  <a:pt x="720" y="491"/>
                  <a:pt x="690" y="522"/>
                  <a:pt x="652" y="522"/>
                </a:cubicBezTo>
                <a:cubicBezTo>
                  <a:pt x="652" y="522"/>
                  <a:pt x="652" y="522"/>
                  <a:pt x="652" y="522"/>
                </a:cubicBezTo>
                <a:cubicBezTo>
                  <a:pt x="650" y="522"/>
                  <a:pt x="645" y="522"/>
                  <a:pt x="639" y="520"/>
                </a:cubicBezTo>
                <a:cubicBezTo>
                  <a:pt x="633" y="518"/>
                  <a:pt x="625" y="514"/>
                  <a:pt x="617" y="507"/>
                </a:cubicBezTo>
                <a:cubicBezTo>
                  <a:pt x="615" y="505"/>
                  <a:pt x="612" y="503"/>
                  <a:pt x="610" y="501"/>
                </a:cubicBezTo>
                <a:cubicBezTo>
                  <a:pt x="600" y="492"/>
                  <a:pt x="590" y="482"/>
                  <a:pt x="578" y="482"/>
                </a:cubicBezTo>
                <a:cubicBezTo>
                  <a:pt x="557" y="482"/>
                  <a:pt x="549" y="509"/>
                  <a:pt x="543" y="532"/>
                </a:cubicBezTo>
                <a:cubicBezTo>
                  <a:pt x="542" y="536"/>
                  <a:pt x="542" y="539"/>
                  <a:pt x="542" y="543"/>
                </a:cubicBezTo>
                <a:cubicBezTo>
                  <a:pt x="542" y="720"/>
                  <a:pt x="542" y="720"/>
                  <a:pt x="542" y="720"/>
                </a:cubicBezTo>
                <a:cubicBezTo>
                  <a:pt x="542" y="720"/>
                  <a:pt x="542" y="720"/>
                  <a:pt x="542" y="720"/>
                </a:cubicBezTo>
                <a:cubicBezTo>
                  <a:pt x="542" y="720"/>
                  <a:pt x="542" y="720"/>
                  <a:pt x="542" y="720"/>
                </a:cubicBezTo>
                <a:cubicBezTo>
                  <a:pt x="365" y="720"/>
                  <a:pt x="365" y="720"/>
                  <a:pt x="365" y="720"/>
                </a:cubicBezTo>
                <a:cubicBezTo>
                  <a:pt x="362" y="720"/>
                  <a:pt x="360" y="720"/>
                  <a:pt x="358" y="719"/>
                </a:cubicBezTo>
                <a:cubicBezTo>
                  <a:pt x="326" y="712"/>
                  <a:pt x="322" y="704"/>
                  <a:pt x="321" y="702"/>
                </a:cubicBezTo>
                <a:cubicBezTo>
                  <a:pt x="319" y="697"/>
                  <a:pt x="328" y="687"/>
                  <a:pt x="335" y="680"/>
                </a:cubicBezTo>
                <a:cubicBezTo>
                  <a:pt x="337" y="678"/>
                  <a:pt x="340" y="675"/>
                  <a:pt x="342" y="673"/>
                </a:cubicBezTo>
                <a:cubicBezTo>
                  <a:pt x="360" y="652"/>
                  <a:pt x="360" y="630"/>
                  <a:pt x="360" y="627"/>
                </a:cubicBezTo>
                <a:cubicBezTo>
                  <a:pt x="360" y="580"/>
                  <a:pt x="322" y="542"/>
                  <a:pt x="275" y="542"/>
                </a:cubicBezTo>
                <a:cubicBezTo>
                  <a:pt x="228" y="542"/>
                  <a:pt x="190" y="580"/>
                  <a:pt x="190" y="627"/>
                </a:cubicBezTo>
                <a:cubicBezTo>
                  <a:pt x="190" y="630"/>
                  <a:pt x="190" y="652"/>
                  <a:pt x="208" y="673"/>
                </a:cubicBezTo>
                <a:cubicBezTo>
                  <a:pt x="210" y="675"/>
                  <a:pt x="213" y="678"/>
                  <a:pt x="215" y="680"/>
                </a:cubicBezTo>
                <a:cubicBezTo>
                  <a:pt x="222" y="687"/>
                  <a:pt x="231" y="697"/>
                  <a:pt x="229" y="702"/>
                </a:cubicBezTo>
                <a:cubicBezTo>
                  <a:pt x="229" y="704"/>
                  <a:pt x="224" y="712"/>
                  <a:pt x="192" y="719"/>
                </a:cubicBezTo>
                <a:cubicBezTo>
                  <a:pt x="190" y="720"/>
                  <a:pt x="188" y="720"/>
                  <a:pt x="185" y="720"/>
                </a:cubicBezTo>
                <a:cubicBezTo>
                  <a:pt x="0" y="720"/>
                  <a:pt x="0" y="720"/>
                  <a:pt x="0" y="720"/>
                </a:cubicBezTo>
                <a:cubicBezTo>
                  <a:pt x="0" y="543"/>
                  <a:pt x="0" y="543"/>
                  <a:pt x="0" y="543"/>
                </a:cubicBezTo>
                <a:cubicBezTo>
                  <a:pt x="0" y="540"/>
                  <a:pt x="0" y="537"/>
                  <a:pt x="1" y="534"/>
                </a:cubicBezTo>
                <a:cubicBezTo>
                  <a:pt x="9" y="501"/>
                  <a:pt x="18" y="491"/>
                  <a:pt x="28" y="491"/>
                </a:cubicBezTo>
                <a:cubicBezTo>
                  <a:pt x="39" y="491"/>
                  <a:pt x="51" y="505"/>
                  <a:pt x="61" y="514"/>
                </a:cubicBezTo>
                <a:cubicBezTo>
                  <a:pt x="79" y="529"/>
                  <a:pt x="97" y="530"/>
                  <a:pt x="101" y="530"/>
                </a:cubicBezTo>
                <a:cubicBezTo>
                  <a:pt x="101" y="530"/>
                  <a:pt x="102" y="530"/>
                  <a:pt x="102" y="530"/>
                </a:cubicBezTo>
                <a:cubicBezTo>
                  <a:pt x="144" y="530"/>
                  <a:pt x="178" y="496"/>
                  <a:pt x="178" y="453"/>
                </a:cubicBezTo>
                <a:cubicBezTo>
                  <a:pt x="178" y="411"/>
                  <a:pt x="144" y="377"/>
                  <a:pt x="102" y="377"/>
                </a:cubicBezTo>
                <a:cubicBezTo>
                  <a:pt x="102" y="377"/>
                  <a:pt x="101" y="377"/>
                  <a:pt x="101" y="377"/>
                </a:cubicBezTo>
                <a:cubicBezTo>
                  <a:pt x="97" y="377"/>
                  <a:pt x="79" y="378"/>
                  <a:pt x="61" y="393"/>
                </a:cubicBezTo>
                <a:cubicBezTo>
                  <a:pt x="51" y="402"/>
                  <a:pt x="39" y="416"/>
                  <a:pt x="28" y="416"/>
                </a:cubicBezTo>
                <a:cubicBezTo>
                  <a:pt x="18" y="416"/>
                  <a:pt x="9" y="406"/>
                  <a:pt x="1" y="373"/>
                </a:cubicBezTo>
                <a:cubicBezTo>
                  <a:pt x="0" y="370"/>
                  <a:pt x="0" y="367"/>
                  <a:pt x="0" y="364"/>
                </a:cubicBezTo>
                <a:cubicBezTo>
                  <a:pt x="0" y="178"/>
                  <a:pt x="0" y="178"/>
                  <a:pt x="0" y="178"/>
                </a:cubicBezTo>
                <a:cubicBezTo>
                  <a:pt x="185" y="178"/>
                  <a:pt x="185" y="178"/>
                  <a:pt x="185" y="178"/>
                </a:cubicBezTo>
                <a:cubicBezTo>
                  <a:pt x="188" y="178"/>
                  <a:pt x="191" y="178"/>
                  <a:pt x="194" y="177"/>
                </a:cubicBezTo>
                <a:cubicBezTo>
                  <a:pt x="266" y="161"/>
                  <a:pt x="232" y="137"/>
                  <a:pt x="215" y="117"/>
                </a:cubicBezTo>
                <a:cubicBezTo>
                  <a:pt x="197" y="97"/>
                  <a:pt x="198" y="77"/>
                  <a:pt x="198" y="77"/>
                </a:cubicBezTo>
                <a:cubicBezTo>
                  <a:pt x="198" y="34"/>
                  <a:pt x="233" y="0"/>
                  <a:pt x="275" y="0"/>
                </a:cubicBezTo>
                <a:cubicBezTo>
                  <a:pt x="317" y="0"/>
                  <a:pt x="352" y="34"/>
                  <a:pt x="352" y="77"/>
                </a:cubicBezTo>
                <a:cubicBezTo>
                  <a:pt x="352" y="77"/>
                  <a:pt x="353" y="97"/>
                  <a:pt x="335" y="117"/>
                </a:cubicBezTo>
                <a:cubicBezTo>
                  <a:pt x="318" y="137"/>
                  <a:pt x="285" y="161"/>
                  <a:pt x="356" y="177"/>
                </a:cubicBezTo>
                <a:cubicBezTo>
                  <a:pt x="359" y="178"/>
                  <a:pt x="362" y="178"/>
                  <a:pt x="365" y="178"/>
                </a:cubicBezTo>
                <a:cubicBezTo>
                  <a:pt x="542" y="178"/>
                  <a:pt x="542" y="178"/>
                  <a:pt x="542" y="178"/>
                </a:cubicBezTo>
                <a:cubicBezTo>
                  <a:pt x="542" y="364"/>
                  <a:pt x="542" y="364"/>
                  <a:pt x="542" y="364"/>
                </a:cubicBezTo>
                <a:cubicBezTo>
                  <a:pt x="542" y="367"/>
                  <a:pt x="542" y="371"/>
                  <a:pt x="543" y="374"/>
                </a:cubicBezTo>
                <a:cubicBezTo>
                  <a:pt x="549" y="398"/>
                  <a:pt x="557" y="424"/>
                  <a:pt x="578" y="424"/>
                </a:cubicBezTo>
                <a:cubicBezTo>
                  <a:pt x="590" y="424"/>
                  <a:pt x="600" y="415"/>
                  <a:pt x="610" y="406"/>
                </a:cubicBezTo>
                <a:cubicBezTo>
                  <a:pt x="612" y="403"/>
                  <a:pt x="615" y="401"/>
                  <a:pt x="617" y="399"/>
                </a:cubicBezTo>
                <a:cubicBezTo>
                  <a:pt x="633" y="386"/>
                  <a:pt x="648" y="385"/>
                  <a:pt x="651" y="385"/>
                </a:cubicBezTo>
                <a:cubicBezTo>
                  <a:pt x="652" y="385"/>
                  <a:pt x="652" y="385"/>
                  <a:pt x="652" y="385"/>
                </a:cubicBezTo>
                <a:cubicBezTo>
                  <a:pt x="690" y="385"/>
                  <a:pt x="720" y="416"/>
                  <a:pt x="720" y="453"/>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AutoShape 116"/>
          <p:cNvSpPr/>
          <p:nvPr/>
        </p:nvSpPr>
        <p:spPr>
          <a:xfrm>
            <a:off x="6953400" y="3236760"/>
            <a:ext cx="358560" cy="395280"/>
          </a:xfrm>
          <a:custGeom>
            <a:avLst/>
            <a:gdLst/>
            <a:ahLst/>
            <a:rect l="l" t="t" r="r" b="b"/>
            <a:pathLst>
              <a:path w="21600" h="21600">
                <a:moveTo>
                  <a:pt x="21600" y="11862"/>
                </a:moveTo>
                <a:cubicBezTo>
                  <a:pt x="21600" y="17240"/>
                  <a:pt x="16764" y="21600"/>
                  <a:pt x="10800" y="21600"/>
                </a:cubicBezTo>
                <a:cubicBezTo>
                  <a:pt x="4836" y="21600"/>
                  <a:pt x="0" y="17240"/>
                  <a:pt x="0" y="11862"/>
                </a:cubicBezTo>
                <a:cubicBezTo>
                  <a:pt x="0" y="6483"/>
                  <a:pt x="4836" y="2124"/>
                  <a:pt x="10800" y="2124"/>
                </a:cubicBezTo>
                <a:cubicBezTo>
                  <a:pt x="11430" y="2124"/>
                  <a:pt x="12046" y="2175"/>
                  <a:pt x="12647" y="2268"/>
                </a:cubicBezTo>
                <a:lnTo>
                  <a:pt x="12647" y="0"/>
                </a:lnTo>
                <a:lnTo>
                  <a:pt x="16682" y="3646"/>
                </a:lnTo>
                <a:lnTo>
                  <a:pt x="12647" y="7299"/>
                </a:lnTo>
                <a:lnTo>
                  <a:pt x="12647" y="5030"/>
                </a:lnTo>
                <a:cubicBezTo>
                  <a:pt x="12054" y="4900"/>
                  <a:pt x="11436" y="4829"/>
                  <a:pt x="10800" y="4829"/>
                </a:cubicBezTo>
                <a:cubicBezTo>
                  <a:pt x="6499" y="4829"/>
                  <a:pt x="3000" y="7984"/>
                  <a:pt x="3000" y="11862"/>
                </a:cubicBezTo>
                <a:cubicBezTo>
                  <a:pt x="3000" y="15740"/>
                  <a:pt x="6499" y="18895"/>
                  <a:pt x="10800" y="18895"/>
                </a:cubicBezTo>
                <a:cubicBezTo>
                  <a:pt x="15101" y="18895"/>
                  <a:pt x="18600" y="15740"/>
                  <a:pt x="18600" y="11862"/>
                </a:cubicBezTo>
                <a:lnTo>
                  <a:pt x="21600" y="11862"/>
                </a:lnTo>
                <a:close/>
                <a:moveTo>
                  <a:pt x="21600" y="11862"/>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직선 연결선 250"/>
          <p:cNvSpPr/>
          <p:nvPr/>
        </p:nvSpPr>
        <p:spPr>
          <a:xfrm>
            <a:off x="5892840" y="3011400"/>
            <a:ext cx="652320" cy="0"/>
          </a:xfrm>
          <a:prstGeom prst="line">
            <a:avLst/>
          </a:prstGeom>
          <a:ln w="6480">
            <a:solidFill>
              <a:srgbClr val="fefefe"/>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9" name="직선 연결선 250"/>
          <p:cNvSpPr/>
          <p:nvPr/>
        </p:nvSpPr>
        <p:spPr>
          <a:xfrm>
            <a:off x="5964120" y="5280120"/>
            <a:ext cx="1192320" cy="0"/>
          </a:xfrm>
          <a:prstGeom prst="line">
            <a:avLst/>
          </a:prstGeom>
          <a:ln w="6480">
            <a:solidFill>
              <a:srgbClr val="fefefe"/>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직선 연결선 250"/>
          <p:cNvSpPr/>
          <p:nvPr/>
        </p:nvSpPr>
        <p:spPr>
          <a:xfrm flipH="1">
            <a:off x="8966160" y="2041560"/>
            <a:ext cx="1427040" cy="0"/>
          </a:xfrm>
          <a:prstGeom prst="line">
            <a:avLst/>
          </a:prstGeom>
          <a:ln w="6480">
            <a:solidFill>
              <a:srgbClr val="fefefe"/>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직선 연결선 250"/>
          <p:cNvSpPr/>
          <p:nvPr/>
        </p:nvSpPr>
        <p:spPr>
          <a:xfrm flipH="1">
            <a:off x="9938880" y="4313160"/>
            <a:ext cx="453960" cy="0"/>
          </a:xfrm>
          <a:prstGeom prst="line">
            <a:avLst/>
          </a:prstGeom>
          <a:ln w="6480">
            <a:solidFill>
              <a:srgbClr val="fefefe"/>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Text Placeholder 8"/>
          <p:cNvSpPr/>
          <p:nvPr/>
        </p:nvSpPr>
        <p:spPr>
          <a:xfrm>
            <a:off x="272880" y="1924200"/>
            <a:ext cx="3434040" cy="40622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Lorem ipsum dolor sit amet, consectetur adipiscing elit, sed do eiusmod tempor incididunt ut labore et dolore magna aliqua. Ut enim ad minim veniam, quis nostrud exercitation ullamco laboris nisi ut aliquip ex ea commodo consequat.</a:t>
            </a:r>
            <a:endParaRPr b="0" lang="en-US" sz="1200" spc="-1" strike="noStrike">
              <a:solidFill>
                <a:srgbClr val="000000"/>
              </a:solidFill>
              <a:latin typeface="Calibri"/>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Praesent commodo cursus magna, vel scelerisque nisl consectetur et. Integer posuere erat a ante venenatis dapibus posuere velit aliquet. Maecenas sed diam eget risus varius blandit sit amet non magna. Aenean lacinia bibendum nulla sed consectetur. Vestibulum id ligula porta felis euismod semper.</a:t>
            </a:r>
            <a:endParaRPr b="0" lang="en-US" sz="1200" spc="-1" strike="noStrike">
              <a:solidFill>
                <a:srgbClr val="000000"/>
              </a:solidFill>
              <a:latin typeface="Calibri"/>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traight Connector 59"/>
          <p:cNvSpPr/>
          <p:nvPr/>
        </p:nvSpPr>
        <p:spPr>
          <a:xfrm flipV="1">
            <a:off x="4257720" y="1730160"/>
            <a:ext cx="0" cy="448308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4" name="组合 1"/>
          <p:cNvGrpSpPr/>
          <p:nvPr/>
        </p:nvGrpSpPr>
        <p:grpSpPr>
          <a:xfrm>
            <a:off x="529920" y="66960"/>
            <a:ext cx="1630080" cy="1447560"/>
            <a:chOff x="529920" y="66960"/>
            <a:chExt cx="1630080" cy="1447560"/>
          </a:xfrm>
        </p:grpSpPr>
        <p:grpSp>
          <p:nvGrpSpPr>
            <p:cNvPr id="795" name="组合 2"/>
            <p:cNvGrpSpPr/>
            <p:nvPr/>
          </p:nvGrpSpPr>
          <p:grpSpPr>
            <a:xfrm>
              <a:off x="529920" y="66960"/>
              <a:ext cx="1630080" cy="1447560"/>
              <a:chOff x="529920" y="66960"/>
              <a:chExt cx="1630080" cy="1447560"/>
            </a:xfrm>
          </p:grpSpPr>
          <p:sp>
            <p:nvSpPr>
              <p:cNvPr id="796"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9" name="组合 7"/>
              <p:cNvGrpSpPr/>
              <p:nvPr/>
            </p:nvGrpSpPr>
            <p:grpSpPr>
              <a:xfrm>
                <a:off x="529920" y="142200"/>
                <a:ext cx="1630080" cy="1372320"/>
                <a:chOff x="529920" y="142200"/>
                <a:chExt cx="1630080" cy="1372320"/>
              </a:xfrm>
            </p:grpSpPr>
            <p:sp>
              <p:nvSpPr>
                <p:cNvPr id="800"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4"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5"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6"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9"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1"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2"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3"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4"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5"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8"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5"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7"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8"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9"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0"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31"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2</a:t>
              </a:r>
              <a:endParaRPr b="0" lang="en-US" sz="6600" spc="-1" strike="noStrike">
                <a:solidFill>
                  <a:srgbClr val="000000"/>
                </a:solidFill>
                <a:latin typeface="Calibri"/>
              </a:endParaRPr>
            </a:p>
          </p:txBody>
        </p:sp>
      </p:grpSp>
      <p:sp>
        <p:nvSpPr>
          <p:cNvPr id="832"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833" name="Oval 8"/>
          <p:cNvSpPr/>
          <p:nvPr/>
        </p:nvSpPr>
        <p:spPr>
          <a:xfrm>
            <a:off x="2855880" y="2712960"/>
            <a:ext cx="1892160" cy="189252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4" name="Group 109" descr=""/>
          <p:cNvPicPr/>
          <p:nvPr/>
        </p:nvPicPr>
        <p:blipFill>
          <a:blip r:embed="rId1"/>
          <a:stretch/>
        </p:blipFill>
        <p:spPr>
          <a:xfrm>
            <a:off x="3473280" y="3322800"/>
            <a:ext cx="660600" cy="931680"/>
          </a:xfrm>
          <a:prstGeom prst="rect">
            <a:avLst/>
          </a:prstGeom>
          <a:ln w="0">
            <a:noFill/>
          </a:ln>
        </p:spPr>
      </p:pic>
      <p:sp>
        <p:nvSpPr>
          <p:cNvPr id="835" name="Oval 11"/>
          <p:cNvSpPr/>
          <p:nvPr/>
        </p:nvSpPr>
        <p:spPr>
          <a:xfrm>
            <a:off x="7585200" y="2712960"/>
            <a:ext cx="1890720" cy="189252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6" name="Group 120" descr=""/>
          <p:cNvPicPr/>
          <p:nvPr/>
        </p:nvPicPr>
        <p:blipFill>
          <a:blip r:embed="rId2"/>
          <a:stretch/>
        </p:blipFill>
        <p:spPr>
          <a:xfrm>
            <a:off x="8204040" y="3395520"/>
            <a:ext cx="660600" cy="657360"/>
          </a:xfrm>
          <a:prstGeom prst="rect">
            <a:avLst/>
          </a:prstGeom>
          <a:ln w="0">
            <a:noFill/>
          </a:ln>
        </p:spPr>
      </p:pic>
      <p:sp>
        <p:nvSpPr>
          <p:cNvPr id="837" name="Oval 9"/>
          <p:cNvSpPr/>
          <p:nvPr/>
        </p:nvSpPr>
        <p:spPr>
          <a:xfrm>
            <a:off x="4432320" y="2712960"/>
            <a:ext cx="1890720" cy="189252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8" name="Group 344" descr=""/>
          <p:cNvPicPr/>
          <p:nvPr/>
        </p:nvPicPr>
        <p:blipFill>
          <a:blip r:embed="rId3"/>
          <a:stretch/>
        </p:blipFill>
        <p:spPr>
          <a:xfrm>
            <a:off x="5079960" y="3311640"/>
            <a:ext cx="663480" cy="603000"/>
          </a:xfrm>
          <a:prstGeom prst="rect">
            <a:avLst/>
          </a:prstGeom>
          <a:ln w="0">
            <a:noFill/>
          </a:ln>
        </p:spPr>
      </p:pic>
      <p:sp>
        <p:nvSpPr>
          <p:cNvPr id="839" name="Oval 10"/>
          <p:cNvSpPr/>
          <p:nvPr/>
        </p:nvSpPr>
        <p:spPr>
          <a:xfrm>
            <a:off x="6008760" y="2712960"/>
            <a:ext cx="1890720" cy="189252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AutoShape 472"/>
          <p:cNvSpPr/>
          <p:nvPr/>
        </p:nvSpPr>
        <p:spPr>
          <a:xfrm>
            <a:off x="6630840" y="3327480"/>
            <a:ext cx="658800" cy="658800"/>
          </a:xfrm>
          <a:custGeom>
            <a:avLst/>
            <a:gdLst/>
            <a:ahLst/>
            <a:rect l="l" t="t" r="r" b="b"/>
            <a:pathLst>
              <a:path w="21600" h="21600">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close/>
                <a:moveTo>
                  <a:pt x="12186" y="3345"/>
                </a:moveTo>
                <a:cubicBezTo>
                  <a:pt x="12618" y="3344"/>
                  <a:pt x="12961" y="3510"/>
                  <a:pt x="13181" y="3771"/>
                </a:cubicBezTo>
                <a:cubicBezTo>
                  <a:pt x="13402" y="4031"/>
                  <a:pt x="13503" y="4374"/>
                  <a:pt x="13503" y="4726"/>
                </a:cubicBezTo>
                <a:cubicBezTo>
                  <a:pt x="13503" y="5637"/>
                  <a:pt x="12779" y="6500"/>
                  <a:pt x="11769" y="6503"/>
                </a:cubicBezTo>
                <a:cubicBezTo>
                  <a:pt x="11760" y="6503"/>
                  <a:pt x="11751" y="6503"/>
                  <a:pt x="11743" y="6503"/>
                </a:cubicBezTo>
                <a:cubicBezTo>
                  <a:pt x="10951" y="6503"/>
                  <a:pt x="10456" y="5915"/>
                  <a:pt x="10451" y="5060"/>
                </a:cubicBezTo>
                <a:cubicBezTo>
                  <a:pt x="10452" y="4322"/>
                  <a:pt x="11045" y="3350"/>
                  <a:pt x="12186" y="3345"/>
                </a:cubicBezTo>
                <a:close/>
                <a:moveTo>
                  <a:pt x="13494" y="15452"/>
                </a:moveTo>
                <a:cubicBezTo>
                  <a:pt x="11983" y="17102"/>
                  <a:pt x="10120" y="18086"/>
                  <a:pt x="9411" y="18095"/>
                </a:cubicBezTo>
                <a:cubicBezTo>
                  <a:pt x="9410" y="18095"/>
                  <a:pt x="9408" y="18095"/>
                  <a:pt x="9407" y="18095"/>
                </a:cubicBezTo>
                <a:cubicBezTo>
                  <a:pt x="9167" y="18095"/>
                  <a:pt x="8918" y="18032"/>
                  <a:pt x="8738" y="17836"/>
                </a:cubicBezTo>
                <a:cubicBezTo>
                  <a:pt x="8556" y="17639"/>
                  <a:pt x="8463" y="17338"/>
                  <a:pt x="8463" y="16909"/>
                </a:cubicBezTo>
                <a:cubicBezTo>
                  <a:pt x="8463" y="16580"/>
                  <a:pt x="8517" y="15872"/>
                  <a:pt x="8640" y="15359"/>
                </a:cubicBezTo>
                <a:lnTo>
                  <a:pt x="9723" y="10691"/>
                </a:lnTo>
                <a:cubicBezTo>
                  <a:pt x="9776" y="10430"/>
                  <a:pt x="9805" y="10247"/>
                  <a:pt x="9806" y="10153"/>
                </a:cubicBezTo>
                <a:cubicBezTo>
                  <a:pt x="9619" y="10221"/>
                  <a:pt x="8795" y="10824"/>
                  <a:pt x="8388" y="11141"/>
                </a:cubicBezTo>
                <a:lnTo>
                  <a:pt x="8244" y="11248"/>
                </a:lnTo>
                <a:lnTo>
                  <a:pt x="7822" y="10103"/>
                </a:lnTo>
                <a:lnTo>
                  <a:pt x="7905" y="10026"/>
                </a:lnTo>
                <a:cubicBezTo>
                  <a:pt x="9430" y="8615"/>
                  <a:pt x="11262" y="7485"/>
                  <a:pt x="12103" y="7475"/>
                </a:cubicBezTo>
                <a:cubicBezTo>
                  <a:pt x="12343" y="7471"/>
                  <a:pt x="12552" y="7594"/>
                  <a:pt x="12664" y="7792"/>
                </a:cubicBezTo>
                <a:cubicBezTo>
                  <a:pt x="12780" y="7987"/>
                  <a:pt x="12825" y="8241"/>
                  <a:pt x="12825" y="8547"/>
                </a:cubicBezTo>
                <a:cubicBezTo>
                  <a:pt x="12825" y="8880"/>
                  <a:pt x="12769" y="9575"/>
                  <a:pt x="12665" y="10026"/>
                </a:cubicBezTo>
                <a:lnTo>
                  <a:pt x="11476" y="14865"/>
                </a:lnTo>
                <a:cubicBezTo>
                  <a:pt x="11420" y="15097"/>
                  <a:pt x="11397" y="15267"/>
                  <a:pt x="11397" y="15375"/>
                </a:cubicBezTo>
                <a:cubicBezTo>
                  <a:pt x="11396" y="15435"/>
                  <a:pt x="11405" y="15475"/>
                  <a:pt x="11411" y="15494"/>
                </a:cubicBezTo>
                <a:cubicBezTo>
                  <a:pt x="11537" y="15478"/>
                  <a:pt x="12381" y="14900"/>
                  <a:pt x="12928" y="14397"/>
                </a:cubicBezTo>
                <a:lnTo>
                  <a:pt x="13057" y="14279"/>
                </a:lnTo>
                <a:lnTo>
                  <a:pt x="13508" y="15269"/>
                </a:lnTo>
                <a:lnTo>
                  <a:pt x="13571" y="15366"/>
                </a:lnTo>
                <a:lnTo>
                  <a:pt x="13494" y="15452"/>
                </a:lnTo>
                <a:close/>
                <a:moveTo>
                  <a:pt x="13494" y="15452"/>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1" name="Group 40"/>
          <p:cNvGrpSpPr/>
          <p:nvPr/>
        </p:nvGrpSpPr>
        <p:grpSpPr>
          <a:xfrm>
            <a:off x="193680" y="1919160"/>
            <a:ext cx="2784600" cy="1546200"/>
            <a:chOff x="193680" y="1919160"/>
            <a:chExt cx="2784600" cy="1546200"/>
          </a:xfrm>
        </p:grpSpPr>
        <p:sp>
          <p:nvSpPr>
            <p:cNvPr id="842" name="Text Placeholder 2"/>
            <p:cNvSpPr/>
            <p:nvPr/>
          </p:nvSpPr>
          <p:spPr>
            <a:xfrm>
              <a:off x="193680" y="1919160"/>
              <a:ext cx="2784600" cy="394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Being Social</a:t>
              </a:r>
              <a:endParaRPr b="0" lang="en-US" sz="2000" spc="-1" strike="noStrike">
                <a:solidFill>
                  <a:srgbClr val="000000"/>
                </a:solidFill>
                <a:latin typeface="Calibri"/>
              </a:endParaRPr>
            </a:p>
          </p:txBody>
        </p:sp>
        <p:sp>
          <p:nvSpPr>
            <p:cNvPr id="843" name="Text Placeholder 8"/>
            <p:cNvSpPr/>
            <p:nvPr/>
          </p:nvSpPr>
          <p:spPr>
            <a:xfrm>
              <a:off x="193680" y="2199600"/>
              <a:ext cx="2784600" cy="12657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Ut enim ad minim veniam, quis nostrud exercitation </a:t>
              </a:r>
              <a:endParaRPr b="0" lang="en-US" sz="1100" spc="-1" strike="noStrike">
                <a:solidFill>
                  <a:srgbClr val="000000"/>
                </a:solidFill>
                <a:latin typeface="Calibri"/>
              </a:endParaRPr>
            </a:p>
          </p:txBody>
        </p:sp>
      </p:grpSp>
      <p:grpSp>
        <p:nvGrpSpPr>
          <p:cNvPr id="844" name="Group 43"/>
          <p:cNvGrpSpPr/>
          <p:nvPr/>
        </p:nvGrpSpPr>
        <p:grpSpPr>
          <a:xfrm>
            <a:off x="193680" y="4570560"/>
            <a:ext cx="2784600" cy="1544400"/>
            <a:chOff x="193680" y="4570560"/>
            <a:chExt cx="2784600" cy="1544400"/>
          </a:xfrm>
        </p:grpSpPr>
        <p:sp>
          <p:nvSpPr>
            <p:cNvPr id="845" name="Text Placeholder 2"/>
            <p:cNvSpPr/>
            <p:nvPr/>
          </p:nvSpPr>
          <p:spPr>
            <a:xfrm>
              <a:off x="193680" y="4570560"/>
              <a:ext cx="278460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Strategical Movies</a:t>
              </a:r>
              <a:endParaRPr b="0" lang="en-US" sz="2000" spc="-1" strike="noStrike">
                <a:solidFill>
                  <a:srgbClr val="000000"/>
                </a:solidFill>
                <a:latin typeface="Calibri"/>
              </a:endParaRPr>
            </a:p>
          </p:txBody>
        </p:sp>
        <p:sp>
          <p:nvSpPr>
            <p:cNvPr id="846" name="Text Placeholder 8"/>
            <p:cNvSpPr/>
            <p:nvPr/>
          </p:nvSpPr>
          <p:spPr>
            <a:xfrm>
              <a:off x="193680" y="4850640"/>
              <a:ext cx="2784600" cy="12643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Ut enim ad minim veniam, quis nostrud exercitation </a:t>
              </a:r>
              <a:endParaRPr b="0" lang="en-US" sz="1100" spc="-1" strike="noStrike">
                <a:solidFill>
                  <a:srgbClr val="000000"/>
                </a:solidFill>
                <a:latin typeface="Calibri"/>
              </a:endParaRPr>
            </a:p>
          </p:txBody>
        </p:sp>
      </p:grpSp>
      <p:grpSp>
        <p:nvGrpSpPr>
          <p:cNvPr id="847" name="Group 46"/>
          <p:cNvGrpSpPr/>
          <p:nvPr/>
        </p:nvGrpSpPr>
        <p:grpSpPr>
          <a:xfrm>
            <a:off x="9213840" y="1919160"/>
            <a:ext cx="2784600" cy="1546200"/>
            <a:chOff x="9213840" y="1919160"/>
            <a:chExt cx="2784600" cy="1546200"/>
          </a:xfrm>
        </p:grpSpPr>
        <p:sp>
          <p:nvSpPr>
            <p:cNvPr id="848" name="Text Placeholder 2"/>
            <p:cNvSpPr/>
            <p:nvPr/>
          </p:nvSpPr>
          <p:spPr>
            <a:xfrm>
              <a:off x="9213840" y="1919160"/>
              <a:ext cx="2784600" cy="394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Time is Money</a:t>
              </a:r>
              <a:endParaRPr b="0" lang="en-US" sz="2000" spc="-1" strike="noStrike">
                <a:solidFill>
                  <a:srgbClr val="000000"/>
                </a:solidFill>
                <a:latin typeface="Calibri"/>
              </a:endParaRPr>
            </a:p>
          </p:txBody>
        </p:sp>
        <p:sp>
          <p:nvSpPr>
            <p:cNvPr id="849" name="Text Placeholder 8"/>
            <p:cNvSpPr/>
            <p:nvPr/>
          </p:nvSpPr>
          <p:spPr>
            <a:xfrm>
              <a:off x="9213840" y="2199600"/>
              <a:ext cx="2784600" cy="126576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Ut enim ad minim veniam, quis nostrud exercitation </a:t>
              </a:r>
              <a:endParaRPr b="0" lang="en-US" sz="1100" spc="-1" strike="noStrike">
                <a:solidFill>
                  <a:srgbClr val="000000"/>
                </a:solidFill>
                <a:latin typeface="Calibri"/>
              </a:endParaRPr>
            </a:p>
          </p:txBody>
        </p:sp>
      </p:grpSp>
      <p:grpSp>
        <p:nvGrpSpPr>
          <p:cNvPr id="850" name="Group 49"/>
          <p:cNvGrpSpPr/>
          <p:nvPr/>
        </p:nvGrpSpPr>
        <p:grpSpPr>
          <a:xfrm>
            <a:off x="9213840" y="4570560"/>
            <a:ext cx="2784600" cy="1544400"/>
            <a:chOff x="9213840" y="4570560"/>
            <a:chExt cx="2784600" cy="1544400"/>
          </a:xfrm>
        </p:grpSpPr>
        <p:sp>
          <p:nvSpPr>
            <p:cNvPr id="851" name="Text Placeholder 2"/>
            <p:cNvSpPr/>
            <p:nvPr/>
          </p:nvSpPr>
          <p:spPr>
            <a:xfrm>
              <a:off x="9213840" y="4570560"/>
              <a:ext cx="2784600" cy="393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Being Mobile</a:t>
              </a:r>
              <a:endParaRPr b="0" lang="en-US" sz="2000" spc="-1" strike="noStrike">
                <a:solidFill>
                  <a:srgbClr val="000000"/>
                </a:solidFill>
                <a:latin typeface="Calibri"/>
              </a:endParaRPr>
            </a:p>
          </p:txBody>
        </p:sp>
        <p:sp>
          <p:nvSpPr>
            <p:cNvPr id="852" name="Text Placeholder 8"/>
            <p:cNvSpPr/>
            <p:nvPr/>
          </p:nvSpPr>
          <p:spPr>
            <a:xfrm>
              <a:off x="9213840" y="4850640"/>
              <a:ext cx="2784600" cy="126432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dolor sit amet, consectetur adipiscing elit, sed do eiusmod tempor incididunt ut labore et dolore magna aliqua. Ut enim ad minim veniam, quis nostrud exercitation </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3" name="组合 1"/>
          <p:cNvGrpSpPr/>
          <p:nvPr/>
        </p:nvGrpSpPr>
        <p:grpSpPr>
          <a:xfrm>
            <a:off x="529920" y="66960"/>
            <a:ext cx="1630080" cy="1447560"/>
            <a:chOff x="529920" y="66960"/>
            <a:chExt cx="1630080" cy="1447560"/>
          </a:xfrm>
        </p:grpSpPr>
        <p:grpSp>
          <p:nvGrpSpPr>
            <p:cNvPr id="854" name="组合 2"/>
            <p:cNvGrpSpPr/>
            <p:nvPr/>
          </p:nvGrpSpPr>
          <p:grpSpPr>
            <a:xfrm>
              <a:off x="529920" y="66960"/>
              <a:ext cx="1630080" cy="1447560"/>
              <a:chOff x="529920" y="66960"/>
              <a:chExt cx="1630080" cy="1447560"/>
            </a:xfrm>
          </p:grpSpPr>
          <p:sp>
            <p:nvSpPr>
              <p:cNvPr id="855"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7"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8" name="组合 7"/>
              <p:cNvGrpSpPr/>
              <p:nvPr/>
            </p:nvGrpSpPr>
            <p:grpSpPr>
              <a:xfrm>
                <a:off x="529920" y="142200"/>
                <a:ext cx="1630080" cy="1372320"/>
                <a:chOff x="529920" y="142200"/>
                <a:chExt cx="1630080" cy="1372320"/>
              </a:xfrm>
            </p:grpSpPr>
            <p:sp>
              <p:nvSpPr>
                <p:cNvPr id="859"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6"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8"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8"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90"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3</a:t>
              </a:r>
              <a:endParaRPr b="0" lang="en-US" sz="6600" spc="-1" strike="noStrike">
                <a:solidFill>
                  <a:srgbClr val="000000"/>
                </a:solidFill>
                <a:latin typeface="Calibri"/>
              </a:endParaRPr>
            </a:p>
          </p:txBody>
        </p:sp>
      </p:grpSp>
      <p:sp>
        <p:nvSpPr>
          <p:cNvPr id="891"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892" name="Chevron 4"/>
          <p:cNvSpPr/>
          <p:nvPr/>
        </p:nvSpPr>
        <p:spPr>
          <a:xfrm>
            <a:off x="1413000" y="2019240"/>
            <a:ext cx="2690640" cy="1459080"/>
          </a:xfrm>
          <a:custGeom>
            <a:avLst/>
            <a:gdLst>
              <a:gd name="textAreaLeft" fmla="*/ 0 w 2690640"/>
              <a:gd name="textAreaRight" fmla="*/ 2691000 w 2690640"/>
              <a:gd name="textAreaTop" fmla="*/ 0 h 1459080"/>
              <a:gd name="textAreaBottom" fmla="*/ 1459440 h 1459080"/>
            </a:gdLst>
            <a:ahLst/>
            <a:rect l="textAreaLeft" t="textAreaTop" r="textAreaRight" b="textAreaBottom"/>
            <a:pathLst>
              <a:path w="21600" h="21600">
                <a:moveTo>
                  <a:pt x="0" y="0"/>
                </a:moveTo>
                <a:lnTo>
                  <a:pt x="16721" y="0"/>
                </a:lnTo>
                <a:lnTo>
                  <a:pt x="21600" y="10800"/>
                </a:lnTo>
                <a:lnTo>
                  <a:pt x="16721" y="21600"/>
                </a:lnTo>
                <a:lnTo>
                  <a:pt x="0" y="21600"/>
                </a:lnTo>
                <a:lnTo>
                  <a:pt x="4879" y="10800"/>
                </a:lnTo>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TextBox 5"/>
          <p:cNvSpPr/>
          <p:nvPr/>
        </p:nvSpPr>
        <p:spPr>
          <a:xfrm>
            <a:off x="2332080" y="2722680"/>
            <a:ext cx="104436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9d6"/>
                </a:solidFill>
                <a:latin typeface="Roboto condensed"/>
              </a:rPr>
              <a:t>Step 1</a:t>
            </a:r>
            <a:endParaRPr b="0" lang="en-US" sz="1600" spc="-1" strike="noStrike">
              <a:solidFill>
                <a:srgbClr val="000000"/>
              </a:solidFill>
              <a:latin typeface="Calibri"/>
            </a:endParaRPr>
          </a:p>
        </p:txBody>
      </p:sp>
      <p:sp>
        <p:nvSpPr>
          <p:cNvPr id="894" name="AutoShape 611"/>
          <p:cNvSpPr/>
          <p:nvPr/>
        </p:nvSpPr>
        <p:spPr>
          <a:xfrm>
            <a:off x="2647800" y="2382840"/>
            <a:ext cx="327240" cy="387360"/>
          </a:xfrm>
          <a:custGeom>
            <a:avLst/>
            <a:gdLst/>
            <a:ahLst/>
            <a:rect l="l" t="t" r="r" b="b"/>
            <a:pathLst>
              <a:path w="21600" h="21600">
                <a:moveTo>
                  <a:pt x="21600" y="5683"/>
                </a:moveTo>
                <a:lnTo>
                  <a:pt x="21588" y="22"/>
                </a:lnTo>
                <a:lnTo>
                  <a:pt x="14901" y="16"/>
                </a:lnTo>
                <a:lnTo>
                  <a:pt x="17119" y="1893"/>
                </a:lnTo>
                <a:lnTo>
                  <a:pt x="10782" y="7254"/>
                </a:lnTo>
                <a:lnTo>
                  <a:pt x="4453" y="1900"/>
                </a:lnTo>
                <a:lnTo>
                  <a:pt x="6699" y="0"/>
                </a:lnTo>
                <a:lnTo>
                  <a:pt x="7" y="10"/>
                </a:lnTo>
                <a:lnTo>
                  <a:pt x="0" y="5667"/>
                </a:lnTo>
                <a:lnTo>
                  <a:pt x="2218" y="3790"/>
                </a:lnTo>
                <a:lnTo>
                  <a:pt x="9256" y="9743"/>
                </a:lnTo>
                <a:lnTo>
                  <a:pt x="9256" y="17580"/>
                </a:lnTo>
                <a:lnTo>
                  <a:pt x="6060" y="17580"/>
                </a:lnTo>
                <a:lnTo>
                  <a:pt x="10829" y="21600"/>
                </a:lnTo>
                <a:lnTo>
                  <a:pt x="15590" y="17580"/>
                </a:lnTo>
                <a:lnTo>
                  <a:pt x="12435" y="17580"/>
                </a:lnTo>
                <a:lnTo>
                  <a:pt x="12435" y="9641"/>
                </a:lnTo>
                <a:lnTo>
                  <a:pt x="19354" y="3783"/>
                </a:lnTo>
                <a:lnTo>
                  <a:pt x="21600" y="5683"/>
                </a:lnTo>
                <a:close/>
                <a:moveTo>
                  <a:pt x="21600" y="5683"/>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TextBox 7"/>
          <p:cNvSpPr/>
          <p:nvPr/>
        </p:nvSpPr>
        <p:spPr>
          <a:xfrm>
            <a:off x="1143000" y="3879720"/>
            <a:ext cx="2233440" cy="1500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a:t>
            </a:r>
            <a:endParaRPr b="0" lang="en-US" sz="1100" spc="-1" strike="noStrike">
              <a:solidFill>
                <a:srgbClr val="000000"/>
              </a:solidFill>
              <a:latin typeface="Calibri"/>
            </a:endParaRPr>
          </a:p>
        </p:txBody>
      </p:sp>
      <p:sp>
        <p:nvSpPr>
          <p:cNvPr id="896" name="TextBox 8"/>
          <p:cNvSpPr/>
          <p:nvPr/>
        </p:nvSpPr>
        <p:spPr>
          <a:xfrm>
            <a:off x="1143000" y="3532320"/>
            <a:ext cx="223344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Desktop Application</a:t>
            </a:r>
            <a:endParaRPr b="0" lang="en-US" sz="1600" spc="-1" strike="noStrike">
              <a:solidFill>
                <a:srgbClr val="000000"/>
              </a:solidFill>
              <a:latin typeface="Calibri"/>
            </a:endParaRPr>
          </a:p>
        </p:txBody>
      </p:sp>
      <p:sp>
        <p:nvSpPr>
          <p:cNvPr id="897" name="Chevron 10"/>
          <p:cNvSpPr/>
          <p:nvPr/>
        </p:nvSpPr>
        <p:spPr>
          <a:xfrm>
            <a:off x="3614760" y="2019240"/>
            <a:ext cx="2692440" cy="1459080"/>
          </a:xfrm>
          <a:custGeom>
            <a:avLst/>
            <a:gdLst>
              <a:gd name="textAreaLeft" fmla="*/ 0 w 2692440"/>
              <a:gd name="textAreaRight" fmla="*/ 2692440 w 2692440"/>
              <a:gd name="textAreaTop" fmla="*/ 0 h 1459080"/>
              <a:gd name="textAreaBottom" fmla="*/ 1459440 h 1459080"/>
            </a:gdLst>
            <a:ahLst/>
            <a:rect l="textAreaLeft" t="textAreaTop" r="textAreaRight" b="textAreaBottom"/>
            <a:pathLst>
              <a:path w="21600" h="21600">
                <a:moveTo>
                  <a:pt x="0" y="0"/>
                </a:moveTo>
                <a:lnTo>
                  <a:pt x="16721" y="0"/>
                </a:lnTo>
                <a:lnTo>
                  <a:pt x="21600" y="10800"/>
                </a:lnTo>
                <a:lnTo>
                  <a:pt x="16721" y="21600"/>
                </a:lnTo>
                <a:lnTo>
                  <a:pt x="0" y="21600"/>
                </a:lnTo>
                <a:lnTo>
                  <a:pt x="4879" y="10800"/>
                </a:lnTo>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8" name="Group 500" descr=""/>
          <p:cNvPicPr/>
          <p:nvPr/>
        </p:nvPicPr>
        <p:blipFill>
          <a:blip r:embed="rId1"/>
          <a:stretch/>
        </p:blipFill>
        <p:spPr>
          <a:xfrm>
            <a:off x="4900680" y="2311560"/>
            <a:ext cx="755640" cy="796680"/>
          </a:xfrm>
          <a:prstGeom prst="rect">
            <a:avLst/>
          </a:prstGeom>
          <a:ln w="0">
            <a:noFill/>
          </a:ln>
        </p:spPr>
      </p:pic>
      <p:sp>
        <p:nvSpPr>
          <p:cNvPr id="899" name="TextBox 12"/>
          <p:cNvSpPr/>
          <p:nvPr/>
        </p:nvSpPr>
        <p:spPr>
          <a:xfrm>
            <a:off x="4548240" y="2722680"/>
            <a:ext cx="104292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9d6"/>
                </a:solidFill>
                <a:latin typeface="Roboto condensed"/>
              </a:rPr>
              <a:t>Step 2</a:t>
            </a:r>
            <a:endParaRPr b="0" lang="en-US" sz="1600" spc="-1" strike="noStrike">
              <a:solidFill>
                <a:srgbClr val="000000"/>
              </a:solidFill>
              <a:latin typeface="Calibri"/>
            </a:endParaRPr>
          </a:p>
        </p:txBody>
      </p:sp>
      <p:sp>
        <p:nvSpPr>
          <p:cNvPr id="900" name="TextBox 13"/>
          <p:cNvSpPr/>
          <p:nvPr/>
        </p:nvSpPr>
        <p:spPr>
          <a:xfrm>
            <a:off x="3535200" y="3879720"/>
            <a:ext cx="2233800" cy="1500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a:t>
            </a:r>
            <a:endParaRPr b="0" lang="en-US" sz="1100" spc="-1" strike="noStrike">
              <a:solidFill>
                <a:srgbClr val="000000"/>
              </a:solidFill>
              <a:latin typeface="Calibri"/>
            </a:endParaRPr>
          </a:p>
        </p:txBody>
      </p:sp>
      <p:sp>
        <p:nvSpPr>
          <p:cNvPr id="901" name="TextBox 14"/>
          <p:cNvSpPr/>
          <p:nvPr/>
        </p:nvSpPr>
        <p:spPr>
          <a:xfrm>
            <a:off x="3535200" y="3532320"/>
            <a:ext cx="223380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Website Design</a:t>
            </a:r>
            <a:endParaRPr b="0" lang="en-US" sz="1600" spc="-1" strike="noStrike">
              <a:solidFill>
                <a:srgbClr val="000000"/>
              </a:solidFill>
              <a:latin typeface="Calibri"/>
            </a:endParaRPr>
          </a:p>
        </p:txBody>
      </p:sp>
      <p:sp>
        <p:nvSpPr>
          <p:cNvPr id="902" name="Chevron 19"/>
          <p:cNvSpPr/>
          <p:nvPr/>
        </p:nvSpPr>
        <p:spPr>
          <a:xfrm>
            <a:off x="5818320" y="2019240"/>
            <a:ext cx="2690640" cy="1459080"/>
          </a:xfrm>
          <a:custGeom>
            <a:avLst/>
            <a:gdLst>
              <a:gd name="textAreaLeft" fmla="*/ 0 w 2690640"/>
              <a:gd name="textAreaRight" fmla="*/ 2691000 w 2690640"/>
              <a:gd name="textAreaTop" fmla="*/ 0 h 1459080"/>
              <a:gd name="textAreaBottom" fmla="*/ 1459440 h 1459080"/>
            </a:gdLst>
            <a:ahLst/>
            <a:rect l="textAreaLeft" t="textAreaTop" r="textAreaRight" b="textAreaBottom"/>
            <a:pathLst>
              <a:path w="21600" h="21600">
                <a:moveTo>
                  <a:pt x="0" y="0"/>
                </a:moveTo>
                <a:lnTo>
                  <a:pt x="16721" y="0"/>
                </a:lnTo>
                <a:lnTo>
                  <a:pt x="21600" y="10800"/>
                </a:lnTo>
                <a:lnTo>
                  <a:pt x="16721" y="21600"/>
                </a:lnTo>
                <a:lnTo>
                  <a:pt x="0" y="21600"/>
                </a:lnTo>
                <a:lnTo>
                  <a:pt x="4879" y="10800"/>
                </a:lnTo>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3" name="Group 694" descr=""/>
          <p:cNvPicPr/>
          <p:nvPr/>
        </p:nvPicPr>
        <p:blipFill>
          <a:blip r:embed="rId2"/>
          <a:stretch/>
        </p:blipFill>
        <p:spPr>
          <a:xfrm>
            <a:off x="7085160" y="2335320"/>
            <a:ext cx="652320" cy="765000"/>
          </a:xfrm>
          <a:prstGeom prst="rect">
            <a:avLst/>
          </a:prstGeom>
          <a:ln w="0">
            <a:noFill/>
          </a:ln>
        </p:spPr>
      </p:pic>
      <p:sp>
        <p:nvSpPr>
          <p:cNvPr id="904" name="TextBox 21"/>
          <p:cNvSpPr/>
          <p:nvPr/>
        </p:nvSpPr>
        <p:spPr>
          <a:xfrm>
            <a:off x="6738840" y="2722680"/>
            <a:ext cx="104472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9d6"/>
                </a:solidFill>
                <a:latin typeface="Roboto condensed"/>
              </a:rPr>
              <a:t>Step 3</a:t>
            </a:r>
            <a:endParaRPr b="0" lang="en-US" sz="1600" spc="-1" strike="noStrike">
              <a:solidFill>
                <a:srgbClr val="000000"/>
              </a:solidFill>
              <a:latin typeface="Calibri"/>
            </a:endParaRPr>
          </a:p>
        </p:txBody>
      </p:sp>
      <p:sp>
        <p:nvSpPr>
          <p:cNvPr id="905" name="TextBox 22"/>
          <p:cNvSpPr/>
          <p:nvPr/>
        </p:nvSpPr>
        <p:spPr>
          <a:xfrm>
            <a:off x="5925960" y="3879720"/>
            <a:ext cx="2233800" cy="1500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a:t>
            </a:r>
            <a:endParaRPr b="0" lang="en-US" sz="1100" spc="-1" strike="noStrike">
              <a:solidFill>
                <a:srgbClr val="000000"/>
              </a:solidFill>
              <a:latin typeface="Calibri"/>
            </a:endParaRPr>
          </a:p>
        </p:txBody>
      </p:sp>
      <p:sp>
        <p:nvSpPr>
          <p:cNvPr id="906" name="TextBox 23"/>
          <p:cNvSpPr/>
          <p:nvPr/>
        </p:nvSpPr>
        <p:spPr>
          <a:xfrm>
            <a:off x="5925960" y="3532320"/>
            <a:ext cx="223380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Business Strategy</a:t>
            </a:r>
            <a:endParaRPr b="0" lang="en-US" sz="1600" spc="-1" strike="noStrike">
              <a:solidFill>
                <a:srgbClr val="000000"/>
              </a:solidFill>
              <a:latin typeface="Calibri"/>
            </a:endParaRPr>
          </a:p>
        </p:txBody>
      </p:sp>
      <p:sp>
        <p:nvSpPr>
          <p:cNvPr id="907" name="Chevron 27"/>
          <p:cNvSpPr/>
          <p:nvPr/>
        </p:nvSpPr>
        <p:spPr>
          <a:xfrm>
            <a:off x="8020080" y="2019240"/>
            <a:ext cx="2692440" cy="1459080"/>
          </a:xfrm>
          <a:custGeom>
            <a:avLst/>
            <a:gdLst>
              <a:gd name="textAreaLeft" fmla="*/ 0 w 2692440"/>
              <a:gd name="textAreaRight" fmla="*/ 2692440 w 2692440"/>
              <a:gd name="textAreaTop" fmla="*/ 0 h 1459080"/>
              <a:gd name="textAreaBottom" fmla="*/ 1459440 h 1459080"/>
            </a:gdLst>
            <a:ahLst/>
            <a:rect l="textAreaLeft" t="textAreaTop" r="textAreaRight" b="textAreaBottom"/>
            <a:pathLst>
              <a:path w="21600" h="21600">
                <a:moveTo>
                  <a:pt x="0" y="0"/>
                </a:moveTo>
                <a:lnTo>
                  <a:pt x="16721" y="0"/>
                </a:lnTo>
                <a:lnTo>
                  <a:pt x="21600" y="10800"/>
                </a:lnTo>
                <a:lnTo>
                  <a:pt x="16721" y="21600"/>
                </a:lnTo>
                <a:lnTo>
                  <a:pt x="0" y="21600"/>
                </a:lnTo>
                <a:lnTo>
                  <a:pt x="4879" y="10800"/>
                </a:lnTo>
                <a:close/>
              </a:path>
            </a:pathLst>
          </a:cu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AutoShape 478"/>
          <p:cNvSpPr/>
          <p:nvPr/>
        </p:nvSpPr>
        <p:spPr>
          <a:xfrm>
            <a:off x="9264600" y="2400480"/>
            <a:ext cx="330120" cy="388800"/>
          </a:xfrm>
          <a:custGeom>
            <a:avLst/>
            <a:gdLst/>
            <a:ahLst/>
            <a:rect l="l" t="t" r="r" b="b"/>
            <a:pathLst>
              <a:path w="21600" h="21600">
                <a:moveTo>
                  <a:pt x="21592" y="1"/>
                </a:moveTo>
                <a:lnTo>
                  <a:pt x="19082" y="516"/>
                </a:lnTo>
                <a:lnTo>
                  <a:pt x="6546" y="3090"/>
                </a:lnTo>
                <a:lnTo>
                  <a:pt x="6497" y="3090"/>
                </a:lnTo>
                <a:lnTo>
                  <a:pt x="6497" y="15717"/>
                </a:lnTo>
                <a:cubicBezTo>
                  <a:pt x="5896" y="15513"/>
                  <a:pt x="5222" y="15396"/>
                  <a:pt x="4506" y="15396"/>
                </a:cubicBezTo>
                <a:cubicBezTo>
                  <a:pt x="2018" y="15396"/>
                  <a:pt x="0" y="16784"/>
                  <a:pt x="0" y="18498"/>
                </a:cubicBezTo>
                <a:cubicBezTo>
                  <a:pt x="0" y="20211"/>
                  <a:pt x="2018" y="21600"/>
                  <a:pt x="4506" y="21600"/>
                </a:cubicBezTo>
                <a:cubicBezTo>
                  <a:pt x="6970" y="21600"/>
                  <a:pt x="8969" y="20238"/>
                  <a:pt x="9009" y="18548"/>
                </a:cubicBezTo>
                <a:lnTo>
                  <a:pt x="9014" y="18548"/>
                </a:lnTo>
                <a:lnTo>
                  <a:pt x="9014" y="6363"/>
                </a:lnTo>
                <a:lnTo>
                  <a:pt x="19082" y="4299"/>
                </a:lnTo>
                <a:lnTo>
                  <a:pt x="19082" y="11873"/>
                </a:lnTo>
                <a:cubicBezTo>
                  <a:pt x="18481" y="11669"/>
                  <a:pt x="17807" y="11551"/>
                  <a:pt x="17092" y="11551"/>
                </a:cubicBezTo>
                <a:cubicBezTo>
                  <a:pt x="14603" y="11551"/>
                  <a:pt x="12585" y="12940"/>
                  <a:pt x="12585" y="14654"/>
                </a:cubicBezTo>
                <a:cubicBezTo>
                  <a:pt x="12585" y="16367"/>
                  <a:pt x="14603" y="17756"/>
                  <a:pt x="17092" y="17756"/>
                </a:cubicBezTo>
                <a:cubicBezTo>
                  <a:pt x="19556" y="17756"/>
                  <a:pt x="21555" y="16393"/>
                  <a:pt x="21595" y="14704"/>
                </a:cubicBezTo>
                <a:lnTo>
                  <a:pt x="21599" y="14704"/>
                </a:lnTo>
                <a:lnTo>
                  <a:pt x="21599" y="2065"/>
                </a:lnTo>
                <a:lnTo>
                  <a:pt x="21600" y="2065"/>
                </a:lnTo>
                <a:lnTo>
                  <a:pt x="21600" y="0"/>
                </a:lnTo>
                <a:lnTo>
                  <a:pt x="21592" y="1"/>
                </a:lnTo>
                <a:close/>
                <a:moveTo>
                  <a:pt x="21592" y="1"/>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TextBox 29"/>
          <p:cNvSpPr/>
          <p:nvPr/>
        </p:nvSpPr>
        <p:spPr>
          <a:xfrm>
            <a:off x="8904240" y="2722680"/>
            <a:ext cx="104472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9d6"/>
                </a:solidFill>
                <a:latin typeface="Roboto condensed"/>
              </a:rPr>
              <a:t>Step 4</a:t>
            </a:r>
            <a:endParaRPr b="0" lang="en-US" sz="1600" spc="-1" strike="noStrike">
              <a:solidFill>
                <a:srgbClr val="000000"/>
              </a:solidFill>
              <a:latin typeface="Calibri"/>
            </a:endParaRPr>
          </a:p>
        </p:txBody>
      </p:sp>
      <p:sp>
        <p:nvSpPr>
          <p:cNvPr id="910" name="TextBox 30"/>
          <p:cNvSpPr/>
          <p:nvPr/>
        </p:nvSpPr>
        <p:spPr>
          <a:xfrm>
            <a:off x="8318520" y="3879720"/>
            <a:ext cx="2233440" cy="1500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a:t>
            </a:r>
            <a:endParaRPr b="0" lang="en-US" sz="1100" spc="-1" strike="noStrike">
              <a:solidFill>
                <a:srgbClr val="000000"/>
              </a:solidFill>
              <a:latin typeface="Calibri"/>
            </a:endParaRPr>
          </a:p>
        </p:txBody>
      </p:sp>
      <p:sp>
        <p:nvSpPr>
          <p:cNvPr id="911" name="TextBox 31"/>
          <p:cNvSpPr/>
          <p:nvPr/>
        </p:nvSpPr>
        <p:spPr>
          <a:xfrm>
            <a:off x="8318520" y="3532320"/>
            <a:ext cx="2233440" cy="434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Data Analysis</a:t>
            </a:r>
            <a:endParaRPr b="0" lang="en-US" sz="1600" spc="-1" strike="noStrike">
              <a:solidFill>
                <a:srgbClr val="000000"/>
              </a:solidFill>
              <a:latin typeface="Calibri"/>
            </a:endParaRPr>
          </a:p>
        </p:txBody>
      </p:sp>
      <p:sp>
        <p:nvSpPr>
          <p:cNvPr id="912" name="Text Placeholder 8"/>
          <p:cNvSpPr/>
          <p:nvPr/>
        </p:nvSpPr>
        <p:spPr>
          <a:xfrm>
            <a:off x="272880" y="5241960"/>
            <a:ext cx="11688840" cy="89208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a:t>
            </a:r>
            <a:endParaRPr b="0" lang="en-US" sz="1200" spc="-1" strike="noStrike">
              <a:solidFill>
                <a:srgbClr val="000000"/>
              </a:solidFill>
              <a:latin typeface="Calibri"/>
            </a:endParaRPr>
          </a:p>
        </p:txBody>
      </p:sp>
      <p:sp>
        <p:nvSpPr>
          <p:cNvPr id="913" name="Straight Connector 37"/>
          <p:cNvSpPr/>
          <p:nvPr/>
        </p:nvSpPr>
        <p:spPr>
          <a:xfrm flipH="1">
            <a:off x="425520" y="5181480"/>
            <a:ext cx="1140768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4" name="组合 1"/>
          <p:cNvGrpSpPr/>
          <p:nvPr/>
        </p:nvGrpSpPr>
        <p:grpSpPr>
          <a:xfrm>
            <a:off x="529920" y="66960"/>
            <a:ext cx="1630080" cy="1447560"/>
            <a:chOff x="529920" y="66960"/>
            <a:chExt cx="1630080" cy="1447560"/>
          </a:xfrm>
        </p:grpSpPr>
        <p:grpSp>
          <p:nvGrpSpPr>
            <p:cNvPr id="915" name="组合 2"/>
            <p:cNvGrpSpPr/>
            <p:nvPr/>
          </p:nvGrpSpPr>
          <p:grpSpPr>
            <a:xfrm>
              <a:off x="529920" y="66960"/>
              <a:ext cx="1630080" cy="1447560"/>
              <a:chOff x="529920" y="66960"/>
              <a:chExt cx="1630080" cy="1447560"/>
            </a:xfrm>
          </p:grpSpPr>
          <p:sp>
            <p:nvSpPr>
              <p:cNvPr id="916"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19" name="组合 7"/>
              <p:cNvGrpSpPr/>
              <p:nvPr/>
            </p:nvGrpSpPr>
            <p:grpSpPr>
              <a:xfrm>
                <a:off x="529920" y="142200"/>
                <a:ext cx="1630080" cy="1372320"/>
                <a:chOff x="529920" y="142200"/>
                <a:chExt cx="1630080" cy="1372320"/>
              </a:xfrm>
            </p:grpSpPr>
            <p:sp>
              <p:nvSpPr>
                <p:cNvPr id="920"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4"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5"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6"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3"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4"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5"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7"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0"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2"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4"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6"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8"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0"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951"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4</a:t>
              </a:r>
              <a:endParaRPr b="0" lang="en-US" sz="6600" spc="-1" strike="noStrike">
                <a:solidFill>
                  <a:srgbClr val="000000"/>
                </a:solidFill>
                <a:latin typeface="Calibri"/>
              </a:endParaRPr>
            </a:p>
          </p:txBody>
        </p:sp>
      </p:grpSp>
      <p:sp>
        <p:nvSpPr>
          <p:cNvPr id="952"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953" name="AutoShape 158"/>
          <p:cNvSpPr/>
          <p:nvPr/>
        </p:nvSpPr>
        <p:spPr>
          <a:xfrm>
            <a:off x="4292640" y="3683160"/>
            <a:ext cx="3178080" cy="2408040"/>
          </a:xfrm>
          <a:custGeom>
            <a:avLst/>
            <a:gdLst/>
            <a:ahLst/>
            <a:rect l="l" t="t" r="r" b="b"/>
            <a:pathLst>
              <a:path w="21600" h="21600">
                <a:moveTo>
                  <a:pt x="13408" y="0"/>
                </a:moveTo>
                <a:cubicBezTo>
                  <a:pt x="8890" y="0"/>
                  <a:pt x="5215" y="4845"/>
                  <a:pt x="5215" y="10800"/>
                </a:cubicBezTo>
                <a:cubicBezTo>
                  <a:pt x="5215" y="14591"/>
                  <a:pt x="2876" y="17675"/>
                  <a:pt x="0" y="17675"/>
                </a:cubicBezTo>
                <a:lnTo>
                  <a:pt x="0" y="21600"/>
                </a:lnTo>
                <a:cubicBezTo>
                  <a:pt x="4517" y="21600"/>
                  <a:pt x="8192" y="16755"/>
                  <a:pt x="8192" y="10800"/>
                </a:cubicBezTo>
                <a:cubicBezTo>
                  <a:pt x="8192" y="7009"/>
                  <a:pt x="10532" y="3924"/>
                  <a:pt x="13408" y="3924"/>
                </a:cubicBezTo>
                <a:cubicBezTo>
                  <a:pt x="16283" y="3924"/>
                  <a:pt x="18623" y="7009"/>
                  <a:pt x="18623" y="10800"/>
                </a:cubicBezTo>
                <a:lnTo>
                  <a:pt x="21600" y="10800"/>
                </a:lnTo>
                <a:cubicBezTo>
                  <a:pt x="21600" y="4845"/>
                  <a:pt x="17925" y="0"/>
                  <a:pt x="13408" y="0"/>
                </a:cubicBezTo>
                <a:close/>
                <a:moveTo>
                  <a:pt x="13408" y="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AutoShape 160"/>
          <p:cNvSpPr/>
          <p:nvPr/>
        </p:nvSpPr>
        <p:spPr>
          <a:xfrm>
            <a:off x="7042320" y="3683160"/>
            <a:ext cx="2408040" cy="2408040"/>
          </a:xfrm>
          <a:custGeom>
            <a:avLst/>
            <a:gdLst/>
            <a:ahLst/>
            <a:rect l="l" t="t" r="r" b="b"/>
            <a:pathLst>
              <a:path w="21600" h="21600">
                <a:moveTo>
                  <a:pt x="10800" y="21600"/>
                </a:moveTo>
                <a:cubicBezTo>
                  <a:pt x="4845" y="21600"/>
                  <a:pt x="0" y="16755"/>
                  <a:pt x="0" y="10800"/>
                </a:cubicBezTo>
                <a:lnTo>
                  <a:pt x="3925" y="10800"/>
                </a:lnTo>
                <a:cubicBezTo>
                  <a:pt x="3925" y="14591"/>
                  <a:pt x="7009" y="17675"/>
                  <a:pt x="10800" y="17675"/>
                </a:cubicBezTo>
                <a:cubicBezTo>
                  <a:pt x="14591" y="17675"/>
                  <a:pt x="17676" y="14591"/>
                  <a:pt x="17676" y="10800"/>
                </a:cubicBezTo>
                <a:cubicBezTo>
                  <a:pt x="17676" y="7009"/>
                  <a:pt x="14591" y="3925"/>
                  <a:pt x="10800" y="3925"/>
                </a:cubicBezTo>
                <a:lnTo>
                  <a:pt x="10800" y="0"/>
                </a:lnTo>
                <a:cubicBezTo>
                  <a:pt x="16755" y="0"/>
                  <a:pt x="21600" y="4845"/>
                  <a:pt x="21600" y="10800"/>
                </a:cubicBezTo>
                <a:cubicBezTo>
                  <a:pt x="21600" y="16755"/>
                  <a:pt x="16755" y="21600"/>
                  <a:pt x="10800" y="21600"/>
                </a:cubicBezTo>
                <a:close/>
                <a:moveTo>
                  <a:pt x="10800" y="2160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AutoShape 162"/>
          <p:cNvSpPr/>
          <p:nvPr/>
        </p:nvSpPr>
        <p:spPr>
          <a:xfrm>
            <a:off x="9013680" y="1709640"/>
            <a:ext cx="3178440" cy="2409840"/>
          </a:xfrm>
          <a:custGeom>
            <a:avLst/>
            <a:gdLst/>
            <a:ahLst/>
            <a:rect l="l" t="t" r="r" b="b"/>
            <a:pathLst>
              <a:path w="21600" h="21600">
                <a:moveTo>
                  <a:pt x="13408" y="10800"/>
                </a:moveTo>
                <a:cubicBezTo>
                  <a:pt x="13408" y="14591"/>
                  <a:pt x="11068" y="17675"/>
                  <a:pt x="8192" y="17675"/>
                </a:cubicBezTo>
                <a:cubicBezTo>
                  <a:pt x="5317" y="17675"/>
                  <a:pt x="2977" y="14591"/>
                  <a:pt x="2977" y="10800"/>
                </a:cubicBezTo>
                <a:lnTo>
                  <a:pt x="0" y="10800"/>
                </a:lnTo>
                <a:cubicBezTo>
                  <a:pt x="0" y="16755"/>
                  <a:pt x="3675" y="21600"/>
                  <a:pt x="8192" y="21600"/>
                </a:cubicBezTo>
                <a:cubicBezTo>
                  <a:pt x="12710" y="21600"/>
                  <a:pt x="16385" y="16755"/>
                  <a:pt x="16385" y="10800"/>
                </a:cubicBezTo>
                <a:cubicBezTo>
                  <a:pt x="16385" y="7009"/>
                  <a:pt x="18724" y="3925"/>
                  <a:pt x="21600" y="3925"/>
                </a:cubicBezTo>
                <a:lnTo>
                  <a:pt x="21600" y="0"/>
                </a:lnTo>
                <a:cubicBezTo>
                  <a:pt x="17083" y="0"/>
                  <a:pt x="13408" y="4845"/>
                  <a:pt x="13408" y="10800"/>
                </a:cubicBezTo>
                <a:close/>
                <a:moveTo>
                  <a:pt x="13408" y="1080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6" name="AutoShape 164"/>
          <p:cNvSpPr/>
          <p:nvPr/>
        </p:nvSpPr>
        <p:spPr>
          <a:xfrm>
            <a:off x="7042320" y="1709640"/>
            <a:ext cx="2408040" cy="2409840"/>
          </a:xfrm>
          <a:custGeom>
            <a:avLst/>
            <a:gdLst/>
            <a:ahLst/>
            <a:rect l="l" t="t" r="r" b="b"/>
            <a:pathLst>
              <a:path w="21600" h="21600">
                <a:moveTo>
                  <a:pt x="10800" y="21600"/>
                </a:moveTo>
                <a:cubicBezTo>
                  <a:pt x="4845" y="21600"/>
                  <a:pt x="0" y="16755"/>
                  <a:pt x="0" y="10800"/>
                </a:cubicBezTo>
                <a:cubicBezTo>
                  <a:pt x="0" y="4845"/>
                  <a:pt x="4845" y="0"/>
                  <a:pt x="10800" y="0"/>
                </a:cubicBezTo>
                <a:cubicBezTo>
                  <a:pt x="16755" y="0"/>
                  <a:pt x="21600" y="4845"/>
                  <a:pt x="21600" y="10800"/>
                </a:cubicBezTo>
                <a:lnTo>
                  <a:pt x="17675" y="10800"/>
                </a:lnTo>
                <a:cubicBezTo>
                  <a:pt x="17675" y="7009"/>
                  <a:pt x="14591" y="3925"/>
                  <a:pt x="10800" y="3925"/>
                </a:cubicBezTo>
                <a:cubicBezTo>
                  <a:pt x="7009" y="3925"/>
                  <a:pt x="3924" y="7009"/>
                  <a:pt x="3924" y="10800"/>
                </a:cubicBezTo>
                <a:cubicBezTo>
                  <a:pt x="3924" y="14591"/>
                  <a:pt x="7009" y="17675"/>
                  <a:pt x="10800" y="17675"/>
                </a:cubicBezTo>
                <a:lnTo>
                  <a:pt x="10800" y="21600"/>
                </a:lnTo>
                <a:close/>
                <a:moveTo>
                  <a:pt x="10800" y="2160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7" name="AutoShape 162"/>
          <p:cNvSpPr/>
          <p:nvPr/>
        </p:nvSpPr>
        <p:spPr>
          <a:xfrm>
            <a:off x="3087720" y="5653080"/>
            <a:ext cx="1204920" cy="1204920"/>
          </a:xfrm>
          <a:custGeom>
            <a:avLst/>
            <a:gdLst/>
            <a:ahLst/>
            <a:rect l="l" t="t" r="r" b="b"/>
            <a:pathLst>
              <a:path w="10000" h="10000">
                <a:moveTo>
                  <a:pt x="0" y="10000"/>
                </a:moveTo>
                <a:lnTo>
                  <a:pt x="3635" y="10000"/>
                </a:lnTo>
                <a:cubicBezTo>
                  <a:pt x="3837" y="7109"/>
                  <a:pt x="6489" y="3634"/>
                  <a:pt x="10000" y="3634"/>
                </a:cubicBezTo>
                <a:lnTo>
                  <a:pt x="10000" y="0"/>
                </a:lnTo>
                <a:cubicBezTo>
                  <a:pt x="4486" y="0"/>
                  <a:pt x="0" y="4486"/>
                  <a:pt x="0" y="10000"/>
                </a:cubicBezTo>
                <a:close/>
                <a:moveTo>
                  <a:pt x="0" y="10000"/>
                </a:moveTo>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AutoShape 159"/>
          <p:cNvSpPr/>
          <p:nvPr/>
        </p:nvSpPr>
        <p:spPr>
          <a:xfrm>
            <a:off x="5618160" y="4264200"/>
            <a:ext cx="1282680" cy="1282680"/>
          </a:xfrm>
          <a:custGeom>
            <a:avLst/>
            <a:gdLst/>
            <a:ahLst/>
            <a:rect l="l" t="t" r="r" b="b"/>
            <a:pathLst>
              <a:path w="21598" h="21598">
                <a:moveTo>
                  <a:pt x="21598" y="10799"/>
                </a:moveTo>
                <a:cubicBezTo>
                  <a:pt x="21599" y="9385"/>
                  <a:pt x="21318" y="7972"/>
                  <a:pt x="20776" y="6666"/>
                </a:cubicBezTo>
                <a:cubicBezTo>
                  <a:pt x="20236" y="5360"/>
                  <a:pt x="19435" y="4162"/>
                  <a:pt x="18435" y="3163"/>
                </a:cubicBezTo>
                <a:cubicBezTo>
                  <a:pt x="17436" y="2163"/>
                  <a:pt x="16238" y="1362"/>
                  <a:pt x="14932" y="822"/>
                </a:cubicBezTo>
                <a:cubicBezTo>
                  <a:pt x="13626" y="280"/>
                  <a:pt x="12213" y="-1"/>
                  <a:pt x="10799" y="0"/>
                </a:cubicBezTo>
                <a:cubicBezTo>
                  <a:pt x="9385" y="-1"/>
                  <a:pt x="7972" y="280"/>
                  <a:pt x="6666" y="822"/>
                </a:cubicBezTo>
                <a:cubicBezTo>
                  <a:pt x="5360" y="1362"/>
                  <a:pt x="4162" y="2163"/>
                  <a:pt x="3163" y="3163"/>
                </a:cubicBezTo>
                <a:cubicBezTo>
                  <a:pt x="2163" y="4162"/>
                  <a:pt x="1362" y="5360"/>
                  <a:pt x="822" y="6666"/>
                </a:cubicBezTo>
                <a:cubicBezTo>
                  <a:pt x="280" y="7972"/>
                  <a:pt x="-1" y="9385"/>
                  <a:pt x="0" y="10799"/>
                </a:cubicBezTo>
                <a:cubicBezTo>
                  <a:pt x="-1" y="12213"/>
                  <a:pt x="280" y="13626"/>
                  <a:pt x="822" y="14932"/>
                </a:cubicBezTo>
                <a:cubicBezTo>
                  <a:pt x="1362" y="16238"/>
                  <a:pt x="2163" y="17436"/>
                  <a:pt x="3163" y="18435"/>
                </a:cubicBezTo>
                <a:cubicBezTo>
                  <a:pt x="4162" y="19435"/>
                  <a:pt x="5360" y="20236"/>
                  <a:pt x="6666" y="20776"/>
                </a:cubicBezTo>
                <a:cubicBezTo>
                  <a:pt x="7972" y="21318"/>
                  <a:pt x="9385" y="21599"/>
                  <a:pt x="10799" y="21598"/>
                </a:cubicBezTo>
                <a:cubicBezTo>
                  <a:pt x="12213" y="21599"/>
                  <a:pt x="13626" y="21318"/>
                  <a:pt x="14932" y="20776"/>
                </a:cubicBezTo>
                <a:cubicBezTo>
                  <a:pt x="16238" y="20236"/>
                  <a:pt x="17436" y="19435"/>
                  <a:pt x="18435" y="18435"/>
                </a:cubicBezTo>
                <a:cubicBezTo>
                  <a:pt x="19435" y="17436"/>
                  <a:pt x="20236" y="16238"/>
                  <a:pt x="20776" y="14932"/>
                </a:cubicBezTo>
                <a:cubicBezTo>
                  <a:pt x="21318" y="13626"/>
                  <a:pt x="21599" y="12213"/>
                  <a:pt x="21598" y="10799"/>
                </a:cubicBezTo>
                <a:close/>
                <a:moveTo>
                  <a:pt x="21598" y="10799"/>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Rectangle 166"/>
          <p:cNvSpPr/>
          <p:nvPr/>
        </p:nvSpPr>
        <p:spPr>
          <a:xfrm>
            <a:off x="5919840" y="4964040"/>
            <a:ext cx="685800" cy="308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ea typeface="MS PGothic"/>
              </a:rPr>
              <a:t>2011</a:t>
            </a:r>
            <a:endParaRPr b="0" lang="en-US" sz="2400" spc="-1" strike="noStrike">
              <a:solidFill>
                <a:srgbClr val="000000"/>
              </a:solidFill>
              <a:latin typeface="Calibri"/>
            </a:endParaRPr>
          </a:p>
        </p:txBody>
      </p:sp>
      <p:pic>
        <p:nvPicPr>
          <p:cNvPr id="960" name="Group 352" descr=""/>
          <p:cNvPicPr/>
          <p:nvPr/>
        </p:nvPicPr>
        <p:blipFill>
          <a:blip r:embed="rId1"/>
          <a:stretch/>
        </p:blipFill>
        <p:spPr>
          <a:xfrm>
            <a:off x="6118200" y="4543560"/>
            <a:ext cx="700200" cy="717480"/>
          </a:xfrm>
          <a:prstGeom prst="rect">
            <a:avLst/>
          </a:prstGeom>
          <a:ln w="0">
            <a:noFill/>
          </a:ln>
        </p:spPr>
      </p:pic>
      <p:sp>
        <p:nvSpPr>
          <p:cNvPr id="961" name="AutoShape 161"/>
          <p:cNvSpPr/>
          <p:nvPr/>
        </p:nvSpPr>
        <p:spPr>
          <a:xfrm>
            <a:off x="7591320" y="4264200"/>
            <a:ext cx="1281240" cy="1282680"/>
          </a:xfrm>
          <a:custGeom>
            <a:avLst/>
            <a:gdLst/>
            <a:ahLst/>
            <a:rect l="l" t="t" r="r" b="b"/>
            <a:pathLst>
              <a:path w="21598" h="21598">
                <a:moveTo>
                  <a:pt x="21598" y="10799"/>
                </a:moveTo>
                <a:cubicBezTo>
                  <a:pt x="21599" y="9385"/>
                  <a:pt x="21318" y="7972"/>
                  <a:pt x="20776" y="6666"/>
                </a:cubicBezTo>
                <a:cubicBezTo>
                  <a:pt x="20236" y="5360"/>
                  <a:pt x="19435" y="4162"/>
                  <a:pt x="18435" y="3163"/>
                </a:cubicBezTo>
                <a:cubicBezTo>
                  <a:pt x="17436" y="2163"/>
                  <a:pt x="16238" y="1362"/>
                  <a:pt x="14932" y="822"/>
                </a:cubicBezTo>
                <a:cubicBezTo>
                  <a:pt x="13626" y="280"/>
                  <a:pt x="12213" y="-1"/>
                  <a:pt x="10799" y="0"/>
                </a:cubicBezTo>
                <a:cubicBezTo>
                  <a:pt x="9385" y="-1"/>
                  <a:pt x="7972" y="280"/>
                  <a:pt x="6666" y="822"/>
                </a:cubicBezTo>
                <a:cubicBezTo>
                  <a:pt x="5360" y="1362"/>
                  <a:pt x="4162" y="2163"/>
                  <a:pt x="3163" y="3163"/>
                </a:cubicBezTo>
                <a:cubicBezTo>
                  <a:pt x="2163" y="4162"/>
                  <a:pt x="1362" y="5360"/>
                  <a:pt x="822" y="6666"/>
                </a:cubicBezTo>
                <a:cubicBezTo>
                  <a:pt x="280" y="7972"/>
                  <a:pt x="-1" y="9385"/>
                  <a:pt x="0" y="10799"/>
                </a:cubicBezTo>
                <a:cubicBezTo>
                  <a:pt x="-1" y="12213"/>
                  <a:pt x="280" y="13626"/>
                  <a:pt x="822" y="14932"/>
                </a:cubicBezTo>
                <a:cubicBezTo>
                  <a:pt x="1362" y="16238"/>
                  <a:pt x="2163" y="17436"/>
                  <a:pt x="3163" y="18435"/>
                </a:cubicBezTo>
                <a:cubicBezTo>
                  <a:pt x="4162" y="19435"/>
                  <a:pt x="5360" y="20236"/>
                  <a:pt x="6666" y="20776"/>
                </a:cubicBezTo>
                <a:cubicBezTo>
                  <a:pt x="7972" y="21318"/>
                  <a:pt x="9385" y="21599"/>
                  <a:pt x="10799" y="21598"/>
                </a:cubicBezTo>
                <a:cubicBezTo>
                  <a:pt x="12213" y="21599"/>
                  <a:pt x="13626" y="21318"/>
                  <a:pt x="14932" y="20776"/>
                </a:cubicBezTo>
                <a:cubicBezTo>
                  <a:pt x="16238" y="20236"/>
                  <a:pt x="17436" y="19435"/>
                  <a:pt x="18435" y="18435"/>
                </a:cubicBezTo>
                <a:cubicBezTo>
                  <a:pt x="19435" y="17436"/>
                  <a:pt x="20236" y="16238"/>
                  <a:pt x="20776" y="14932"/>
                </a:cubicBezTo>
                <a:cubicBezTo>
                  <a:pt x="21318" y="13626"/>
                  <a:pt x="21599" y="12213"/>
                  <a:pt x="21598" y="10799"/>
                </a:cubicBezTo>
                <a:close/>
                <a:moveTo>
                  <a:pt x="21598" y="10799"/>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62" name="Group 332" descr=""/>
          <p:cNvPicPr/>
          <p:nvPr/>
        </p:nvPicPr>
        <p:blipFill>
          <a:blip r:embed="rId2"/>
          <a:stretch/>
        </p:blipFill>
        <p:spPr>
          <a:xfrm>
            <a:off x="8104320" y="4532400"/>
            <a:ext cx="769680" cy="744480"/>
          </a:xfrm>
          <a:prstGeom prst="rect">
            <a:avLst/>
          </a:prstGeom>
          <a:ln w="0">
            <a:noFill/>
          </a:ln>
        </p:spPr>
      </p:pic>
      <p:sp>
        <p:nvSpPr>
          <p:cNvPr id="963" name="Rectangle 166"/>
          <p:cNvSpPr/>
          <p:nvPr/>
        </p:nvSpPr>
        <p:spPr>
          <a:xfrm>
            <a:off x="7900920" y="4964040"/>
            <a:ext cx="685800" cy="308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ea typeface="MS PGothic"/>
              </a:rPr>
              <a:t>2012</a:t>
            </a:r>
            <a:endParaRPr b="0" lang="en-US" sz="2400" spc="-1" strike="noStrike">
              <a:solidFill>
                <a:srgbClr val="000000"/>
              </a:solidFill>
              <a:latin typeface="Calibri"/>
            </a:endParaRPr>
          </a:p>
        </p:txBody>
      </p:sp>
      <p:sp>
        <p:nvSpPr>
          <p:cNvPr id="964" name="AutoShape 165"/>
          <p:cNvSpPr/>
          <p:nvPr/>
        </p:nvSpPr>
        <p:spPr>
          <a:xfrm>
            <a:off x="7591320" y="2292480"/>
            <a:ext cx="1281240" cy="1280880"/>
          </a:xfrm>
          <a:custGeom>
            <a:avLst/>
            <a:gdLst/>
            <a:ahLst/>
            <a:rect l="l" t="t" r="r" b="b"/>
            <a:pathLst>
              <a:path w="21598" h="21598">
                <a:moveTo>
                  <a:pt x="21598" y="10799"/>
                </a:moveTo>
                <a:cubicBezTo>
                  <a:pt x="21599" y="9385"/>
                  <a:pt x="21318" y="7972"/>
                  <a:pt x="20776" y="6666"/>
                </a:cubicBezTo>
                <a:cubicBezTo>
                  <a:pt x="20236" y="5360"/>
                  <a:pt x="19435" y="4162"/>
                  <a:pt x="18435" y="3163"/>
                </a:cubicBezTo>
                <a:cubicBezTo>
                  <a:pt x="17436" y="2163"/>
                  <a:pt x="16238" y="1362"/>
                  <a:pt x="14932" y="822"/>
                </a:cubicBezTo>
                <a:cubicBezTo>
                  <a:pt x="13626" y="280"/>
                  <a:pt x="12213" y="-1"/>
                  <a:pt x="10799" y="0"/>
                </a:cubicBezTo>
                <a:cubicBezTo>
                  <a:pt x="9385" y="-1"/>
                  <a:pt x="7972" y="280"/>
                  <a:pt x="6666" y="822"/>
                </a:cubicBezTo>
                <a:cubicBezTo>
                  <a:pt x="5360" y="1362"/>
                  <a:pt x="4162" y="2163"/>
                  <a:pt x="3163" y="3163"/>
                </a:cubicBezTo>
                <a:cubicBezTo>
                  <a:pt x="2163" y="4162"/>
                  <a:pt x="1362" y="5360"/>
                  <a:pt x="822" y="6666"/>
                </a:cubicBezTo>
                <a:cubicBezTo>
                  <a:pt x="280" y="7972"/>
                  <a:pt x="-1" y="9385"/>
                  <a:pt x="0" y="10799"/>
                </a:cubicBezTo>
                <a:cubicBezTo>
                  <a:pt x="-1" y="12213"/>
                  <a:pt x="280" y="13626"/>
                  <a:pt x="822" y="14932"/>
                </a:cubicBezTo>
                <a:cubicBezTo>
                  <a:pt x="1362" y="16238"/>
                  <a:pt x="2163" y="17436"/>
                  <a:pt x="3163" y="18435"/>
                </a:cubicBezTo>
                <a:cubicBezTo>
                  <a:pt x="4162" y="19435"/>
                  <a:pt x="5360" y="20236"/>
                  <a:pt x="6666" y="20776"/>
                </a:cubicBezTo>
                <a:cubicBezTo>
                  <a:pt x="7972" y="21318"/>
                  <a:pt x="9385" y="21599"/>
                  <a:pt x="10799" y="21598"/>
                </a:cubicBezTo>
                <a:cubicBezTo>
                  <a:pt x="12213" y="21599"/>
                  <a:pt x="13626" y="21318"/>
                  <a:pt x="14932" y="20776"/>
                </a:cubicBezTo>
                <a:cubicBezTo>
                  <a:pt x="16238" y="20236"/>
                  <a:pt x="17436" y="19435"/>
                  <a:pt x="18435" y="18435"/>
                </a:cubicBezTo>
                <a:cubicBezTo>
                  <a:pt x="19435" y="17436"/>
                  <a:pt x="20236" y="16238"/>
                  <a:pt x="20776" y="14932"/>
                </a:cubicBezTo>
                <a:cubicBezTo>
                  <a:pt x="21318" y="13626"/>
                  <a:pt x="21599" y="12213"/>
                  <a:pt x="21598" y="10799"/>
                </a:cubicBezTo>
                <a:close/>
                <a:moveTo>
                  <a:pt x="21598" y="10799"/>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AutoShape 597"/>
          <p:cNvSpPr/>
          <p:nvPr/>
        </p:nvSpPr>
        <p:spPr>
          <a:xfrm>
            <a:off x="8101080" y="2614680"/>
            <a:ext cx="285840" cy="287280"/>
          </a:xfrm>
          <a:custGeom>
            <a:avLst/>
            <a:gdLst/>
            <a:ahLst/>
            <a:rect l="l" t="t" r="r" b="b"/>
            <a:pathLst>
              <a:path w="21599" h="21600">
                <a:moveTo>
                  <a:pt x="20994" y="18385"/>
                </a:moveTo>
                <a:lnTo>
                  <a:pt x="15212" y="12600"/>
                </a:lnTo>
                <a:cubicBezTo>
                  <a:pt x="16003" y="11336"/>
                  <a:pt x="16462" y="9839"/>
                  <a:pt x="16462" y="8239"/>
                </a:cubicBezTo>
                <a:cubicBezTo>
                  <a:pt x="16462" y="3689"/>
                  <a:pt x="12777" y="0"/>
                  <a:pt x="8231" y="0"/>
                </a:cubicBezTo>
                <a:cubicBezTo>
                  <a:pt x="3686" y="0"/>
                  <a:pt x="0" y="3689"/>
                  <a:pt x="0" y="8239"/>
                </a:cubicBezTo>
                <a:cubicBezTo>
                  <a:pt x="0" y="12787"/>
                  <a:pt x="3686" y="16474"/>
                  <a:pt x="8231" y="16474"/>
                </a:cubicBezTo>
                <a:cubicBezTo>
                  <a:pt x="9839" y="16474"/>
                  <a:pt x="11342" y="16011"/>
                  <a:pt x="12611" y="15211"/>
                </a:cubicBezTo>
                <a:lnTo>
                  <a:pt x="18389" y="20993"/>
                </a:lnTo>
                <a:cubicBezTo>
                  <a:pt x="18787" y="21391"/>
                  <a:pt x="19307" y="21600"/>
                  <a:pt x="19824" y="21600"/>
                </a:cubicBezTo>
                <a:cubicBezTo>
                  <a:pt x="19827" y="21600"/>
                  <a:pt x="19829" y="21600"/>
                  <a:pt x="19831" y="21600"/>
                </a:cubicBezTo>
                <a:cubicBezTo>
                  <a:pt x="20281" y="21600"/>
                  <a:pt x="20740" y="21433"/>
                  <a:pt x="21085" y="21090"/>
                </a:cubicBezTo>
                <a:cubicBezTo>
                  <a:pt x="21434" y="20740"/>
                  <a:pt x="21600" y="20278"/>
                  <a:pt x="21599" y="19823"/>
                </a:cubicBezTo>
                <a:cubicBezTo>
                  <a:pt x="21598" y="19304"/>
                  <a:pt x="21391" y="18783"/>
                  <a:pt x="20994" y="18385"/>
                </a:cubicBezTo>
                <a:close/>
                <a:moveTo>
                  <a:pt x="12821" y="8239"/>
                </a:moveTo>
                <a:cubicBezTo>
                  <a:pt x="12817" y="10769"/>
                  <a:pt x="10761" y="12827"/>
                  <a:pt x="8231" y="12832"/>
                </a:cubicBezTo>
                <a:cubicBezTo>
                  <a:pt x="5701" y="12827"/>
                  <a:pt x="3645" y="10769"/>
                  <a:pt x="3641" y="8239"/>
                </a:cubicBezTo>
                <a:cubicBezTo>
                  <a:pt x="3645" y="5707"/>
                  <a:pt x="5701" y="3648"/>
                  <a:pt x="8231" y="3644"/>
                </a:cubicBezTo>
                <a:cubicBezTo>
                  <a:pt x="10761" y="3648"/>
                  <a:pt x="12817" y="5707"/>
                  <a:pt x="12821" y="8239"/>
                </a:cubicBezTo>
                <a:close/>
                <a:moveTo>
                  <a:pt x="12821" y="823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Rectangle 166"/>
          <p:cNvSpPr/>
          <p:nvPr/>
        </p:nvSpPr>
        <p:spPr>
          <a:xfrm>
            <a:off x="7900920" y="2981160"/>
            <a:ext cx="685800" cy="308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ea typeface="MS PGothic"/>
              </a:rPr>
              <a:t>2013</a:t>
            </a:r>
            <a:endParaRPr b="0" lang="en-US" sz="2400" spc="-1" strike="noStrike">
              <a:solidFill>
                <a:srgbClr val="000000"/>
              </a:solidFill>
              <a:latin typeface="Calibri"/>
            </a:endParaRPr>
          </a:p>
        </p:txBody>
      </p:sp>
      <p:sp>
        <p:nvSpPr>
          <p:cNvPr id="967" name="AutoShape 163"/>
          <p:cNvSpPr/>
          <p:nvPr/>
        </p:nvSpPr>
        <p:spPr>
          <a:xfrm>
            <a:off x="9564840" y="2292480"/>
            <a:ext cx="1280880" cy="1280880"/>
          </a:xfrm>
          <a:custGeom>
            <a:avLst/>
            <a:gdLst/>
            <a:ahLst/>
            <a:rect l="l" t="t" r="r" b="b"/>
            <a:pathLst>
              <a:path w="21598" h="21598">
                <a:moveTo>
                  <a:pt x="21598" y="10799"/>
                </a:moveTo>
                <a:cubicBezTo>
                  <a:pt x="21599" y="9385"/>
                  <a:pt x="21318" y="7972"/>
                  <a:pt x="20776" y="6666"/>
                </a:cubicBezTo>
                <a:cubicBezTo>
                  <a:pt x="20236" y="5360"/>
                  <a:pt x="19435" y="4162"/>
                  <a:pt x="18435" y="3163"/>
                </a:cubicBezTo>
                <a:cubicBezTo>
                  <a:pt x="17436" y="2163"/>
                  <a:pt x="16238" y="1362"/>
                  <a:pt x="14932" y="822"/>
                </a:cubicBezTo>
                <a:cubicBezTo>
                  <a:pt x="13626" y="280"/>
                  <a:pt x="12213" y="-1"/>
                  <a:pt x="10799" y="0"/>
                </a:cubicBezTo>
                <a:cubicBezTo>
                  <a:pt x="9385" y="-1"/>
                  <a:pt x="7972" y="280"/>
                  <a:pt x="6666" y="822"/>
                </a:cubicBezTo>
                <a:cubicBezTo>
                  <a:pt x="5360" y="1362"/>
                  <a:pt x="4162" y="2163"/>
                  <a:pt x="3163" y="3163"/>
                </a:cubicBezTo>
                <a:cubicBezTo>
                  <a:pt x="2163" y="4162"/>
                  <a:pt x="1362" y="5360"/>
                  <a:pt x="822" y="6666"/>
                </a:cubicBezTo>
                <a:cubicBezTo>
                  <a:pt x="280" y="7972"/>
                  <a:pt x="-1" y="9385"/>
                  <a:pt x="0" y="10799"/>
                </a:cubicBezTo>
                <a:cubicBezTo>
                  <a:pt x="-1" y="12213"/>
                  <a:pt x="280" y="13626"/>
                  <a:pt x="822" y="14932"/>
                </a:cubicBezTo>
                <a:cubicBezTo>
                  <a:pt x="1362" y="16238"/>
                  <a:pt x="2163" y="17436"/>
                  <a:pt x="3163" y="18435"/>
                </a:cubicBezTo>
                <a:cubicBezTo>
                  <a:pt x="4162" y="19435"/>
                  <a:pt x="5360" y="20236"/>
                  <a:pt x="6666" y="20776"/>
                </a:cubicBezTo>
                <a:cubicBezTo>
                  <a:pt x="7972" y="21318"/>
                  <a:pt x="9385" y="21599"/>
                  <a:pt x="10799" y="21598"/>
                </a:cubicBezTo>
                <a:cubicBezTo>
                  <a:pt x="12213" y="21599"/>
                  <a:pt x="13626" y="21318"/>
                  <a:pt x="14932" y="20776"/>
                </a:cubicBezTo>
                <a:cubicBezTo>
                  <a:pt x="16238" y="20236"/>
                  <a:pt x="17436" y="19435"/>
                  <a:pt x="18435" y="18435"/>
                </a:cubicBezTo>
                <a:cubicBezTo>
                  <a:pt x="19435" y="17436"/>
                  <a:pt x="20236" y="16238"/>
                  <a:pt x="20776" y="14932"/>
                </a:cubicBezTo>
                <a:cubicBezTo>
                  <a:pt x="21318" y="13626"/>
                  <a:pt x="21599" y="12213"/>
                  <a:pt x="21598" y="10799"/>
                </a:cubicBezTo>
                <a:close/>
                <a:moveTo>
                  <a:pt x="21598" y="10799"/>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68" name="Group 447" descr=""/>
          <p:cNvPicPr/>
          <p:nvPr/>
        </p:nvPicPr>
        <p:blipFill>
          <a:blip r:embed="rId3"/>
          <a:stretch/>
        </p:blipFill>
        <p:spPr>
          <a:xfrm>
            <a:off x="10061640" y="2543040"/>
            <a:ext cx="766800" cy="768600"/>
          </a:xfrm>
          <a:prstGeom prst="rect">
            <a:avLst/>
          </a:prstGeom>
          <a:ln w="0">
            <a:noFill/>
          </a:ln>
        </p:spPr>
      </p:pic>
      <p:sp>
        <p:nvSpPr>
          <p:cNvPr id="969" name="Rectangle 166"/>
          <p:cNvSpPr/>
          <p:nvPr/>
        </p:nvSpPr>
        <p:spPr>
          <a:xfrm>
            <a:off x="9866160" y="2981160"/>
            <a:ext cx="685800" cy="308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ea typeface="MS PGothic"/>
              </a:rPr>
              <a:t>2014</a:t>
            </a:r>
            <a:endParaRPr b="0" lang="en-US" sz="2400" spc="-1" strike="noStrike">
              <a:solidFill>
                <a:srgbClr val="000000"/>
              </a:solidFill>
              <a:latin typeface="Calibri"/>
            </a:endParaRPr>
          </a:p>
        </p:txBody>
      </p:sp>
      <p:sp>
        <p:nvSpPr>
          <p:cNvPr id="970" name="Oval 40"/>
          <p:cNvSpPr/>
          <p:nvPr/>
        </p:nvSpPr>
        <p:spPr>
          <a:xfrm>
            <a:off x="368280" y="1835280"/>
            <a:ext cx="495360" cy="4950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1" name="Group 41"/>
          <p:cNvGrpSpPr/>
          <p:nvPr/>
        </p:nvGrpSpPr>
        <p:grpSpPr>
          <a:xfrm>
            <a:off x="934920" y="1650960"/>
            <a:ext cx="4273560" cy="849240"/>
            <a:chOff x="934920" y="1650960"/>
            <a:chExt cx="4273560" cy="849240"/>
          </a:xfrm>
        </p:grpSpPr>
        <p:sp>
          <p:nvSpPr>
            <p:cNvPr id="972" name="TextBox 47"/>
            <p:cNvSpPr/>
            <p:nvPr/>
          </p:nvSpPr>
          <p:spPr>
            <a:xfrm>
              <a:off x="934920" y="1650960"/>
              <a:ext cx="2943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Number 2005</a:t>
              </a:r>
              <a:endParaRPr b="0" lang="en-US" sz="1600" spc="-1" strike="noStrike">
                <a:solidFill>
                  <a:srgbClr val="000000"/>
                </a:solidFill>
                <a:latin typeface="Calibri"/>
              </a:endParaRPr>
            </a:p>
          </p:txBody>
        </p:sp>
        <p:sp>
          <p:nvSpPr>
            <p:cNvPr id="973" name="TextBox 48"/>
            <p:cNvSpPr/>
            <p:nvPr/>
          </p:nvSpPr>
          <p:spPr>
            <a:xfrm>
              <a:off x="934920" y="1937520"/>
              <a:ext cx="4273560" cy="56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Vestibulum ligut praesent commodo cursus magna</a:t>
              </a:r>
              <a:endParaRPr b="0" lang="en-US" sz="1100" spc="-1" strike="noStrike">
                <a:solidFill>
                  <a:srgbClr val="000000"/>
                </a:solidFill>
                <a:latin typeface="Calibri"/>
              </a:endParaRPr>
            </a:p>
          </p:txBody>
        </p:sp>
      </p:grpSp>
      <p:pic>
        <p:nvPicPr>
          <p:cNvPr id="974" name="Group 352" descr=""/>
          <p:cNvPicPr/>
          <p:nvPr/>
        </p:nvPicPr>
        <p:blipFill>
          <a:blip r:embed="rId4"/>
          <a:stretch/>
        </p:blipFill>
        <p:spPr>
          <a:xfrm>
            <a:off x="504720" y="1901880"/>
            <a:ext cx="666720" cy="691920"/>
          </a:xfrm>
          <a:prstGeom prst="rect">
            <a:avLst/>
          </a:prstGeom>
          <a:ln w="0">
            <a:noFill/>
          </a:ln>
        </p:spPr>
      </p:pic>
      <p:sp>
        <p:nvSpPr>
          <p:cNvPr id="975" name="Oval 50"/>
          <p:cNvSpPr/>
          <p:nvPr/>
        </p:nvSpPr>
        <p:spPr>
          <a:xfrm>
            <a:off x="368280" y="2706840"/>
            <a:ext cx="495360" cy="4950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6" name="Group 51"/>
          <p:cNvGrpSpPr/>
          <p:nvPr/>
        </p:nvGrpSpPr>
        <p:grpSpPr>
          <a:xfrm>
            <a:off x="934920" y="2522520"/>
            <a:ext cx="4273560" cy="849240"/>
            <a:chOff x="934920" y="2522520"/>
            <a:chExt cx="4273560" cy="849240"/>
          </a:xfrm>
        </p:grpSpPr>
        <p:sp>
          <p:nvSpPr>
            <p:cNvPr id="977" name="TextBox 60"/>
            <p:cNvSpPr/>
            <p:nvPr/>
          </p:nvSpPr>
          <p:spPr>
            <a:xfrm>
              <a:off x="934920" y="2522520"/>
              <a:ext cx="2943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Website Designs</a:t>
              </a:r>
              <a:endParaRPr b="0" lang="en-US" sz="1600" spc="-1" strike="noStrike">
                <a:solidFill>
                  <a:srgbClr val="000000"/>
                </a:solidFill>
                <a:latin typeface="Calibri"/>
              </a:endParaRPr>
            </a:p>
          </p:txBody>
        </p:sp>
        <p:sp>
          <p:nvSpPr>
            <p:cNvPr id="978" name="TextBox 61"/>
            <p:cNvSpPr/>
            <p:nvPr/>
          </p:nvSpPr>
          <p:spPr>
            <a:xfrm>
              <a:off x="934920" y="2809080"/>
              <a:ext cx="4273560" cy="56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Vestibulum ligut praesent commodo cursus magna</a:t>
              </a:r>
              <a:endParaRPr b="0" lang="en-US" sz="1100" spc="-1" strike="noStrike">
                <a:solidFill>
                  <a:srgbClr val="000000"/>
                </a:solidFill>
                <a:latin typeface="Calibri"/>
              </a:endParaRPr>
            </a:p>
          </p:txBody>
        </p:sp>
      </p:grpSp>
      <p:pic>
        <p:nvPicPr>
          <p:cNvPr id="979" name="Group 332" descr=""/>
          <p:cNvPicPr/>
          <p:nvPr/>
        </p:nvPicPr>
        <p:blipFill>
          <a:blip r:embed="rId5"/>
          <a:stretch/>
        </p:blipFill>
        <p:spPr>
          <a:xfrm>
            <a:off x="506520" y="2773440"/>
            <a:ext cx="718920" cy="712800"/>
          </a:xfrm>
          <a:prstGeom prst="rect">
            <a:avLst/>
          </a:prstGeom>
          <a:ln w="0">
            <a:noFill/>
          </a:ln>
        </p:spPr>
      </p:pic>
      <p:sp>
        <p:nvSpPr>
          <p:cNvPr id="980" name="Oval 63"/>
          <p:cNvSpPr/>
          <p:nvPr/>
        </p:nvSpPr>
        <p:spPr>
          <a:xfrm>
            <a:off x="368280" y="3578400"/>
            <a:ext cx="495360" cy="4935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1" name="Group 64"/>
          <p:cNvGrpSpPr/>
          <p:nvPr/>
        </p:nvGrpSpPr>
        <p:grpSpPr>
          <a:xfrm>
            <a:off x="934920" y="3392640"/>
            <a:ext cx="4273560" cy="849240"/>
            <a:chOff x="934920" y="3392640"/>
            <a:chExt cx="4273560" cy="849240"/>
          </a:xfrm>
        </p:grpSpPr>
        <p:sp>
          <p:nvSpPr>
            <p:cNvPr id="982" name="TextBox 66"/>
            <p:cNvSpPr/>
            <p:nvPr/>
          </p:nvSpPr>
          <p:spPr>
            <a:xfrm>
              <a:off x="934920" y="3392640"/>
              <a:ext cx="2943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Business Strategy</a:t>
              </a:r>
              <a:endParaRPr b="0" lang="en-US" sz="1600" spc="-1" strike="noStrike">
                <a:solidFill>
                  <a:srgbClr val="000000"/>
                </a:solidFill>
                <a:latin typeface="Calibri"/>
              </a:endParaRPr>
            </a:p>
          </p:txBody>
        </p:sp>
        <p:sp>
          <p:nvSpPr>
            <p:cNvPr id="983" name="TextBox 67"/>
            <p:cNvSpPr/>
            <p:nvPr/>
          </p:nvSpPr>
          <p:spPr>
            <a:xfrm>
              <a:off x="934920" y="3679200"/>
              <a:ext cx="4273560" cy="56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Vestibulum ligut praesent commodo cursus magna</a:t>
              </a:r>
              <a:endParaRPr b="0" lang="en-US" sz="1100" spc="-1" strike="noStrike">
                <a:solidFill>
                  <a:srgbClr val="000000"/>
                </a:solidFill>
                <a:latin typeface="Calibri"/>
              </a:endParaRPr>
            </a:p>
          </p:txBody>
        </p:sp>
      </p:grpSp>
      <p:sp>
        <p:nvSpPr>
          <p:cNvPr id="984" name="AutoShape 597"/>
          <p:cNvSpPr/>
          <p:nvPr/>
        </p:nvSpPr>
        <p:spPr>
          <a:xfrm>
            <a:off x="511200" y="3718080"/>
            <a:ext cx="216000" cy="215640"/>
          </a:xfrm>
          <a:custGeom>
            <a:avLst/>
            <a:gdLst/>
            <a:ahLst/>
            <a:rect l="l" t="t" r="r" b="b"/>
            <a:pathLst>
              <a:path w="21599" h="21600">
                <a:moveTo>
                  <a:pt x="20994" y="18385"/>
                </a:moveTo>
                <a:lnTo>
                  <a:pt x="15212" y="12600"/>
                </a:lnTo>
                <a:cubicBezTo>
                  <a:pt x="16003" y="11336"/>
                  <a:pt x="16462" y="9839"/>
                  <a:pt x="16462" y="8239"/>
                </a:cubicBezTo>
                <a:cubicBezTo>
                  <a:pt x="16462" y="3689"/>
                  <a:pt x="12777" y="0"/>
                  <a:pt x="8231" y="0"/>
                </a:cubicBezTo>
                <a:cubicBezTo>
                  <a:pt x="3686" y="0"/>
                  <a:pt x="0" y="3689"/>
                  <a:pt x="0" y="8239"/>
                </a:cubicBezTo>
                <a:cubicBezTo>
                  <a:pt x="0" y="12787"/>
                  <a:pt x="3686" y="16474"/>
                  <a:pt x="8231" y="16474"/>
                </a:cubicBezTo>
                <a:cubicBezTo>
                  <a:pt x="9839" y="16474"/>
                  <a:pt x="11342" y="16011"/>
                  <a:pt x="12611" y="15211"/>
                </a:cubicBezTo>
                <a:lnTo>
                  <a:pt x="18389" y="20993"/>
                </a:lnTo>
                <a:cubicBezTo>
                  <a:pt x="18787" y="21391"/>
                  <a:pt x="19307" y="21600"/>
                  <a:pt x="19824" y="21600"/>
                </a:cubicBezTo>
                <a:cubicBezTo>
                  <a:pt x="19827" y="21600"/>
                  <a:pt x="19829" y="21600"/>
                  <a:pt x="19831" y="21600"/>
                </a:cubicBezTo>
                <a:cubicBezTo>
                  <a:pt x="20281" y="21600"/>
                  <a:pt x="20740" y="21433"/>
                  <a:pt x="21085" y="21090"/>
                </a:cubicBezTo>
                <a:cubicBezTo>
                  <a:pt x="21434" y="20740"/>
                  <a:pt x="21600" y="20278"/>
                  <a:pt x="21599" y="19823"/>
                </a:cubicBezTo>
                <a:cubicBezTo>
                  <a:pt x="21598" y="19304"/>
                  <a:pt x="21391" y="18783"/>
                  <a:pt x="20994" y="18385"/>
                </a:cubicBezTo>
                <a:close/>
                <a:moveTo>
                  <a:pt x="12821" y="8239"/>
                </a:moveTo>
                <a:cubicBezTo>
                  <a:pt x="12817" y="10769"/>
                  <a:pt x="10761" y="12827"/>
                  <a:pt x="8231" y="12832"/>
                </a:cubicBezTo>
                <a:cubicBezTo>
                  <a:pt x="5701" y="12827"/>
                  <a:pt x="3645" y="10769"/>
                  <a:pt x="3641" y="8239"/>
                </a:cubicBezTo>
                <a:cubicBezTo>
                  <a:pt x="3645" y="5707"/>
                  <a:pt x="5701" y="3648"/>
                  <a:pt x="8231" y="3644"/>
                </a:cubicBezTo>
                <a:cubicBezTo>
                  <a:pt x="10761" y="3648"/>
                  <a:pt x="12817" y="5707"/>
                  <a:pt x="12821" y="8239"/>
                </a:cubicBezTo>
                <a:close/>
                <a:moveTo>
                  <a:pt x="12821" y="823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5" name="Oval 69"/>
          <p:cNvSpPr/>
          <p:nvPr/>
        </p:nvSpPr>
        <p:spPr>
          <a:xfrm>
            <a:off x="368280" y="4449600"/>
            <a:ext cx="495360" cy="493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6" name="Group 70"/>
          <p:cNvGrpSpPr/>
          <p:nvPr/>
        </p:nvGrpSpPr>
        <p:grpSpPr>
          <a:xfrm>
            <a:off x="934920" y="4264200"/>
            <a:ext cx="4273560" cy="849240"/>
            <a:chOff x="934920" y="4264200"/>
            <a:chExt cx="4273560" cy="849240"/>
          </a:xfrm>
        </p:grpSpPr>
        <p:sp>
          <p:nvSpPr>
            <p:cNvPr id="987" name="TextBox 76"/>
            <p:cNvSpPr/>
            <p:nvPr/>
          </p:nvSpPr>
          <p:spPr>
            <a:xfrm>
              <a:off x="934920" y="4264200"/>
              <a:ext cx="2943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Data Analysis</a:t>
              </a:r>
              <a:endParaRPr b="0" lang="en-US" sz="1600" spc="-1" strike="noStrike">
                <a:solidFill>
                  <a:srgbClr val="000000"/>
                </a:solidFill>
                <a:latin typeface="Calibri"/>
              </a:endParaRPr>
            </a:p>
          </p:txBody>
        </p:sp>
        <p:sp>
          <p:nvSpPr>
            <p:cNvPr id="988" name="TextBox 77"/>
            <p:cNvSpPr/>
            <p:nvPr/>
          </p:nvSpPr>
          <p:spPr>
            <a:xfrm>
              <a:off x="934920" y="4550760"/>
              <a:ext cx="4273560" cy="56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Vestibulum ligut praesent commodo cursus magna</a:t>
              </a:r>
              <a:endParaRPr b="0" lang="en-US" sz="1100" spc="-1" strike="noStrike">
                <a:solidFill>
                  <a:srgbClr val="000000"/>
                </a:solidFill>
                <a:latin typeface="Calibri"/>
              </a:endParaRPr>
            </a:p>
          </p:txBody>
        </p:sp>
      </p:grpSp>
      <p:pic>
        <p:nvPicPr>
          <p:cNvPr id="989" name="Group 447" descr=""/>
          <p:cNvPicPr/>
          <p:nvPr/>
        </p:nvPicPr>
        <p:blipFill>
          <a:blip r:embed="rId6"/>
          <a:stretch/>
        </p:blipFill>
        <p:spPr>
          <a:xfrm>
            <a:off x="514440" y="4529160"/>
            <a:ext cx="717480" cy="7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组合 50"/>
          <p:cNvGrpSpPr/>
          <p:nvPr/>
        </p:nvGrpSpPr>
        <p:grpSpPr>
          <a:xfrm>
            <a:off x="3697200" y="293400"/>
            <a:ext cx="4754880" cy="4222080"/>
            <a:chOff x="3697200" y="293400"/>
            <a:chExt cx="4754880" cy="4222080"/>
          </a:xfrm>
        </p:grpSpPr>
        <p:grpSp>
          <p:nvGrpSpPr>
            <p:cNvPr id="991" name="组合 46"/>
            <p:cNvGrpSpPr/>
            <p:nvPr/>
          </p:nvGrpSpPr>
          <p:grpSpPr>
            <a:xfrm>
              <a:off x="3697200" y="293400"/>
              <a:ext cx="4754880" cy="4222080"/>
              <a:chOff x="3697200" y="293400"/>
              <a:chExt cx="4754880" cy="4222080"/>
            </a:xfrm>
          </p:grpSpPr>
          <p:sp>
            <p:nvSpPr>
              <p:cNvPr id="992" name="Freeform 5"/>
              <p:cNvSpPr/>
              <p:nvPr/>
            </p:nvSpPr>
            <p:spPr>
              <a:xfrm rot="19720800">
                <a:off x="4533480" y="778320"/>
                <a:ext cx="248256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3" name="Freeform 5"/>
              <p:cNvSpPr/>
              <p:nvPr/>
            </p:nvSpPr>
            <p:spPr>
              <a:xfrm rot="1976400">
                <a:off x="5416920" y="778320"/>
                <a:ext cx="208368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4" name="Freeform 5"/>
              <p:cNvSpPr/>
              <p:nvPr/>
            </p:nvSpPr>
            <p:spPr>
              <a:xfrm rot="3250200">
                <a:off x="5759640" y="77832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95" name="组合 45"/>
              <p:cNvGrpSpPr/>
              <p:nvPr/>
            </p:nvGrpSpPr>
            <p:grpSpPr>
              <a:xfrm>
                <a:off x="3697200" y="512640"/>
                <a:ext cx="4754880" cy="4002840"/>
                <a:chOff x="3697200" y="512640"/>
                <a:chExt cx="4754880" cy="4002840"/>
              </a:xfrm>
            </p:grpSpPr>
            <p:sp>
              <p:nvSpPr>
                <p:cNvPr id="996" name="Freeform 5"/>
                <p:cNvSpPr/>
                <p:nvPr/>
              </p:nvSpPr>
              <p:spPr>
                <a:xfrm rot="20532600">
                  <a:off x="4875480" y="9547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7" name="Freeform 5"/>
                <p:cNvSpPr/>
                <p:nvPr/>
              </p:nvSpPr>
              <p:spPr>
                <a:xfrm rot="20387400">
                  <a:off x="4533480" y="9021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Freeform 5"/>
                <p:cNvSpPr/>
                <p:nvPr/>
              </p:nvSpPr>
              <p:spPr>
                <a:xfrm rot="20532600">
                  <a:off x="4875480" y="10789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Freeform 5"/>
                <p:cNvSpPr/>
                <p:nvPr/>
              </p:nvSpPr>
              <p:spPr>
                <a:xfrm rot="1976400">
                  <a:off x="5416920" y="90216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Freeform 5"/>
                <p:cNvSpPr/>
                <p:nvPr/>
              </p:nvSpPr>
              <p:spPr>
                <a:xfrm rot="3757200">
                  <a:off x="5759280" y="9021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Freeform 5"/>
                <p:cNvSpPr/>
                <p:nvPr/>
              </p:nvSpPr>
              <p:spPr>
                <a:xfrm rot="21089400">
                  <a:off x="4533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Freeform 5"/>
                <p:cNvSpPr/>
                <p:nvPr/>
              </p:nvSpPr>
              <p:spPr>
                <a:xfrm rot="20532600">
                  <a:off x="4875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Freeform 5"/>
                <p:cNvSpPr/>
                <p:nvPr/>
              </p:nvSpPr>
              <p:spPr>
                <a:xfrm rot="1976400">
                  <a:off x="5416920" y="10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Freeform 5"/>
                <p:cNvSpPr/>
                <p:nvPr/>
              </p:nvSpPr>
              <p:spPr>
                <a:xfrm rot="2876400">
                  <a:off x="5759280" y="102600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Freeform 5"/>
                <p:cNvSpPr/>
                <p:nvPr/>
              </p:nvSpPr>
              <p:spPr>
                <a:xfrm rot="20387400">
                  <a:off x="4533480" y="11498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Freeform 5"/>
                <p:cNvSpPr/>
                <p:nvPr/>
              </p:nvSpPr>
              <p:spPr>
                <a:xfrm rot="20532600">
                  <a:off x="4875480" y="13269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Freeform 5"/>
                <p:cNvSpPr/>
                <p:nvPr/>
              </p:nvSpPr>
              <p:spPr>
                <a:xfrm rot="20387400">
                  <a:off x="4437360" y="15494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Freeform 5"/>
                <p:cNvSpPr/>
                <p:nvPr/>
              </p:nvSpPr>
              <p:spPr>
                <a:xfrm rot="3757200">
                  <a:off x="5954760" y="13006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Freeform 5"/>
                <p:cNvSpPr/>
                <p:nvPr/>
              </p:nvSpPr>
              <p:spPr>
                <a:xfrm rot="20387400">
                  <a:off x="4533480" y="12740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Freeform 5"/>
                <p:cNvSpPr/>
                <p:nvPr/>
              </p:nvSpPr>
              <p:spPr>
                <a:xfrm rot="20532600">
                  <a:off x="4875480" y="14508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Freeform 5"/>
                <p:cNvSpPr/>
                <p:nvPr/>
              </p:nvSpPr>
              <p:spPr>
                <a:xfrm rot="1976400">
                  <a:off x="5416920" y="127404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Freeform 5"/>
                <p:cNvSpPr/>
                <p:nvPr/>
              </p:nvSpPr>
              <p:spPr>
                <a:xfrm rot="3757200">
                  <a:off x="5759280" y="127404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Freeform 5"/>
                <p:cNvSpPr/>
                <p:nvPr/>
              </p:nvSpPr>
              <p:spPr>
                <a:xfrm rot="20387400">
                  <a:off x="4533480" y="13978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Freeform 5"/>
                <p:cNvSpPr/>
                <p:nvPr/>
              </p:nvSpPr>
              <p:spPr>
                <a:xfrm rot="20532600">
                  <a:off x="4875480" y="15746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Freeform 5"/>
                <p:cNvSpPr/>
                <p:nvPr/>
              </p:nvSpPr>
              <p:spPr>
                <a:xfrm rot="1976400">
                  <a:off x="5416920" y="139788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6" name="Freeform 5"/>
                <p:cNvSpPr/>
                <p:nvPr/>
              </p:nvSpPr>
              <p:spPr>
                <a:xfrm rot="3757200">
                  <a:off x="5835960" y="18579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Freeform 5"/>
                <p:cNvSpPr/>
                <p:nvPr/>
              </p:nvSpPr>
              <p:spPr>
                <a:xfrm rot="20387400">
                  <a:off x="4533480" y="15220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Freeform 5"/>
                <p:cNvSpPr/>
                <p:nvPr/>
              </p:nvSpPr>
              <p:spPr>
                <a:xfrm rot="20532600">
                  <a:off x="4875480" y="1698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Freeform 5"/>
                <p:cNvSpPr/>
                <p:nvPr/>
              </p:nvSpPr>
              <p:spPr>
                <a:xfrm rot="4993800">
                  <a:off x="5736600" y="15220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Freeform 5"/>
                <p:cNvSpPr/>
                <p:nvPr/>
              </p:nvSpPr>
              <p:spPr>
                <a:xfrm rot="20387400">
                  <a:off x="424188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Freeform 5"/>
                <p:cNvSpPr/>
                <p:nvPr/>
              </p:nvSpPr>
              <p:spPr>
                <a:xfrm rot="20387400">
                  <a:off x="4533480" y="164592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2" name="Freeform 5"/>
                <p:cNvSpPr/>
                <p:nvPr/>
              </p:nvSpPr>
              <p:spPr>
                <a:xfrm rot="20532600">
                  <a:off x="4947840" y="1823040"/>
                  <a:ext cx="233784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Freeform 5"/>
                <p:cNvSpPr/>
                <p:nvPr/>
              </p:nvSpPr>
              <p:spPr>
                <a:xfrm rot="1976400">
                  <a:off x="5338440" y="19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Freeform 5"/>
                <p:cNvSpPr/>
                <p:nvPr/>
              </p:nvSpPr>
              <p:spPr>
                <a:xfrm>
                  <a:off x="4752360" y="20016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Freeform 5"/>
                <p:cNvSpPr/>
                <p:nvPr/>
              </p:nvSpPr>
              <p:spPr>
                <a:xfrm rot="1976400">
                  <a:off x="409536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Freeform 5"/>
                <p:cNvSpPr/>
                <p:nvPr/>
              </p:nvSpPr>
              <p:spPr>
                <a:xfrm rot="19703400">
                  <a:off x="4236120" y="1833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27" name="文本框 44"/>
            <p:cNvSpPr/>
            <p:nvPr/>
          </p:nvSpPr>
          <p:spPr>
            <a:xfrm>
              <a:off x="4705200" y="765000"/>
              <a:ext cx="278172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3099d6"/>
                  </a:solidFill>
                  <a:latin typeface="微软雅黑"/>
                  <a:ea typeface="微软雅黑"/>
                </a:rPr>
                <a:t>4</a:t>
              </a:r>
              <a:endParaRPr b="0" lang="en-US" sz="19900" spc="-1" strike="noStrike">
                <a:solidFill>
                  <a:srgbClr val="000000"/>
                </a:solidFill>
                <a:latin typeface="Calibri"/>
              </a:endParaRPr>
            </a:p>
          </p:txBody>
        </p:sp>
      </p:grpSp>
      <p:sp>
        <p:nvSpPr>
          <p:cNvPr id="1028" name="文本框 48"/>
          <p:cNvSpPr/>
          <p:nvPr/>
        </p:nvSpPr>
        <p:spPr>
          <a:xfrm>
            <a:off x="1392120" y="4714920"/>
            <a:ext cx="940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东方御匠 </a:t>
            </a:r>
            <a:r>
              <a:rPr b="1" lang="en-US" sz="3200" spc="-1" strike="noStrike">
                <a:solidFill>
                  <a:srgbClr val="ffffff"/>
                </a:solidFill>
                <a:latin typeface="微软雅黑"/>
                <a:ea typeface="微软雅黑"/>
              </a:rPr>
              <a:t>POWERPOINT</a:t>
            </a:r>
            <a:endParaRPr b="0" lang="en-US" sz="3200" spc="-1" strike="noStrike">
              <a:solidFill>
                <a:srgbClr val="000000"/>
              </a:solidFill>
              <a:latin typeface="Calibri"/>
            </a:endParaRPr>
          </a:p>
        </p:txBody>
      </p:sp>
      <p:sp>
        <p:nvSpPr>
          <p:cNvPr id="1029"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grpSp>
        <p:nvGrpSpPr>
          <p:cNvPr id="1030" name="组合 41"/>
          <p:cNvGrpSpPr/>
          <p:nvPr/>
        </p:nvGrpSpPr>
        <p:grpSpPr>
          <a:xfrm>
            <a:off x="1152360" y="2135160"/>
            <a:ext cx="138240" cy="138240"/>
            <a:chOff x="1152360" y="2135160"/>
            <a:chExt cx="138240" cy="138240"/>
          </a:xfrm>
        </p:grpSpPr>
        <p:sp>
          <p:nvSpPr>
            <p:cNvPr id="1031"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2"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33" name="组合 47"/>
          <p:cNvGrpSpPr/>
          <p:nvPr/>
        </p:nvGrpSpPr>
        <p:grpSpPr>
          <a:xfrm>
            <a:off x="2143080" y="1252440"/>
            <a:ext cx="138240" cy="138240"/>
            <a:chOff x="2143080" y="1252440"/>
            <a:chExt cx="138240" cy="138240"/>
          </a:xfrm>
        </p:grpSpPr>
        <p:sp>
          <p:nvSpPr>
            <p:cNvPr id="1034" name="直接连接符 51"/>
            <p:cNvSpPr/>
            <p:nvPr/>
          </p:nvSpPr>
          <p:spPr>
            <a:xfrm flipH="1">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5" name="直接连接符 52"/>
            <p:cNvSpPr/>
            <p:nvPr/>
          </p:nvSpPr>
          <p:spPr>
            <a:xfrm>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36" name="组合 53"/>
          <p:cNvGrpSpPr/>
          <p:nvPr/>
        </p:nvGrpSpPr>
        <p:grpSpPr>
          <a:xfrm>
            <a:off x="2544480" y="3079800"/>
            <a:ext cx="138240" cy="136440"/>
            <a:chOff x="2544480" y="3079800"/>
            <a:chExt cx="138240" cy="136440"/>
          </a:xfrm>
        </p:grpSpPr>
        <p:sp>
          <p:nvSpPr>
            <p:cNvPr id="1037" name="直接连接符 54"/>
            <p:cNvSpPr/>
            <p:nvPr/>
          </p:nvSpPr>
          <p:spPr>
            <a:xfrm flipH="1">
              <a:off x="254448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8" name="直接连接符 55"/>
            <p:cNvSpPr/>
            <p:nvPr/>
          </p:nvSpPr>
          <p:spPr>
            <a:xfrm>
              <a:off x="254484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39" name="组合 56"/>
          <p:cNvGrpSpPr/>
          <p:nvPr/>
        </p:nvGrpSpPr>
        <p:grpSpPr>
          <a:xfrm>
            <a:off x="10661400" y="1319040"/>
            <a:ext cx="138240" cy="136800"/>
            <a:chOff x="10661400" y="1319040"/>
            <a:chExt cx="138240" cy="136800"/>
          </a:xfrm>
        </p:grpSpPr>
        <p:sp>
          <p:nvSpPr>
            <p:cNvPr id="1040" name="直接连接符 57"/>
            <p:cNvSpPr/>
            <p:nvPr/>
          </p:nvSpPr>
          <p:spPr>
            <a:xfrm flipH="1">
              <a:off x="1066140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直接连接符 58"/>
            <p:cNvSpPr/>
            <p:nvPr/>
          </p:nvSpPr>
          <p:spPr>
            <a:xfrm>
              <a:off x="1066176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42" name="组合 59"/>
          <p:cNvGrpSpPr/>
          <p:nvPr/>
        </p:nvGrpSpPr>
        <p:grpSpPr>
          <a:xfrm>
            <a:off x="9210240" y="3511440"/>
            <a:ext cx="103680" cy="104760"/>
            <a:chOff x="9210240" y="3511440"/>
            <a:chExt cx="103680" cy="104760"/>
          </a:xfrm>
        </p:grpSpPr>
        <p:sp>
          <p:nvSpPr>
            <p:cNvPr id="1043" name="直接连接符 60"/>
            <p:cNvSpPr/>
            <p:nvPr/>
          </p:nvSpPr>
          <p:spPr>
            <a:xfrm flipH="1">
              <a:off x="921024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4" name="直接连接符 61"/>
            <p:cNvSpPr/>
            <p:nvPr/>
          </p:nvSpPr>
          <p:spPr>
            <a:xfrm>
              <a:off x="921060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5" name="组合 1"/>
          <p:cNvGrpSpPr/>
          <p:nvPr/>
        </p:nvGrpSpPr>
        <p:grpSpPr>
          <a:xfrm>
            <a:off x="529920" y="66960"/>
            <a:ext cx="1630080" cy="1447560"/>
            <a:chOff x="529920" y="66960"/>
            <a:chExt cx="1630080" cy="1447560"/>
          </a:xfrm>
        </p:grpSpPr>
        <p:grpSp>
          <p:nvGrpSpPr>
            <p:cNvPr id="1046" name="组合 2"/>
            <p:cNvGrpSpPr/>
            <p:nvPr/>
          </p:nvGrpSpPr>
          <p:grpSpPr>
            <a:xfrm>
              <a:off x="529920" y="66960"/>
              <a:ext cx="1630080" cy="1447560"/>
              <a:chOff x="529920" y="66960"/>
              <a:chExt cx="1630080" cy="1447560"/>
            </a:xfrm>
          </p:grpSpPr>
          <p:sp>
            <p:nvSpPr>
              <p:cNvPr id="1047"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8"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9"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0" name="组合 7"/>
              <p:cNvGrpSpPr/>
              <p:nvPr/>
            </p:nvGrpSpPr>
            <p:grpSpPr>
              <a:xfrm>
                <a:off x="529920" y="142200"/>
                <a:ext cx="1630080" cy="1372320"/>
                <a:chOff x="529920" y="142200"/>
                <a:chExt cx="1630080" cy="1372320"/>
              </a:xfrm>
            </p:grpSpPr>
            <p:sp>
              <p:nvSpPr>
                <p:cNvPr id="1051"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2"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6"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9"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0"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1"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2"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4"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5"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6"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7"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82"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1</a:t>
              </a:r>
              <a:endParaRPr b="0" lang="en-US" sz="6600" spc="-1" strike="noStrike">
                <a:solidFill>
                  <a:srgbClr val="000000"/>
                </a:solidFill>
                <a:latin typeface="Calibri"/>
              </a:endParaRPr>
            </a:p>
          </p:txBody>
        </p:sp>
      </p:grpSp>
      <p:sp>
        <p:nvSpPr>
          <p:cNvPr id="1083"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grpSp>
        <p:nvGrpSpPr>
          <p:cNvPr id="1084" name="Group 3"/>
          <p:cNvGrpSpPr/>
          <p:nvPr/>
        </p:nvGrpSpPr>
        <p:grpSpPr>
          <a:xfrm>
            <a:off x="608040" y="3669120"/>
            <a:ext cx="1743120" cy="1730520"/>
            <a:chOff x="608040" y="3669120"/>
            <a:chExt cx="1743120" cy="1730520"/>
          </a:xfrm>
        </p:grpSpPr>
        <p:sp>
          <p:nvSpPr>
            <p:cNvPr id="1085" name="Freeform 133"/>
            <p:cNvSpPr/>
            <p:nvPr/>
          </p:nvSpPr>
          <p:spPr>
            <a:xfrm flipH="1" rot="2700000">
              <a:off x="768960" y="4752000"/>
              <a:ext cx="366480" cy="606960"/>
            </a:xfrm>
            <a:custGeom>
              <a:avLst/>
              <a:gdLst/>
              <a:ahLst/>
              <a:rect l="l" t="t" r="r" b="b"/>
              <a:pathLst>
                <a:path w="397" h="659">
                  <a:moveTo>
                    <a:pt x="2" y="268"/>
                  </a:moveTo>
                  <a:cubicBezTo>
                    <a:pt x="2" y="267"/>
                    <a:pt x="0" y="264"/>
                    <a:pt x="0" y="268"/>
                  </a:cubicBezTo>
                  <a:cubicBezTo>
                    <a:pt x="0" y="268"/>
                    <a:pt x="0" y="268"/>
                    <a:pt x="0" y="268"/>
                  </a:cubicBezTo>
                  <a:cubicBezTo>
                    <a:pt x="0" y="269"/>
                    <a:pt x="2" y="270"/>
                    <a:pt x="3" y="271"/>
                  </a:cubicBezTo>
                  <a:cubicBezTo>
                    <a:pt x="3" y="275"/>
                    <a:pt x="4" y="278"/>
                    <a:pt x="4" y="282"/>
                  </a:cubicBezTo>
                  <a:cubicBezTo>
                    <a:pt x="5" y="283"/>
                    <a:pt x="5" y="283"/>
                    <a:pt x="5" y="284"/>
                  </a:cubicBezTo>
                  <a:cubicBezTo>
                    <a:pt x="10" y="335"/>
                    <a:pt x="25" y="381"/>
                    <a:pt x="48" y="418"/>
                  </a:cubicBezTo>
                  <a:cubicBezTo>
                    <a:pt x="23" y="377"/>
                    <a:pt x="37" y="299"/>
                    <a:pt x="92" y="290"/>
                  </a:cubicBezTo>
                  <a:cubicBezTo>
                    <a:pt x="158" y="280"/>
                    <a:pt x="169" y="399"/>
                    <a:pt x="172" y="441"/>
                  </a:cubicBezTo>
                  <a:cubicBezTo>
                    <a:pt x="174" y="484"/>
                    <a:pt x="145" y="521"/>
                    <a:pt x="145" y="564"/>
                  </a:cubicBezTo>
                  <a:cubicBezTo>
                    <a:pt x="145" y="613"/>
                    <a:pt x="170" y="653"/>
                    <a:pt x="201" y="659"/>
                  </a:cubicBezTo>
                  <a:cubicBezTo>
                    <a:pt x="187" y="656"/>
                    <a:pt x="174" y="616"/>
                    <a:pt x="172" y="604"/>
                  </a:cubicBezTo>
                  <a:cubicBezTo>
                    <a:pt x="168" y="580"/>
                    <a:pt x="175" y="551"/>
                    <a:pt x="182" y="528"/>
                  </a:cubicBezTo>
                  <a:cubicBezTo>
                    <a:pt x="190" y="501"/>
                    <a:pt x="211" y="483"/>
                    <a:pt x="229" y="462"/>
                  </a:cubicBezTo>
                  <a:cubicBezTo>
                    <a:pt x="247" y="440"/>
                    <a:pt x="262" y="414"/>
                    <a:pt x="272" y="386"/>
                  </a:cubicBezTo>
                  <a:cubicBezTo>
                    <a:pt x="275" y="378"/>
                    <a:pt x="278" y="370"/>
                    <a:pt x="280" y="362"/>
                  </a:cubicBezTo>
                  <a:cubicBezTo>
                    <a:pt x="284" y="420"/>
                    <a:pt x="307" y="484"/>
                    <a:pt x="307" y="484"/>
                  </a:cubicBezTo>
                  <a:cubicBezTo>
                    <a:pt x="299" y="437"/>
                    <a:pt x="325" y="406"/>
                    <a:pt x="325" y="406"/>
                  </a:cubicBezTo>
                  <a:cubicBezTo>
                    <a:pt x="397" y="291"/>
                    <a:pt x="370" y="198"/>
                    <a:pt x="370" y="198"/>
                  </a:cubicBezTo>
                  <a:cubicBezTo>
                    <a:pt x="351" y="85"/>
                    <a:pt x="277" y="0"/>
                    <a:pt x="189" y="0"/>
                  </a:cubicBezTo>
                  <a:cubicBezTo>
                    <a:pt x="87" y="0"/>
                    <a:pt x="3" y="114"/>
                    <a:pt x="3" y="254"/>
                  </a:cubicBezTo>
                  <a:cubicBezTo>
                    <a:pt x="3" y="258"/>
                    <a:pt x="2" y="263"/>
                    <a:pt x="2" y="268"/>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Freeform 134"/>
            <p:cNvSpPr/>
            <p:nvPr/>
          </p:nvSpPr>
          <p:spPr>
            <a:xfrm flipH="1" rot="2700000">
              <a:off x="884520" y="4780080"/>
              <a:ext cx="298800" cy="382320"/>
            </a:xfrm>
            <a:custGeom>
              <a:avLst/>
              <a:gdLst/>
              <a:ahLst/>
              <a:rect l="l" t="t" r="r" b="b"/>
              <a:pathLst>
                <a:path w="324" h="415">
                  <a:moveTo>
                    <a:pt x="154" y="0"/>
                  </a:moveTo>
                  <a:cubicBezTo>
                    <a:pt x="225" y="0"/>
                    <a:pt x="288" y="73"/>
                    <a:pt x="304" y="172"/>
                  </a:cubicBezTo>
                  <a:cubicBezTo>
                    <a:pt x="305" y="174"/>
                    <a:pt x="305" y="174"/>
                    <a:pt x="305" y="174"/>
                  </a:cubicBezTo>
                  <a:cubicBezTo>
                    <a:pt x="305" y="176"/>
                    <a:pt x="305" y="176"/>
                    <a:pt x="305" y="176"/>
                  </a:cubicBezTo>
                  <a:cubicBezTo>
                    <a:pt x="306" y="179"/>
                    <a:pt x="324" y="248"/>
                    <a:pt x="276" y="338"/>
                  </a:cubicBezTo>
                  <a:cubicBezTo>
                    <a:pt x="276" y="335"/>
                    <a:pt x="256" y="263"/>
                    <a:pt x="255" y="261"/>
                  </a:cubicBezTo>
                  <a:cubicBezTo>
                    <a:pt x="256" y="270"/>
                    <a:pt x="235" y="292"/>
                    <a:pt x="230" y="302"/>
                  </a:cubicBezTo>
                  <a:cubicBezTo>
                    <a:pt x="209" y="338"/>
                    <a:pt x="198" y="379"/>
                    <a:pt x="170" y="412"/>
                  </a:cubicBezTo>
                  <a:cubicBezTo>
                    <a:pt x="169" y="413"/>
                    <a:pt x="168" y="414"/>
                    <a:pt x="167" y="415"/>
                  </a:cubicBezTo>
                  <a:cubicBezTo>
                    <a:pt x="167" y="413"/>
                    <a:pt x="167" y="411"/>
                    <a:pt x="167" y="409"/>
                  </a:cubicBezTo>
                  <a:cubicBezTo>
                    <a:pt x="159" y="260"/>
                    <a:pt x="107" y="228"/>
                    <a:pt x="65" y="228"/>
                  </a:cubicBezTo>
                  <a:cubicBezTo>
                    <a:pt x="61" y="228"/>
                    <a:pt x="57" y="229"/>
                    <a:pt x="52" y="229"/>
                  </a:cubicBezTo>
                  <a:cubicBezTo>
                    <a:pt x="33" y="232"/>
                    <a:pt x="15" y="242"/>
                    <a:pt x="2" y="256"/>
                  </a:cubicBezTo>
                  <a:cubicBezTo>
                    <a:pt x="2" y="254"/>
                    <a:pt x="1" y="253"/>
                    <a:pt x="1" y="251"/>
                  </a:cubicBezTo>
                  <a:cubicBezTo>
                    <a:pt x="1" y="249"/>
                    <a:pt x="1" y="249"/>
                    <a:pt x="1" y="249"/>
                  </a:cubicBezTo>
                  <a:cubicBezTo>
                    <a:pt x="1" y="246"/>
                    <a:pt x="1" y="242"/>
                    <a:pt x="0" y="239"/>
                  </a:cubicBezTo>
                  <a:cubicBezTo>
                    <a:pt x="0" y="239"/>
                    <a:pt x="0" y="236"/>
                    <a:pt x="0" y="236"/>
                  </a:cubicBezTo>
                  <a:cubicBezTo>
                    <a:pt x="0" y="231"/>
                    <a:pt x="0" y="227"/>
                    <a:pt x="0" y="223"/>
                  </a:cubicBezTo>
                  <a:cubicBezTo>
                    <a:pt x="0" y="100"/>
                    <a:pt x="69" y="0"/>
                    <a:pt x="154" y="0"/>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Freeform 135"/>
            <p:cNvSpPr/>
            <p:nvPr/>
          </p:nvSpPr>
          <p:spPr>
            <a:xfrm flipH="1" rot="2700000">
              <a:off x="961560" y="4802400"/>
              <a:ext cx="195480" cy="276120"/>
            </a:xfrm>
            <a:custGeom>
              <a:avLst/>
              <a:gdLst/>
              <a:ahLst/>
              <a:rect l="l" t="t" r="r" b="b"/>
              <a:pathLst>
                <a:path w="212" h="300">
                  <a:moveTo>
                    <a:pt x="43" y="142"/>
                  </a:moveTo>
                  <a:cubicBezTo>
                    <a:pt x="40" y="142"/>
                    <a:pt x="37" y="142"/>
                    <a:pt x="34" y="142"/>
                  </a:cubicBezTo>
                  <a:cubicBezTo>
                    <a:pt x="21" y="144"/>
                    <a:pt x="10" y="150"/>
                    <a:pt x="1" y="159"/>
                  </a:cubicBezTo>
                  <a:cubicBezTo>
                    <a:pt x="1" y="158"/>
                    <a:pt x="1" y="157"/>
                    <a:pt x="1" y="156"/>
                  </a:cubicBezTo>
                  <a:cubicBezTo>
                    <a:pt x="1" y="155"/>
                    <a:pt x="1" y="155"/>
                    <a:pt x="1" y="155"/>
                  </a:cubicBezTo>
                  <a:cubicBezTo>
                    <a:pt x="0" y="152"/>
                    <a:pt x="0" y="150"/>
                    <a:pt x="0" y="148"/>
                  </a:cubicBezTo>
                  <a:cubicBezTo>
                    <a:pt x="0" y="146"/>
                    <a:pt x="0" y="146"/>
                    <a:pt x="0" y="146"/>
                  </a:cubicBezTo>
                  <a:cubicBezTo>
                    <a:pt x="0" y="143"/>
                    <a:pt x="0" y="141"/>
                    <a:pt x="0" y="139"/>
                  </a:cubicBezTo>
                  <a:cubicBezTo>
                    <a:pt x="0" y="62"/>
                    <a:pt x="45" y="0"/>
                    <a:pt x="101" y="0"/>
                  </a:cubicBezTo>
                  <a:cubicBezTo>
                    <a:pt x="147" y="0"/>
                    <a:pt x="189" y="45"/>
                    <a:pt x="199" y="107"/>
                  </a:cubicBezTo>
                  <a:cubicBezTo>
                    <a:pt x="200" y="108"/>
                    <a:pt x="200" y="108"/>
                    <a:pt x="200" y="108"/>
                  </a:cubicBezTo>
                  <a:cubicBezTo>
                    <a:pt x="200" y="109"/>
                    <a:pt x="200" y="109"/>
                    <a:pt x="200" y="109"/>
                  </a:cubicBezTo>
                  <a:cubicBezTo>
                    <a:pt x="201" y="111"/>
                    <a:pt x="212" y="154"/>
                    <a:pt x="181" y="210"/>
                  </a:cubicBezTo>
                  <a:cubicBezTo>
                    <a:pt x="181" y="208"/>
                    <a:pt x="167" y="164"/>
                    <a:pt x="167" y="162"/>
                  </a:cubicBezTo>
                  <a:cubicBezTo>
                    <a:pt x="168" y="168"/>
                    <a:pt x="154" y="181"/>
                    <a:pt x="150" y="187"/>
                  </a:cubicBezTo>
                  <a:cubicBezTo>
                    <a:pt x="137" y="210"/>
                    <a:pt x="126" y="275"/>
                    <a:pt x="121" y="300"/>
                  </a:cubicBezTo>
                  <a:cubicBezTo>
                    <a:pt x="121" y="300"/>
                    <a:pt x="94" y="134"/>
                    <a:pt x="43" y="142"/>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8" name="Freeform 107"/>
            <p:cNvSpPr/>
            <p:nvPr/>
          </p:nvSpPr>
          <p:spPr>
            <a:xfrm flipH="1" rot="2700000">
              <a:off x="967320" y="4298040"/>
              <a:ext cx="354960" cy="568080"/>
            </a:xfrm>
            <a:custGeom>
              <a:avLst/>
              <a:gdLst/>
              <a:ahLst/>
              <a:rect l="l" t="t" r="r" b="b"/>
              <a:pathLst>
                <a:path w="10000" h="10086">
                  <a:moveTo>
                    <a:pt x="5000" y="0"/>
                  </a:moveTo>
                  <a:cubicBezTo>
                    <a:pt x="7756" y="0"/>
                    <a:pt x="10000" y="1455"/>
                    <a:pt x="10000" y="3212"/>
                  </a:cubicBezTo>
                  <a:lnTo>
                    <a:pt x="10000" y="3293"/>
                  </a:lnTo>
                  <a:lnTo>
                    <a:pt x="10000" y="3293"/>
                  </a:lnTo>
                  <a:cubicBezTo>
                    <a:pt x="10000" y="5717"/>
                    <a:pt x="8814" y="7859"/>
                    <a:pt x="6795" y="9697"/>
                  </a:cubicBezTo>
                  <a:cubicBezTo>
                    <a:pt x="6731" y="9737"/>
                    <a:pt x="6699" y="9778"/>
                    <a:pt x="6635" y="9818"/>
                  </a:cubicBezTo>
                  <a:lnTo>
                    <a:pt x="6635" y="9818"/>
                  </a:lnTo>
                  <a:lnTo>
                    <a:pt x="6635" y="9818"/>
                  </a:lnTo>
                  <a:cubicBezTo>
                    <a:pt x="6442" y="9919"/>
                    <a:pt x="6121" y="10239"/>
                    <a:pt x="5897" y="10000"/>
                  </a:cubicBezTo>
                  <a:cubicBezTo>
                    <a:pt x="5673" y="9761"/>
                    <a:pt x="5619" y="9003"/>
                    <a:pt x="5288" y="8384"/>
                  </a:cubicBezTo>
                  <a:cubicBezTo>
                    <a:pt x="5064" y="7556"/>
                    <a:pt x="4744" y="6848"/>
                    <a:pt x="3910" y="6283"/>
                  </a:cubicBezTo>
                  <a:lnTo>
                    <a:pt x="3910" y="6263"/>
                  </a:lnTo>
                  <a:cubicBezTo>
                    <a:pt x="3237" y="5818"/>
                    <a:pt x="2340" y="5475"/>
                    <a:pt x="1346" y="5333"/>
                  </a:cubicBezTo>
                  <a:cubicBezTo>
                    <a:pt x="513" y="4768"/>
                    <a:pt x="0" y="4000"/>
                    <a:pt x="0" y="3172"/>
                  </a:cubicBezTo>
                  <a:cubicBezTo>
                    <a:pt x="0" y="1414"/>
                    <a:pt x="2244" y="0"/>
                    <a:pt x="5000" y="0"/>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9" name="Freeform 107"/>
            <p:cNvSpPr/>
            <p:nvPr/>
          </p:nvSpPr>
          <p:spPr>
            <a:xfrm rot="2700000">
              <a:off x="1258560" y="4589280"/>
              <a:ext cx="354960" cy="568080"/>
            </a:xfrm>
            <a:custGeom>
              <a:avLst/>
              <a:gdLst/>
              <a:ahLst/>
              <a:rect l="l" t="t" r="r" b="b"/>
              <a:pathLst>
                <a:path w="10000" h="10086">
                  <a:moveTo>
                    <a:pt x="5000" y="0"/>
                  </a:moveTo>
                  <a:cubicBezTo>
                    <a:pt x="7756" y="0"/>
                    <a:pt x="10000" y="1455"/>
                    <a:pt x="10000" y="3212"/>
                  </a:cubicBezTo>
                  <a:lnTo>
                    <a:pt x="10000" y="3293"/>
                  </a:lnTo>
                  <a:lnTo>
                    <a:pt x="10000" y="3293"/>
                  </a:lnTo>
                  <a:cubicBezTo>
                    <a:pt x="10000" y="5717"/>
                    <a:pt x="8814" y="7859"/>
                    <a:pt x="6795" y="9697"/>
                  </a:cubicBezTo>
                  <a:cubicBezTo>
                    <a:pt x="6731" y="9737"/>
                    <a:pt x="6699" y="9778"/>
                    <a:pt x="6635" y="9818"/>
                  </a:cubicBezTo>
                  <a:lnTo>
                    <a:pt x="6635" y="9818"/>
                  </a:lnTo>
                  <a:lnTo>
                    <a:pt x="6635" y="9818"/>
                  </a:lnTo>
                  <a:cubicBezTo>
                    <a:pt x="6442" y="9919"/>
                    <a:pt x="6121" y="10239"/>
                    <a:pt x="5897" y="10000"/>
                  </a:cubicBezTo>
                  <a:cubicBezTo>
                    <a:pt x="5673" y="9761"/>
                    <a:pt x="5619" y="9003"/>
                    <a:pt x="5288" y="8384"/>
                  </a:cubicBezTo>
                  <a:cubicBezTo>
                    <a:pt x="5064" y="7556"/>
                    <a:pt x="4744" y="6848"/>
                    <a:pt x="3910" y="6283"/>
                  </a:cubicBezTo>
                  <a:lnTo>
                    <a:pt x="3910" y="6263"/>
                  </a:lnTo>
                  <a:cubicBezTo>
                    <a:pt x="3237" y="5818"/>
                    <a:pt x="2340" y="5475"/>
                    <a:pt x="1346" y="5333"/>
                  </a:cubicBezTo>
                  <a:cubicBezTo>
                    <a:pt x="513" y="4768"/>
                    <a:pt x="0" y="4000"/>
                    <a:pt x="0" y="3172"/>
                  </a:cubicBezTo>
                  <a:cubicBezTo>
                    <a:pt x="0" y="1414"/>
                    <a:pt x="2244" y="0"/>
                    <a:pt x="5000" y="0"/>
                  </a:cubicBez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0" name="Freeform 108"/>
            <p:cNvSpPr/>
            <p:nvPr/>
          </p:nvSpPr>
          <p:spPr>
            <a:xfrm rot="2700000">
              <a:off x="1332360" y="3726720"/>
              <a:ext cx="678600" cy="1242720"/>
            </a:xfrm>
            <a:custGeom>
              <a:avLst/>
              <a:gdLst/>
              <a:ahLst/>
              <a:rect l="l" t="t" r="r" b="b"/>
              <a:pathLst>
                <a:path w="596" h="1092">
                  <a:moveTo>
                    <a:pt x="298" y="1092"/>
                  </a:moveTo>
                  <a:cubicBezTo>
                    <a:pt x="159" y="1092"/>
                    <a:pt x="159" y="1092"/>
                    <a:pt x="159" y="1092"/>
                  </a:cubicBezTo>
                  <a:cubicBezTo>
                    <a:pt x="31" y="824"/>
                    <a:pt x="21" y="513"/>
                    <a:pt x="21" y="513"/>
                  </a:cubicBezTo>
                  <a:cubicBezTo>
                    <a:pt x="0" y="212"/>
                    <a:pt x="298" y="0"/>
                    <a:pt x="298" y="0"/>
                  </a:cubicBezTo>
                  <a:cubicBezTo>
                    <a:pt x="299" y="0"/>
                    <a:pt x="299" y="0"/>
                    <a:pt x="299" y="0"/>
                  </a:cubicBezTo>
                  <a:cubicBezTo>
                    <a:pt x="299" y="0"/>
                    <a:pt x="596" y="212"/>
                    <a:pt x="575" y="513"/>
                  </a:cubicBezTo>
                  <a:cubicBezTo>
                    <a:pt x="575" y="513"/>
                    <a:pt x="566" y="824"/>
                    <a:pt x="437" y="1092"/>
                  </a:cubicBezTo>
                  <a:lnTo>
                    <a:pt x="298" y="1092"/>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1" name="Oval 113"/>
            <p:cNvSpPr/>
            <p:nvPr/>
          </p:nvSpPr>
          <p:spPr>
            <a:xfrm rot="2700000">
              <a:off x="1643040" y="4155840"/>
              <a:ext cx="226440" cy="22068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2" name="Oval 116"/>
            <p:cNvSpPr/>
            <p:nvPr/>
          </p:nvSpPr>
          <p:spPr>
            <a:xfrm rot="2700000">
              <a:off x="1511280" y="4372560"/>
              <a:ext cx="135720" cy="140400"/>
            </a:xfrm>
            <a:prstGeom prst="ellipse">
              <a:avLst/>
            </a:prstGeom>
            <a:solidFill>
              <a:srgbClr val="ffffff">
                <a:alpha val="35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Oval 119"/>
            <p:cNvSpPr/>
            <p:nvPr/>
          </p:nvSpPr>
          <p:spPr>
            <a:xfrm rot="2700000">
              <a:off x="1410120" y="4529160"/>
              <a:ext cx="83520" cy="81720"/>
            </a:xfrm>
            <a:prstGeom prst="ellipse">
              <a:avLst/>
            </a:prstGeom>
            <a:solidFill>
              <a:srgbClr val="ffffff">
                <a:alpha val="35000"/>
              </a:srgbClr>
            </a:solidFill>
            <a:ln w="0">
              <a:noFill/>
            </a:ln>
          </p:spPr>
          <p:style>
            <a:lnRef idx="0"/>
            <a:fillRef idx="0"/>
            <a:effectRef idx="0"/>
            <a:fontRef idx="minor"/>
          </p:style>
          <p:txBody>
            <a:bodyPr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4" name="Rectangle 13"/>
            <p:cNvSpPr/>
            <p:nvPr/>
          </p:nvSpPr>
          <p:spPr>
            <a:xfrm rot="2700000">
              <a:off x="1127160" y="4769280"/>
              <a:ext cx="138240" cy="84600"/>
            </a:xfrm>
            <a:prstGeom prst="rect">
              <a:avLst/>
            </a:prstGeom>
            <a:solidFill>
              <a:srgbClr val="ffffff">
                <a:alpha val="35000"/>
              </a:srgbClr>
            </a:solidFill>
            <a:ln w="0">
              <a:noFill/>
            </a:ln>
          </p:spPr>
          <p:style>
            <a:lnRef idx="0"/>
            <a:fillRef idx="0"/>
            <a:effectRef idx="0"/>
            <a:fontRef idx="minor"/>
          </p:style>
          <p:txBody>
            <a:bodyPr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5" name="Freeform 14"/>
          <p:cNvSpPr/>
          <p:nvPr/>
        </p:nvSpPr>
        <p:spPr>
          <a:xfrm>
            <a:off x="2157480" y="1935000"/>
            <a:ext cx="10485360" cy="1954440"/>
          </a:xfrm>
          <a:custGeom>
            <a:avLst/>
            <a:gdLst/>
            <a:ahLst/>
            <a:rect l="l" t="t" r="r" b="b"/>
            <a:pathLst>
              <a:path w="7473950" h="1392017">
                <a:moveTo>
                  <a:pt x="0" y="1390650"/>
                </a:moveTo>
                <a:cubicBezTo>
                  <a:pt x="702204" y="835025"/>
                  <a:pt x="1404408" y="279400"/>
                  <a:pt x="2197100" y="279400"/>
                </a:cubicBezTo>
                <a:cubicBezTo>
                  <a:pt x="2989792" y="279400"/>
                  <a:pt x="3876675" y="1437217"/>
                  <a:pt x="4756150" y="1390650"/>
                </a:cubicBezTo>
                <a:cubicBezTo>
                  <a:pt x="5635625" y="1344083"/>
                  <a:pt x="6968067" y="250825"/>
                  <a:pt x="7473950" y="0"/>
                </a:cubicBezTo>
              </a:path>
            </a:pathLst>
          </a:cu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ounded Rectangle 16"/>
          <p:cNvSpPr/>
          <p:nvPr/>
        </p:nvSpPr>
        <p:spPr>
          <a:xfrm>
            <a:off x="3335400" y="2583000"/>
            <a:ext cx="561960" cy="561960"/>
          </a:xfrm>
          <a:prstGeom prst="roundRect">
            <a:avLst>
              <a:gd name="adj" fmla="val 50000"/>
            </a:avLst>
          </a:prstGeom>
          <a:solidFill>
            <a:srgbClr val="3099d6"/>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7" name="Group 17" descr=""/>
          <p:cNvPicPr/>
          <p:nvPr/>
        </p:nvPicPr>
        <p:blipFill>
          <a:blip r:embed="rId1"/>
          <a:stretch/>
        </p:blipFill>
        <p:spPr>
          <a:xfrm>
            <a:off x="3481560" y="2781360"/>
            <a:ext cx="280800" cy="336600"/>
          </a:xfrm>
          <a:prstGeom prst="rect">
            <a:avLst/>
          </a:prstGeom>
          <a:ln w="0">
            <a:noFill/>
          </a:ln>
        </p:spPr>
      </p:pic>
      <p:grpSp>
        <p:nvGrpSpPr>
          <p:cNvPr id="1098" name="Group 21"/>
          <p:cNvGrpSpPr/>
          <p:nvPr/>
        </p:nvGrpSpPr>
        <p:grpSpPr>
          <a:xfrm>
            <a:off x="3209760" y="3218040"/>
            <a:ext cx="1771920" cy="1623960"/>
            <a:chOff x="3209760" y="3218040"/>
            <a:chExt cx="1771920" cy="1623960"/>
          </a:xfrm>
        </p:grpSpPr>
        <p:sp>
          <p:nvSpPr>
            <p:cNvPr id="1099" name="TextBox 22"/>
            <p:cNvSpPr/>
            <p:nvPr/>
          </p:nvSpPr>
          <p:spPr>
            <a:xfrm>
              <a:off x="3209760" y="3218040"/>
              <a:ext cx="162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Lorem Ipsum</a:t>
              </a:r>
              <a:endParaRPr b="0" lang="en-US" sz="1600" spc="-1" strike="noStrike">
                <a:solidFill>
                  <a:srgbClr val="000000"/>
                </a:solidFill>
                <a:latin typeface="Calibri"/>
              </a:endParaRPr>
            </a:p>
          </p:txBody>
        </p:sp>
        <p:sp>
          <p:nvSpPr>
            <p:cNvPr id="1100" name="텍스트 개체 틀 2"/>
            <p:cNvSpPr/>
            <p:nvPr/>
          </p:nvSpPr>
          <p:spPr>
            <a:xfrm>
              <a:off x="3209760" y="3545640"/>
              <a:ext cx="1771920" cy="1296360"/>
            </a:xfrm>
            <a:prstGeom prst="rect">
              <a:avLst/>
            </a:prstGeom>
            <a:noFill/>
            <a:ln w="0">
              <a:noFill/>
            </a:ln>
          </p:spPr>
          <p:style>
            <a:lnRef idx="0"/>
            <a:fillRef idx="0"/>
            <a:effectRef idx="0"/>
            <a:fontRef idx="minor"/>
          </p:style>
          <p:txBody>
            <a:bodyPr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ea typeface="Malgun Gothic"/>
                </a:rPr>
                <a:t>Lorem ipsum dolor sit amet, consectetur adipiscing elit. Curabitur elementum posuere pretium. </a:t>
              </a:r>
              <a:endParaRPr b="0" lang="en-US" sz="1100" spc="-1" strike="noStrike">
                <a:solidFill>
                  <a:srgbClr val="000000"/>
                </a:solidFill>
                <a:latin typeface="Calibri"/>
              </a:endParaRPr>
            </a:p>
          </p:txBody>
        </p:sp>
      </p:grpSp>
      <p:grpSp>
        <p:nvGrpSpPr>
          <p:cNvPr id="1101" name="Group 24"/>
          <p:cNvGrpSpPr/>
          <p:nvPr/>
        </p:nvGrpSpPr>
        <p:grpSpPr>
          <a:xfrm>
            <a:off x="7491240" y="4079880"/>
            <a:ext cx="1771920" cy="1623960"/>
            <a:chOff x="7491240" y="4079880"/>
            <a:chExt cx="1771920" cy="1623960"/>
          </a:xfrm>
        </p:grpSpPr>
        <p:sp>
          <p:nvSpPr>
            <p:cNvPr id="1102" name="TextBox 25"/>
            <p:cNvSpPr/>
            <p:nvPr/>
          </p:nvSpPr>
          <p:spPr>
            <a:xfrm>
              <a:off x="7491240" y="4079880"/>
              <a:ext cx="162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Lorem Ipsum</a:t>
              </a:r>
              <a:endParaRPr b="0" lang="en-US" sz="1600" spc="-1" strike="noStrike">
                <a:solidFill>
                  <a:srgbClr val="000000"/>
                </a:solidFill>
                <a:latin typeface="Calibri"/>
              </a:endParaRPr>
            </a:p>
          </p:txBody>
        </p:sp>
        <p:sp>
          <p:nvSpPr>
            <p:cNvPr id="1103" name="텍스트 개체 틀 2"/>
            <p:cNvSpPr/>
            <p:nvPr/>
          </p:nvSpPr>
          <p:spPr>
            <a:xfrm>
              <a:off x="7491240" y="4407480"/>
              <a:ext cx="1771920" cy="1296360"/>
            </a:xfrm>
            <a:prstGeom prst="rect">
              <a:avLst/>
            </a:prstGeom>
            <a:noFill/>
            <a:ln w="0">
              <a:noFill/>
            </a:ln>
          </p:spPr>
          <p:style>
            <a:lnRef idx="0"/>
            <a:fillRef idx="0"/>
            <a:effectRef idx="0"/>
            <a:fontRef idx="minor"/>
          </p:style>
          <p:txBody>
            <a:bodyPr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ea typeface="Malgun Gothic"/>
                </a:rPr>
                <a:t>Lorem ipsum dolor sit amet, consectetur adipiscing elit. Curabitur elementum posuere pretium. </a:t>
              </a:r>
              <a:endParaRPr b="0" lang="en-US" sz="1100" spc="-1" strike="noStrike">
                <a:solidFill>
                  <a:srgbClr val="000000"/>
                </a:solidFill>
                <a:latin typeface="Calibri"/>
              </a:endParaRPr>
            </a:p>
          </p:txBody>
        </p:sp>
      </p:grpSp>
      <p:sp>
        <p:nvSpPr>
          <p:cNvPr id="1104" name="Rounded Rectangle 28"/>
          <p:cNvSpPr/>
          <p:nvPr/>
        </p:nvSpPr>
        <p:spPr>
          <a:xfrm>
            <a:off x="7620120" y="3389400"/>
            <a:ext cx="563400" cy="561960"/>
          </a:xfrm>
          <a:prstGeom prst="roundRect">
            <a:avLst>
              <a:gd name="adj" fmla="val 50000"/>
            </a:avLst>
          </a:prstGeom>
          <a:solidFill>
            <a:srgbClr val="3099d6"/>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Freeform 28"/>
          <p:cNvSpPr/>
          <p:nvPr/>
        </p:nvSpPr>
        <p:spPr>
          <a:xfrm>
            <a:off x="7791480" y="3544920"/>
            <a:ext cx="237960" cy="239760"/>
          </a:xfrm>
          <a:custGeom>
            <a:avLst/>
            <a:gdLst/>
            <a:ahLst/>
            <a:rect l="l" t="t" r="r" b="b"/>
            <a:pathLst>
              <a:path w="128" h="128">
                <a:moveTo>
                  <a:pt x="126" y="45"/>
                </a:moveTo>
                <a:cubicBezTo>
                  <a:pt x="114" y="29"/>
                  <a:pt x="114" y="29"/>
                  <a:pt x="114" y="29"/>
                </a:cubicBezTo>
                <a:cubicBezTo>
                  <a:pt x="113" y="28"/>
                  <a:pt x="113" y="28"/>
                  <a:pt x="112" y="27"/>
                </a:cubicBezTo>
                <a:cubicBezTo>
                  <a:pt x="112" y="8"/>
                  <a:pt x="112" y="8"/>
                  <a:pt x="112" y="8"/>
                </a:cubicBezTo>
                <a:cubicBezTo>
                  <a:pt x="112" y="4"/>
                  <a:pt x="108" y="0"/>
                  <a:pt x="104" y="0"/>
                </a:cubicBezTo>
                <a:cubicBezTo>
                  <a:pt x="24" y="0"/>
                  <a:pt x="24" y="0"/>
                  <a:pt x="24" y="0"/>
                </a:cubicBezTo>
                <a:cubicBezTo>
                  <a:pt x="20" y="0"/>
                  <a:pt x="16" y="4"/>
                  <a:pt x="16" y="8"/>
                </a:cubicBezTo>
                <a:cubicBezTo>
                  <a:pt x="16" y="27"/>
                  <a:pt x="16" y="27"/>
                  <a:pt x="16" y="27"/>
                </a:cubicBezTo>
                <a:cubicBezTo>
                  <a:pt x="15" y="28"/>
                  <a:pt x="15" y="28"/>
                  <a:pt x="14" y="29"/>
                </a:cubicBezTo>
                <a:cubicBezTo>
                  <a:pt x="2" y="45"/>
                  <a:pt x="2" y="45"/>
                  <a:pt x="2" y="45"/>
                </a:cubicBezTo>
                <a:cubicBezTo>
                  <a:pt x="1" y="47"/>
                  <a:pt x="0" y="49"/>
                  <a:pt x="0" y="52"/>
                </a:cubicBezTo>
                <a:cubicBezTo>
                  <a:pt x="0" y="56"/>
                  <a:pt x="0" y="56"/>
                  <a:pt x="0" y="56"/>
                </a:cubicBezTo>
                <a:cubicBezTo>
                  <a:pt x="0" y="63"/>
                  <a:pt x="5" y="68"/>
                  <a:pt x="12" y="68"/>
                </a:cubicBezTo>
                <a:cubicBezTo>
                  <a:pt x="12" y="68"/>
                  <a:pt x="12" y="68"/>
                  <a:pt x="12" y="68"/>
                </a:cubicBezTo>
                <a:cubicBezTo>
                  <a:pt x="12" y="120"/>
                  <a:pt x="12" y="120"/>
                  <a:pt x="12" y="120"/>
                </a:cubicBezTo>
                <a:cubicBezTo>
                  <a:pt x="12" y="124"/>
                  <a:pt x="16" y="128"/>
                  <a:pt x="20" y="128"/>
                </a:cubicBezTo>
                <a:cubicBezTo>
                  <a:pt x="108" y="128"/>
                  <a:pt x="108" y="128"/>
                  <a:pt x="108" y="128"/>
                </a:cubicBezTo>
                <a:cubicBezTo>
                  <a:pt x="112" y="128"/>
                  <a:pt x="116" y="124"/>
                  <a:pt x="116" y="120"/>
                </a:cubicBezTo>
                <a:cubicBezTo>
                  <a:pt x="116" y="68"/>
                  <a:pt x="116" y="68"/>
                  <a:pt x="116" y="68"/>
                </a:cubicBezTo>
                <a:cubicBezTo>
                  <a:pt x="116" y="68"/>
                  <a:pt x="116" y="68"/>
                  <a:pt x="116" y="68"/>
                </a:cubicBezTo>
                <a:cubicBezTo>
                  <a:pt x="123" y="68"/>
                  <a:pt x="128" y="63"/>
                  <a:pt x="128" y="56"/>
                </a:cubicBezTo>
                <a:cubicBezTo>
                  <a:pt x="128" y="52"/>
                  <a:pt x="128" y="52"/>
                  <a:pt x="128" y="52"/>
                </a:cubicBezTo>
                <a:cubicBezTo>
                  <a:pt x="128" y="49"/>
                  <a:pt x="127" y="47"/>
                  <a:pt x="126" y="45"/>
                </a:cubicBezTo>
                <a:close/>
                <a:moveTo>
                  <a:pt x="104" y="8"/>
                </a:moveTo>
                <a:cubicBezTo>
                  <a:pt x="104" y="24"/>
                  <a:pt x="104" y="24"/>
                  <a:pt x="104" y="24"/>
                </a:cubicBezTo>
                <a:cubicBezTo>
                  <a:pt x="24" y="24"/>
                  <a:pt x="24" y="24"/>
                  <a:pt x="24" y="24"/>
                </a:cubicBezTo>
                <a:cubicBezTo>
                  <a:pt x="24" y="24"/>
                  <a:pt x="24" y="24"/>
                  <a:pt x="24" y="24"/>
                </a:cubicBezTo>
                <a:cubicBezTo>
                  <a:pt x="24" y="8"/>
                  <a:pt x="24" y="8"/>
                  <a:pt x="24" y="8"/>
                </a:cubicBezTo>
                <a:lnTo>
                  <a:pt x="104" y="8"/>
                </a:lnTo>
                <a:close/>
                <a:moveTo>
                  <a:pt x="41" y="60"/>
                </a:moveTo>
                <a:cubicBezTo>
                  <a:pt x="24" y="60"/>
                  <a:pt x="24" y="60"/>
                  <a:pt x="24" y="60"/>
                </a:cubicBezTo>
                <a:cubicBezTo>
                  <a:pt x="40" y="32"/>
                  <a:pt x="40" y="32"/>
                  <a:pt x="40" y="32"/>
                </a:cubicBezTo>
                <a:cubicBezTo>
                  <a:pt x="49" y="32"/>
                  <a:pt x="49" y="32"/>
                  <a:pt x="49" y="32"/>
                </a:cubicBezTo>
                <a:lnTo>
                  <a:pt x="41" y="60"/>
                </a:lnTo>
                <a:close/>
                <a:moveTo>
                  <a:pt x="53" y="32"/>
                </a:moveTo>
                <a:cubicBezTo>
                  <a:pt x="62" y="32"/>
                  <a:pt x="62" y="32"/>
                  <a:pt x="62" y="32"/>
                </a:cubicBezTo>
                <a:cubicBezTo>
                  <a:pt x="62" y="60"/>
                  <a:pt x="62" y="60"/>
                  <a:pt x="62" y="60"/>
                </a:cubicBezTo>
                <a:cubicBezTo>
                  <a:pt x="45" y="60"/>
                  <a:pt x="45" y="60"/>
                  <a:pt x="45" y="60"/>
                </a:cubicBezTo>
                <a:lnTo>
                  <a:pt x="53" y="32"/>
                </a:lnTo>
                <a:close/>
                <a:moveTo>
                  <a:pt x="66" y="32"/>
                </a:moveTo>
                <a:cubicBezTo>
                  <a:pt x="75" y="32"/>
                  <a:pt x="75" y="32"/>
                  <a:pt x="75" y="32"/>
                </a:cubicBezTo>
                <a:cubicBezTo>
                  <a:pt x="83" y="60"/>
                  <a:pt x="83" y="60"/>
                  <a:pt x="83" y="60"/>
                </a:cubicBezTo>
                <a:cubicBezTo>
                  <a:pt x="66" y="60"/>
                  <a:pt x="66" y="60"/>
                  <a:pt x="66" y="60"/>
                </a:cubicBezTo>
                <a:lnTo>
                  <a:pt x="66" y="32"/>
                </a:lnTo>
                <a:close/>
                <a:moveTo>
                  <a:pt x="79" y="32"/>
                </a:moveTo>
                <a:cubicBezTo>
                  <a:pt x="88" y="32"/>
                  <a:pt x="88" y="32"/>
                  <a:pt x="88" y="32"/>
                </a:cubicBezTo>
                <a:cubicBezTo>
                  <a:pt x="104" y="60"/>
                  <a:pt x="104" y="60"/>
                  <a:pt x="104" y="60"/>
                </a:cubicBezTo>
                <a:cubicBezTo>
                  <a:pt x="87" y="60"/>
                  <a:pt x="87" y="60"/>
                  <a:pt x="87" y="60"/>
                </a:cubicBezTo>
                <a:lnTo>
                  <a:pt x="79" y="32"/>
                </a:lnTo>
                <a:close/>
                <a:moveTo>
                  <a:pt x="8" y="56"/>
                </a:moveTo>
                <a:cubicBezTo>
                  <a:pt x="8" y="52"/>
                  <a:pt x="8" y="52"/>
                  <a:pt x="8" y="52"/>
                </a:cubicBezTo>
                <a:cubicBezTo>
                  <a:pt x="8" y="51"/>
                  <a:pt x="8" y="50"/>
                  <a:pt x="9" y="50"/>
                </a:cubicBezTo>
                <a:cubicBezTo>
                  <a:pt x="21" y="34"/>
                  <a:pt x="21" y="34"/>
                  <a:pt x="21" y="34"/>
                </a:cubicBezTo>
                <a:cubicBezTo>
                  <a:pt x="22" y="33"/>
                  <a:pt x="23" y="32"/>
                  <a:pt x="24" y="32"/>
                </a:cubicBezTo>
                <a:cubicBezTo>
                  <a:pt x="35" y="32"/>
                  <a:pt x="35" y="32"/>
                  <a:pt x="35" y="32"/>
                </a:cubicBezTo>
                <a:cubicBezTo>
                  <a:pt x="19" y="60"/>
                  <a:pt x="19" y="60"/>
                  <a:pt x="19" y="60"/>
                </a:cubicBezTo>
                <a:cubicBezTo>
                  <a:pt x="12" y="60"/>
                  <a:pt x="12" y="60"/>
                  <a:pt x="12" y="60"/>
                </a:cubicBezTo>
                <a:cubicBezTo>
                  <a:pt x="10" y="60"/>
                  <a:pt x="8" y="58"/>
                  <a:pt x="8" y="56"/>
                </a:cubicBezTo>
                <a:close/>
                <a:moveTo>
                  <a:pt x="80" y="120"/>
                </a:moveTo>
                <a:cubicBezTo>
                  <a:pt x="50" y="120"/>
                  <a:pt x="50" y="120"/>
                  <a:pt x="50" y="120"/>
                </a:cubicBezTo>
                <a:cubicBezTo>
                  <a:pt x="50" y="80"/>
                  <a:pt x="50" y="80"/>
                  <a:pt x="50" y="80"/>
                </a:cubicBezTo>
                <a:cubicBezTo>
                  <a:pt x="80" y="80"/>
                  <a:pt x="80" y="80"/>
                  <a:pt x="80" y="80"/>
                </a:cubicBezTo>
                <a:lnTo>
                  <a:pt x="80" y="120"/>
                </a:lnTo>
                <a:close/>
                <a:moveTo>
                  <a:pt x="108" y="120"/>
                </a:moveTo>
                <a:cubicBezTo>
                  <a:pt x="84" y="120"/>
                  <a:pt x="84" y="120"/>
                  <a:pt x="84" y="120"/>
                </a:cubicBezTo>
                <a:cubicBezTo>
                  <a:pt x="84" y="80"/>
                  <a:pt x="84" y="80"/>
                  <a:pt x="84" y="80"/>
                </a:cubicBezTo>
                <a:cubicBezTo>
                  <a:pt x="84" y="78"/>
                  <a:pt x="82" y="76"/>
                  <a:pt x="80" y="76"/>
                </a:cubicBezTo>
                <a:cubicBezTo>
                  <a:pt x="50" y="76"/>
                  <a:pt x="50" y="76"/>
                  <a:pt x="50" y="76"/>
                </a:cubicBezTo>
                <a:cubicBezTo>
                  <a:pt x="48" y="76"/>
                  <a:pt x="46" y="78"/>
                  <a:pt x="46" y="80"/>
                </a:cubicBezTo>
                <a:cubicBezTo>
                  <a:pt x="46" y="120"/>
                  <a:pt x="46" y="120"/>
                  <a:pt x="46" y="120"/>
                </a:cubicBezTo>
                <a:cubicBezTo>
                  <a:pt x="20" y="120"/>
                  <a:pt x="20" y="120"/>
                  <a:pt x="20" y="120"/>
                </a:cubicBezTo>
                <a:cubicBezTo>
                  <a:pt x="20" y="68"/>
                  <a:pt x="20" y="68"/>
                  <a:pt x="20" y="68"/>
                </a:cubicBezTo>
                <a:cubicBezTo>
                  <a:pt x="108" y="68"/>
                  <a:pt x="108" y="68"/>
                  <a:pt x="108" y="68"/>
                </a:cubicBezTo>
                <a:lnTo>
                  <a:pt x="108" y="120"/>
                </a:lnTo>
                <a:close/>
                <a:moveTo>
                  <a:pt x="120" y="56"/>
                </a:moveTo>
                <a:cubicBezTo>
                  <a:pt x="120" y="58"/>
                  <a:pt x="118" y="60"/>
                  <a:pt x="116" y="60"/>
                </a:cubicBezTo>
                <a:cubicBezTo>
                  <a:pt x="109" y="60"/>
                  <a:pt x="109" y="60"/>
                  <a:pt x="109" y="60"/>
                </a:cubicBezTo>
                <a:cubicBezTo>
                  <a:pt x="93" y="32"/>
                  <a:pt x="93" y="32"/>
                  <a:pt x="93" y="32"/>
                </a:cubicBezTo>
                <a:cubicBezTo>
                  <a:pt x="104" y="32"/>
                  <a:pt x="104" y="32"/>
                  <a:pt x="104" y="32"/>
                </a:cubicBezTo>
                <a:cubicBezTo>
                  <a:pt x="104" y="32"/>
                  <a:pt x="104" y="32"/>
                  <a:pt x="104" y="32"/>
                </a:cubicBezTo>
                <a:cubicBezTo>
                  <a:pt x="105" y="32"/>
                  <a:pt x="106" y="33"/>
                  <a:pt x="107" y="34"/>
                </a:cubicBezTo>
                <a:cubicBezTo>
                  <a:pt x="119" y="50"/>
                  <a:pt x="119" y="50"/>
                  <a:pt x="119" y="50"/>
                </a:cubicBezTo>
                <a:cubicBezTo>
                  <a:pt x="120" y="50"/>
                  <a:pt x="120" y="51"/>
                  <a:pt x="120" y="52"/>
                </a:cubicBezTo>
                <a:lnTo>
                  <a:pt x="120" y="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30"/>
          <p:cNvGrpSpPr/>
          <p:nvPr/>
        </p:nvGrpSpPr>
        <p:grpSpPr>
          <a:xfrm>
            <a:off x="9990000" y="3726000"/>
            <a:ext cx="1771920" cy="1623960"/>
            <a:chOff x="9990000" y="3726000"/>
            <a:chExt cx="1771920" cy="1623960"/>
          </a:xfrm>
        </p:grpSpPr>
        <p:sp>
          <p:nvSpPr>
            <p:cNvPr id="1107" name="TextBox 31"/>
            <p:cNvSpPr/>
            <p:nvPr/>
          </p:nvSpPr>
          <p:spPr>
            <a:xfrm>
              <a:off x="9990000" y="3726000"/>
              <a:ext cx="162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Lorem Ipsum</a:t>
              </a:r>
              <a:endParaRPr b="0" lang="en-US" sz="1600" spc="-1" strike="noStrike">
                <a:solidFill>
                  <a:srgbClr val="000000"/>
                </a:solidFill>
                <a:latin typeface="Calibri"/>
              </a:endParaRPr>
            </a:p>
          </p:txBody>
        </p:sp>
        <p:sp>
          <p:nvSpPr>
            <p:cNvPr id="1108" name="텍스트 개체 틀 2"/>
            <p:cNvSpPr/>
            <p:nvPr/>
          </p:nvSpPr>
          <p:spPr>
            <a:xfrm>
              <a:off x="9990000" y="4053600"/>
              <a:ext cx="1771920" cy="1296360"/>
            </a:xfrm>
            <a:prstGeom prst="rect">
              <a:avLst/>
            </a:prstGeom>
            <a:noFill/>
            <a:ln w="0">
              <a:noFill/>
            </a:ln>
          </p:spPr>
          <p:style>
            <a:lnRef idx="0"/>
            <a:fillRef idx="0"/>
            <a:effectRef idx="0"/>
            <a:fontRef idx="minor"/>
          </p:style>
          <p:txBody>
            <a:bodyPr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ea typeface="Malgun Gothic"/>
                </a:rPr>
                <a:t>Lorem ipsum dolor sit amet, consectetur adipiscing elit. Curabitur elementum posuere pretium. </a:t>
              </a:r>
              <a:endParaRPr b="0" lang="en-US" sz="1100" spc="-1" strike="noStrike">
                <a:solidFill>
                  <a:srgbClr val="000000"/>
                </a:solidFill>
                <a:latin typeface="Calibri"/>
              </a:endParaRPr>
            </a:p>
          </p:txBody>
        </p:sp>
      </p:grpSp>
      <p:sp>
        <p:nvSpPr>
          <p:cNvPr id="1109" name="Rounded Rectangle 34"/>
          <p:cNvSpPr/>
          <p:nvPr/>
        </p:nvSpPr>
        <p:spPr>
          <a:xfrm>
            <a:off x="10118880" y="3033720"/>
            <a:ext cx="563400" cy="563400"/>
          </a:xfrm>
          <a:prstGeom prst="roundRect">
            <a:avLst>
              <a:gd name="adj" fmla="val 50000"/>
            </a:avLst>
          </a:prstGeom>
          <a:solidFill>
            <a:srgbClr val="3099d6"/>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0" name="Group 35" descr=""/>
          <p:cNvPicPr/>
          <p:nvPr/>
        </p:nvPicPr>
        <p:blipFill>
          <a:blip r:embed="rId2"/>
          <a:stretch/>
        </p:blipFill>
        <p:spPr>
          <a:xfrm>
            <a:off x="10263240" y="3168720"/>
            <a:ext cx="277920" cy="317520"/>
          </a:xfrm>
          <a:prstGeom prst="rect">
            <a:avLst/>
          </a:prstGeom>
          <a:ln w="0">
            <a:noFill/>
          </a:ln>
        </p:spPr>
      </p:pic>
      <p:grpSp>
        <p:nvGrpSpPr>
          <p:cNvPr id="1111" name="Group 42"/>
          <p:cNvGrpSpPr/>
          <p:nvPr/>
        </p:nvGrpSpPr>
        <p:grpSpPr>
          <a:xfrm>
            <a:off x="5402160" y="2849400"/>
            <a:ext cx="1771920" cy="1624320"/>
            <a:chOff x="5402160" y="2849400"/>
            <a:chExt cx="1771920" cy="1624320"/>
          </a:xfrm>
        </p:grpSpPr>
        <p:sp>
          <p:nvSpPr>
            <p:cNvPr id="1112" name="TextBox 43"/>
            <p:cNvSpPr/>
            <p:nvPr/>
          </p:nvSpPr>
          <p:spPr>
            <a:xfrm>
              <a:off x="5402160" y="2849400"/>
              <a:ext cx="162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condensed"/>
                </a:rPr>
                <a:t>Lorem Ipsum</a:t>
              </a:r>
              <a:endParaRPr b="0" lang="en-US" sz="1600" spc="-1" strike="noStrike">
                <a:solidFill>
                  <a:srgbClr val="000000"/>
                </a:solidFill>
                <a:latin typeface="Calibri"/>
              </a:endParaRPr>
            </a:p>
          </p:txBody>
        </p:sp>
        <p:sp>
          <p:nvSpPr>
            <p:cNvPr id="1113" name="텍스트 개체 틀 2"/>
            <p:cNvSpPr/>
            <p:nvPr/>
          </p:nvSpPr>
          <p:spPr>
            <a:xfrm>
              <a:off x="5402160" y="3177000"/>
              <a:ext cx="1771920" cy="1296720"/>
            </a:xfrm>
            <a:prstGeom prst="rect">
              <a:avLst/>
            </a:prstGeom>
            <a:noFill/>
            <a:ln w="0">
              <a:noFill/>
            </a:ln>
          </p:spPr>
          <p:style>
            <a:lnRef idx="0"/>
            <a:fillRef idx="0"/>
            <a:effectRef idx="0"/>
            <a:fontRef idx="minor"/>
          </p:style>
          <p:txBody>
            <a:bodyPr anchor="t">
              <a:noAutofit/>
            </a:bodyPr>
            <a:p>
              <a:pPr>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ea typeface="Malgun Gothic"/>
                </a:rPr>
                <a:t>Lorem ipsum dolor sit amet, consectetur adipiscing elit. Curabitur elementum posuere pretium. </a:t>
              </a:r>
              <a:endParaRPr b="0" lang="en-US" sz="1100" spc="-1" strike="noStrike">
                <a:solidFill>
                  <a:srgbClr val="000000"/>
                </a:solidFill>
                <a:latin typeface="Calibri"/>
              </a:endParaRPr>
            </a:p>
          </p:txBody>
        </p:sp>
      </p:grpSp>
      <p:sp>
        <p:nvSpPr>
          <p:cNvPr id="1114" name="Rounded Rectangle 46"/>
          <p:cNvSpPr/>
          <p:nvPr/>
        </p:nvSpPr>
        <p:spPr>
          <a:xfrm>
            <a:off x="5535720" y="2146320"/>
            <a:ext cx="561960" cy="561960"/>
          </a:xfrm>
          <a:prstGeom prst="roundRect">
            <a:avLst>
              <a:gd name="adj" fmla="val 50000"/>
            </a:avLst>
          </a:prstGeom>
          <a:solidFill>
            <a:srgbClr val="3099d6"/>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5" name="Freeform 39"/>
          <p:cNvSpPr/>
          <p:nvPr/>
        </p:nvSpPr>
        <p:spPr>
          <a:xfrm>
            <a:off x="5700600" y="2298600"/>
            <a:ext cx="252360" cy="252360"/>
          </a:xfrm>
          <a:custGeom>
            <a:avLst/>
            <a:gdLst/>
            <a:ahLst/>
            <a:rect l="l" t="t" r="r" b="b"/>
            <a:pathLst>
              <a:path w="224" h="223">
                <a:moveTo>
                  <a:pt x="176" y="48"/>
                </a:moveTo>
                <a:cubicBezTo>
                  <a:pt x="174" y="46"/>
                  <a:pt x="171" y="46"/>
                  <a:pt x="169" y="48"/>
                </a:cubicBezTo>
                <a:cubicBezTo>
                  <a:pt x="167" y="50"/>
                  <a:pt x="167" y="53"/>
                  <a:pt x="169" y="54"/>
                </a:cubicBezTo>
                <a:cubicBezTo>
                  <a:pt x="187" y="73"/>
                  <a:pt x="187" y="102"/>
                  <a:pt x="169" y="120"/>
                </a:cubicBezTo>
                <a:cubicBezTo>
                  <a:pt x="167" y="122"/>
                  <a:pt x="167" y="125"/>
                  <a:pt x="169" y="127"/>
                </a:cubicBezTo>
                <a:cubicBezTo>
                  <a:pt x="171" y="129"/>
                  <a:pt x="174" y="129"/>
                  <a:pt x="176" y="127"/>
                </a:cubicBezTo>
                <a:cubicBezTo>
                  <a:pt x="197" y="105"/>
                  <a:pt x="197" y="70"/>
                  <a:pt x="176" y="48"/>
                </a:cubicBezTo>
                <a:close/>
                <a:moveTo>
                  <a:pt x="193" y="31"/>
                </a:moveTo>
                <a:cubicBezTo>
                  <a:pt x="161" y="0"/>
                  <a:pt x="111" y="0"/>
                  <a:pt x="80" y="31"/>
                </a:cubicBezTo>
                <a:cubicBezTo>
                  <a:pt x="53" y="58"/>
                  <a:pt x="49" y="98"/>
                  <a:pt x="68" y="129"/>
                </a:cubicBezTo>
                <a:cubicBezTo>
                  <a:pt x="10" y="188"/>
                  <a:pt x="10" y="188"/>
                  <a:pt x="10" y="188"/>
                </a:cubicBezTo>
                <a:cubicBezTo>
                  <a:pt x="10" y="188"/>
                  <a:pt x="0" y="194"/>
                  <a:pt x="15" y="208"/>
                </a:cubicBezTo>
                <a:cubicBezTo>
                  <a:pt x="30" y="223"/>
                  <a:pt x="35" y="214"/>
                  <a:pt x="35" y="214"/>
                </a:cubicBezTo>
                <a:cubicBezTo>
                  <a:pt x="94" y="155"/>
                  <a:pt x="94" y="155"/>
                  <a:pt x="94" y="155"/>
                </a:cubicBezTo>
                <a:cubicBezTo>
                  <a:pt x="125" y="174"/>
                  <a:pt x="166" y="170"/>
                  <a:pt x="193" y="144"/>
                </a:cubicBezTo>
                <a:cubicBezTo>
                  <a:pt x="224" y="113"/>
                  <a:pt x="224" y="62"/>
                  <a:pt x="193" y="31"/>
                </a:cubicBezTo>
                <a:close/>
                <a:moveTo>
                  <a:pt x="183" y="134"/>
                </a:moveTo>
                <a:cubicBezTo>
                  <a:pt x="157" y="160"/>
                  <a:pt x="115" y="160"/>
                  <a:pt x="90" y="134"/>
                </a:cubicBezTo>
                <a:cubicBezTo>
                  <a:pt x="64" y="108"/>
                  <a:pt x="64" y="67"/>
                  <a:pt x="90" y="41"/>
                </a:cubicBezTo>
                <a:cubicBezTo>
                  <a:pt x="115" y="15"/>
                  <a:pt x="157" y="15"/>
                  <a:pt x="183" y="41"/>
                </a:cubicBezTo>
                <a:cubicBezTo>
                  <a:pt x="208" y="67"/>
                  <a:pt x="208" y="108"/>
                  <a:pt x="183" y="13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组合 42"/>
          <p:cNvGrpSpPr/>
          <p:nvPr/>
        </p:nvGrpSpPr>
        <p:grpSpPr>
          <a:xfrm>
            <a:off x="5183280" y="741240"/>
            <a:ext cx="1268280" cy="1123920"/>
            <a:chOff x="5183280" y="741240"/>
            <a:chExt cx="1268280" cy="1123920"/>
          </a:xfrm>
        </p:grpSpPr>
        <p:sp>
          <p:nvSpPr>
            <p:cNvPr id="76" name="Freeform 5"/>
            <p:cNvSpPr/>
            <p:nvPr/>
          </p:nvSpPr>
          <p:spPr>
            <a:xfrm>
              <a:off x="5183280" y="741240"/>
              <a:ext cx="1268280" cy="11239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Freeform 5"/>
            <p:cNvSpPr/>
            <p:nvPr/>
          </p:nvSpPr>
          <p:spPr>
            <a:xfrm>
              <a:off x="5402520" y="935640"/>
              <a:ext cx="829440" cy="7351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文本框 41"/>
            <p:cNvSpPr/>
            <p:nvPr/>
          </p:nvSpPr>
          <p:spPr>
            <a:xfrm>
              <a:off x="5360400" y="979920"/>
              <a:ext cx="914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99d6"/>
                  </a:solidFill>
                  <a:latin typeface="微软雅黑"/>
                  <a:ea typeface="微软雅黑"/>
                </a:rPr>
                <a:t>01</a:t>
              </a:r>
              <a:endParaRPr b="0" lang="en-US" sz="3600" spc="-1" strike="noStrike">
                <a:solidFill>
                  <a:srgbClr val="000000"/>
                </a:solidFill>
                <a:latin typeface="Calibri"/>
              </a:endParaRPr>
            </a:p>
          </p:txBody>
        </p:sp>
      </p:grpSp>
      <p:grpSp>
        <p:nvGrpSpPr>
          <p:cNvPr id="79" name="组合 43"/>
          <p:cNvGrpSpPr/>
          <p:nvPr/>
        </p:nvGrpSpPr>
        <p:grpSpPr>
          <a:xfrm>
            <a:off x="5183280" y="2158920"/>
            <a:ext cx="1268280" cy="1123920"/>
            <a:chOff x="5183280" y="2158920"/>
            <a:chExt cx="1268280" cy="1123920"/>
          </a:xfrm>
        </p:grpSpPr>
        <p:sp>
          <p:nvSpPr>
            <p:cNvPr id="80" name="Freeform 5"/>
            <p:cNvSpPr/>
            <p:nvPr/>
          </p:nvSpPr>
          <p:spPr>
            <a:xfrm>
              <a:off x="5183280" y="2158920"/>
              <a:ext cx="1268280" cy="11239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Freeform 5"/>
            <p:cNvSpPr/>
            <p:nvPr/>
          </p:nvSpPr>
          <p:spPr>
            <a:xfrm>
              <a:off x="5402520" y="2353320"/>
              <a:ext cx="829440" cy="7351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文本框 46"/>
            <p:cNvSpPr/>
            <p:nvPr/>
          </p:nvSpPr>
          <p:spPr>
            <a:xfrm>
              <a:off x="5360400" y="2397600"/>
              <a:ext cx="914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99d6"/>
                  </a:solidFill>
                  <a:latin typeface="微软雅黑"/>
                  <a:ea typeface="微软雅黑"/>
                </a:rPr>
                <a:t>02</a:t>
              </a:r>
              <a:endParaRPr b="0" lang="en-US" sz="3600" spc="-1" strike="noStrike">
                <a:solidFill>
                  <a:srgbClr val="000000"/>
                </a:solidFill>
                <a:latin typeface="Calibri"/>
              </a:endParaRPr>
            </a:p>
          </p:txBody>
        </p:sp>
      </p:grpSp>
      <p:grpSp>
        <p:nvGrpSpPr>
          <p:cNvPr id="83" name="组合 47"/>
          <p:cNvGrpSpPr/>
          <p:nvPr/>
        </p:nvGrpSpPr>
        <p:grpSpPr>
          <a:xfrm>
            <a:off x="5183280" y="3575160"/>
            <a:ext cx="1268280" cy="1123920"/>
            <a:chOff x="5183280" y="3575160"/>
            <a:chExt cx="1268280" cy="1123920"/>
          </a:xfrm>
        </p:grpSpPr>
        <p:sp>
          <p:nvSpPr>
            <p:cNvPr id="84" name="Freeform 5"/>
            <p:cNvSpPr/>
            <p:nvPr/>
          </p:nvSpPr>
          <p:spPr>
            <a:xfrm>
              <a:off x="5183280" y="3575160"/>
              <a:ext cx="1268280" cy="11239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Freeform 5"/>
            <p:cNvSpPr/>
            <p:nvPr/>
          </p:nvSpPr>
          <p:spPr>
            <a:xfrm>
              <a:off x="5402520" y="3769560"/>
              <a:ext cx="829440" cy="7351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文本框 50"/>
            <p:cNvSpPr/>
            <p:nvPr/>
          </p:nvSpPr>
          <p:spPr>
            <a:xfrm>
              <a:off x="5360400" y="3813840"/>
              <a:ext cx="914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99d6"/>
                  </a:solidFill>
                  <a:latin typeface="微软雅黑"/>
                  <a:ea typeface="微软雅黑"/>
                </a:rPr>
                <a:t>03</a:t>
              </a:r>
              <a:endParaRPr b="0" lang="en-US" sz="3600" spc="-1" strike="noStrike">
                <a:solidFill>
                  <a:srgbClr val="000000"/>
                </a:solidFill>
                <a:latin typeface="Calibri"/>
              </a:endParaRPr>
            </a:p>
          </p:txBody>
        </p:sp>
      </p:grpSp>
      <p:grpSp>
        <p:nvGrpSpPr>
          <p:cNvPr id="87" name="组合 51"/>
          <p:cNvGrpSpPr/>
          <p:nvPr/>
        </p:nvGrpSpPr>
        <p:grpSpPr>
          <a:xfrm>
            <a:off x="5183280" y="4992840"/>
            <a:ext cx="1268280" cy="1123920"/>
            <a:chOff x="5183280" y="4992840"/>
            <a:chExt cx="1268280" cy="1123920"/>
          </a:xfrm>
        </p:grpSpPr>
        <p:sp>
          <p:nvSpPr>
            <p:cNvPr id="88" name="Freeform 5"/>
            <p:cNvSpPr/>
            <p:nvPr/>
          </p:nvSpPr>
          <p:spPr>
            <a:xfrm>
              <a:off x="5183280" y="4992840"/>
              <a:ext cx="1268280" cy="11239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Freeform 5"/>
            <p:cNvSpPr/>
            <p:nvPr/>
          </p:nvSpPr>
          <p:spPr>
            <a:xfrm>
              <a:off x="5402520" y="5187240"/>
              <a:ext cx="829440" cy="7351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文本框 54"/>
            <p:cNvSpPr/>
            <p:nvPr/>
          </p:nvSpPr>
          <p:spPr>
            <a:xfrm>
              <a:off x="5360400" y="5231520"/>
              <a:ext cx="914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99d6"/>
                  </a:solidFill>
                  <a:latin typeface="微软雅黑"/>
                  <a:ea typeface="微软雅黑"/>
                </a:rPr>
                <a:t>04</a:t>
              </a:r>
              <a:endParaRPr b="0" lang="en-US" sz="3600" spc="-1" strike="noStrike">
                <a:solidFill>
                  <a:srgbClr val="000000"/>
                </a:solidFill>
                <a:latin typeface="Calibri"/>
              </a:endParaRPr>
            </a:p>
          </p:txBody>
        </p:sp>
      </p:grpSp>
      <p:grpSp>
        <p:nvGrpSpPr>
          <p:cNvPr id="91" name="组合 2"/>
          <p:cNvGrpSpPr/>
          <p:nvPr/>
        </p:nvGrpSpPr>
        <p:grpSpPr>
          <a:xfrm>
            <a:off x="-2319480" y="480960"/>
            <a:ext cx="6231240" cy="5896080"/>
            <a:chOff x="-2319480" y="480960"/>
            <a:chExt cx="6231240" cy="5896080"/>
          </a:xfrm>
        </p:grpSpPr>
        <p:sp>
          <p:nvSpPr>
            <p:cNvPr id="92" name="Freeform 5"/>
            <p:cNvSpPr/>
            <p:nvPr/>
          </p:nvSpPr>
          <p:spPr>
            <a:xfrm>
              <a:off x="-663480" y="7070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Freeform 5"/>
            <p:cNvSpPr/>
            <p:nvPr/>
          </p:nvSpPr>
          <p:spPr>
            <a:xfrm>
              <a:off x="-275040" y="77220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Freeform 5"/>
            <p:cNvSpPr/>
            <p:nvPr/>
          </p:nvSpPr>
          <p:spPr>
            <a:xfrm>
              <a:off x="103320" y="9651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Freeform 5"/>
            <p:cNvSpPr/>
            <p:nvPr/>
          </p:nvSpPr>
          <p:spPr>
            <a:xfrm>
              <a:off x="403920" y="12657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Freeform 5"/>
            <p:cNvSpPr/>
            <p:nvPr/>
          </p:nvSpPr>
          <p:spPr>
            <a:xfrm>
              <a:off x="596880" y="164448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5"/>
            <p:cNvSpPr/>
            <p:nvPr/>
          </p:nvSpPr>
          <p:spPr>
            <a:xfrm>
              <a:off x="663480" y="206460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Freeform 5"/>
            <p:cNvSpPr/>
            <p:nvPr/>
          </p:nvSpPr>
          <p:spPr>
            <a:xfrm>
              <a:off x="533880" y="23774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Freeform 5"/>
            <p:cNvSpPr/>
            <p:nvPr/>
          </p:nvSpPr>
          <p:spPr>
            <a:xfrm>
              <a:off x="403920" y="28634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Freeform 5"/>
            <p:cNvSpPr/>
            <p:nvPr/>
          </p:nvSpPr>
          <p:spPr>
            <a:xfrm>
              <a:off x="-1948680" y="23673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Freeform 5"/>
            <p:cNvSpPr/>
            <p:nvPr/>
          </p:nvSpPr>
          <p:spPr>
            <a:xfrm>
              <a:off x="-275040" y="335700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Freeform 5"/>
            <p:cNvSpPr/>
            <p:nvPr/>
          </p:nvSpPr>
          <p:spPr>
            <a:xfrm>
              <a:off x="-770760" y="34988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5"/>
            <p:cNvSpPr/>
            <p:nvPr/>
          </p:nvSpPr>
          <p:spPr>
            <a:xfrm>
              <a:off x="-1114920" y="335700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Freeform 5"/>
            <p:cNvSpPr/>
            <p:nvPr/>
          </p:nvSpPr>
          <p:spPr>
            <a:xfrm>
              <a:off x="-1494000" y="31640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Freeform 5"/>
            <p:cNvSpPr/>
            <p:nvPr/>
          </p:nvSpPr>
          <p:spPr>
            <a:xfrm>
              <a:off x="-2063160" y="28839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Freeform 5"/>
            <p:cNvSpPr/>
            <p:nvPr/>
          </p:nvSpPr>
          <p:spPr>
            <a:xfrm>
              <a:off x="-1688760" y="24411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Freeform 5"/>
            <p:cNvSpPr/>
            <p:nvPr/>
          </p:nvSpPr>
          <p:spPr>
            <a:xfrm>
              <a:off x="-2063160" y="19245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Freeform 5"/>
            <p:cNvSpPr/>
            <p:nvPr/>
          </p:nvSpPr>
          <p:spPr>
            <a:xfrm>
              <a:off x="-2319480" y="164448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Freeform 5"/>
            <p:cNvSpPr/>
            <p:nvPr/>
          </p:nvSpPr>
          <p:spPr>
            <a:xfrm>
              <a:off x="-1789920" y="135144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Freeform 5"/>
            <p:cNvSpPr/>
            <p:nvPr/>
          </p:nvSpPr>
          <p:spPr>
            <a:xfrm>
              <a:off x="-1670760" y="8715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Freeform 5"/>
            <p:cNvSpPr/>
            <p:nvPr/>
          </p:nvSpPr>
          <p:spPr>
            <a:xfrm>
              <a:off x="-2040840" y="480960"/>
              <a:ext cx="3248280" cy="2878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 name="文本框 55"/>
          <p:cNvSpPr/>
          <p:nvPr/>
        </p:nvSpPr>
        <p:spPr>
          <a:xfrm>
            <a:off x="281160" y="2367000"/>
            <a:ext cx="37828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CON</a:t>
            </a:r>
            <a:endParaRPr b="0" lang="en-US" sz="6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TENTS</a:t>
            </a:r>
            <a:endParaRPr b="0" lang="en-US" sz="6600" spc="-1" strike="noStrike">
              <a:solidFill>
                <a:srgbClr val="000000"/>
              </a:solidFill>
              <a:latin typeface="Calibri"/>
            </a:endParaRPr>
          </a:p>
        </p:txBody>
      </p:sp>
      <p:sp>
        <p:nvSpPr>
          <p:cNvPr id="113" name="文本框 56"/>
          <p:cNvSpPr/>
          <p:nvPr/>
        </p:nvSpPr>
        <p:spPr>
          <a:xfrm>
            <a:off x="6670800" y="104148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114" name="文本框 57"/>
          <p:cNvSpPr/>
          <p:nvPr/>
        </p:nvSpPr>
        <p:spPr>
          <a:xfrm>
            <a:off x="6670800" y="245916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115" name="文本框 58"/>
          <p:cNvSpPr/>
          <p:nvPr/>
        </p:nvSpPr>
        <p:spPr>
          <a:xfrm>
            <a:off x="6670800" y="387684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116" name="文本框 59"/>
          <p:cNvSpPr/>
          <p:nvPr/>
        </p:nvSpPr>
        <p:spPr>
          <a:xfrm>
            <a:off x="6670800" y="529272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6" name="组合 1"/>
          <p:cNvGrpSpPr/>
          <p:nvPr/>
        </p:nvGrpSpPr>
        <p:grpSpPr>
          <a:xfrm>
            <a:off x="529920" y="66960"/>
            <a:ext cx="1630080" cy="1447560"/>
            <a:chOff x="529920" y="66960"/>
            <a:chExt cx="1630080" cy="1447560"/>
          </a:xfrm>
        </p:grpSpPr>
        <p:grpSp>
          <p:nvGrpSpPr>
            <p:cNvPr id="1117" name="组合 2"/>
            <p:cNvGrpSpPr/>
            <p:nvPr/>
          </p:nvGrpSpPr>
          <p:grpSpPr>
            <a:xfrm>
              <a:off x="529920" y="66960"/>
              <a:ext cx="1630080" cy="1447560"/>
              <a:chOff x="529920" y="66960"/>
              <a:chExt cx="1630080" cy="1447560"/>
            </a:xfrm>
          </p:grpSpPr>
          <p:sp>
            <p:nvSpPr>
              <p:cNvPr id="1118"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21" name="组合 7"/>
              <p:cNvGrpSpPr/>
              <p:nvPr/>
            </p:nvGrpSpPr>
            <p:grpSpPr>
              <a:xfrm>
                <a:off x="529920" y="142200"/>
                <a:ext cx="1630080" cy="1372320"/>
                <a:chOff x="529920" y="142200"/>
                <a:chExt cx="1630080" cy="1372320"/>
              </a:xfrm>
            </p:grpSpPr>
            <p:sp>
              <p:nvSpPr>
                <p:cNvPr id="1122"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3"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4"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5"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6"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7"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1"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2"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3"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8"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1"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8"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9"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1"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53"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2</a:t>
              </a:r>
              <a:endParaRPr b="0" lang="en-US" sz="6600" spc="-1" strike="noStrike">
                <a:solidFill>
                  <a:srgbClr val="000000"/>
                </a:solidFill>
                <a:latin typeface="Calibri"/>
              </a:endParaRPr>
            </a:p>
          </p:txBody>
        </p:sp>
      </p:grpSp>
      <p:sp>
        <p:nvSpPr>
          <p:cNvPr id="1154"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1155" name="Freeform 114"/>
          <p:cNvSpPr/>
          <p:nvPr/>
        </p:nvSpPr>
        <p:spPr>
          <a:xfrm>
            <a:off x="5100480" y="1197000"/>
            <a:ext cx="6643800" cy="507060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56" name="Group 4"/>
          <p:cNvGrpSpPr/>
          <p:nvPr/>
        </p:nvGrpSpPr>
        <p:grpSpPr>
          <a:xfrm>
            <a:off x="5821920" y="2341800"/>
            <a:ext cx="5039640" cy="2893680"/>
            <a:chOff x="5821920" y="2341800"/>
            <a:chExt cx="5039640" cy="2893680"/>
          </a:xfrm>
        </p:grpSpPr>
        <p:sp>
          <p:nvSpPr>
            <p:cNvPr id="1157" name="Teardrop 5"/>
            <p:cNvSpPr/>
            <p:nvPr/>
          </p:nvSpPr>
          <p:spPr>
            <a:xfrm flipV="1" rot="2700000">
              <a:off x="5919840" y="243972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Teardrop 6"/>
            <p:cNvSpPr/>
            <p:nvPr/>
          </p:nvSpPr>
          <p:spPr>
            <a:xfrm flipV="1" rot="2700000">
              <a:off x="7535880" y="303480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Teardrop 7"/>
            <p:cNvSpPr/>
            <p:nvPr/>
          </p:nvSpPr>
          <p:spPr>
            <a:xfrm flipV="1" rot="2700000">
              <a:off x="8205480" y="465048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Teardrop 8"/>
            <p:cNvSpPr/>
            <p:nvPr/>
          </p:nvSpPr>
          <p:spPr>
            <a:xfrm flipV="1" rot="2700000">
              <a:off x="9860760" y="436932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1" name="Group 9"/>
            <p:cNvGrpSpPr/>
            <p:nvPr/>
          </p:nvGrpSpPr>
          <p:grpSpPr>
            <a:xfrm>
              <a:off x="0" y="0"/>
              <a:ext cx="0" cy="0"/>
              <a:chOff x="0" y="0"/>
              <a:chExt cx="0" cy="0"/>
            </a:xfrm>
          </p:grpSpPr>
        </p:grpSp>
        <p:grpSp>
          <p:nvGrpSpPr>
            <p:cNvPr id="1162" name="Group 10"/>
            <p:cNvGrpSpPr/>
            <p:nvPr/>
          </p:nvGrpSpPr>
          <p:grpSpPr>
            <a:xfrm>
              <a:off x="0" y="0"/>
              <a:ext cx="0" cy="0"/>
              <a:chOff x="0" y="0"/>
              <a:chExt cx="0" cy="0"/>
            </a:xfrm>
          </p:grpSpPr>
        </p:grpSp>
        <p:grpSp>
          <p:nvGrpSpPr>
            <p:cNvPr id="1163" name="Group 11"/>
            <p:cNvGrpSpPr/>
            <p:nvPr/>
          </p:nvGrpSpPr>
          <p:grpSpPr>
            <a:xfrm>
              <a:off x="0" y="0"/>
              <a:ext cx="0" cy="0"/>
              <a:chOff x="0" y="0"/>
              <a:chExt cx="0" cy="0"/>
            </a:xfrm>
          </p:grpSpPr>
        </p:grpSp>
        <p:sp>
          <p:nvSpPr>
            <p:cNvPr id="1164" name="Freeform 53"/>
            <p:cNvSpPr/>
            <p:nvPr/>
          </p:nvSpPr>
          <p:spPr>
            <a:xfrm>
              <a:off x="8321400" y="4761000"/>
              <a:ext cx="241560" cy="269280"/>
            </a:xfrm>
            <a:custGeom>
              <a:avLst/>
              <a:gdLst/>
              <a:ahLst/>
              <a:rect l="l" t="t" r="r" b="b"/>
              <a:pathLst>
                <a:path w="211" h="235">
                  <a:moveTo>
                    <a:pt x="171" y="47"/>
                  </a:moveTo>
                  <a:cubicBezTo>
                    <a:pt x="177" y="36"/>
                    <a:pt x="177" y="36"/>
                    <a:pt x="177" y="36"/>
                  </a:cubicBezTo>
                  <a:cubicBezTo>
                    <a:pt x="179" y="38"/>
                    <a:pt x="179" y="38"/>
                    <a:pt x="179" y="38"/>
                  </a:cubicBezTo>
                  <a:cubicBezTo>
                    <a:pt x="181" y="38"/>
                    <a:pt x="183" y="39"/>
                    <a:pt x="184" y="38"/>
                  </a:cubicBezTo>
                  <a:cubicBezTo>
                    <a:pt x="186" y="38"/>
                    <a:pt x="188" y="37"/>
                    <a:pt x="188" y="35"/>
                  </a:cubicBezTo>
                  <a:cubicBezTo>
                    <a:pt x="193" y="28"/>
                    <a:pt x="193" y="28"/>
                    <a:pt x="193" y="28"/>
                  </a:cubicBezTo>
                  <a:cubicBezTo>
                    <a:pt x="195" y="25"/>
                    <a:pt x="194" y="21"/>
                    <a:pt x="190" y="19"/>
                  </a:cubicBezTo>
                  <a:cubicBezTo>
                    <a:pt x="161" y="2"/>
                    <a:pt x="161" y="2"/>
                    <a:pt x="161" y="2"/>
                  </a:cubicBezTo>
                  <a:cubicBezTo>
                    <a:pt x="158" y="0"/>
                    <a:pt x="154" y="1"/>
                    <a:pt x="152" y="4"/>
                  </a:cubicBezTo>
                  <a:cubicBezTo>
                    <a:pt x="148" y="11"/>
                    <a:pt x="148" y="11"/>
                    <a:pt x="148" y="11"/>
                  </a:cubicBezTo>
                  <a:cubicBezTo>
                    <a:pt x="147" y="13"/>
                    <a:pt x="147" y="15"/>
                    <a:pt x="147" y="16"/>
                  </a:cubicBezTo>
                  <a:cubicBezTo>
                    <a:pt x="147" y="18"/>
                    <a:pt x="149" y="19"/>
                    <a:pt x="150" y="20"/>
                  </a:cubicBezTo>
                  <a:cubicBezTo>
                    <a:pt x="152" y="22"/>
                    <a:pt x="152" y="22"/>
                    <a:pt x="152" y="22"/>
                  </a:cubicBezTo>
                  <a:cubicBezTo>
                    <a:pt x="146" y="32"/>
                    <a:pt x="146" y="32"/>
                    <a:pt x="146" y="32"/>
                  </a:cubicBezTo>
                  <a:cubicBezTo>
                    <a:pt x="134" y="27"/>
                    <a:pt x="120" y="24"/>
                    <a:pt x="106" y="24"/>
                  </a:cubicBezTo>
                  <a:cubicBezTo>
                    <a:pt x="91" y="24"/>
                    <a:pt x="78" y="27"/>
                    <a:pt x="65" y="32"/>
                  </a:cubicBezTo>
                  <a:cubicBezTo>
                    <a:pt x="59" y="22"/>
                    <a:pt x="59" y="22"/>
                    <a:pt x="59" y="22"/>
                  </a:cubicBezTo>
                  <a:cubicBezTo>
                    <a:pt x="62" y="20"/>
                    <a:pt x="62" y="20"/>
                    <a:pt x="62" y="20"/>
                  </a:cubicBezTo>
                  <a:cubicBezTo>
                    <a:pt x="63" y="19"/>
                    <a:pt x="64" y="18"/>
                    <a:pt x="65" y="16"/>
                  </a:cubicBezTo>
                  <a:cubicBezTo>
                    <a:pt x="65" y="15"/>
                    <a:pt x="65" y="13"/>
                    <a:pt x="64" y="11"/>
                  </a:cubicBezTo>
                  <a:cubicBezTo>
                    <a:pt x="60" y="4"/>
                    <a:pt x="60" y="4"/>
                    <a:pt x="60" y="4"/>
                  </a:cubicBezTo>
                  <a:cubicBezTo>
                    <a:pt x="58" y="1"/>
                    <a:pt x="54" y="0"/>
                    <a:pt x="51" y="2"/>
                  </a:cubicBezTo>
                  <a:cubicBezTo>
                    <a:pt x="21" y="19"/>
                    <a:pt x="21" y="19"/>
                    <a:pt x="21" y="19"/>
                  </a:cubicBezTo>
                  <a:cubicBezTo>
                    <a:pt x="18" y="21"/>
                    <a:pt x="17" y="25"/>
                    <a:pt x="19" y="28"/>
                  </a:cubicBezTo>
                  <a:cubicBezTo>
                    <a:pt x="23" y="35"/>
                    <a:pt x="23" y="35"/>
                    <a:pt x="23" y="35"/>
                  </a:cubicBezTo>
                  <a:cubicBezTo>
                    <a:pt x="24" y="37"/>
                    <a:pt x="25" y="38"/>
                    <a:pt x="27" y="38"/>
                  </a:cubicBezTo>
                  <a:cubicBezTo>
                    <a:pt x="29" y="39"/>
                    <a:pt x="31" y="38"/>
                    <a:pt x="32" y="38"/>
                  </a:cubicBezTo>
                  <a:cubicBezTo>
                    <a:pt x="34" y="36"/>
                    <a:pt x="34" y="36"/>
                    <a:pt x="34" y="36"/>
                  </a:cubicBezTo>
                  <a:cubicBezTo>
                    <a:pt x="40" y="47"/>
                    <a:pt x="40" y="47"/>
                    <a:pt x="40" y="47"/>
                  </a:cubicBezTo>
                  <a:cubicBezTo>
                    <a:pt x="16" y="66"/>
                    <a:pt x="0" y="96"/>
                    <a:pt x="0" y="129"/>
                  </a:cubicBezTo>
                  <a:cubicBezTo>
                    <a:pt x="0" y="187"/>
                    <a:pt x="48" y="235"/>
                    <a:pt x="106" y="235"/>
                  </a:cubicBezTo>
                  <a:cubicBezTo>
                    <a:pt x="164" y="235"/>
                    <a:pt x="211" y="187"/>
                    <a:pt x="211" y="129"/>
                  </a:cubicBezTo>
                  <a:cubicBezTo>
                    <a:pt x="211" y="96"/>
                    <a:pt x="196" y="66"/>
                    <a:pt x="171" y="47"/>
                  </a:cubicBezTo>
                  <a:close/>
                  <a:moveTo>
                    <a:pt x="106" y="214"/>
                  </a:moveTo>
                  <a:cubicBezTo>
                    <a:pt x="59" y="214"/>
                    <a:pt x="21" y="176"/>
                    <a:pt x="21" y="129"/>
                  </a:cubicBezTo>
                  <a:cubicBezTo>
                    <a:pt x="21" y="82"/>
                    <a:pt x="59" y="44"/>
                    <a:pt x="106" y="44"/>
                  </a:cubicBezTo>
                  <a:cubicBezTo>
                    <a:pt x="153" y="44"/>
                    <a:pt x="191" y="82"/>
                    <a:pt x="191" y="129"/>
                  </a:cubicBezTo>
                  <a:cubicBezTo>
                    <a:pt x="191" y="176"/>
                    <a:pt x="153" y="214"/>
                    <a:pt x="106" y="214"/>
                  </a:cubicBezTo>
                  <a:close/>
                  <a:moveTo>
                    <a:pt x="115" y="130"/>
                  </a:moveTo>
                  <a:cubicBezTo>
                    <a:pt x="115" y="130"/>
                    <a:pt x="115" y="130"/>
                    <a:pt x="115" y="129"/>
                  </a:cubicBezTo>
                  <a:cubicBezTo>
                    <a:pt x="115" y="82"/>
                    <a:pt x="115" y="82"/>
                    <a:pt x="115" y="82"/>
                  </a:cubicBezTo>
                  <a:cubicBezTo>
                    <a:pt x="115" y="77"/>
                    <a:pt x="111" y="73"/>
                    <a:pt x="106" y="73"/>
                  </a:cubicBezTo>
                  <a:cubicBezTo>
                    <a:pt x="101" y="73"/>
                    <a:pt x="97" y="77"/>
                    <a:pt x="97" y="82"/>
                  </a:cubicBezTo>
                  <a:cubicBezTo>
                    <a:pt x="97" y="129"/>
                    <a:pt x="97" y="129"/>
                    <a:pt x="97" y="129"/>
                  </a:cubicBezTo>
                  <a:cubicBezTo>
                    <a:pt x="97" y="134"/>
                    <a:pt x="101" y="138"/>
                    <a:pt x="106" y="138"/>
                  </a:cubicBezTo>
                  <a:cubicBezTo>
                    <a:pt x="106" y="138"/>
                    <a:pt x="107" y="138"/>
                    <a:pt x="107" y="138"/>
                  </a:cubicBezTo>
                  <a:cubicBezTo>
                    <a:pt x="149" y="180"/>
                    <a:pt x="149" y="180"/>
                    <a:pt x="149" y="180"/>
                  </a:cubicBezTo>
                  <a:cubicBezTo>
                    <a:pt x="150" y="181"/>
                    <a:pt x="152" y="182"/>
                    <a:pt x="153" y="182"/>
                  </a:cubicBezTo>
                  <a:cubicBezTo>
                    <a:pt x="155" y="182"/>
                    <a:pt x="156" y="181"/>
                    <a:pt x="157" y="180"/>
                  </a:cubicBezTo>
                  <a:cubicBezTo>
                    <a:pt x="159" y="178"/>
                    <a:pt x="159" y="175"/>
                    <a:pt x="157" y="173"/>
                  </a:cubicBezTo>
                  <a:lnTo>
                    <a:pt x="115" y="13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ardrop 13"/>
            <p:cNvSpPr/>
            <p:nvPr/>
          </p:nvSpPr>
          <p:spPr>
            <a:xfrm flipV="1" rot="2700000">
              <a:off x="10289880" y="2640600"/>
              <a:ext cx="473400" cy="473400"/>
            </a:xfrm>
            <a:custGeom>
              <a:avLst/>
              <a:gdLst/>
              <a:ahLst/>
              <a:rect l="l" t="t" r="r" b="b"/>
              <a:pathLst>
                <a:path w="346014" h="346014">
                  <a:moveTo>
                    <a:pt x="0" y="173007"/>
                  </a:moveTo>
                  <a:cubicBezTo>
                    <a:pt x="0" y="77458"/>
                    <a:pt x="77458" y="0"/>
                    <a:pt x="173007" y="0"/>
                  </a:cubicBezTo>
                  <a:cubicBezTo>
                    <a:pt x="232979" y="0"/>
                    <a:pt x="292952" y="-2303"/>
                    <a:pt x="352925" y="-6911"/>
                  </a:cubicBezTo>
                  <a:cubicBezTo>
                    <a:pt x="348317" y="53061"/>
                    <a:pt x="346014" y="113033"/>
                    <a:pt x="346014" y="173007"/>
                  </a:cubicBezTo>
                  <a:cubicBezTo>
                    <a:pt x="346014" y="268556"/>
                    <a:pt x="268556" y="346014"/>
                    <a:pt x="173007" y="346014"/>
                  </a:cubicBezTo>
                  <a:cubicBezTo>
                    <a:pt x="77458" y="346014"/>
                    <a:pt x="0" y="268556"/>
                    <a:pt x="0" y="173007"/>
                  </a:cubicBezTo>
                  <a:close/>
                </a:path>
              </a:pathLst>
            </a:custGeom>
            <a:solidFill>
              <a:srgbClr val="3099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Freeform 39"/>
            <p:cNvSpPr/>
            <p:nvPr/>
          </p:nvSpPr>
          <p:spPr>
            <a:xfrm>
              <a:off x="10411920" y="2765880"/>
              <a:ext cx="246960" cy="246240"/>
            </a:xfrm>
            <a:custGeom>
              <a:avLst/>
              <a:gdLst/>
              <a:ahLst/>
              <a:rect l="l" t="t" r="r" b="b"/>
              <a:pathLst>
                <a:path w="224" h="223">
                  <a:moveTo>
                    <a:pt x="176" y="48"/>
                  </a:moveTo>
                  <a:cubicBezTo>
                    <a:pt x="174" y="46"/>
                    <a:pt x="171" y="46"/>
                    <a:pt x="169" y="48"/>
                  </a:cubicBezTo>
                  <a:cubicBezTo>
                    <a:pt x="167" y="50"/>
                    <a:pt x="167" y="53"/>
                    <a:pt x="169" y="54"/>
                  </a:cubicBezTo>
                  <a:cubicBezTo>
                    <a:pt x="187" y="73"/>
                    <a:pt x="187" y="102"/>
                    <a:pt x="169" y="120"/>
                  </a:cubicBezTo>
                  <a:cubicBezTo>
                    <a:pt x="167" y="122"/>
                    <a:pt x="167" y="125"/>
                    <a:pt x="169" y="127"/>
                  </a:cubicBezTo>
                  <a:cubicBezTo>
                    <a:pt x="171" y="129"/>
                    <a:pt x="174" y="129"/>
                    <a:pt x="176" y="127"/>
                  </a:cubicBezTo>
                  <a:cubicBezTo>
                    <a:pt x="197" y="105"/>
                    <a:pt x="197" y="70"/>
                    <a:pt x="176" y="48"/>
                  </a:cubicBezTo>
                  <a:close/>
                  <a:moveTo>
                    <a:pt x="193" y="31"/>
                  </a:moveTo>
                  <a:cubicBezTo>
                    <a:pt x="161" y="0"/>
                    <a:pt x="111" y="0"/>
                    <a:pt x="80" y="31"/>
                  </a:cubicBezTo>
                  <a:cubicBezTo>
                    <a:pt x="53" y="58"/>
                    <a:pt x="49" y="98"/>
                    <a:pt x="68" y="129"/>
                  </a:cubicBezTo>
                  <a:cubicBezTo>
                    <a:pt x="10" y="188"/>
                    <a:pt x="10" y="188"/>
                    <a:pt x="10" y="188"/>
                  </a:cubicBezTo>
                  <a:cubicBezTo>
                    <a:pt x="10" y="188"/>
                    <a:pt x="0" y="194"/>
                    <a:pt x="15" y="208"/>
                  </a:cubicBezTo>
                  <a:cubicBezTo>
                    <a:pt x="30" y="223"/>
                    <a:pt x="35" y="214"/>
                    <a:pt x="35" y="214"/>
                  </a:cubicBezTo>
                  <a:cubicBezTo>
                    <a:pt x="94" y="155"/>
                    <a:pt x="94" y="155"/>
                    <a:pt x="94" y="155"/>
                  </a:cubicBezTo>
                  <a:cubicBezTo>
                    <a:pt x="125" y="174"/>
                    <a:pt x="166" y="170"/>
                    <a:pt x="193" y="144"/>
                  </a:cubicBezTo>
                  <a:cubicBezTo>
                    <a:pt x="224" y="113"/>
                    <a:pt x="224" y="62"/>
                    <a:pt x="193" y="31"/>
                  </a:cubicBezTo>
                  <a:close/>
                  <a:moveTo>
                    <a:pt x="183" y="134"/>
                  </a:moveTo>
                  <a:cubicBezTo>
                    <a:pt x="157" y="160"/>
                    <a:pt x="115" y="160"/>
                    <a:pt x="90" y="134"/>
                  </a:cubicBezTo>
                  <a:cubicBezTo>
                    <a:pt x="64" y="108"/>
                    <a:pt x="64" y="67"/>
                    <a:pt x="90" y="41"/>
                  </a:cubicBezTo>
                  <a:cubicBezTo>
                    <a:pt x="115" y="15"/>
                    <a:pt x="157" y="15"/>
                    <a:pt x="183" y="41"/>
                  </a:cubicBezTo>
                  <a:cubicBezTo>
                    <a:pt x="208" y="67"/>
                    <a:pt x="208" y="108"/>
                    <a:pt x="183" y="13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7" name="Straight Connector 15"/>
            <p:cNvSpPr/>
            <p:nvPr/>
          </p:nvSpPr>
          <p:spPr>
            <a:xfrm>
              <a:off x="6156360" y="3024720"/>
              <a:ext cx="1616040" cy="59508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8" name="Straight Connector 16"/>
            <p:cNvSpPr/>
            <p:nvPr/>
          </p:nvSpPr>
          <p:spPr>
            <a:xfrm>
              <a:off x="6156360" y="3024720"/>
              <a:ext cx="2285640" cy="221076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9" name="Straight Connector 17"/>
            <p:cNvSpPr/>
            <p:nvPr/>
          </p:nvSpPr>
          <p:spPr>
            <a:xfrm>
              <a:off x="6156360" y="3024720"/>
              <a:ext cx="3940920" cy="192960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Straight Connector 18"/>
            <p:cNvSpPr/>
            <p:nvPr/>
          </p:nvSpPr>
          <p:spPr>
            <a:xfrm flipV="1">
              <a:off x="7772760" y="3225600"/>
              <a:ext cx="2754000" cy="39420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Straight Connector 19"/>
            <p:cNvSpPr/>
            <p:nvPr/>
          </p:nvSpPr>
          <p:spPr>
            <a:xfrm>
              <a:off x="7772760" y="3620160"/>
              <a:ext cx="2324880" cy="133416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2" name="Straight Connector 20"/>
            <p:cNvSpPr/>
            <p:nvPr/>
          </p:nvSpPr>
          <p:spPr>
            <a:xfrm flipV="1">
              <a:off x="8442360" y="4953960"/>
              <a:ext cx="1654920" cy="28116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3" name="Straight Connector 21"/>
            <p:cNvSpPr/>
            <p:nvPr/>
          </p:nvSpPr>
          <p:spPr>
            <a:xfrm flipH="1">
              <a:off x="10097280" y="3225960"/>
              <a:ext cx="428760" cy="172836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Straight Connector 22"/>
            <p:cNvSpPr/>
            <p:nvPr/>
          </p:nvSpPr>
          <p:spPr>
            <a:xfrm flipH="1">
              <a:off x="8442000" y="3225960"/>
              <a:ext cx="2084040" cy="2009520"/>
            </a:xfrm>
            <a:prstGeom prst="line">
              <a:avLst/>
            </a:prstGeom>
            <a:ln w="648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75" name="AutoShape 124"/>
          <p:cNvSpPr/>
          <p:nvPr/>
        </p:nvSpPr>
        <p:spPr>
          <a:xfrm>
            <a:off x="560520" y="4186080"/>
            <a:ext cx="280800" cy="543240"/>
          </a:xfrm>
          <a:custGeom>
            <a:avLst/>
            <a:gdLst/>
            <a:ahLst/>
            <a:rect l="l" t="t" r="r" b="b"/>
            <a:pathLst>
              <a:path w="21331" h="21465">
                <a:moveTo>
                  <a:pt x="21154" y="11501"/>
                </a:moveTo>
                <a:cubicBezTo>
                  <a:pt x="20885" y="10961"/>
                  <a:pt x="19722" y="9170"/>
                  <a:pt x="18568" y="7385"/>
                </a:cubicBezTo>
                <a:cubicBezTo>
                  <a:pt x="17416" y="5596"/>
                  <a:pt x="15525" y="5350"/>
                  <a:pt x="12285" y="5350"/>
                </a:cubicBezTo>
                <a:lnTo>
                  <a:pt x="9041" y="5350"/>
                </a:lnTo>
                <a:cubicBezTo>
                  <a:pt x="5804" y="5350"/>
                  <a:pt x="3910" y="5596"/>
                  <a:pt x="2756" y="7385"/>
                </a:cubicBezTo>
                <a:cubicBezTo>
                  <a:pt x="1605" y="9170"/>
                  <a:pt x="442" y="10961"/>
                  <a:pt x="177" y="11501"/>
                </a:cubicBezTo>
                <a:cubicBezTo>
                  <a:pt x="-135" y="12129"/>
                  <a:pt x="-130" y="12666"/>
                  <a:pt x="989" y="12842"/>
                </a:cubicBezTo>
                <a:cubicBezTo>
                  <a:pt x="2145" y="13023"/>
                  <a:pt x="3004" y="12642"/>
                  <a:pt x="3473" y="11932"/>
                </a:cubicBezTo>
                <a:cubicBezTo>
                  <a:pt x="3482" y="11925"/>
                  <a:pt x="5551" y="8485"/>
                  <a:pt x="5551" y="8485"/>
                </a:cubicBezTo>
                <a:lnTo>
                  <a:pt x="6418" y="8485"/>
                </a:lnTo>
                <a:lnTo>
                  <a:pt x="3088" y="14913"/>
                </a:lnTo>
                <a:lnTo>
                  <a:pt x="6784" y="14913"/>
                </a:lnTo>
                <a:lnTo>
                  <a:pt x="6419" y="20358"/>
                </a:lnTo>
                <a:cubicBezTo>
                  <a:pt x="6419" y="20969"/>
                  <a:pt x="7067" y="21465"/>
                  <a:pt x="8155" y="21465"/>
                </a:cubicBezTo>
                <a:cubicBezTo>
                  <a:pt x="9241" y="21465"/>
                  <a:pt x="10047" y="20969"/>
                  <a:pt x="10047" y="20355"/>
                </a:cubicBezTo>
                <a:cubicBezTo>
                  <a:pt x="10047" y="20332"/>
                  <a:pt x="10043" y="20309"/>
                  <a:pt x="10043" y="20286"/>
                </a:cubicBezTo>
                <a:lnTo>
                  <a:pt x="9671" y="14913"/>
                </a:lnTo>
                <a:lnTo>
                  <a:pt x="11653" y="14913"/>
                </a:lnTo>
                <a:lnTo>
                  <a:pt x="11284" y="20286"/>
                </a:lnTo>
                <a:cubicBezTo>
                  <a:pt x="11284" y="20309"/>
                  <a:pt x="11280" y="20332"/>
                  <a:pt x="11280" y="20355"/>
                </a:cubicBezTo>
                <a:cubicBezTo>
                  <a:pt x="11280" y="20969"/>
                  <a:pt x="12087" y="21465"/>
                  <a:pt x="13177" y="21465"/>
                </a:cubicBezTo>
                <a:cubicBezTo>
                  <a:pt x="14267" y="21465"/>
                  <a:pt x="14909" y="20969"/>
                  <a:pt x="14909" y="20358"/>
                </a:cubicBezTo>
                <a:lnTo>
                  <a:pt x="14544" y="14913"/>
                </a:lnTo>
                <a:lnTo>
                  <a:pt x="18243" y="14913"/>
                </a:lnTo>
                <a:lnTo>
                  <a:pt x="14909" y="8485"/>
                </a:lnTo>
                <a:lnTo>
                  <a:pt x="15777" y="8485"/>
                </a:lnTo>
                <a:cubicBezTo>
                  <a:pt x="15777" y="8485"/>
                  <a:pt x="17849" y="11925"/>
                  <a:pt x="17857" y="11932"/>
                </a:cubicBezTo>
                <a:cubicBezTo>
                  <a:pt x="18325" y="12642"/>
                  <a:pt x="19183" y="13023"/>
                  <a:pt x="20337" y="12842"/>
                </a:cubicBezTo>
                <a:cubicBezTo>
                  <a:pt x="21465" y="12666"/>
                  <a:pt x="21465" y="12129"/>
                  <a:pt x="21154" y="11501"/>
                </a:cubicBezTo>
                <a:close/>
                <a:moveTo>
                  <a:pt x="6895" y="3317"/>
                </a:moveTo>
                <a:cubicBezTo>
                  <a:pt x="5688" y="3966"/>
                  <a:pt x="4378" y="4398"/>
                  <a:pt x="4378" y="4398"/>
                </a:cubicBezTo>
                <a:cubicBezTo>
                  <a:pt x="4378" y="4398"/>
                  <a:pt x="6436" y="4194"/>
                  <a:pt x="7699" y="3677"/>
                </a:cubicBezTo>
                <a:cubicBezTo>
                  <a:pt x="8249" y="4351"/>
                  <a:pt x="9277" y="4811"/>
                  <a:pt x="10467" y="4811"/>
                </a:cubicBezTo>
                <a:cubicBezTo>
                  <a:pt x="11737" y="4811"/>
                  <a:pt x="12826" y="4291"/>
                  <a:pt x="13344" y="3543"/>
                </a:cubicBezTo>
                <a:cubicBezTo>
                  <a:pt x="14547" y="4159"/>
                  <a:pt x="16953" y="4398"/>
                  <a:pt x="16953" y="4398"/>
                </a:cubicBezTo>
                <a:cubicBezTo>
                  <a:pt x="16953" y="4398"/>
                  <a:pt x="15641" y="3966"/>
                  <a:pt x="14436" y="3316"/>
                </a:cubicBezTo>
                <a:cubicBezTo>
                  <a:pt x="15693" y="3845"/>
                  <a:pt x="17792" y="4054"/>
                  <a:pt x="17792" y="4054"/>
                </a:cubicBezTo>
                <a:cubicBezTo>
                  <a:pt x="17792" y="4054"/>
                  <a:pt x="16463" y="3616"/>
                  <a:pt x="15250" y="2958"/>
                </a:cubicBezTo>
                <a:cubicBezTo>
                  <a:pt x="16408" y="3265"/>
                  <a:pt x="17682" y="3391"/>
                  <a:pt x="17682" y="3391"/>
                </a:cubicBezTo>
                <a:cubicBezTo>
                  <a:pt x="17682" y="3391"/>
                  <a:pt x="16209" y="2942"/>
                  <a:pt x="14907" y="2153"/>
                </a:cubicBezTo>
                <a:cubicBezTo>
                  <a:pt x="14389" y="1841"/>
                  <a:pt x="14145" y="1473"/>
                  <a:pt x="13895" y="1150"/>
                </a:cubicBezTo>
                <a:cubicBezTo>
                  <a:pt x="13646" y="647"/>
                  <a:pt x="12630" y="194"/>
                  <a:pt x="11270" y="48"/>
                </a:cubicBezTo>
                <a:cubicBezTo>
                  <a:pt x="9572" y="-135"/>
                  <a:pt x="7994" y="226"/>
                  <a:pt x="7694" y="856"/>
                </a:cubicBezTo>
                <a:cubicBezTo>
                  <a:pt x="7641" y="911"/>
                  <a:pt x="7584" y="959"/>
                  <a:pt x="7536" y="1024"/>
                </a:cubicBezTo>
                <a:cubicBezTo>
                  <a:pt x="7269" y="1376"/>
                  <a:pt x="7009" y="1800"/>
                  <a:pt x="6425" y="2152"/>
                </a:cubicBezTo>
                <a:cubicBezTo>
                  <a:pt x="5123" y="2941"/>
                  <a:pt x="3650" y="3391"/>
                  <a:pt x="3650" y="3391"/>
                </a:cubicBezTo>
                <a:cubicBezTo>
                  <a:pt x="3650" y="3391"/>
                  <a:pt x="4922" y="3264"/>
                  <a:pt x="6082" y="2958"/>
                </a:cubicBezTo>
                <a:cubicBezTo>
                  <a:pt x="4867" y="3615"/>
                  <a:pt x="3539" y="4053"/>
                  <a:pt x="3539" y="4053"/>
                </a:cubicBezTo>
                <a:cubicBezTo>
                  <a:pt x="3539" y="4053"/>
                  <a:pt x="5637" y="3845"/>
                  <a:pt x="6895" y="3317"/>
                </a:cubicBezTo>
                <a:close/>
                <a:moveTo>
                  <a:pt x="6895" y="3317"/>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Rectangle 129"/>
          <p:cNvSpPr/>
          <p:nvPr/>
        </p:nvSpPr>
        <p:spPr>
          <a:xfrm>
            <a:off x="944640" y="4533840"/>
            <a:ext cx="113652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177" name="Rectangle 129"/>
          <p:cNvSpPr/>
          <p:nvPr/>
        </p:nvSpPr>
        <p:spPr>
          <a:xfrm>
            <a:off x="944640" y="4070520"/>
            <a:ext cx="1136520" cy="52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000" spc="-1" strike="noStrike">
                <a:solidFill>
                  <a:srgbClr val="ffffff"/>
                </a:solidFill>
                <a:latin typeface="Roboto condensed"/>
                <a:ea typeface="MS PGothic"/>
              </a:rPr>
              <a:t>51M</a:t>
            </a:r>
            <a:endParaRPr b="0" lang="en-US" sz="4000" spc="-1" strike="noStrike">
              <a:solidFill>
                <a:srgbClr val="000000"/>
              </a:solidFill>
              <a:latin typeface="Calibri"/>
            </a:endParaRPr>
          </a:p>
        </p:txBody>
      </p:sp>
      <p:sp>
        <p:nvSpPr>
          <p:cNvPr id="1178" name="AutoShape 137"/>
          <p:cNvSpPr/>
          <p:nvPr/>
        </p:nvSpPr>
        <p:spPr>
          <a:xfrm>
            <a:off x="2208240" y="4173480"/>
            <a:ext cx="243000" cy="541440"/>
          </a:xfrm>
          <a:custGeom>
            <a:avLst/>
            <a:gdLst/>
            <a:ahLst/>
            <a:rect l="l" t="t" r="r" b="b"/>
            <a:pathLst>
              <a:path w="21600" h="21600">
                <a:moveTo>
                  <a:pt x="11123" y="4385"/>
                </a:moveTo>
                <a:cubicBezTo>
                  <a:pt x="13807" y="4385"/>
                  <a:pt x="15986" y="3403"/>
                  <a:pt x="15986" y="2192"/>
                </a:cubicBezTo>
                <a:cubicBezTo>
                  <a:pt x="15986" y="981"/>
                  <a:pt x="13807" y="0"/>
                  <a:pt x="11123" y="0"/>
                </a:cubicBezTo>
                <a:cubicBezTo>
                  <a:pt x="8438" y="0"/>
                  <a:pt x="6262" y="981"/>
                  <a:pt x="6262" y="2192"/>
                </a:cubicBezTo>
                <a:cubicBezTo>
                  <a:pt x="6262" y="3403"/>
                  <a:pt x="8438" y="4385"/>
                  <a:pt x="11123" y="4385"/>
                </a:cubicBezTo>
                <a:close/>
                <a:moveTo>
                  <a:pt x="21600" y="8199"/>
                </a:moveTo>
                <a:cubicBezTo>
                  <a:pt x="21600" y="6295"/>
                  <a:pt x="18177" y="4752"/>
                  <a:pt x="13958" y="4752"/>
                </a:cubicBezTo>
                <a:lnTo>
                  <a:pt x="7644" y="4752"/>
                </a:lnTo>
                <a:cubicBezTo>
                  <a:pt x="3423" y="4752"/>
                  <a:pt x="0" y="6295"/>
                  <a:pt x="0" y="8199"/>
                </a:cubicBezTo>
                <a:lnTo>
                  <a:pt x="0" y="12797"/>
                </a:lnTo>
                <a:lnTo>
                  <a:pt x="2" y="12797"/>
                </a:lnTo>
                <a:cubicBezTo>
                  <a:pt x="2" y="12798"/>
                  <a:pt x="0" y="12800"/>
                  <a:pt x="0" y="12801"/>
                </a:cubicBezTo>
                <a:cubicBezTo>
                  <a:pt x="0" y="13307"/>
                  <a:pt x="908" y="13717"/>
                  <a:pt x="2028" y="13717"/>
                </a:cubicBezTo>
                <a:cubicBezTo>
                  <a:pt x="3148" y="13717"/>
                  <a:pt x="4055" y="13307"/>
                  <a:pt x="4055" y="12801"/>
                </a:cubicBezTo>
                <a:cubicBezTo>
                  <a:pt x="4055" y="12794"/>
                  <a:pt x="4054" y="12786"/>
                  <a:pt x="4054" y="12777"/>
                </a:cubicBezTo>
                <a:lnTo>
                  <a:pt x="4054" y="8030"/>
                </a:lnTo>
                <a:lnTo>
                  <a:pt x="4967" y="8030"/>
                </a:lnTo>
                <a:lnTo>
                  <a:pt x="4967" y="13764"/>
                </a:lnTo>
                <a:lnTo>
                  <a:pt x="4969" y="13764"/>
                </a:lnTo>
                <a:lnTo>
                  <a:pt x="4969" y="20442"/>
                </a:lnTo>
                <a:cubicBezTo>
                  <a:pt x="4971" y="21082"/>
                  <a:pt x="6121" y="21600"/>
                  <a:pt x="7537" y="21600"/>
                </a:cubicBezTo>
                <a:cubicBezTo>
                  <a:pt x="8958" y="21600"/>
                  <a:pt x="10108" y="21081"/>
                  <a:pt x="10108" y="20441"/>
                </a:cubicBezTo>
                <a:cubicBezTo>
                  <a:pt x="10108" y="20416"/>
                  <a:pt x="10104" y="20391"/>
                  <a:pt x="10101" y="20366"/>
                </a:cubicBezTo>
                <a:lnTo>
                  <a:pt x="10101" y="13764"/>
                </a:lnTo>
                <a:lnTo>
                  <a:pt x="11586" y="13764"/>
                </a:lnTo>
                <a:lnTo>
                  <a:pt x="11586" y="20442"/>
                </a:lnTo>
                <a:cubicBezTo>
                  <a:pt x="11590" y="21082"/>
                  <a:pt x="12737" y="21600"/>
                  <a:pt x="14157" y="21600"/>
                </a:cubicBezTo>
                <a:cubicBezTo>
                  <a:pt x="15575" y="21600"/>
                  <a:pt x="16728" y="21081"/>
                  <a:pt x="16728" y="20441"/>
                </a:cubicBezTo>
                <a:cubicBezTo>
                  <a:pt x="16728" y="20416"/>
                  <a:pt x="16721" y="20391"/>
                  <a:pt x="16717" y="20366"/>
                </a:cubicBezTo>
                <a:lnTo>
                  <a:pt x="16717" y="13764"/>
                </a:lnTo>
                <a:lnTo>
                  <a:pt x="16719" y="13764"/>
                </a:lnTo>
                <a:lnTo>
                  <a:pt x="16719" y="8030"/>
                </a:lnTo>
                <a:lnTo>
                  <a:pt x="17542" y="8030"/>
                </a:lnTo>
                <a:lnTo>
                  <a:pt x="17542" y="12797"/>
                </a:lnTo>
                <a:cubicBezTo>
                  <a:pt x="17542" y="12798"/>
                  <a:pt x="17542" y="12800"/>
                  <a:pt x="17542" y="12801"/>
                </a:cubicBezTo>
                <a:cubicBezTo>
                  <a:pt x="17542" y="13307"/>
                  <a:pt x="18451" y="13717"/>
                  <a:pt x="19572" y="13717"/>
                </a:cubicBezTo>
                <a:cubicBezTo>
                  <a:pt x="20690" y="13717"/>
                  <a:pt x="21600" y="13307"/>
                  <a:pt x="21600" y="12801"/>
                </a:cubicBezTo>
                <a:cubicBezTo>
                  <a:pt x="21600" y="12800"/>
                  <a:pt x="21600" y="12798"/>
                  <a:pt x="21600" y="12797"/>
                </a:cubicBezTo>
                <a:lnTo>
                  <a:pt x="21600" y="8199"/>
                </a:lnTo>
                <a:close/>
                <a:moveTo>
                  <a:pt x="21600" y="819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Rectangle 129"/>
          <p:cNvSpPr/>
          <p:nvPr/>
        </p:nvSpPr>
        <p:spPr>
          <a:xfrm>
            <a:off x="2554200" y="4533840"/>
            <a:ext cx="113508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180" name="Rectangle 129"/>
          <p:cNvSpPr/>
          <p:nvPr/>
        </p:nvSpPr>
        <p:spPr>
          <a:xfrm>
            <a:off x="2554200" y="4070520"/>
            <a:ext cx="1135080" cy="52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000" spc="-1" strike="noStrike">
                <a:solidFill>
                  <a:srgbClr val="ffffff"/>
                </a:solidFill>
                <a:latin typeface="Roboto condensed"/>
                <a:ea typeface="MS PGothic"/>
              </a:rPr>
              <a:t>46M</a:t>
            </a:r>
            <a:endParaRPr b="0" lang="en-US" sz="4000" spc="-1" strike="noStrike">
              <a:solidFill>
                <a:srgbClr val="000000"/>
              </a:solidFill>
              <a:latin typeface="Calibri"/>
            </a:endParaRPr>
          </a:p>
        </p:txBody>
      </p:sp>
      <p:sp>
        <p:nvSpPr>
          <p:cNvPr id="1181" name="AutoShape 116"/>
          <p:cNvSpPr/>
          <p:nvPr/>
        </p:nvSpPr>
        <p:spPr>
          <a:xfrm>
            <a:off x="550800" y="5114880"/>
            <a:ext cx="331920" cy="609480"/>
          </a:xfrm>
          <a:custGeom>
            <a:avLst/>
            <a:gdLst/>
            <a:ahLst/>
            <a:rect l="l" t="t" r="r" b="b"/>
            <a:pathLst>
              <a:path w="21477" h="21600">
                <a:moveTo>
                  <a:pt x="9757" y="5635"/>
                </a:moveTo>
                <a:cubicBezTo>
                  <a:pt x="11919" y="5635"/>
                  <a:pt x="13675" y="4678"/>
                  <a:pt x="13675" y="3495"/>
                </a:cubicBezTo>
                <a:cubicBezTo>
                  <a:pt x="13675" y="2743"/>
                  <a:pt x="12963" y="2083"/>
                  <a:pt x="11890" y="1701"/>
                </a:cubicBezTo>
                <a:cubicBezTo>
                  <a:pt x="11869" y="1693"/>
                  <a:pt x="11846" y="1685"/>
                  <a:pt x="11824" y="1678"/>
                </a:cubicBezTo>
                <a:cubicBezTo>
                  <a:pt x="11799" y="1670"/>
                  <a:pt x="11774" y="1661"/>
                  <a:pt x="11749" y="1653"/>
                </a:cubicBezTo>
                <a:cubicBezTo>
                  <a:pt x="11725" y="1646"/>
                  <a:pt x="11702" y="1638"/>
                  <a:pt x="11680" y="1630"/>
                </a:cubicBezTo>
                <a:cubicBezTo>
                  <a:pt x="11654" y="1622"/>
                  <a:pt x="11627" y="1614"/>
                  <a:pt x="11602" y="1607"/>
                </a:cubicBezTo>
                <a:cubicBezTo>
                  <a:pt x="11562" y="1596"/>
                  <a:pt x="11520" y="1585"/>
                  <a:pt x="11482" y="1574"/>
                </a:cubicBezTo>
                <a:cubicBezTo>
                  <a:pt x="11454" y="1566"/>
                  <a:pt x="11427" y="1560"/>
                  <a:pt x="11401" y="1552"/>
                </a:cubicBezTo>
                <a:cubicBezTo>
                  <a:pt x="11372" y="1545"/>
                  <a:pt x="11344" y="1537"/>
                  <a:pt x="11315" y="1531"/>
                </a:cubicBezTo>
                <a:cubicBezTo>
                  <a:pt x="11291" y="1526"/>
                  <a:pt x="11267" y="1521"/>
                  <a:pt x="11242" y="1515"/>
                </a:cubicBezTo>
                <a:cubicBezTo>
                  <a:pt x="11211" y="1508"/>
                  <a:pt x="11182" y="1502"/>
                  <a:pt x="11152" y="1495"/>
                </a:cubicBezTo>
                <a:cubicBezTo>
                  <a:pt x="11130" y="1490"/>
                  <a:pt x="11105" y="1486"/>
                  <a:pt x="11084" y="1481"/>
                </a:cubicBezTo>
                <a:cubicBezTo>
                  <a:pt x="11032" y="1471"/>
                  <a:pt x="10982" y="1462"/>
                  <a:pt x="10932" y="1453"/>
                </a:cubicBezTo>
                <a:cubicBezTo>
                  <a:pt x="10915" y="1450"/>
                  <a:pt x="10898" y="1448"/>
                  <a:pt x="10881" y="1446"/>
                </a:cubicBezTo>
                <a:cubicBezTo>
                  <a:pt x="10842" y="1439"/>
                  <a:pt x="10803" y="1432"/>
                  <a:pt x="10763" y="1427"/>
                </a:cubicBezTo>
                <a:cubicBezTo>
                  <a:pt x="10742" y="1424"/>
                  <a:pt x="10720" y="1421"/>
                  <a:pt x="10700" y="1418"/>
                </a:cubicBezTo>
                <a:cubicBezTo>
                  <a:pt x="10661" y="1413"/>
                  <a:pt x="10623" y="1408"/>
                  <a:pt x="10587" y="1404"/>
                </a:cubicBezTo>
                <a:cubicBezTo>
                  <a:pt x="10567" y="1402"/>
                  <a:pt x="10548" y="1399"/>
                  <a:pt x="10527" y="1397"/>
                </a:cubicBezTo>
                <a:cubicBezTo>
                  <a:pt x="10471" y="1391"/>
                  <a:pt x="10415" y="1385"/>
                  <a:pt x="10358" y="1381"/>
                </a:cubicBezTo>
                <a:cubicBezTo>
                  <a:pt x="10349" y="1379"/>
                  <a:pt x="10342" y="1379"/>
                  <a:pt x="10335" y="1379"/>
                </a:cubicBezTo>
                <a:cubicBezTo>
                  <a:pt x="10285" y="1374"/>
                  <a:pt x="10231" y="1371"/>
                  <a:pt x="10181" y="1368"/>
                </a:cubicBezTo>
                <a:cubicBezTo>
                  <a:pt x="10162" y="1367"/>
                  <a:pt x="10143" y="1366"/>
                  <a:pt x="10123" y="1366"/>
                </a:cubicBezTo>
                <a:cubicBezTo>
                  <a:pt x="10080" y="1364"/>
                  <a:pt x="10038" y="1361"/>
                  <a:pt x="9994" y="1360"/>
                </a:cubicBezTo>
                <a:cubicBezTo>
                  <a:pt x="9976" y="1359"/>
                  <a:pt x="9957" y="1358"/>
                  <a:pt x="9940" y="1358"/>
                </a:cubicBezTo>
                <a:cubicBezTo>
                  <a:pt x="9878" y="1356"/>
                  <a:pt x="9818" y="1355"/>
                  <a:pt x="9758" y="1355"/>
                </a:cubicBezTo>
                <a:cubicBezTo>
                  <a:pt x="9697" y="1355"/>
                  <a:pt x="9636" y="1356"/>
                  <a:pt x="9577" y="1358"/>
                </a:cubicBezTo>
                <a:cubicBezTo>
                  <a:pt x="9558" y="1358"/>
                  <a:pt x="9541" y="1359"/>
                  <a:pt x="9522" y="1360"/>
                </a:cubicBezTo>
                <a:cubicBezTo>
                  <a:pt x="9478" y="1361"/>
                  <a:pt x="9437" y="1364"/>
                  <a:pt x="9391" y="1366"/>
                </a:cubicBezTo>
                <a:cubicBezTo>
                  <a:pt x="9373" y="1366"/>
                  <a:pt x="9354" y="1367"/>
                  <a:pt x="9336" y="1368"/>
                </a:cubicBezTo>
                <a:cubicBezTo>
                  <a:pt x="9285" y="1371"/>
                  <a:pt x="9233" y="1374"/>
                  <a:pt x="9182" y="1378"/>
                </a:cubicBezTo>
                <a:cubicBezTo>
                  <a:pt x="9174" y="1379"/>
                  <a:pt x="9166" y="1379"/>
                  <a:pt x="9159" y="1381"/>
                </a:cubicBezTo>
                <a:cubicBezTo>
                  <a:pt x="9103" y="1385"/>
                  <a:pt x="9046" y="1391"/>
                  <a:pt x="8989" y="1397"/>
                </a:cubicBezTo>
                <a:cubicBezTo>
                  <a:pt x="8969" y="1399"/>
                  <a:pt x="8950" y="1402"/>
                  <a:pt x="8931" y="1404"/>
                </a:cubicBezTo>
                <a:cubicBezTo>
                  <a:pt x="8893" y="1408"/>
                  <a:pt x="8854" y="1413"/>
                  <a:pt x="8818" y="1418"/>
                </a:cubicBezTo>
                <a:cubicBezTo>
                  <a:pt x="8796" y="1421"/>
                  <a:pt x="8774" y="1424"/>
                  <a:pt x="8752" y="1427"/>
                </a:cubicBezTo>
                <a:cubicBezTo>
                  <a:pt x="8713" y="1432"/>
                  <a:pt x="8674" y="1439"/>
                  <a:pt x="8635" y="1446"/>
                </a:cubicBezTo>
                <a:cubicBezTo>
                  <a:pt x="8618" y="1448"/>
                  <a:pt x="8602" y="1450"/>
                  <a:pt x="8587" y="1453"/>
                </a:cubicBezTo>
                <a:cubicBezTo>
                  <a:pt x="8535" y="1462"/>
                  <a:pt x="8483" y="1471"/>
                  <a:pt x="8433" y="1481"/>
                </a:cubicBezTo>
                <a:cubicBezTo>
                  <a:pt x="8411" y="1486"/>
                  <a:pt x="8389" y="1491"/>
                  <a:pt x="8366" y="1495"/>
                </a:cubicBezTo>
                <a:cubicBezTo>
                  <a:pt x="8336" y="1502"/>
                  <a:pt x="8306" y="1508"/>
                  <a:pt x="8276" y="1515"/>
                </a:cubicBezTo>
                <a:cubicBezTo>
                  <a:pt x="8251" y="1521"/>
                  <a:pt x="8228" y="1526"/>
                  <a:pt x="8203" y="1531"/>
                </a:cubicBezTo>
                <a:cubicBezTo>
                  <a:pt x="8173" y="1538"/>
                  <a:pt x="8144" y="1545"/>
                  <a:pt x="8116" y="1552"/>
                </a:cubicBezTo>
                <a:cubicBezTo>
                  <a:pt x="8090" y="1559"/>
                  <a:pt x="8067" y="1565"/>
                  <a:pt x="8042" y="1572"/>
                </a:cubicBezTo>
                <a:cubicBezTo>
                  <a:pt x="7997" y="1583"/>
                  <a:pt x="7955" y="1596"/>
                  <a:pt x="7913" y="1607"/>
                </a:cubicBezTo>
                <a:cubicBezTo>
                  <a:pt x="7888" y="1614"/>
                  <a:pt x="7865" y="1622"/>
                  <a:pt x="7839" y="1630"/>
                </a:cubicBezTo>
                <a:cubicBezTo>
                  <a:pt x="7817" y="1638"/>
                  <a:pt x="7791" y="1646"/>
                  <a:pt x="7767" y="1653"/>
                </a:cubicBezTo>
                <a:cubicBezTo>
                  <a:pt x="7741" y="1661"/>
                  <a:pt x="7718" y="1669"/>
                  <a:pt x="7693" y="1678"/>
                </a:cubicBezTo>
                <a:cubicBezTo>
                  <a:pt x="7669" y="1685"/>
                  <a:pt x="7646" y="1693"/>
                  <a:pt x="7625" y="1702"/>
                </a:cubicBezTo>
                <a:cubicBezTo>
                  <a:pt x="7600" y="1711"/>
                  <a:pt x="7576" y="1719"/>
                  <a:pt x="7552" y="1728"/>
                </a:cubicBezTo>
                <a:cubicBezTo>
                  <a:pt x="6518" y="2112"/>
                  <a:pt x="5841" y="2761"/>
                  <a:pt x="5841" y="3495"/>
                </a:cubicBezTo>
                <a:cubicBezTo>
                  <a:pt x="5839" y="4678"/>
                  <a:pt x="7593" y="5635"/>
                  <a:pt x="9757" y="5635"/>
                </a:cubicBezTo>
                <a:close/>
                <a:moveTo>
                  <a:pt x="9757" y="1101"/>
                </a:moveTo>
                <a:cubicBezTo>
                  <a:pt x="10611" y="1101"/>
                  <a:pt x="11409" y="1235"/>
                  <a:pt x="12083" y="1466"/>
                </a:cubicBezTo>
                <a:cubicBezTo>
                  <a:pt x="12099" y="1406"/>
                  <a:pt x="12107" y="1346"/>
                  <a:pt x="12107" y="1285"/>
                </a:cubicBezTo>
                <a:cubicBezTo>
                  <a:pt x="12107" y="575"/>
                  <a:pt x="11054" y="0"/>
                  <a:pt x="9756" y="0"/>
                </a:cubicBezTo>
                <a:cubicBezTo>
                  <a:pt x="8457" y="0"/>
                  <a:pt x="7405" y="575"/>
                  <a:pt x="7405" y="1285"/>
                </a:cubicBezTo>
                <a:cubicBezTo>
                  <a:pt x="7405" y="1346"/>
                  <a:pt x="7414" y="1406"/>
                  <a:pt x="7429" y="1466"/>
                </a:cubicBezTo>
                <a:cubicBezTo>
                  <a:pt x="8106" y="1235"/>
                  <a:pt x="8903" y="1101"/>
                  <a:pt x="9757" y="1101"/>
                </a:cubicBezTo>
                <a:close/>
                <a:moveTo>
                  <a:pt x="19244" y="13110"/>
                </a:moveTo>
                <a:cubicBezTo>
                  <a:pt x="19613" y="12864"/>
                  <a:pt x="19556" y="12476"/>
                  <a:pt x="19350" y="12040"/>
                </a:cubicBezTo>
                <a:cubicBezTo>
                  <a:pt x="19106" y="11521"/>
                  <a:pt x="18045" y="9804"/>
                  <a:pt x="16990" y="8090"/>
                </a:cubicBezTo>
                <a:cubicBezTo>
                  <a:pt x="15935" y="6376"/>
                  <a:pt x="14206" y="6139"/>
                  <a:pt x="11243" y="6139"/>
                </a:cubicBezTo>
                <a:lnTo>
                  <a:pt x="8271" y="6139"/>
                </a:lnTo>
                <a:cubicBezTo>
                  <a:pt x="5310" y="6139"/>
                  <a:pt x="3579" y="6376"/>
                  <a:pt x="2525" y="8090"/>
                </a:cubicBezTo>
                <a:cubicBezTo>
                  <a:pt x="1469" y="9804"/>
                  <a:pt x="409" y="11521"/>
                  <a:pt x="164" y="12040"/>
                </a:cubicBezTo>
                <a:cubicBezTo>
                  <a:pt x="-123" y="12645"/>
                  <a:pt x="-121" y="13157"/>
                  <a:pt x="908" y="13326"/>
                </a:cubicBezTo>
                <a:cubicBezTo>
                  <a:pt x="1965" y="13500"/>
                  <a:pt x="2750" y="13135"/>
                  <a:pt x="3180" y="12455"/>
                </a:cubicBezTo>
                <a:cubicBezTo>
                  <a:pt x="3185" y="12449"/>
                  <a:pt x="5082" y="9147"/>
                  <a:pt x="5082" y="9147"/>
                </a:cubicBezTo>
                <a:lnTo>
                  <a:pt x="5874" y="9147"/>
                </a:lnTo>
                <a:lnTo>
                  <a:pt x="1864" y="16366"/>
                </a:lnTo>
                <a:lnTo>
                  <a:pt x="6208" y="16366"/>
                </a:lnTo>
                <a:lnTo>
                  <a:pt x="5873" y="20539"/>
                </a:lnTo>
                <a:cubicBezTo>
                  <a:pt x="5874" y="21125"/>
                  <a:pt x="6463" y="21600"/>
                  <a:pt x="7458" y="21600"/>
                </a:cubicBezTo>
                <a:cubicBezTo>
                  <a:pt x="8453" y="21600"/>
                  <a:pt x="9193" y="21125"/>
                  <a:pt x="9193" y="20537"/>
                </a:cubicBezTo>
                <a:cubicBezTo>
                  <a:pt x="9193" y="20514"/>
                  <a:pt x="9189" y="20491"/>
                  <a:pt x="9186" y="20467"/>
                </a:cubicBezTo>
                <a:lnTo>
                  <a:pt x="8851" y="16366"/>
                </a:lnTo>
                <a:lnTo>
                  <a:pt x="10661" y="16366"/>
                </a:lnTo>
                <a:lnTo>
                  <a:pt x="10326" y="20467"/>
                </a:lnTo>
                <a:cubicBezTo>
                  <a:pt x="10323" y="20491"/>
                  <a:pt x="10321" y="20514"/>
                  <a:pt x="10321" y="20537"/>
                </a:cubicBezTo>
                <a:cubicBezTo>
                  <a:pt x="10321" y="21125"/>
                  <a:pt x="11061" y="21600"/>
                  <a:pt x="12056" y="21600"/>
                </a:cubicBezTo>
                <a:cubicBezTo>
                  <a:pt x="13051" y="21600"/>
                  <a:pt x="13640" y="21125"/>
                  <a:pt x="13641" y="20539"/>
                </a:cubicBezTo>
                <a:lnTo>
                  <a:pt x="13305" y="16366"/>
                </a:lnTo>
                <a:lnTo>
                  <a:pt x="16851" y="16366"/>
                </a:lnTo>
                <a:lnTo>
                  <a:pt x="16851" y="21516"/>
                </a:lnTo>
                <a:lnTo>
                  <a:pt x="17689" y="21516"/>
                </a:lnTo>
                <a:lnTo>
                  <a:pt x="17689" y="14372"/>
                </a:lnTo>
                <a:cubicBezTo>
                  <a:pt x="17690" y="13927"/>
                  <a:pt x="18350" y="13568"/>
                  <a:pt x="19164" y="13567"/>
                </a:cubicBezTo>
                <a:cubicBezTo>
                  <a:pt x="19979" y="13568"/>
                  <a:pt x="20636" y="13927"/>
                  <a:pt x="20638" y="14372"/>
                </a:cubicBezTo>
                <a:lnTo>
                  <a:pt x="21477" y="14372"/>
                </a:lnTo>
                <a:cubicBezTo>
                  <a:pt x="21477" y="13688"/>
                  <a:pt x="20483" y="13133"/>
                  <a:pt x="19244" y="13110"/>
                </a:cubicBezTo>
                <a:close/>
                <a:moveTo>
                  <a:pt x="16851" y="14372"/>
                </a:moveTo>
                <a:lnTo>
                  <a:pt x="16851" y="14928"/>
                </a:lnTo>
                <a:lnTo>
                  <a:pt x="13641" y="9148"/>
                </a:lnTo>
                <a:lnTo>
                  <a:pt x="14433" y="9148"/>
                </a:lnTo>
                <a:cubicBezTo>
                  <a:pt x="14433" y="9148"/>
                  <a:pt x="16329" y="12449"/>
                  <a:pt x="16334" y="12455"/>
                </a:cubicBezTo>
                <a:cubicBezTo>
                  <a:pt x="16646" y="12949"/>
                  <a:pt x="17145" y="13277"/>
                  <a:pt x="17799" y="13352"/>
                </a:cubicBezTo>
                <a:cubicBezTo>
                  <a:pt x="17225" y="13582"/>
                  <a:pt x="16853" y="13953"/>
                  <a:pt x="16851" y="14372"/>
                </a:cubicBezTo>
                <a:close/>
                <a:moveTo>
                  <a:pt x="16851" y="14372"/>
                </a:moveTo>
              </a:path>
            </a:pathLst>
          </a:custGeom>
          <a:solidFill>
            <a:srgbClr val="3099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Rectangle 129"/>
          <p:cNvSpPr/>
          <p:nvPr/>
        </p:nvSpPr>
        <p:spPr>
          <a:xfrm>
            <a:off x="944640" y="5475240"/>
            <a:ext cx="113652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183" name="Rectangle 129"/>
          <p:cNvSpPr/>
          <p:nvPr/>
        </p:nvSpPr>
        <p:spPr>
          <a:xfrm>
            <a:off x="944640" y="5011560"/>
            <a:ext cx="113652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000" spc="-1" strike="noStrike">
                <a:solidFill>
                  <a:srgbClr val="ffffff"/>
                </a:solidFill>
                <a:latin typeface="Roboto condensed"/>
                <a:ea typeface="MS PGothic"/>
              </a:rPr>
              <a:t>21M</a:t>
            </a:r>
            <a:endParaRPr b="0" lang="en-US" sz="4000" spc="-1" strike="noStrike">
              <a:solidFill>
                <a:srgbClr val="000000"/>
              </a:solidFill>
              <a:latin typeface="Calibri"/>
            </a:endParaRPr>
          </a:p>
        </p:txBody>
      </p:sp>
      <p:sp>
        <p:nvSpPr>
          <p:cNvPr id="1184" name="AutoShape 138"/>
          <p:cNvSpPr/>
          <p:nvPr/>
        </p:nvSpPr>
        <p:spPr>
          <a:xfrm>
            <a:off x="2179800" y="5138640"/>
            <a:ext cx="330120" cy="582840"/>
          </a:xfrm>
          <a:custGeom>
            <a:avLst/>
            <a:gdLst/>
            <a:ahLst/>
            <a:rect l="l" t="t" r="r" b="b"/>
            <a:pathLst>
              <a:path w="21599" h="21600">
                <a:moveTo>
                  <a:pt x="19188" y="12338"/>
                </a:moveTo>
                <a:cubicBezTo>
                  <a:pt x="18708" y="12338"/>
                  <a:pt x="18263" y="12418"/>
                  <a:pt x="17887" y="12554"/>
                </a:cubicBezTo>
                <a:cubicBezTo>
                  <a:pt x="17901" y="12507"/>
                  <a:pt x="17906" y="12459"/>
                  <a:pt x="17906" y="12410"/>
                </a:cubicBezTo>
                <a:cubicBezTo>
                  <a:pt x="17906" y="12408"/>
                  <a:pt x="17906" y="12407"/>
                  <a:pt x="17906" y="12405"/>
                </a:cubicBezTo>
                <a:lnTo>
                  <a:pt x="17906" y="7602"/>
                </a:lnTo>
                <a:cubicBezTo>
                  <a:pt x="17906" y="5794"/>
                  <a:pt x="15562" y="4298"/>
                  <a:pt x="12506" y="4041"/>
                </a:cubicBezTo>
                <a:cubicBezTo>
                  <a:pt x="11649" y="4611"/>
                  <a:pt x="10375" y="4976"/>
                  <a:pt x="8953" y="4976"/>
                </a:cubicBezTo>
                <a:cubicBezTo>
                  <a:pt x="7530" y="4976"/>
                  <a:pt x="6255" y="4611"/>
                  <a:pt x="5399" y="4041"/>
                </a:cubicBezTo>
                <a:cubicBezTo>
                  <a:pt x="2344" y="4298"/>
                  <a:pt x="0" y="5794"/>
                  <a:pt x="0" y="7602"/>
                </a:cubicBezTo>
                <a:lnTo>
                  <a:pt x="0" y="12405"/>
                </a:lnTo>
                <a:cubicBezTo>
                  <a:pt x="0" y="12407"/>
                  <a:pt x="0" y="12408"/>
                  <a:pt x="0" y="12410"/>
                </a:cubicBezTo>
                <a:cubicBezTo>
                  <a:pt x="0" y="12937"/>
                  <a:pt x="752" y="13365"/>
                  <a:pt x="1679" y="13365"/>
                </a:cubicBezTo>
                <a:cubicBezTo>
                  <a:pt x="2608" y="13365"/>
                  <a:pt x="3362" y="12937"/>
                  <a:pt x="3362" y="12410"/>
                </a:cubicBezTo>
                <a:cubicBezTo>
                  <a:pt x="3362" y="12393"/>
                  <a:pt x="3361" y="12376"/>
                  <a:pt x="3359" y="12357"/>
                </a:cubicBezTo>
                <a:lnTo>
                  <a:pt x="3359" y="7426"/>
                </a:lnTo>
                <a:lnTo>
                  <a:pt x="4117" y="7426"/>
                </a:lnTo>
                <a:lnTo>
                  <a:pt x="4117" y="14576"/>
                </a:lnTo>
                <a:lnTo>
                  <a:pt x="4118" y="14576"/>
                </a:lnTo>
                <a:lnTo>
                  <a:pt x="4118" y="20392"/>
                </a:lnTo>
                <a:cubicBezTo>
                  <a:pt x="4118" y="21058"/>
                  <a:pt x="5074" y="21600"/>
                  <a:pt x="6248" y="21600"/>
                </a:cubicBezTo>
                <a:cubicBezTo>
                  <a:pt x="7424" y="21600"/>
                  <a:pt x="8378" y="21058"/>
                  <a:pt x="8378" y="20390"/>
                </a:cubicBezTo>
                <a:cubicBezTo>
                  <a:pt x="8378" y="20358"/>
                  <a:pt x="8376" y="20328"/>
                  <a:pt x="8371" y="20296"/>
                </a:cubicBezTo>
                <a:lnTo>
                  <a:pt x="8371" y="14576"/>
                </a:lnTo>
                <a:lnTo>
                  <a:pt x="9605" y="14576"/>
                </a:lnTo>
                <a:lnTo>
                  <a:pt x="9605" y="20392"/>
                </a:lnTo>
                <a:cubicBezTo>
                  <a:pt x="9607" y="21058"/>
                  <a:pt x="10559" y="21600"/>
                  <a:pt x="11737" y="21600"/>
                </a:cubicBezTo>
                <a:cubicBezTo>
                  <a:pt x="12913" y="21600"/>
                  <a:pt x="13866" y="21058"/>
                  <a:pt x="13866" y="20390"/>
                </a:cubicBezTo>
                <a:cubicBezTo>
                  <a:pt x="13866" y="20358"/>
                  <a:pt x="13863" y="20328"/>
                  <a:pt x="13858" y="20296"/>
                </a:cubicBezTo>
                <a:lnTo>
                  <a:pt x="13858" y="14576"/>
                </a:lnTo>
                <a:lnTo>
                  <a:pt x="13860" y="14576"/>
                </a:lnTo>
                <a:lnTo>
                  <a:pt x="13860" y="7426"/>
                </a:lnTo>
                <a:lnTo>
                  <a:pt x="14543" y="7426"/>
                </a:lnTo>
                <a:lnTo>
                  <a:pt x="14543" y="12405"/>
                </a:lnTo>
                <a:lnTo>
                  <a:pt x="14545" y="12405"/>
                </a:lnTo>
                <a:cubicBezTo>
                  <a:pt x="14545" y="12407"/>
                  <a:pt x="14543" y="12408"/>
                  <a:pt x="14543" y="12410"/>
                </a:cubicBezTo>
                <a:cubicBezTo>
                  <a:pt x="14543" y="12937"/>
                  <a:pt x="15298" y="13365"/>
                  <a:pt x="16225" y="13365"/>
                </a:cubicBezTo>
                <a:cubicBezTo>
                  <a:pt x="16463" y="13365"/>
                  <a:pt x="16687" y="13338"/>
                  <a:pt x="16890" y="13287"/>
                </a:cubicBezTo>
                <a:cubicBezTo>
                  <a:pt x="16816" y="13420"/>
                  <a:pt x="16775" y="13561"/>
                  <a:pt x="16775" y="13710"/>
                </a:cubicBezTo>
                <a:lnTo>
                  <a:pt x="16775" y="21467"/>
                </a:lnTo>
                <a:lnTo>
                  <a:pt x="17648" y="21467"/>
                </a:lnTo>
                <a:lnTo>
                  <a:pt x="17648" y="13710"/>
                </a:lnTo>
                <a:cubicBezTo>
                  <a:pt x="17651" y="13226"/>
                  <a:pt x="18339" y="12835"/>
                  <a:pt x="19187" y="12833"/>
                </a:cubicBezTo>
                <a:cubicBezTo>
                  <a:pt x="20039" y="12835"/>
                  <a:pt x="20724" y="13226"/>
                  <a:pt x="20726" y="13710"/>
                </a:cubicBezTo>
                <a:lnTo>
                  <a:pt x="21599" y="13710"/>
                </a:lnTo>
                <a:cubicBezTo>
                  <a:pt x="21600" y="12952"/>
                  <a:pt x="20521" y="12338"/>
                  <a:pt x="19188" y="12338"/>
                </a:cubicBezTo>
                <a:close/>
                <a:moveTo>
                  <a:pt x="6273" y="4077"/>
                </a:moveTo>
                <a:lnTo>
                  <a:pt x="6274" y="4077"/>
                </a:lnTo>
                <a:cubicBezTo>
                  <a:pt x="6320" y="4100"/>
                  <a:pt x="6368" y="4123"/>
                  <a:pt x="6419" y="4145"/>
                </a:cubicBezTo>
                <a:cubicBezTo>
                  <a:pt x="6419" y="4145"/>
                  <a:pt x="6421" y="4146"/>
                  <a:pt x="6422" y="4147"/>
                </a:cubicBezTo>
                <a:cubicBezTo>
                  <a:pt x="6470" y="4168"/>
                  <a:pt x="6520" y="4190"/>
                  <a:pt x="6569" y="4210"/>
                </a:cubicBezTo>
                <a:cubicBezTo>
                  <a:pt x="6572" y="4211"/>
                  <a:pt x="6573" y="4212"/>
                  <a:pt x="6575" y="4212"/>
                </a:cubicBezTo>
                <a:cubicBezTo>
                  <a:pt x="6624" y="4233"/>
                  <a:pt x="6675" y="4251"/>
                  <a:pt x="6725" y="4271"/>
                </a:cubicBezTo>
                <a:cubicBezTo>
                  <a:pt x="6729" y="4272"/>
                  <a:pt x="6733" y="4274"/>
                  <a:pt x="6737" y="4275"/>
                </a:cubicBezTo>
                <a:cubicBezTo>
                  <a:pt x="6785" y="4293"/>
                  <a:pt x="6836" y="4311"/>
                  <a:pt x="6886" y="4328"/>
                </a:cubicBezTo>
                <a:cubicBezTo>
                  <a:pt x="6890" y="4329"/>
                  <a:pt x="6898" y="4331"/>
                  <a:pt x="6904" y="4333"/>
                </a:cubicBezTo>
                <a:cubicBezTo>
                  <a:pt x="6953" y="4349"/>
                  <a:pt x="7001" y="4365"/>
                  <a:pt x="7051" y="4380"/>
                </a:cubicBezTo>
                <a:cubicBezTo>
                  <a:pt x="7060" y="4382"/>
                  <a:pt x="7068" y="4385"/>
                  <a:pt x="7076" y="4387"/>
                </a:cubicBezTo>
                <a:cubicBezTo>
                  <a:pt x="7124" y="4402"/>
                  <a:pt x="7174" y="4415"/>
                  <a:pt x="7221" y="4429"/>
                </a:cubicBezTo>
                <a:cubicBezTo>
                  <a:pt x="7233" y="4433"/>
                  <a:pt x="7244" y="4435"/>
                  <a:pt x="7256" y="4438"/>
                </a:cubicBezTo>
                <a:cubicBezTo>
                  <a:pt x="7303" y="4449"/>
                  <a:pt x="7349" y="4461"/>
                  <a:pt x="7397" y="4472"/>
                </a:cubicBezTo>
                <a:cubicBezTo>
                  <a:pt x="7413" y="4476"/>
                  <a:pt x="7425" y="4480"/>
                  <a:pt x="7440" y="4482"/>
                </a:cubicBezTo>
                <a:cubicBezTo>
                  <a:pt x="7487" y="4492"/>
                  <a:pt x="7532" y="4504"/>
                  <a:pt x="7579" y="4512"/>
                </a:cubicBezTo>
                <a:cubicBezTo>
                  <a:pt x="7595" y="4515"/>
                  <a:pt x="7612" y="4518"/>
                  <a:pt x="7631" y="4522"/>
                </a:cubicBezTo>
                <a:cubicBezTo>
                  <a:pt x="7675" y="4531"/>
                  <a:pt x="7719" y="4539"/>
                  <a:pt x="7764" y="4547"/>
                </a:cubicBezTo>
                <a:cubicBezTo>
                  <a:pt x="7785" y="4550"/>
                  <a:pt x="7807" y="4553"/>
                  <a:pt x="7826" y="4557"/>
                </a:cubicBezTo>
                <a:cubicBezTo>
                  <a:pt x="7869" y="4563"/>
                  <a:pt x="7910" y="4570"/>
                  <a:pt x="7953" y="4577"/>
                </a:cubicBezTo>
                <a:cubicBezTo>
                  <a:pt x="7977" y="4580"/>
                  <a:pt x="8001" y="4583"/>
                  <a:pt x="8027" y="4586"/>
                </a:cubicBezTo>
                <a:cubicBezTo>
                  <a:pt x="8066" y="4591"/>
                  <a:pt x="8106" y="4597"/>
                  <a:pt x="8146" y="4602"/>
                </a:cubicBezTo>
                <a:cubicBezTo>
                  <a:pt x="8174" y="4605"/>
                  <a:pt x="8204" y="4608"/>
                  <a:pt x="8232" y="4610"/>
                </a:cubicBezTo>
                <a:cubicBezTo>
                  <a:pt x="8268" y="4613"/>
                  <a:pt x="8307" y="4617"/>
                  <a:pt x="8342" y="4620"/>
                </a:cubicBezTo>
                <a:cubicBezTo>
                  <a:pt x="8376" y="4623"/>
                  <a:pt x="8410" y="4625"/>
                  <a:pt x="8446" y="4629"/>
                </a:cubicBezTo>
                <a:cubicBezTo>
                  <a:pt x="8479" y="4631"/>
                  <a:pt x="8509" y="4634"/>
                  <a:pt x="8544" y="4635"/>
                </a:cubicBezTo>
                <a:cubicBezTo>
                  <a:pt x="8586" y="4638"/>
                  <a:pt x="8628" y="4639"/>
                  <a:pt x="8669" y="4641"/>
                </a:cubicBezTo>
                <a:cubicBezTo>
                  <a:pt x="8696" y="4642"/>
                  <a:pt x="8721" y="4644"/>
                  <a:pt x="8748" y="4645"/>
                </a:cubicBezTo>
                <a:cubicBezTo>
                  <a:pt x="8816" y="4647"/>
                  <a:pt x="8885" y="4648"/>
                  <a:pt x="8956" y="4648"/>
                </a:cubicBezTo>
                <a:cubicBezTo>
                  <a:pt x="9025" y="4648"/>
                  <a:pt x="9093" y="4647"/>
                  <a:pt x="9163" y="4645"/>
                </a:cubicBezTo>
                <a:cubicBezTo>
                  <a:pt x="9188" y="4644"/>
                  <a:pt x="9214" y="4642"/>
                  <a:pt x="9240" y="4641"/>
                </a:cubicBezTo>
                <a:cubicBezTo>
                  <a:pt x="9284" y="4639"/>
                  <a:pt x="9325" y="4638"/>
                  <a:pt x="9367" y="4635"/>
                </a:cubicBezTo>
                <a:cubicBezTo>
                  <a:pt x="9400" y="4634"/>
                  <a:pt x="9432" y="4631"/>
                  <a:pt x="9466" y="4628"/>
                </a:cubicBezTo>
                <a:cubicBezTo>
                  <a:pt x="9499" y="4625"/>
                  <a:pt x="9534" y="4623"/>
                  <a:pt x="9568" y="4620"/>
                </a:cubicBezTo>
                <a:cubicBezTo>
                  <a:pt x="9605" y="4617"/>
                  <a:pt x="9641" y="4613"/>
                  <a:pt x="9680" y="4610"/>
                </a:cubicBezTo>
                <a:cubicBezTo>
                  <a:pt x="9706" y="4608"/>
                  <a:pt x="9736" y="4604"/>
                  <a:pt x="9764" y="4602"/>
                </a:cubicBezTo>
                <a:cubicBezTo>
                  <a:pt x="9805" y="4597"/>
                  <a:pt x="9845" y="4591"/>
                  <a:pt x="9884" y="4586"/>
                </a:cubicBezTo>
                <a:cubicBezTo>
                  <a:pt x="9907" y="4583"/>
                  <a:pt x="9934" y="4580"/>
                  <a:pt x="9956" y="4577"/>
                </a:cubicBezTo>
                <a:cubicBezTo>
                  <a:pt x="10000" y="4570"/>
                  <a:pt x="10044" y="4563"/>
                  <a:pt x="10086" y="4556"/>
                </a:cubicBezTo>
                <a:cubicBezTo>
                  <a:pt x="10106" y="4553"/>
                  <a:pt x="10125" y="4549"/>
                  <a:pt x="10145" y="4547"/>
                </a:cubicBezTo>
                <a:cubicBezTo>
                  <a:pt x="10191" y="4539"/>
                  <a:pt x="10237" y="4530"/>
                  <a:pt x="10280" y="4522"/>
                </a:cubicBezTo>
                <a:cubicBezTo>
                  <a:pt x="10297" y="4518"/>
                  <a:pt x="10314" y="4515"/>
                  <a:pt x="10329" y="4512"/>
                </a:cubicBezTo>
                <a:cubicBezTo>
                  <a:pt x="10377" y="4504"/>
                  <a:pt x="10424" y="4492"/>
                  <a:pt x="10472" y="4482"/>
                </a:cubicBezTo>
                <a:cubicBezTo>
                  <a:pt x="10484" y="4479"/>
                  <a:pt x="10497" y="4476"/>
                  <a:pt x="10509" y="4473"/>
                </a:cubicBezTo>
                <a:cubicBezTo>
                  <a:pt x="10559" y="4461"/>
                  <a:pt x="10608" y="4449"/>
                  <a:pt x="10656" y="4437"/>
                </a:cubicBezTo>
                <a:cubicBezTo>
                  <a:pt x="10665" y="4434"/>
                  <a:pt x="10677" y="4433"/>
                  <a:pt x="10686" y="4429"/>
                </a:cubicBezTo>
                <a:cubicBezTo>
                  <a:pt x="10735" y="4415"/>
                  <a:pt x="10784" y="4402"/>
                  <a:pt x="10834" y="4386"/>
                </a:cubicBezTo>
                <a:cubicBezTo>
                  <a:pt x="10843" y="4385"/>
                  <a:pt x="10849" y="4382"/>
                  <a:pt x="10858" y="4380"/>
                </a:cubicBezTo>
                <a:cubicBezTo>
                  <a:pt x="10907" y="4365"/>
                  <a:pt x="10957" y="4349"/>
                  <a:pt x="11007" y="4333"/>
                </a:cubicBezTo>
                <a:cubicBezTo>
                  <a:pt x="11012" y="4331"/>
                  <a:pt x="11018" y="4329"/>
                  <a:pt x="11022" y="4328"/>
                </a:cubicBezTo>
                <a:cubicBezTo>
                  <a:pt x="11074" y="4311"/>
                  <a:pt x="11122" y="4293"/>
                  <a:pt x="11173" y="4274"/>
                </a:cubicBezTo>
                <a:cubicBezTo>
                  <a:pt x="11178" y="4274"/>
                  <a:pt x="11181" y="4272"/>
                  <a:pt x="11183" y="4271"/>
                </a:cubicBezTo>
                <a:cubicBezTo>
                  <a:pt x="11235" y="4252"/>
                  <a:pt x="11286" y="4232"/>
                  <a:pt x="11335" y="4212"/>
                </a:cubicBezTo>
                <a:cubicBezTo>
                  <a:pt x="11337" y="4212"/>
                  <a:pt x="11337" y="4211"/>
                  <a:pt x="11340" y="4210"/>
                </a:cubicBezTo>
                <a:cubicBezTo>
                  <a:pt x="11389" y="4190"/>
                  <a:pt x="11441" y="4168"/>
                  <a:pt x="11489" y="4147"/>
                </a:cubicBezTo>
                <a:cubicBezTo>
                  <a:pt x="11489" y="4146"/>
                  <a:pt x="11489" y="4145"/>
                  <a:pt x="11489" y="4145"/>
                </a:cubicBezTo>
                <a:cubicBezTo>
                  <a:pt x="11540" y="4123"/>
                  <a:pt x="11589" y="4100"/>
                  <a:pt x="11635" y="4077"/>
                </a:cubicBezTo>
                <a:cubicBezTo>
                  <a:pt x="12498" y="3650"/>
                  <a:pt x="13044" y="3023"/>
                  <a:pt x="13044" y="2323"/>
                </a:cubicBezTo>
                <a:cubicBezTo>
                  <a:pt x="13044" y="1040"/>
                  <a:pt x="11214" y="0"/>
                  <a:pt x="8955" y="0"/>
                </a:cubicBezTo>
                <a:cubicBezTo>
                  <a:pt x="6696" y="0"/>
                  <a:pt x="4864" y="1040"/>
                  <a:pt x="4864" y="2323"/>
                </a:cubicBezTo>
                <a:cubicBezTo>
                  <a:pt x="4863" y="3023"/>
                  <a:pt x="5410" y="3650"/>
                  <a:pt x="6273" y="4077"/>
                </a:cubicBezTo>
                <a:close/>
                <a:moveTo>
                  <a:pt x="6273" y="4077"/>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Rectangle 129"/>
          <p:cNvSpPr/>
          <p:nvPr/>
        </p:nvSpPr>
        <p:spPr>
          <a:xfrm>
            <a:off x="2554200" y="5475240"/>
            <a:ext cx="113508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186" name="Rectangle 129"/>
          <p:cNvSpPr/>
          <p:nvPr/>
        </p:nvSpPr>
        <p:spPr>
          <a:xfrm>
            <a:off x="2554200" y="5011560"/>
            <a:ext cx="113508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000" spc="-1" strike="noStrike">
                <a:solidFill>
                  <a:srgbClr val="ffffff"/>
                </a:solidFill>
                <a:latin typeface="Roboto condensed"/>
                <a:ea typeface="MS PGothic"/>
              </a:rPr>
              <a:t>18M</a:t>
            </a:r>
            <a:endParaRPr b="0" lang="en-US" sz="4000" spc="-1" strike="noStrike">
              <a:solidFill>
                <a:srgbClr val="000000"/>
              </a:solidFill>
              <a:latin typeface="Calibri"/>
            </a:endParaRPr>
          </a:p>
        </p:txBody>
      </p:sp>
      <p:sp>
        <p:nvSpPr>
          <p:cNvPr id="1187" name="TextBox 47"/>
          <p:cNvSpPr/>
          <p:nvPr/>
        </p:nvSpPr>
        <p:spPr>
          <a:xfrm>
            <a:off x="447840" y="1790640"/>
            <a:ext cx="4066920" cy="1734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Cum socis natoque penatibus et magnis dis tellus parturient pharetra montes. Praesent commodo cursus magna, vel scelerisque nisl consectetur et. Integer posuere erat a ante venenatis dapibus posuere velit aliquet. Maecenas sed diam eget risus varius blandit sit amet non magna. </a:t>
            </a:r>
            <a:endParaRPr b="0" lang="en-US" sz="1100" spc="-1" strike="noStrike">
              <a:solidFill>
                <a:srgbClr val="000000"/>
              </a:solidFill>
              <a:latin typeface="Calibri"/>
            </a:endParaRPr>
          </a:p>
        </p:txBody>
      </p:sp>
      <p:sp>
        <p:nvSpPr>
          <p:cNvPr id="1188" name="Straight Connector 56"/>
          <p:cNvSpPr/>
          <p:nvPr/>
        </p:nvSpPr>
        <p:spPr>
          <a:xfrm flipH="1">
            <a:off x="560520" y="3746520"/>
            <a:ext cx="395424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9" name="组合 1"/>
          <p:cNvGrpSpPr/>
          <p:nvPr/>
        </p:nvGrpSpPr>
        <p:grpSpPr>
          <a:xfrm>
            <a:off x="529920" y="66960"/>
            <a:ext cx="1630080" cy="1447560"/>
            <a:chOff x="529920" y="66960"/>
            <a:chExt cx="1630080" cy="1447560"/>
          </a:xfrm>
        </p:grpSpPr>
        <p:grpSp>
          <p:nvGrpSpPr>
            <p:cNvPr id="1190" name="组合 2"/>
            <p:cNvGrpSpPr/>
            <p:nvPr/>
          </p:nvGrpSpPr>
          <p:grpSpPr>
            <a:xfrm>
              <a:off x="529920" y="66960"/>
              <a:ext cx="1630080" cy="1447560"/>
              <a:chOff x="529920" y="66960"/>
              <a:chExt cx="1630080" cy="1447560"/>
            </a:xfrm>
          </p:grpSpPr>
          <p:sp>
            <p:nvSpPr>
              <p:cNvPr id="1191"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4" name="组合 7"/>
              <p:cNvGrpSpPr/>
              <p:nvPr/>
            </p:nvGrpSpPr>
            <p:grpSpPr>
              <a:xfrm>
                <a:off x="529920" y="142200"/>
                <a:ext cx="1630080" cy="1372320"/>
                <a:chOff x="529920" y="142200"/>
                <a:chExt cx="1630080" cy="1372320"/>
              </a:xfrm>
            </p:grpSpPr>
            <p:sp>
              <p:nvSpPr>
                <p:cNvPr id="1195"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3"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5"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6"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3"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4"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7"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8"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0"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1"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4"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5"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26"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3</a:t>
              </a:r>
              <a:endParaRPr b="0" lang="en-US" sz="6600" spc="-1" strike="noStrike">
                <a:solidFill>
                  <a:srgbClr val="000000"/>
                </a:solidFill>
                <a:latin typeface="Calibri"/>
              </a:endParaRPr>
            </a:p>
          </p:txBody>
        </p:sp>
      </p:grpSp>
      <p:sp>
        <p:nvSpPr>
          <p:cNvPr id="1227"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pic>
        <p:nvPicPr>
          <p:cNvPr id="1228" name="Group 12" descr=""/>
          <p:cNvPicPr/>
          <p:nvPr/>
        </p:nvPicPr>
        <p:blipFill>
          <a:blip r:embed="rId1"/>
          <a:stretch/>
        </p:blipFill>
        <p:spPr>
          <a:xfrm>
            <a:off x="689040" y="1895400"/>
            <a:ext cx="2292120" cy="2081160"/>
          </a:xfrm>
          <a:prstGeom prst="rect">
            <a:avLst/>
          </a:prstGeom>
          <a:ln w="0">
            <a:noFill/>
          </a:ln>
        </p:spPr>
      </p:pic>
      <p:sp>
        <p:nvSpPr>
          <p:cNvPr id="1229" name="Freeform 114"/>
          <p:cNvSpPr/>
          <p:nvPr/>
        </p:nvSpPr>
        <p:spPr>
          <a:xfrm>
            <a:off x="4888080" y="1989000"/>
            <a:ext cx="2492280" cy="190188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0" name="Freeform 54"/>
          <p:cNvSpPr/>
          <p:nvPr/>
        </p:nvSpPr>
        <p:spPr>
          <a:xfrm>
            <a:off x="8732880" y="1963800"/>
            <a:ext cx="2477880" cy="1989000"/>
          </a:xfrm>
          <a:custGeom>
            <a:avLst/>
            <a:gdLst/>
            <a:ahLst/>
            <a:rect l="l" t="t" r="r" b="b"/>
            <a:pathLst>
              <a:path w="2217" h="1736">
                <a:moveTo>
                  <a:pt x="43" y="634"/>
                </a:moveTo>
                <a:lnTo>
                  <a:pt x="49" y="629"/>
                </a:lnTo>
                <a:lnTo>
                  <a:pt x="48" y="645"/>
                </a:lnTo>
                <a:lnTo>
                  <a:pt x="48" y="647"/>
                </a:lnTo>
                <a:lnTo>
                  <a:pt x="45" y="651"/>
                </a:lnTo>
                <a:lnTo>
                  <a:pt x="44" y="656"/>
                </a:lnTo>
                <a:lnTo>
                  <a:pt x="48" y="658"/>
                </a:lnTo>
                <a:lnTo>
                  <a:pt x="46" y="666"/>
                </a:lnTo>
                <a:lnTo>
                  <a:pt x="45" y="671"/>
                </a:lnTo>
                <a:lnTo>
                  <a:pt x="50" y="673"/>
                </a:lnTo>
                <a:lnTo>
                  <a:pt x="59" y="666"/>
                </a:lnTo>
                <a:lnTo>
                  <a:pt x="62" y="652"/>
                </a:lnTo>
                <a:lnTo>
                  <a:pt x="72" y="636"/>
                </a:lnTo>
                <a:lnTo>
                  <a:pt x="80" y="633"/>
                </a:lnTo>
                <a:lnTo>
                  <a:pt x="87" y="628"/>
                </a:lnTo>
                <a:lnTo>
                  <a:pt x="94" y="626"/>
                </a:lnTo>
                <a:lnTo>
                  <a:pt x="102" y="620"/>
                </a:lnTo>
                <a:lnTo>
                  <a:pt x="120" y="617"/>
                </a:lnTo>
                <a:lnTo>
                  <a:pt x="125" y="608"/>
                </a:lnTo>
                <a:lnTo>
                  <a:pt x="132" y="601"/>
                </a:lnTo>
                <a:lnTo>
                  <a:pt x="140" y="596"/>
                </a:lnTo>
                <a:lnTo>
                  <a:pt x="146" y="586"/>
                </a:lnTo>
                <a:lnTo>
                  <a:pt x="161" y="580"/>
                </a:lnTo>
                <a:lnTo>
                  <a:pt x="167" y="575"/>
                </a:lnTo>
                <a:lnTo>
                  <a:pt x="174" y="571"/>
                </a:lnTo>
                <a:lnTo>
                  <a:pt x="191" y="559"/>
                </a:lnTo>
                <a:lnTo>
                  <a:pt x="195" y="558"/>
                </a:lnTo>
                <a:lnTo>
                  <a:pt x="198" y="560"/>
                </a:lnTo>
                <a:lnTo>
                  <a:pt x="214" y="561"/>
                </a:lnTo>
                <a:lnTo>
                  <a:pt x="222" y="564"/>
                </a:lnTo>
                <a:lnTo>
                  <a:pt x="232" y="565"/>
                </a:lnTo>
                <a:lnTo>
                  <a:pt x="241" y="564"/>
                </a:lnTo>
                <a:lnTo>
                  <a:pt x="249" y="561"/>
                </a:lnTo>
                <a:lnTo>
                  <a:pt x="260" y="553"/>
                </a:lnTo>
                <a:lnTo>
                  <a:pt x="270" y="547"/>
                </a:lnTo>
                <a:lnTo>
                  <a:pt x="280" y="544"/>
                </a:lnTo>
                <a:lnTo>
                  <a:pt x="291" y="544"/>
                </a:lnTo>
                <a:lnTo>
                  <a:pt x="301" y="542"/>
                </a:lnTo>
                <a:lnTo>
                  <a:pt x="322" y="522"/>
                </a:lnTo>
                <a:lnTo>
                  <a:pt x="335" y="522"/>
                </a:lnTo>
                <a:lnTo>
                  <a:pt x="345" y="527"/>
                </a:lnTo>
                <a:lnTo>
                  <a:pt x="357" y="522"/>
                </a:lnTo>
                <a:lnTo>
                  <a:pt x="370" y="522"/>
                </a:lnTo>
                <a:lnTo>
                  <a:pt x="378" y="520"/>
                </a:lnTo>
                <a:lnTo>
                  <a:pt x="388" y="515"/>
                </a:lnTo>
                <a:lnTo>
                  <a:pt x="413" y="510"/>
                </a:lnTo>
                <a:lnTo>
                  <a:pt x="424" y="504"/>
                </a:lnTo>
                <a:lnTo>
                  <a:pt x="432" y="499"/>
                </a:lnTo>
                <a:lnTo>
                  <a:pt x="454" y="478"/>
                </a:lnTo>
                <a:lnTo>
                  <a:pt x="458" y="470"/>
                </a:lnTo>
                <a:lnTo>
                  <a:pt x="459" y="461"/>
                </a:lnTo>
                <a:lnTo>
                  <a:pt x="467" y="450"/>
                </a:lnTo>
                <a:lnTo>
                  <a:pt x="469" y="445"/>
                </a:lnTo>
                <a:lnTo>
                  <a:pt x="469" y="439"/>
                </a:lnTo>
                <a:lnTo>
                  <a:pt x="476" y="440"/>
                </a:lnTo>
                <a:lnTo>
                  <a:pt x="497" y="418"/>
                </a:lnTo>
                <a:lnTo>
                  <a:pt x="500" y="413"/>
                </a:lnTo>
                <a:lnTo>
                  <a:pt x="497" y="410"/>
                </a:lnTo>
                <a:lnTo>
                  <a:pt x="490" y="381"/>
                </a:lnTo>
                <a:lnTo>
                  <a:pt x="491" y="369"/>
                </a:lnTo>
                <a:lnTo>
                  <a:pt x="499" y="355"/>
                </a:lnTo>
                <a:lnTo>
                  <a:pt x="502" y="353"/>
                </a:lnTo>
                <a:lnTo>
                  <a:pt x="508" y="353"/>
                </a:lnTo>
                <a:lnTo>
                  <a:pt x="512" y="345"/>
                </a:lnTo>
                <a:lnTo>
                  <a:pt x="521" y="338"/>
                </a:lnTo>
                <a:lnTo>
                  <a:pt x="524" y="338"/>
                </a:lnTo>
                <a:lnTo>
                  <a:pt x="523" y="333"/>
                </a:lnTo>
                <a:lnTo>
                  <a:pt x="528" y="322"/>
                </a:lnTo>
                <a:lnTo>
                  <a:pt x="530" y="321"/>
                </a:lnTo>
                <a:lnTo>
                  <a:pt x="533" y="330"/>
                </a:lnTo>
                <a:lnTo>
                  <a:pt x="537" y="337"/>
                </a:lnTo>
                <a:lnTo>
                  <a:pt x="543" y="353"/>
                </a:lnTo>
                <a:lnTo>
                  <a:pt x="549" y="365"/>
                </a:lnTo>
                <a:lnTo>
                  <a:pt x="555" y="372"/>
                </a:lnTo>
                <a:lnTo>
                  <a:pt x="560" y="381"/>
                </a:lnTo>
                <a:lnTo>
                  <a:pt x="564" y="386"/>
                </a:lnTo>
                <a:lnTo>
                  <a:pt x="569" y="375"/>
                </a:lnTo>
                <a:lnTo>
                  <a:pt x="569" y="360"/>
                </a:lnTo>
                <a:lnTo>
                  <a:pt x="571" y="360"/>
                </a:lnTo>
                <a:lnTo>
                  <a:pt x="578" y="359"/>
                </a:lnTo>
                <a:lnTo>
                  <a:pt x="576" y="346"/>
                </a:lnTo>
                <a:lnTo>
                  <a:pt x="570" y="335"/>
                </a:lnTo>
                <a:lnTo>
                  <a:pt x="564" y="330"/>
                </a:lnTo>
                <a:lnTo>
                  <a:pt x="566" y="326"/>
                </a:lnTo>
                <a:lnTo>
                  <a:pt x="565" y="310"/>
                </a:lnTo>
                <a:lnTo>
                  <a:pt x="570" y="305"/>
                </a:lnTo>
                <a:lnTo>
                  <a:pt x="580" y="310"/>
                </a:lnTo>
                <a:lnTo>
                  <a:pt x="588" y="308"/>
                </a:lnTo>
                <a:lnTo>
                  <a:pt x="601" y="324"/>
                </a:lnTo>
                <a:lnTo>
                  <a:pt x="618" y="327"/>
                </a:lnTo>
                <a:lnTo>
                  <a:pt x="619" y="319"/>
                </a:lnTo>
                <a:lnTo>
                  <a:pt x="610" y="316"/>
                </a:lnTo>
                <a:lnTo>
                  <a:pt x="613" y="303"/>
                </a:lnTo>
                <a:lnTo>
                  <a:pt x="623" y="294"/>
                </a:lnTo>
                <a:lnTo>
                  <a:pt x="625" y="287"/>
                </a:lnTo>
                <a:lnTo>
                  <a:pt x="620" y="270"/>
                </a:lnTo>
                <a:lnTo>
                  <a:pt x="625" y="264"/>
                </a:lnTo>
                <a:lnTo>
                  <a:pt x="634" y="262"/>
                </a:lnTo>
                <a:lnTo>
                  <a:pt x="645" y="268"/>
                </a:lnTo>
                <a:lnTo>
                  <a:pt x="647" y="265"/>
                </a:lnTo>
                <a:lnTo>
                  <a:pt x="641" y="253"/>
                </a:lnTo>
                <a:lnTo>
                  <a:pt x="642" y="247"/>
                </a:lnTo>
                <a:lnTo>
                  <a:pt x="646" y="242"/>
                </a:lnTo>
                <a:lnTo>
                  <a:pt x="663" y="248"/>
                </a:lnTo>
                <a:lnTo>
                  <a:pt x="663" y="243"/>
                </a:lnTo>
                <a:lnTo>
                  <a:pt x="657" y="233"/>
                </a:lnTo>
                <a:lnTo>
                  <a:pt x="657" y="221"/>
                </a:lnTo>
                <a:lnTo>
                  <a:pt x="666" y="217"/>
                </a:lnTo>
                <a:lnTo>
                  <a:pt x="671" y="217"/>
                </a:lnTo>
                <a:lnTo>
                  <a:pt x="677" y="215"/>
                </a:lnTo>
                <a:lnTo>
                  <a:pt x="687" y="214"/>
                </a:lnTo>
                <a:lnTo>
                  <a:pt x="688" y="222"/>
                </a:lnTo>
                <a:lnTo>
                  <a:pt x="693" y="220"/>
                </a:lnTo>
                <a:lnTo>
                  <a:pt x="700" y="214"/>
                </a:lnTo>
                <a:lnTo>
                  <a:pt x="705" y="201"/>
                </a:lnTo>
                <a:lnTo>
                  <a:pt x="705" y="197"/>
                </a:lnTo>
                <a:lnTo>
                  <a:pt x="699" y="189"/>
                </a:lnTo>
                <a:lnTo>
                  <a:pt x="702" y="183"/>
                </a:lnTo>
                <a:lnTo>
                  <a:pt x="707" y="189"/>
                </a:lnTo>
                <a:lnTo>
                  <a:pt x="709" y="198"/>
                </a:lnTo>
                <a:lnTo>
                  <a:pt x="715" y="194"/>
                </a:lnTo>
                <a:lnTo>
                  <a:pt x="718" y="188"/>
                </a:lnTo>
                <a:lnTo>
                  <a:pt x="721" y="189"/>
                </a:lnTo>
                <a:lnTo>
                  <a:pt x="722" y="194"/>
                </a:lnTo>
                <a:lnTo>
                  <a:pt x="728" y="193"/>
                </a:lnTo>
                <a:lnTo>
                  <a:pt x="739" y="187"/>
                </a:lnTo>
                <a:lnTo>
                  <a:pt x="743" y="183"/>
                </a:lnTo>
                <a:lnTo>
                  <a:pt x="741" y="176"/>
                </a:lnTo>
                <a:lnTo>
                  <a:pt x="749" y="174"/>
                </a:lnTo>
                <a:lnTo>
                  <a:pt x="753" y="177"/>
                </a:lnTo>
                <a:lnTo>
                  <a:pt x="761" y="181"/>
                </a:lnTo>
                <a:lnTo>
                  <a:pt x="770" y="181"/>
                </a:lnTo>
                <a:lnTo>
                  <a:pt x="780" y="187"/>
                </a:lnTo>
                <a:lnTo>
                  <a:pt x="788" y="193"/>
                </a:lnTo>
                <a:lnTo>
                  <a:pt x="804" y="215"/>
                </a:lnTo>
                <a:lnTo>
                  <a:pt x="818" y="226"/>
                </a:lnTo>
                <a:lnTo>
                  <a:pt x="814" y="242"/>
                </a:lnTo>
                <a:lnTo>
                  <a:pt x="814" y="253"/>
                </a:lnTo>
                <a:lnTo>
                  <a:pt x="815" y="255"/>
                </a:lnTo>
                <a:lnTo>
                  <a:pt x="818" y="257"/>
                </a:lnTo>
                <a:lnTo>
                  <a:pt x="819" y="254"/>
                </a:lnTo>
                <a:lnTo>
                  <a:pt x="822" y="247"/>
                </a:lnTo>
                <a:lnTo>
                  <a:pt x="820" y="243"/>
                </a:lnTo>
                <a:lnTo>
                  <a:pt x="825" y="238"/>
                </a:lnTo>
                <a:lnTo>
                  <a:pt x="829" y="240"/>
                </a:lnTo>
                <a:lnTo>
                  <a:pt x="830" y="237"/>
                </a:lnTo>
                <a:lnTo>
                  <a:pt x="836" y="240"/>
                </a:lnTo>
                <a:lnTo>
                  <a:pt x="836" y="232"/>
                </a:lnTo>
                <a:lnTo>
                  <a:pt x="839" y="231"/>
                </a:lnTo>
                <a:lnTo>
                  <a:pt x="849" y="233"/>
                </a:lnTo>
                <a:lnTo>
                  <a:pt x="862" y="233"/>
                </a:lnTo>
                <a:lnTo>
                  <a:pt x="873" y="232"/>
                </a:lnTo>
                <a:lnTo>
                  <a:pt x="881" y="236"/>
                </a:lnTo>
                <a:lnTo>
                  <a:pt x="898" y="254"/>
                </a:lnTo>
                <a:lnTo>
                  <a:pt x="903" y="253"/>
                </a:lnTo>
                <a:lnTo>
                  <a:pt x="903" y="249"/>
                </a:lnTo>
                <a:lnTo>
                  <a:pt x="899" y="237"/>
                </a:lnTo>
                <a:lnTo>
                  <a:pt x="906" y="233"/>
                </a:lnTo>
                <a:lnTo>
                  <a:pt x="908" y="232"/>
                </a:lnTo>
                <a:lnTo>
                  <a:pt x="894" y="217"/>
                </a:lnTo>
                <a:lnTo>
                  <a:pt x="886" y="205"/>
                </a:lnTo>
                <a:lnTo>
                  <a:pt x="890" y="189"/>
                </a:lnTo>
                <a:lnTo>
                  <a:pt x="893" y="192"/>
                </a:lnTo>
                <a:lnTo>
                  <a:pt x="898" y="189"/>
                </a:lnTo>
                <a:lnTo>
                  <a:pt x="909" y="172"/>
                </a:lnTo>
                <a:lnTo>
                  <a:pt x="909" y="165"/>
                </a:lnTo>
                <a:lnTo>
                  <a:pt x="914" y="158"/>
                </a:lnTo>
                <a:lnTo>
                  <a:pt x="921" y="160"/>
                </a:lnTo>
                <a:lnTo>
                  <a:pt x="931" y="160"/>
                </a:lnTo>
                <a:lnTo>
                  <a:pt x="937" y="154"/>
                </a:lnTo>
                <a:lnTo>
                  <a:pt x="936" y="141"/>
                </a:lnTo>
                <a:lnTo>
                  <a:pt x="929" y="141"/>
                </a:lnTo>
                <a:lnTo>
                  <a:pt x="930" y="135"/>
                </a:lnTo>
                <a:lnTo>
                  <a:pt x="931" y="125"/>
                </a:lnTo>
                <a:lnTo>
                  <a:pt x="935" y="115"/>
                </a:lnTo>
                <a:lnTo>
                  <a:pt x="944" y="113"/>
                </a:lnTo>
                <a:lnTo>
                  <a:pt x="953" y="109"/>
                </a:lnTo>
                <a:lnTo>
                  <a:pt x="954" y="102"/>
                </a:lnTo>
                <a:lnTo>
                  <a:pt x="962" y="103"/>
                </a:lnTo>
                <a:lnTo>
                  <a:pt x="969" y="108"/>
                </a:lnTo>
                <a:lnTo>
                  <a:pt x="973" y="115"/>
                </a:lnTo>
                <a:lnTo>
                  <a:pt x="974" y="108"/>
                </a:lnTo>
                <a:lnTo>
                  <a:pt x="968" y="98"/>
                </a:lnTo>
                <a:lnTo>
                  <a:pt x="971" y="96"/>
                </a:lnTo>
                <a:lnTo>
                  <a:pt x="978" y="88"/>
                </a:lnTo>
                <a:lnTo>
                  <a:pt x="991" y="92"/>
                </a:lnTo>
                <a:lnTo>
                  <a:pt x="992" y="87"/>
                </a:lnTo>
                <a:lnTo>
                  <a:pt x="1003" y="90"/>
                </a:lnTo>
                <a:lnTo>
                  <a:pt x="1016" y="88"/>
                </a:lnTo>
                <a:lnTo>
                  <a:pt x="1026" y="91"/>
                </a:lnTo>
                <a:lnTo>
                  <a:pt x="1034" y="91"/>
                </a:lnTo>
                <a:lnTo>
                  <a:pt x="1054" y="85"/>
                </a:lnTo>
                <a:lnTo>
                  <a:pt x="1062" y="79"/>
                </a:lnTo>
                <a:lnTo>
                  <a:pt x="1062" y="55"/>
                </a:lnTo>
                <a:lnTo>
                  <a:pt x="1056" y="49"/>
                </a:lnTo>
                <a:lnTo>
                  <a:pt x="1045" y="48"/>
                </a:lnTo>
                <a:lnTo>
                  <a:pt x="1038" y="49"/>
                </a:lnTo>
                <a:lnTo>
                  <a:pt x="1030" y="44"/>
                </a:lnTo>
                <a:lnTo>
                  <a:pt x="1026" y="38"/>
                </a:lnTo>
                <a:lnTo>
                  <a:pt x="1017" y="34"/>
                </a:lnTo>
                <a:lnTo>
                  <a:pt x="1017" y="33"/>
                </a:lnTo>
                <a:lnTo>
                  <a:pt x="1021" y="32"/>
                </a:lnTo>
                <a:lnTo>
                  <a:pt x="1024" y="34"/>
                </a:lnTo>
                <a:lnTo>
                  <a:pt x="1027" y="29"/>
                </a:lnTo>
                <a:lnTo>
                  <a:pt x="1029" y="27"/>
                </a:lnTo>
                <a:lnTo>
                  <a:pt x="1032" y="31"/>
                </a:lnTo>
                <a:lnTo>
                  <a:pt x="1035" y="45"/>
                </a:lnTo>
                <a:lnTo>
                  <a:pt x="1039" y="38"/>
                </a:lnTo>
                <a:lnTo>
                  <a:pt x="1039" y="29"/>
                </a:lnTo>
                <a:lnTo>
                  <a:pt x="1044" y="29"/>
                </a:lnTo>
                <a:lnTo>
                  <a:pt x="1046" y="33"/>
                </a:lnTo>
                <a:lnTo>
                  <a:pt x="1051" y="32"/>
                </a:lnTo>
                <a:lnTo>
                  <a:pt x="1055" y="38"/>
                </a:lnTo>
                <a:lnTo>
                  <a:pt x="1059" y="43"/>
                </a:lnTo>
                <a:lnTo>
                  <a:pt x="1067" y="49"/>
                </a:lnTo>
                <a:lnTo>
                  <a:pt x="1070" y="42"/>
                </a:lnTo>
                <a:lnTo>
                  <a:pt x="1075" y="41"/>
                </a:lnTo>
                <a:lnTo>
                  <a:pt x="1080" y="44"/>
                </a:lnTo>
                <a:lnTo>
                  <a:pt x="1082" y="50"/>
                </a:lnTo>
                <a:lnTo>
                  <a:pt x="1089" y="58"/>
                </a:lnTo>
                <a:lnTo>
                  <a:pt x="1104" y="61"/>
                </a:lnTo>
                <a:lnTo>
                  <a:pt x="1108" y="61"/>
                </a:lnTo>
                <a:lnTo>
                  <a:pt x="1113" y="63"/>
                </a:lnTo>
                <a:lnTo>
                  <a:pt x="1116" y="65"/>
                </a:lnTo>
                <a:lnTo>
                  <a:pt x="1123" y="60"/>
                </a:lnTo>
                <a:lnTo>
                  <a:pt x="1126" y="59"/>
                </a:lnTo>
                <a:lnTo>
                  <a:pt x="1126" y="66"/>
                </a:lnTo>
                <a:lnTo>
                  <a:pt x="1131" y="69"/>
                </a:lnTo>
                <a:lnTo>
                  <a:pt x="1141" y="69"/>
                </a:lnTo>
                <a:lnTo>
                  <a:pt x="1151" y="76"/>
                </a:lnTo>
                <a:lnTo>
                  <a:pt x="1159" y="75"/>
                </a:lnTo>
                <a:lnTo>
                  <a:pt x="1167" y="79"/>
                </a:lnTo>
                <a:lnTo>
                  <a:pt x="1177" y="74"/>
                </a:lnTo>
                <a:lnTo>
                  <a:pt x="1179" y="74"/>
                </a:lnTo>
                <a:lnTo>
                  <a:pt x="1184" y="81"/>
                </a:lnTo>
                <a:lnTo>
                  <a:pt x="1195" y="81"/>
                </a:lnTo>
                <a:lnTo>
                  <a:pt x="1200" y="84"/>
                </a:lnTo>
                <a:lnTo>
                  <a:pt x="1205" y="90"/>
                </a:lnTo>
                <a:lnTo>
                  <a:pt x="1216" y="79"/>
                </a:lnTo>
                <a:lnTo>
                  <a:pt x="1221" y="76"/>
                </a:lnTo>
                <a:lnTo>
                  <a:pt x="1225" y="75"/>
                </a:lnTo>
                <a:lnTo>
                  <a:pt x="1234" y="76"/>
                </a:lnTo>
                <a:lnTo>
                  <a:pt x="1244" y="71"/>
                </a:lnTo>
                <a:lnTo>
                  <a:pt x="1238" y="82"/>
                </a:lnTo>
                <a:lnTo>
                  <a:pt x="1241" y="85"/>
                </a:lnTo>
                <a:lnTo>
                  <a:pt x="1243" y="86"/>
                </a:lnTo>
                <a:lnTo>
                  <a:pt x="1248" y="81"/>
                </a:lnTo>
                <a:lnTo>
                  <a:pt x="1249" y="85"/>
                </a:lnTo>
                <a:lnTo>
                  <a:pt x="1248" y="101"/>
                </a:lnTo>
                <a:lnTo>
                  <a:pt x="1249" y="104"/>
                </a:lnTo>
                <a:lnTo>
                  <a:pt x="1259" y="101"/>
                </a:lnTo>
                <a:lnTo>
                  <a:pt x="1264" y="90"/>
                </a:lnTo>
                <a:lnTo>
                  <a:pt x="1263" y="88"/>
                </a:lnTo>
                <a:lnTo>
                  <a:pt x="1264" y="79"/>
                </a:lnTo>
                <a:lnTo>
                  <a:pt x="1274" y="70"/>
                </a:lnTo>
                <a:lnTo>
                  <a:pt x="1276" y="72"/>
                </a:lnTo>
                <a:lnTo>
                  <a:pt x="1279" y="77"/>
                </a:lnTo>
                <a:lnTo>
                  <a:pt x="1280" y="92"/>
                </a:lnTo>
                <a:lnTo>
                  <a:pt x="1288" y="87"/>
                </a:lnTo>
                <a:lnTo>
                  <a:pt x="1295" y="87"/>
                </a:lnTo>
                <a:lnTo>
                  <a:pt x="1299" y="91"/>
                </a:lnTo>
                <a:lnTo>
                  <a:pt x="1297" y="96"/>
                </a:lnTo>
                <a:lnTo>
                  <a:pt x="1293" y="106"/>
                </a:lnTo>
                <a:lnTo>
                  <a:pt x="1287" y="115"/>
                </a:lnTo>
                <a:lnTo>
                  <a:pt x="1284" y="119"/>
                </a:lnTo>
                <a:lnTo>
                  <a:pt x="1279" y="118"/>
                </a:lnTo>
                <a:lnTo>
                  <a:pt x="1277" y="122"/>
                </a:lnTo>
                <a:lnTo>
                  <a:pt x="1284" y="130"/>
                </a:lnTo>
                <a:lnTo>
                  <a:pt x="1276" y="141"/>
                </a:lnTo>
                <a:lnTo>
                  <a:pt x="1272" y="144"/>
                </a:lnTo>
                <a:lnTo>
                  <a:pt x="1264" y="141"/>
                </a:lnTo>
                <a:lnTo>
                  <a:pt x="1263" y="136"/>
                </a:lnTo>
                <a:lnTo>
                  <a:pt x="1258" y="142"/>
                </a:lnTo>
                <a:lnTo>
                  <a:pt x="1259" y="151"/>
                </a:lnTo>
                <a:lnTo>
                  <a:pt x="1261" y="156"/>
                </a:lnTo>
                <a:lnTo>
                  <a:pt x="1258" y="152"/>
                </a:lnTo>
                <a:lnTo>
                  <a:pt x="1253" y="145"/>
                </a:lnTo>
                <a:lnTo>
                  <a:pt x="1248" y="144"/>
                </a:lnTo>
                <a:lnTo>
                  <a:pt x="1247" y="156"/>
                </a:lnTo>
                <a:lnTo>
                  <a:pt x="1243" y="165"/>
                </a:lnTo>
                <a:lnTo>
                  <a:pt x="1243" y="171"/>
                </a:lnTo>
                <a:lnTo>
                  <a:pt x="1253" y="168"/>
                </a:lnTo>
                <a:lnTo>
                  <a:pt x="1248" y="187"/>
                </a:lnTo>
                <a:lnTo>
                  <a:pt x="1248" y="190"/>
                </a:lnTo>
                <a:lnTo>
                  <a:pt x="1238" y="210"/>
                </a:lnTo>
                <a:lnTo>
                  <a:pt x="1234" y="221"/>
                </a:lnTo>
                <a:lnTo>
                  <a:pt x="1232" y="225"/>
                </a:lnTo>
                <a:lnTo>
                  <a:pt x="1228" y="231"/>
                </a:lnTo>
                <a:lnTo>
                  <a:pt x="1228" y="242"/>
                </a:lnTo>
                <a:lnTo>
                  <a:pt x="1234" y="246"/>
                </a:lnTo>
                <a:lnTo>
                  <a:pt x="1238" y="252"/>
                </a:lnTo>
                <a:lnTo>
                  <a:pt x="1245" y="251"/>
                </a:lnTo>
                <a:lnTo>
                  <a:pt x="1254" y="258"/>
                </a:lnTo>
                <a:lnTo>
                  <a:pt x="1269" y="264"/>
                </a:lnTo>
                <a:lnTo>
                  <a:pt x="1271" y="274"/>
                </a:lnTo>
                <a:lnTo>
                  <a:pt x="1275" y="283"/>
                </a:lnTo>
                <a:lnTo>
                  <a:pt x="1275" y="297"/>
                </a:lnTo>
                <a:lnTo>
                  <a:pt x="1285" y="290"/>
                </a:lnTo>
                <a:lnTo>
                  <a:pt x="1307" y="296"/>
                </a:lnTo>
                <a:lnTo>
                  <a:pt x="1320" y="295"/>
                </a:lnTo>
                <a:lnTo>
                  <a:pt x="1324" y="302"/>
                </a:lnTo>
                <a:lnTo>
                  <a:pt x="1335" y="308"/>
                </a:lnTo>
                <a:lnTo>
                  <a:pt x="1345" y="313"/>
                </a:lnTo>
                <a:lnTo>
                  <a:pt x="1355" y="319"/>
                </a:lnTo>
                <a:lnTo>
                  <a:pt x="1361" y="327"/>
                </a:lnTo>
                <a:lnTo>
                  <a:pt x="1370" y="334"/>
                </a:lnTo>
                <a:lnTo>
                  <a:pt x="1377" y="335"/>
                </a:lnTo>
                <a:lnTo>
                  <a:pt x="1384" y="339"/>
                </a:lnTo>
                <a:lnTo>
                  <a:pt x="1411" y="346"/>
                </a:lnTo>
                <a:lnTo>
                  <a:pt x="1421" y="354"/>
                </a:lnTo>
                <a:lnTo>
                  <a:pt x="1425" y="365"/>
                </a:lnTo>
                <a:lnTo>
                  <a:pt x="1430" y="371"/>
                </a:lnTo>
                <a:lnTo>
                  <a:pt x="1460" y="392"/>
                </a:lnTo>
                <a:lnTo>
                  <a:pt x="1475" y="398"/>
                </a:lnTo>
                <a:lnTo>
                  <a:pt x="1487" y="394"/>
                </a:lnTo>
                <a:lnTo>
                  <a:pt x="1498" y="389"/>
                </a:lnTo>
                <a:lnTo>
                  <a:pt x="1516" y="384"/>
                </a:lnTo>
                <a:lnTo>
                  <a:pt x="1521" y="377"/>
                </a:lnTo>
                <a:lnTo>
                  <a:pt x="1524" y="356"/>
                </a:lnTo>
                <a:lnTo>
                  <a:pt x="1537" y="333"/>
                </a:lnTo>
                <a:lnTo>
                  <a:pt x="1548" y="287"/>
                </a:lnTo>
                <a:lnTo>
                  <a:pt x="1553" y="270"/>
                </a:lnTo>
                <a:lnTo>
                  <a:pt x="1557" y="258"/>
                </a:lnTo>
                <a:lnTo>
                  <a:pt x="1560" y="246"/>
                </a:lnTo>
                <a:lnTo>
                  <a:pt x="1559" y="231"/>
                </a:lnTo>
                <a:lnTo>
                  <a:pt x="1553" y="213"/>
                </a:lnTo>
                <a:lnTo>
                  <a:pt x="1555" y="197"/>
                </a:lnTo>
                <a:lnTo>
                  <a:pt x="1553" y="165"/>
                </a:lnTo>
                <a:lnTo>
                  <a:pt x="1561" y="145"/>
                </a:lnTo>
                <a:lnTo>
                  <a:pt x="1560" y="128"/>
                </a:lnTo>
                <a:lnTo>
                  <a:pt x="1565" y="118"/>
                </a:lnTo>
                <a:lnTo>
                  <a:pt x="1566" y="108"/>
                </a:lnTo>
                <a:lnTo>
                  <a:pt x="1559" y="106"/>
                </a:lnTo>
                <a:lnTo>
                  <a:pt x="1560" y="95"/>
                </a:lnTo>
                <a:lnTo>
                  <a:pt x="1564" y="76"/>
                </a:lnTo>
                <a:lnTo>
                  <a:pt x="1575" y="72"/>
                </a:lnTo>
                <a:lnTo>
                  <a:pt x="1578" y="64"/>
                </a:lnTo>
                <a:lnTo>
                  <a:pt x="1583" y="45"/>
                </a:lnTo>
                <a:lnTo>
                  <a:pt x="1596" y="29"/>
                </a:lnTo>
                <a:lnTo>
                  <a:pt x="1596" y="16"/>
                </a:lnTo>
                <a:lnTo>
                  <a:pt x="1596" y="15"/>
                </a:lnTo>
                <a:lnTo>
                  <a:pt x="1599" y="11"/>
                </a:lnTo>
                <a:lnTo>
                  <a:pt x="1604" y="10"/>
                </a:lnTo>
                <a:lnTo>
                  <a:pt x="1613" y="5"/>
                </a:lnTo>
                <a:lnTo>
                  <a:pt x="1616" y="0"/>
                </a:lnTo>
                <a:lnTo>
                  <a:pt x="1623" y="2"/>
                </a:lnTo>
                <a:lnTo>
                  <a:pt x="1623" y="7"/>
                </a:lnTo>
                <a:lnTo>
                  <a:pt x="1624" y="16"/>
                </a:lnTo>
                <a:lnTo>
                  <a:pt x="1623" y="16"/>
                </a:lnTo>
                <a:lnTo>
                  <a:pt x="1623" y="17"/>
                </a:lnTo>
                <a:lnTo>
                  <a:pt x="1625" y="31"/>
                </a:lnTo>
                <a:lnTo>
                  <a:pt x="1625" y="58"/>
                </a:lnTo>
                <a:lnTo>
                  <a:pt x="1629" y="68"/>
                </a:lnTo>
                <a:lnTo>
                  <a:pt x="1639" y="68"/>
                </a:lnTo>
                <a:lnTo>
                  <a:pt x="1641" y="74"/>
                </a:lnTo>
                <a:lnTo>
                  <a:pt x="1640" y="88"/>
                </a:lnTo>
                <a:lnTo>
                  <a:pt x="1646" y="93"/>
                </a:lnTo>
                <a:lnTo>
                  <a:pt x="1650" y="103"/>
                </a:lnTo>
                <a:lnTo>
                  <a:pt x="1655" y="107"/>
                </a:lnTo>
                <a:lnTo>
                  <a:pt x="1656" y="122"/>
                </a:lnTo>
                <a:lnTo>
                  <a:pt x="1661" y="124"/>
                </a:lnTo>
                <a:lnTo>
                  <a:pt x="1663" y="139"/>
                </a:lnTo>
                <a:lnTo>
                  <a:pt x="1667" y="151"/>
                </a:lnTo>
                <a:lnTo>
                  <a:pt x="1667" y="171"/>
                </a:lnTo>
                <a:lnTo>
                  <a:pt x="1670" y="179"/>
                </a:lnTo>
                <a:lnTo>
                  <a:pt x="1672" y="189"/>
                </a:lnTo>
                <a:lnTo>
                  <a:pt x="1677" y="199"/>
                </a:lnTo>
                <a:lnTo>
                  <a:pt x="1684" y="208"/>
                </a:lnTo>
                <a:lnTo>
                  <a:pt x="1693" y="211"/>
                </a:lnTo>
                <a:lnTo>
                  <a:pt x="1705" y="200"/>
                </a:lnTo>
                <a:lnTo>
                  <a:pt x="1715" y="198"/>
                </a:lnTo>
                <a:lnTo>
                  <a:pt x="1723" y="199"/>
                </a:lnTo>
                <a:lnTo>
                  <a:pt x="1729" y="215"/>
                </a:lnTo>
                <a:lnTo>
                  <a:pt x="1739" y="219"/>
                </a:lnTo>
                <a:lnTo>
                  <a:pt x="1747" y="228"/>
                </a:lnTo>
                <a:lnTo>
                  <a:pt x="1755" y="232"/>
                </a:lnTo>
                <a:lnTo>
                  <a:pt x="1764" y="242"/>
                </a:lnTo>
                <a:lnTo>
                  <a:pt x="1761" y="252"/>
                </a:lnTo>
                <a:lnTo>
                  <a:pt x="1764" y="258"/>
                </a:lnTo>
                <a:lnTo>
                  <a:pt x="1763" y="276"/>
                </a:lnTo>
                <a:lnTo>
                  <a:pt x="1766" y="286"/>
                </a:lnTo>
                <a:lnTo>
                  <a:pt x="1766" y="295"/>
                </a:lnTo>
                <a:lnTo>
                  <a:pt x="1771" y="303"/>
                </a:lnTo>
                <a:lnTo>
                  <a:pt x="1771" y="319"/>
                </a:lnTo>
                <a:lnTo>
                  <a:pt x="1775" y="332"/>
                </a:lnTo>
                <a:lnTo>
                  <a:pt x="1787" y="349"/>
                </a:lnTo>
                <a:lnTo>
                  <a:pt x="1796" y="349"/>
                </a:lnTo>
                <a:lnTo>
                  <a:pt x="1797" y="361"/>
                </a:lnTo>
                <a:lnTo>
                  <a:pt x="1804" y="381"/>
                </a:lnTo>
                <a:lnTo>
                  <a:pt x="1807" y="393"/>
                </a:lnTo>
                <a:lnTo>
                  <a:pt x="1808" y="409"/>
                </a:lnTo>
                <a:lnTo>
                  <a:pt x="1806" y="416"/>
                </a:lnTo>
                <a:lnTo>
                  <a:pt x="1806" y="426"/>
                </a:lnTo>
                <a:lnTo>
                  <a:pt x="1808" y="437"/>
                </a:lnTo>
                <a:lnTo>
                  <a:pt x="1814" y="443"/>
                </a:lnTo>
                <a:lnTo>
                  <a:pt x="1819" y="445"/>
                </a:lnTo>
                <a:lnTo>
                  <a:pt x="1818" y="448"/>
                </a:lnTo>
                <a:lnTo>
                  <a:pt x="1822" y="445"/>
                </a:lnTo>
                <a:lnTo>
                  <a:pt x="1822" y="447"/>
                </a:lnTo>
                <a:lnTo>
                  <a:pt x="1819" y="452"/>
                </a:lnTo>
                <a:lnTo>
                  <a:pt x="1820" y="454"/>
                </a:lnTo>
                <a:lnTo>
                  <a:pt x="1820" y="461"/>
                </a:lnTo>
                <a:lnTo>
                  <a:pt x="1824" y="470"/>
                </a:lnTo>
                <a:lnTo>
                  <a:pt x="1838" y="475"/>
                </a:lnTo>
                <a:lnTo>
                  <a:pt x="1841" y="480"/>
                </a:lnTo>
                <a:lnTo>
                  <a:pt x="1851" y="485"/>
                </a:lnTo>
                <a:lnTo>
                  <a:pt x="1871" y="490"/>
                </a:lnTo>
                <a:lnTo>
                  <a:pt x="1874" y="489"/>
                </a:lnTo>
                <a:lnTo>
                  <a:pt x="1881" y="485"/>
                </a:lnTo>
                <a:lnTo>
                  <a:pt x="1884" y="502"/>
                </a:lnTo>
                <a:lnTo>
                  <a:pt x="1888" y="511"/>
                </a:lnTo>
                <a:lnTo>
                  <a:pt x="1893" y="515"/>
                </a:lnTo>
                <a:lnTo>
                  <a:pt x="1903" y="512"/>
                </a:lnTo>
                <a:lnTo>
                  <a:pt x="1911" y="517"/>
                </a:lnTo>
                <a:lnTo>
                  <a:pt x="1920" y="518"/>
                </a:lnTo>
                <a:lnTo>
                  <a:pt x="1925" y="527"/>
                </a:lnTo>
                <a:lnTo>
                  <a:pt x="1931" y="533"/>
                </a:lnTo>
                <a:lnTo>
                  <a:pt x="1937" y="529"/>
                </a:lnTo>
                <a:lnTo>
                  <a:pt x="1942" y="533"/>
                </a:lnTo>
                <a:lnTo>
                  <a:pt x="1954" y="540"/>
                </a:lnTo>
                <a:lnTo>
                  <a:pt x="1958" y="545"/>
                </a:lnTo>
                <a:lnTo>
                  <a:pt x="1960" y="556"/>
                </a:lnTo>
                <a:lnTo>
                  <a:pt x="1953" y="554"/>
                </a:lnTo>
                <a:lnTo>
                  <a:pt x="1952" y="566"/>
                </a:lnTo>
                <a:lnTo>
                  <a:pt x="1958" y="572"/>
                </a:lnTo>
                <a:lnTo>
                  <a:pt x="1968" y="574"/>
                </a:lnTo>
                <a:lnTo>
                  <a:pt x="1970" y="580"/>
                </a:lnTo>
                <a:lnTo>
                  <a:pt x="1978" y="588"/>
                </a:lnTo>
                <a:lnTo>
                  <a:pt x="1980" y="597"/>
                </a:lnTo>
                <a:lnTo>
                  <a:pt x="1983" y="603"/>
                </a:lnTo>
                <a:lnTo>
                  <a:pt x="1985" y="610"/>
                </a:lnTo>
                <a:lnTo>
                  <a:pt x="1992" y="612"/>
                </a:lnTo>
                <a:lnTo>
                  <a:pt x="1994" y="619"/>
                </a:lnTo>
                <a:lnTo>
                  <a:pt x="1994" y="645"/>
                </a:lnTo>
                <a:lnTo>
                  <a:pt x="1996" y="651"/>
                </a:lnTo>
                <a:lnTo>
                  <a:pt x="1997" y="658"/>
                </a:lnTo>
                <a:lnTo>
                  <a:pt x="2002" y="662"/>
                </a:lnTo>
                <a:lnTo>
                  <a:pt x="2005" y="671"/>
                </a:lnTo>
                <a:lnTo>
                  <a:pt x="2007" y="672"/>
                </a:lnTo>
                <a:lnTo>
                  <a:pt x="2011" y="669"/>
                </a:lnTo>
                <a:lnTo>
                  <a:pt x="2017" y="669"/>
                </a:lnTo>
                <a:lnTo>
                  <a:pt x="2017" y="655"/>
                </a:lnTo>
                <a:lnTo>
                  <a:pt x="2023" y="650"/>
                </a:lnTo>
                <a:lnTo>
                  <a:pt x="2027" y="660"/>
                </a:lnTo>
                <a:lnTo>
                  <a:pt x="2032" y="665"/>
                </a:lnTo>
                <a:lnTo>
                  <a:pt x="2043" y="669"/>
                </a:lnTo>
                <a:lnTo>
                  <a:pt x="2051" y="676"/>
                </a:lnTo>
                <a:lnTo>
                  <a:pt x="2054" y="661"/>
                </a:lnTo>
                <a:lnTo>
                  <a:pt x="2057" y="665"/>
                </a:lnTo>
                <a:lnTo>
                  <a:pt x="2059" y="671"/>
                </a:lnTo>
                <a:lnTo>
                  <a:pt x="2061" y="674"/>
                </a:lnTo>
                <a:lnTo>
                  <a:pt x="2065" y="690"/>
                </a:lnTo>
                <a:lnTo>
                  <a:pt x="2065" y="720"/>
                </a:lnTo>
                <a:lnTo>
                  <a:pt x="2068" y="733"/>
                </a:lnTo>
                <a:lnTo>
                  <a:pt x="2077" y="739"/>
                </a:lnTo>
                <a:lnTo>
                  <a:pt x="2083" y="748"/>
                </a:lnTo>
                <a:lnTo>
                  <a:pt x="2098" y="760"/>
                </a:lnTo>
                <a:lnTo>
                  <a:pt x="2110" y="760"/>
                </a:lnTo>
                <a:lnTo>
                  <a:pt x="2118" y="766"/>
                </a:lnTo>
                <a:lnTo>
                  <a:pt x="2124" y="774"/>
                </a:lnTo>
                <a:lnTo>
                  <a:pt x="2130" y="785"/>
                </a:lnTo>
                <a:lnTo>
                  <a:pt x="2132" y="791"/>
                </a:lnTo>
                <a:lnTo>
                  <a:pt x="2141" y="800"/>
                </a:lnTo>
                <a:lnTo>
                  <a:pt x="2151" y="802"/>
                </a:lnTo>
                <a:lnTo>
                  <a:pt x="2151" y="806"/>
                </a:lnTo>
                <a:lnTo>
                  <a:pt x="2163" y="824"/>
                </a:lnTo>
                <a:lnTo>
                  <a:pt x="2162" y="830"/>
                </a:lnTo>
                <a:lnTo>
                  <a:pt x="2173" y="835"/>
                </a:lnTo>
                <a:lnTo>
                  <a:pt x="2177" y="844"/>
                </a:lnTo>
                <a:lnTo>
                  <a:pt x="2178" y="862"/>
                </a:lnTo>
                <a:lnTo>
                  <a:pt x="2184" y="872"/>
                </a:lnTo>
                <a:lnTo>
                  <a:pt x="2186" y="876"/>
                </a:lnTo>
                <a:lnTo>
                  <a:pt x="2190" y="871"/>
                </a:lnTo>
                <a:lnTo>
                  <a:pt x="2191" y="886"/>
                </a:lnTo>
                <a:lnTo>
                  <a:pt x="2189" y="900"/>
                </a:lnTo>
                <a:lnTo>
                  <a:pt x="2191" y="911"/>
                </a:lnTo>
                <a:lnTo>
                  <a:pt x="2194" y="938"/>
                </a:lnTo>
                <a:lnTo>
                  <a:pt x="2197" y="948"/>
                </a:lnTo>
                <a:lnTo>
                  <a:pt x="2193" y="945"/>
                </a:lnTo>
                <a:lnTo>
                  <a:pt x="2191" y="952"/>
                </a:lnTo>
                <a:lnTo>
                  <a:pt x="2193" y="956"/>
                </a:lnTo>
                <a:lnTo>
                  <a:pt x="2194" y="963"/>
                </a:lnTo>
                <a:lnTo>
                  <a:pt x="2197" y="967"/>
                </a:lnTo>
                <a:lnTo>
                  <a:pt x="2200" y="979"/>
                </a:lnTo>
                <a:lnTo>
                  <a:pt x="2207" y="995"/>
                </a:lnTo>
                <a:lnTo>
                  <a:pt x="2216" y="1023"/>
                </a:lnTo>
                <a:lnTo>
                  <a:pt x="2217" y="1050"/>
                </a:lnTo>
                <a:lnTo>
                  <a:pt x="2215" y="1066"/>
                </a:lnTo>
                <a:lnTo>
                  <a:pt x="2211" y="1074"/>
                </a:lnTo>
                <a:lnTo>
                  <a:pt x="2206" y="1090"/>
                </a:lnTo>
                <a:lnTo>
                  <a:pt x="2204" y="1110"/>
                </a:lnTo>
                <a:lnTo>
                  <a:pt x="2199" y="1142"/>
                </a:lnTo>
                <a:lnTo>
                  <a:pt x="2196" y="1145"/>
                </a:lnTo>
                <a:lnTo>
                  <a:pt x="2189" y="1164"/>
                </a:lnTo>
                <a:lnTo>
                  <a:pt x="2188" y="1182"/>
                </a:lnTo>
                <a:lnTo>
                  <a:pt x="2190" y="1201"/>
                </a:lnTo>
                <a:lnTo>
                  <a:pt x="2186" y="1207"/>
                </a:lnTo>
                <a:lnTo>
                  <a:pt x="2186" y="1214"/>
                </a:lnTo>
                <a:lnTo>
                  <a:pt x="2172" y="1252"/>
                </a:lnTo>
                <a:lnTo>
                  <a:pt x="2167" y="1258"/>
                </a:lnTo>
                <a:lnTo>
                  <a:pt x="2162" y="1266"/>
                </a:lnTo>
                <a:lnTo>
                  <a:pt x="2156" y="1273"/>
                </a:lnTo>
                <a:lnTo>
                  <a:pt x="2156" y="1280"/>
                </a:lnTo>
                <a:lnTo>
                  <a:pt x="2158" y="1285"/>
                </a:lnTo>
                <a:lnTo>
                  <a:pt x="2153" y="1291"/>
                </a:lnTo>
                <a:lnTo>
                  <a:pt x="2145" y="1302"/>
                </a:lnTo>
                <a:lnTo>
                  <a:pt x="2137" y="1302"/>
                </a:lnTo>
                <a:lnTo>
                  <a:pt x="2135" y="1306"/>
                </a:lnTo>
                <a:lnTo>
                  <a:pt x="2141" y="1308"/>
                </a:lnTo>
                <a:lnTo>
                  <a:pt x="2130" y="1312"/>
                </a:lnTo>
                <a:lnTo>
                  <a:pt x="2123" y="1316"/>
                </a:lnTo>
                <a:lnTo>
                  <a:pt x="2120" y="1323"/>
                </a:lnTo>
                <a:lnTo>
                  <a:pt x="2114" y="1331"/>
                </a:lnTo>
                <a:lnTo>
                  <a:pt x="2108" y="1346"/>
                </a:lnTo>
                <a:lnTo>
                  <a:pt x="2100" y="1357"/>
                </a:lnTo>
                <a:lnTo>
                  <a:pt x="2094" y="1359"/>
                </a:lnTo>
                <a:lnTo>
                  <a:pt x="2091" y="1360"/>
                </a:lnTo>
                <a:lnTo>
                  <a:pt x="2089" y="1365"/>
                </a:lnTo>
                <a:lnTo>
                  <a:pt x="2097" y="1367"/>
                </a:lnTo>
                <a:lnTo>
                  <a:pt x="2096" y="1379"/>
                </a:lnTo>
                <a:lnTo>
                  <a:pt x="2091" y="1392"/>
                </a:lnTo>
                <a:lnTo>
                  <a:pt x="2088" y="1392"/>
                </a:lnTo>
                <a:lnTo>
                  <a:pt x="2087" y="1400"/>
                </a:lnTo>
                <a:lnTo>
                  <a:pt x="2078" y="1411"/>
                </a:lnTo>
                <a:lnTo>
                  <a:pt x="2065" y="1458"/>
                </a:lnTo>
                <a:lnTo>
                  <a:pt x="2065" y="1468"/>
                </a:lnTo>
                <a:lnTo>
                  <a:pt x="2056" y="1462"/>
                </a:lnTo>
                <a:lnTo>
                  <a:pt x="2049" y="1481"/>
                </a:lnTo>
                <a:lnTo>
                  <a:pt x="2044" y="1487"/>
                </a:lnTo>
                <a:lnTo>
                  <a:pt x="2041" y="1497"/>
                </a:lnTo>
                <a:lnTo>
                  <a:pt x="2038" y="1500"/>
                </a:lnTo>
                <a:lnTo>
                  <a:pt x="2034" y="1506"/>
                </a:lnTo>
                <a:lnTo>
                  <a:pt x="2033" y="1521"/>
                </a:lnTo>
                <a:lnTo>
                  <a:pt x="2029" y="1538"/>
                </a:lnTo>
                <a:lnTo>
                  <a:pt x="2033" y="1546"/>
                </a:lnTo>
                <a:lnTo>
                  <a:pt x="2030" y="1550"/>
                </a:lnTo>
                <a:lnTo>
                  <a:pt x="2029" y="1562"/>
                </a:lnTo>
                <a:lnTo>
                  <a:pt x="2023" y="1577"/>
                </a:lnTo>
                <a:lnTo>
                  <a:pt x="2021" y="1587"/>
                </a:lnTo>
                <a:lnTo>
                  <a:pt x="2021" y="1593"/>
                </a:lnTo>
                <a:lnTo>
                  <a:pt x="2024" y="1603"/>
                </a:lnTo>
                <a:lnTo>
                  <a:pt x="2024" y="1613"/>
                </a:lnTo>
                <a:lnTo>
                  <a:pt x="2023" y="1621"/>
                </a:lnTo>
                <a:lnTo>
                  <a:pt x="2021" y="1629"/>
                </a:lnTo>
                <a:lnTo>
                  <a:pt x="2012" y="1624"/>
                </a:lnTo>
                <a:lnTo>
                  <a:pt x="2008" y="1625"/>
                </a:lnTo>
                <a:lnTo>
                  <a:pt x="2007" y="1637"/>
                </a:lnTo>
                <a:lnTo>
                  <a:pt x="1987" y="1643"/>
                </a:lnTo>
                <a:lnTo>
                  <a:pt x="1932" y="1645"/>
                </a:lnTo>
                <a:lnTo>
                  <a:pt x="1920" y="1648"/>
                </a:lnTo>
                <a:lnTo>
                  <a:pt x="1898" y="1661"/>
                </a:lnTo>
                <a:lnTo>
                  <a:pt x="1888" y="1669"/>
                </a:lnTo>
                <a:lnTo>
                  <a:pt x="1874" y="1678"/>
                </a:lnTo>
                <a:lnTo>
                  <a:pt x="1868" y="1685"/>
                </a:lnTo>
                <a:lnTo>
                  <a:pt x="1866" y="1691"/>
                </a:lnTo>
                <a:lnTo>
                  <a:pt x="1854" y="1699"/>
                </a:lnTo>
                <a:lnTo>
                  <a:pt x="1847" y="1705"/>
                </a:lnTo>
                <a:lnTo>
                  <a:pt x="1844" y="1701"/>
                </a:lnTo>
                <a:lnTo>
                  <a:pt x="1830" y="1705"/>
                </a:lnTo>
                <a:lnTo>
                  <a:pt x="1823" y="1705"/>
                </a:lnTo>
                <a:lnTo>
                  <a:pt x="1819" y="1706"/>
                </a:lnTo>
                <a:lnTo>
                  <a:pt x="1818" y="1715"/>
                </a:lnTo>
                <a:lnTo>
                  <a:pt x="1822" y="1720"/>
                </a:lnTo>
                <a:lnTo>
                  <a:pt x="1825" y="1713"/>
                </a:lnTo>
                <a:lnTo>
                  <a:pt x="1831" y="1709"/>
                </a:lnTo>
                <a:lnTo>
                  <a:pt x="1836" y="1709"/>
                </a:lnTo>
                <a:lnTo>
                  <a:pt x="1833" y="1720"/>
                </a:lnTo>
                <a:lnTo>
                  <a:pt x="1831" y="1729"/>
                </a:lnTo>
                <a:lnTo>
                  <a:pt x="1826" y="1736"/>
                </a:lnTo>
                <a:lnTo>
                  <a:pt x="1813" y="1717"/>
                </a:lnTo>
                <a:lnTo>
                  <a:pt x="1808" y="1717"/>
                </a:lnTo>
                <a:lnTo>
                  <a:pt x="1799" y="1713"/>
                </a:lnTo>
                <a:lnTo>
                  <a:pt x="1796" y="1704"/>
                </a:lnTo>
                <a:lnTo>
                  <a:pt x="1785" y="1704"/>
                </a:lnTo>
                <a:lnTo>
                  <a:pt x="1777" y="1696"/>
                </a:lnTo>
                <a:lnTo>
                  <a:pt x="1776" y="1690"/>
                </a:lnTo>
                <a:lnTo>
                  <a:pt x="1779" y="1679"/>
                </a:lnTo>
                <a:lnTo>
                  <a:pt x="1772" y="1673"/>
                </a:lnTo>
                <a:lnTo>
                  <a:pt x="1760" y="1682"/>
                </a:lnTo>
                <a:lnTo>
                  <a:pt x="1750" y="1685"/>
                </a:lnTo>
                <a:lnTo>
                  <a:pt x="1739" y="1682"/>
                </a:lnTo>
                <a:lnTo>
                  <a:pt x="1736" y="1675"/>
                </a:lnTo>
                <a:lnTo>
                  <a:pt x="1749" y="1675"/>
                </a:lnTo>
                <a:lnTo>
                  <a:pt x="1752" y="1666"/>
                </a:lnTo>
                <a:lnTo>
                  <a:pt x="1750" y="1652"/>
                </a:lnTo>
                <a:lnTo>
                  <a:pt x="1741" y="1647"/>
                </a:lnTo>
                <a:lnTo>
                  <a:pt x="1725" y="1659"/>
                </a:lnTo>
                <a:lnTo>
                  <a:pt x="1715" y="1661"/>
                </a:lnTo>
                <a:lnTo>
                  <a:pt x="1728" y="1669"/>
                </a:lnTo>
                <a:lnTo>
                  <a:pt x="1729" y="1672"/>
                </a:lnTo>
                <a:lnTo>
                  <a:pt x="1721" y="1673"/>
                </a:lnTo>
                <a:lnTo>
                  <a:pt x="1710" y="1678"/>
                </a:lnTo>
                <a:lnTo>
                  <a:pt x="1699" y="1686"/>
                </a:lnTo>
                <a:lnTo>
                  <a:pt x="1690" y="1701"/>
                </a:lnTo>
                <a:lnTo>
                  <a:pt x="1672" y="1710"/>
                </a:lnTo>
                <a:lnTo>
                  <a:pt x="1658" y="1713"/>
                </a:lnTo>
                <a:lnTo>
                  <a:pt x="1655" y="1709"/>
                </a:lnTo>
                <a:lnTo>
                  <a:pt x="1635" y="1699"/>
                </a:lnTo>
                <a:lnTo>
                  <a:pt x="1616" y="1686"/>
                </a:lnTo>
                <a:lnTo>
                  <a:pt x="1607" y="1683"/>
                </a:lnTo>
                <a:lnTo>
                  <a:pt x="1593" y="1682"/>
                </a:lnTo>
                <a:lnTo>
                  <a:pt x="1572" y="1674"/>
                </a:lnTo>
                <a:lnTo>
                  <a:pt x="1564" y="1675"/>
                </a:lnTo>
                <a:lnTo>
                  <a:pt x="1555" y="1682"/>
                </a:lnTo>
                <a:lnTo>
                  <a:pt x="1548" y="1671"/>
                </a:lnTo>
                <a:lnTo>
                  <a:pt x="1529" y="1659"/>
                </a:lnTo>
                <a:lnTo>
                  <a:pt x="1511" y="1658"/>
                </a:lnTo>
                <a:lnTo>
                  <a:pt x="1496" y="1650"/>
                </a:lnTo>
                <a:lnTo>
                  <a:pt x="1486" y="1639"/>
                </a:lnTo>
                <a:lnTo>
                  <a:pt x="1481" y="1625"/>
                </a:lnTo>
                <a:lnTo>
                  <a:pt x="1470" y="1618"/>
                </a:lnTo>
                <a:lnTo>
                  <a:pt x="1458" y="1588"/>
                </a:lnTo>
                <a:lnTo>
                  <a:pt x="1457" y="1582"/>
                </a:lnTo>
                <a:lnTo>
                  <a:pt x="1462" y="1572"/>
                </a:lnTo>
                <a:lnTo>
                  <a:pt x="1463" y="1559"/>
                </a:lnTo>
                <a:lnTo>
                  <a:pt x="1453" y="1530"/>
                </a:lnTo>
                <a:lnTo>
                  <a:pt x="1430" y="1500"/>
                </a:lnTo>
                <a:lnTo>
                  <a:pt x="1437" y="1483"/>
                </a:lnTo>
                <a:lnTo>
                  <a:pt x="1436" y="1480"/>
                </a:lnTo>
                <a:lnTo>
                  <a:pt x="1421" y="1481"/>
                </a:lnTo>
                <a:lnTo>
                  <a:pt x="1406" y="1490"/>
                </a:lnTo>
                <a:lnTo>
                  <a:pt x="1389" y="1496"/>
                </a:lnTo>
                <a:lnTo>
                  <a:pt x="1379" y="1497"/>
                </a:lnTo>
                <a:lnTo>
                  <a:pt x="1372" y="1495"/>
                </a:lnTo>
                <a:lnTo>
                  <a:pt x="1379" y="1484"/>
                </a:lnTo>
                <a:lnTo>
                  <a:pt x="1387" y="1468"/>
                </a:lnTo>
                <a:lnTo>
                  <a:pt x="1390" y="1453"/>
                </a:lnTo>
                <a:lnTo>
                  <a:pt x="1390" y="1436"/>
                </a:lnTo>
                <a:lnTo>
                  <a:pt x="1384" y="1419"/>
                </a:lnTo>
                <a:lnTo>
                  <a:pt x="1376" y="1406"/>
                </a:lnTo>
                <a:lnTo>
                  <a:pt x="1368" y="1400"/>
                </a:lnTo>
                <a:lnTo>
                  <a:pt x="1356" y="1424"/>
                </a:lnTo>
                <a:lnTo>
                  <a:pt x="1356" y="1436"/>
                </a:lnTo>
                <a:lnTo>
                  <a:pt x="1352" y="1448"/>
                </a:lnTo>
                <a:lnTo>
                  <a:pt x="1350" y="1460"/>
                </a:lnTo>
                <a:lnTo>
                  <a:pt x="1349" y="1463"/>
                </a:lnTo>
                <a:lnTo>
                  <a:pt x="1340" y="1462"/>
                </a:lnTo>
                <a:lnTo>
                  <a:pt x="1329" y="1467"/>
                </a:lnTo>
                <a:lnTo>
                  <a:pt x="1317" y="1467"/>
                </a:lnTo>
                <a:lnTo>
                  <a:pt x="1307" y="1473"/>
                </a:lnTo>
                <a:lnTo>
                  <a:pt x="1301" y="1467"/>
                </a:lnTo>
                <a:lnTo>
                  <a:pt x="1306" y="1448"/>
                </a:lnTo>
                <a:lnTo>
                  <a:pt x="1319" y="1449"/>
                </a:lnTo>
                <a:lnTo>
                  <a:pt x="1330" y="1443"/>
                </a:lnTo>
                <a:lnTo>
                  <a:pt x="1334" y="1429"/>
                </a:lnTo>
                <a:lnTo>
                  <a:pt x="1335" y="1417"/>
                </a:lnTo>
                <a:lnTo>
                  <a:pt x="1333" y="1415"/>
                </a:lnTo>
                <a:lnTo>
                  <a:pt x="1333" y="1411"/>
                </a:lnTo>
                <a:lnTo>
                  <a:pt x="1334" y="1405"/>
                </a:lnTo>
                <a:lnTo>
                  <a:pt x="1334" y="1397"/>
                </a:lnTo>
                <a:lnTo>
                  <a:pt x="1339" y="1384"/>
                </a:lnTo>
                <a:lnTo>
                  <a:pt x="1345" y="1368"/>
                </a:lnTo>
                <a:lnTo>
                  <a:pt x="1351" y="1365"/>
                </a:lnTo>
                <a:lnTo>
                  <a:pt x="1357" y="1355"/>
                </a:lnTo>
                <a:lnTo>
                  <a:pt x="1357" y="1330"/>
                </a:lnTo>
                <a:lnTo>
                  <a:pt x="1363" y="1331"/>
                </a:lnTo>
                <a:lnTo>
                  <a:pt x="1362" y="1324"/>
                </a:lnTo>
                <a:lnTo>
                  <a:pt x="1358" y="1317"/>
                </a:lnTo>
                <a:lnTo>
                  <a:pt x="1358" y="1307"/>
                </a:lnTo>
                <a:lnTo>
                  <a:pt x="1355" y="1304"/>
                </a:lnTo>
                <a:lnTo>
                  <a:pt x="1355" y="1293"/>
                </a:lnTo>
                <a:lnTo>
                  <a:pt x="1350" y="1288"/>
                </a:lnTo>
                <a:lnTo>
                  <a:pt x="1347" y="1297"/>
                </a:lnTo>
                <a:lnTo>
                  <a:pt x="1347" y="1317"/>
                </a:lnTo>
                <a:lnTo>
                  <a:pt x="1342" y="1318"/>
                </a:lnTo>
                <a:lnTo>
                  <a:pt x="1335" y="1330"/>
                </a:lnTo>
                <a:lnTo>
                  <a:pt x="1330" y="1341"/>
                </a:lnTo>
                <a:lnTo>
                  <a:pt x="1324" y="1354"/>
                </a:lnTo>
                <a:lnTo>
                  <a:pt x="1323" y="1360"/>
                </a:lnTo>
                <a:lnTo>
                  <a:pt x="1318" y="1368"/>
                </a:lnTo>
                <a:lnTo>
                  <a:pt x="1307" y="1367"/>
                </a:lnTo>
                <a:lnTo>
                  <a:pt x="1302" y="1370"/>
                </a:lnTo>
                <a:lnTo>
                  <a:pt x="1301" y="1374"/>
                </a:lnTo>
                <a:lnTo>
                  <a:pt x="1287" y="1382"/>
                </a:lnTo>
                <a:lnTo>
                  <a:pt x="1282" y="1388"/>
                </a:lnTo>
                <a:lnTo>
                  <a:pt x="1275" y="1390"/>
                </a:lnTo>
                <a:lnTo>
                  <a:pt x="1269" y="1405"/>
                </a:lnTo>
                <a:lnTo>
                  <a:pt x="1259" y="1417"/>
                </a:lnTo>
                <a:lnTo>
                  <a:pt x="1249" y="1425"/>
                </a:lnTo>
                <a:lnTo>
                  <a:pt x="1245" y="1437"/>
                </a:lnTo>
                <a:lnTo>
                  <a:pt x="1252" y="1437"/>
                </a:lnTo>
                <a:lnTo>
                  <a:pt x="1252" y="1454"/>
                </a:lnTo>
                <a:lnTo>
                  <a:pt x="1245" y="1449"/>
                </a:lnTo>
                <a:lnTo>
                  <a:pt x="1238" y="1452"/>
                </a:lnTo>
                <a:lnTo>
                  <a:pt x="1229" y="1440"/>
                </a:lnTo>
                <a:lnTo>
                  <a:pt x="1220" y="1433"/>
                </a:lnTo>
                <a:lnTo>
                  <a:pt x="1214" y="1427"/>
                </a:lnTo>
                <a:lnTo>
                  <a:pt x="1205" y="1426"/>
                </a:lnTo>
                <a:lnTo>
                  <a:pt x="1205" y="1416"/>
                </a:lnTo>
                <a:lnTo>
                  <a:pt x="1221" y="1427"/>
                </a:lnTo>
                <a:lnTo>
                  <a:pt x="1222" y="1419"/>
                </a:lnTo>
                <a:lnTo>
                  <a:pt x="1220" y="1405"/>
                </a:lnTo>
                <a:lnTo>
                  <a:pt x="1214" y="1398"/>
                </a:lnTo>
                <a:lnTo>
                  <a:pt x="1211" y="1383"/>
                </a:lnTo>
                <a:lnTo>
                  <a:pt x="1204" y="1372"/>
                </a:lnTo>
                <a:lnTo>
                  <a:pt x="1195" y="1365"/>
                </a:lnTo>
                <a:lnTo>
                  <a:pt x="1190" y="1347"/>
                </a:lnTo>
                <a:lnTo>
                  <a:pt x="1186" y="1343"/>
                </a:lnTo>
                <a:lnTo>
                  <a:pt x="1183" y="1334"/>
                </a:lnTo>
                <a:lnTo>
                  <a:pt x="1177" y="1335"/>
                </a:lnTo>
                <a:lnTo>
                  <a:pt x="1166" y="1330"/>
                </a:lnTo>
                <a:lnTo>
                  <a:pt x="1156" y="1324"/>
                </a:lnTo>
                <a:lnTo>
                  <a:pt x="1150" y="1316"/>
                </a:lnTo>
                <a:lnTo>
                  <a:pt x="1150" y="1306"/>
                </a:lnTo>
                <a:lnTo>
                  <a:pt x="1155" y="1306"/>
                </a:lnTo>
                <a:lnTo>
                  <a:pt x="1156" y="1292"/>
                </a:lnTo>
                <a:lnTo>
                  <a:pt x="1135" y="1286"/>
                </a:lnTo>
                <a:lnTo>
                  <a:pt x="1114" y="1265"/>
                </a:lnTo>
                <a:lnTo>
                  <a:pt x="1108" y="1263"/>
                </a:lnTo>
                <a:lnTo>
                  <a:pt x="1110" y="1270"/>
                </a:lnTo>
                <a:lnTo>
                  <a:pt x="1100" y="1269"/>
                </a:lnTo>
                <a:lnTo>
                  <a:pt x="1091" y="1263"/>
                </a:lnTo>
                <a:lnTo>
                  <a:pt x="1069" y="1252"/>
                </a:lnTo>
                <a:lnTo>
                  <a:pt x="1062" y="1253"/>
                </a:lnTo>
                <a:lnTo>
                  <a:pt x="1054" y="1259"/>
                </a:lnTo>
                <a:lnTo>
                  <a:pt x="1051" y="1258"/>
                </a:lnTo>
                <a:lnTo>
                  <a:pt x="1045" y="1255"/>
                </a:lnTo>
                <a:lnTo>
                  <a:pt x="1017" y="1231"/>
                </a:lnTo>
                <a:lnTo>
                  <a:pt x="1006" y="1227"/>
                </a:lnTo>
                <a:lnTo>
                  <a:pt x="995" y="1226"/>
                </a:lnTo>
                <a:lnTo>
                  <a:pt x="974" y="1225"/>
                </a:lnTo>
                <a:lnTo>
                  <a:pt x="941" y="1230"/>
                </a:lnTo>
                <a:lnTo>
                  <a:pt x="899" y="1228"/>
                </a:lnTo>
                <a:lnTo>
                  <a:pt x="881" y="1228"/>
                </a:lnTo>
                <a:lnTo>
                  <a:pt x="840" y="1248"/>
                </a:lnTo>
                <a:lnTo>
                  <a:pt x="820" y="1261"/>
                </a:lnTo>
                <a:lnTo>
                  <a:pt x="795" y="1263"/>
                </a:lnTo>
                <a:lnTo>
                  <a:pt x="779" y="1270"/>
                </a:lnTo>
                <a:lnTo>
                  <a:pt x="758" y="1274"/>
                </a:lnTo>
                <a:lnTo>
                  <a:pt x="722" y="1273"/>
                </a:lnTo>
                <a:lnTo>
                  <a:pt x="710" y="1270"/>
                </a:lnTo>
                <a:lnTo>
                  <a:pt x="695" y="1274"/>
                </a:lnTo>
                <a:lnTo>
                  <a:pt x="685" y="1282"/>
                </a:lnTo>
                <a:lnTo>
                  <a:pt x="658" y="1297"/>
                </a:lnTo>
                <a:lnTo>
                  <a:pt x="642" y="1302"/>
                </a:lnTo>
                <a:lnTo>
                  <a:pt x="634" y="1309"/>
                </a:lnTo>
                <a:lnTo>
                  <a:pt x="625" y="1313"/>
                </a:lnTo>
                <a:lnTo>
                  <a:pt x="614" y="1314"/>
                </a:lnTo>
                <a:lnTo>
                  <a:pt x="602" y="1320"/>
                </a:lnTo>
                <a:lnTo>
                  <a:pt x="596" y="1333"/>
                </a:lnTo>
                <a:lnTo>
                  <a:pt x="592" y="1349"/>
                </a:lnTo>
                <a:lnTo>
                  <a:pt x="587" y="1354"/>
                </a:lnTo>
                <a:lnTo>
                  <a:pt x="581" y="1363"/>
                </a:lnTo>
                <a:lnTo>
                  <a:pt x="577" y="1372"/>
                </a:lnTo>
                <a:lnTo>
                  <a:pt x="558" y="1377"/>
                </a:lnTo>
                <a:lnTo>
                  <a:pt x="549" y="1377"/>
                </a:lnTo>
                <a:lnTo>
                  <a:pt x="539" y="1373"/>
                </a:lnTo>
                <a:lnTo>
                  <a:pt x="518" y="1376"/>
                </a:lnTo>
                <a:lnTo>
                  <a:pt x="496" y="1382"/>
                </a:lnTo>
                <a:lnTo>
                  <a:pt x="491" y="1374"/>
                </a:lnTo>
                <a:lnTo>
                  <a:pt x="486" y="1372"/>
                </a:lnTo>
                <a:lnTo>
                  <a:pt x="480" y="1374"/>
                </a:lnTo>
                <a:lnTo>
                  <a:pt x="464" y="1376"/>
                </a:lnTo>
                <a:lnTo>
                  <a:pt x="447" y="1372"/>
                </a:lnTo>
                <a:lnTo>
                  <a:pt x="435" y="1372"/>
                </a:lnTo>
                <a:lnTo>
                  <a:pt x="419" y="1379"/>
                </a:lnTo>
                <a:lnTo>
                  <a:pt x="376" y="1378"/>
                </a:lnTo>
                <a:lnTo>
                  <a:pt x="365" y="1383"/>
                </a:lnTo>
                <a:lnTo>
                  <a:pt x="355" y="1392"/>
                </a:lnTo>
                <a:lnTo>
                  <a:pt x="350" y="1399"/>
                </a:lnTo>
                <a:lnTo>
                  <a:pt x="352" y="1404"/>
                </a:lnTo>
                <a:lnTo>
                  <a:pt x="350" y="1405"/>
                </a:lnTo>
                <a:lnTo>
                  <a:pt x="344" y="1411"/>
                </a:lnTo>
                <a:lnTo>
                  <a:pt x="333" y="1414"/>
                </a:lnTo>
                <a:lnTo>
                  <a:pt x="316" y="1416"/>
                </a:lnTo>
                <a:lnTo>
                  <a:pt x="301" y="1426"/>
                </a:lnTo>
                <a:lnTo>
                  <a:pt x="292" y="1436"/>
                </a:lnTo>
                <a:lnTo>
                  <a:pt x="287" y="1443"/>
                </a:lnTo>
                <a:lnTo>
                  <a:pt x="280" y="1449"/>
                </a:lnTo>
                <a:lnTo>
                  <a:pt x="271" y="1452"/>
                </a:lnTo>
                <a:lnTo>
                  <a:pt x="261" y="1447"/>
                </a:lnTo>
                <a:lnTo>
                  <a:pt x="260" y="1458"/>
                </a:lnTo>
                <a:lnTo>
                  <a:pt x="253" y="1454"/>
                </a:lnTo>
                <a:lnTo>
                  <a:pt x="244" y="1458"/>
                </a:lnTo>
                <a:lnTo>
                  <a:pt x="238" y="1451"/>
                </a:lnTo>
                <a:lnTo>
                  <a:pt x="205" y="1453"/>
                </a:lnTo>
                <a:lnTo>
                  <a:pt x="190" y="1451"/>
                </a:lnTo>
                <a:lnTo>
                  <a:pt x="183" y="1443"/>
                </a:lnTo>
                <a:lnTo>
                  <a:pt x="174" y="1440"/>
                </a:lnTo>
                <a:lnTo>
                  <a:pt x="174" y="1441"/>
                </a:lnTo>
                <a:lnTo>
                  <a:pt x="163" y="1440"/>
                </a:lnTo>
                <a:lnTo>
                  <a:pt x="148" y="1424"/>
                </a:lnTo>
                <a:lnTo>
                  <a:pt x="141" y="1415"/>
                </a:lnTo>
                <a:lnTo>
                  <a:pt x="130" y="1405"/>
                </a:lnTo>
                <a:lnTo>
                  <a:pt x="120" y="1402"/>
                </a:lnTo>
                <a:lnTo>
                  <a:pt x="108" y="1399"/>
                </a:lnTo>
                <a:lnTo>
                  <a:pt x="105" y="1370"/>
                </a:lnTo>
                <a:lnTo>
                  <a:pt x="107" y="1357"/>
                </a:lnTo>
                <a:lnTo>
                  <a:pt x="107" y="1356"/>
                </a:lnTo>
                <a:lnTo>
                  <a:pt x="117" y="1360"/>
                </a:lnTo>
                <a:lnTo>
                  <a:pt x="125" y="1359"/>
                </a:lnTo>
                <a:lnTo>
                  <a:pt x="136" y="1343"/>
                </a:lnTo>
                <a:lnTo>
                  <a:pt x="142" y="1328"/>
                </a:lnTo>
                <a:lnTo>
                  <a:pt x="142" y="1318"/>
                </a:lnTo>
                <a:lnTo>
                  <a:pt x="137" y="1306"/>
                </a:lnTo>
                <a:lnTo>
                  <a:pt x="137" y="1291"/>
                </a:lnTo>
                <a:lnTo>
                  <a:pt x="139" y="1297"/>
                </a:lnTo>
                <a:lnTo>
                  <a:pt x="142" y="1286"/>
                </a:lnTo>
                <a:lnTo>
                  <a:pt x="141" y="1265"/>
                </a:lnTo>
                <a:lnTo>
                  <a:pt x="144" y="1248"/>
                </a:lnTo>
                <a:lnTo>
                  <a:pt x="141" y="1234"/>
                </a:lnTo>
                <a:lnTo>
                  <a:pt x="124" y="1196"/>
                </a:lnTo>
                <a:lnTo>
                  <a:pt x="121" y="1185"/>
                </a:lnTo>
                <a:lnTo>
                  <a:pt x="117" y="1178"/>
                </a:lnTo>
                <a:lnTo>
                  <a:pt x="109" y="1168"/>
                </a:lnTo>
                <a:lnTo>
                  <a:pt x="103" y="1150"/>
                </a:lnTo>
                <a:lnTo>
                  <a:pt x="98" y="1124"/>
                </a:lnTo>
                <a:lnTo>
                  <a:pt x="98" y="1092"/>
                </a:lnTo>
                <a:lnTo>
                  <a:pt x="94" y="1081"/>
                </a:lnTo>
                <a:lnTo>
                  <a:pt x="78" y="1053"/>
                </a:lnTo>
                <a:lnTo>
                  <a:pt x="76" y="1039"/>
                </a:lnTo>
                <a:lnTo>
                  <a:pt x="66" y="1024"/>
                </a:lnTo>
                <a:lnTo>
                  <a:pt x="54" y="1004"/>
                </a:lnTo>
                <a:lnTo>
                  <a:pt x="54" y="983"/>
                </a:lnTo>
                <a:lnTo>
                  <a:pt x="46" y="965"/>
                </a:lnTo>
                <a:lnTo>
                  <a:pt x="40" y="945"/>
                </a:lnTo>
                <a:lnTo>
                  <a:pt x="29" y="938"/>
                </a:lnTo>
                <a:lnTo>
                  <a:pt x="19" y="927"/>
                </a:lnTo>
                <a:lnTo>
                  <a:pt x="13" y="919"/>
                </a:lnTo>
                <a:lnTo>
                  <a:pt x="11" y="909"/>
                </a:lnTo>
                <a:lnTo>
                  <a:pt x="5" y="905"/>
                </a:lnTo>
                <a:lnTo>
                  <a:pt x="0" y="895"/>
                </a:lnTo>
                <a:lnTo>
                  <a:pt x="1" y="889"/>
                </a:lnTo>
                <a:lnTo>
                  <a:pt x="3" y="894"/>
                </a:lnTo>
                <a:lnTo>
                  <a:pt x="8" y="895"/>
                </a:lnTo>
                <a:lnTo>
                  <a:pt x="12" y="897"/>
                </a:lnTo>
                <a:lnTo>
                  <a:pt x="15" y="904"/>
                </a:lnTo>
                <a:lnTo>
                  <a:pt x="16" y="914"/>
                </a:lnTo>
                <a:lnTo>
                  <a:pt x="21" y="911"/>
                </a:lnTo>
                <a:lnTo>
                  <a:pt x="23" y="918"/>
                </a:lnTo>
                <a:lnTo>
                  <a:pt x="31" y="919"/>
                </a:lnTo>
                <a:lnTo>
                  <a:pt x="35" y="913"/>
                </a:lnTo>
                <a:lnTo>
                  <a:pt x="34" y="904"/>
                </a:lnTo>
                <a:lnTo>
                  <a:pt x="26" y="895"/>
                </a:lnTo>
                <a:lnTo>
                  <a:pt x="13" y="866"/>
                </a:lnTo>
                <a:lnTo>
                  <a:pt x="13" y="856"/>
                </a:lnTo>
                <a:lnTo>
                  <a:pt x="17" y="860"/>
                </a:lnTo>
                <a:lnTo>
                  <a:pt x="22" y="871"/>
                </a:lnTo>
                <a:lnTo>
                  <a:pt x="27" y="894"/>
                </a:lnTo>
                <a:lnTo>
                  <a:pt x="35" y="884"/>
                </a:lnTo>
                <a:lnTo>
                  <a:pt x="38" y="893"/>
                </a:lnTo>
                <a:lnTo>
                  <a:pt x="39" y="904"/>
                </a:lnTo>
                <a:lnTo>
                  <a:pt x="46" y="905"/>
                </a:lnTo>
                <a:lnTo>
                  <a:pt x="51" y="898"/>
                </a:lnTo>
                <a:lnTo>
                  <a:pt x="54" y="886"/>
                </a:lnTo>
                <a:lnTo>
                  <a:pt x="53" y="867"/>
                </a:lnTo>
                <a:lnTo>
                  <a:pt x="45" y="860"/>
                </a:lnTo>
                <a:lnTo>
                  <a:pt x="39" y="848"/>
                </a:lnTo>
                <a:lnTo>
                  <a:pt x="37" y="851"/>
                </a:lnTo>
                <a:lnTo>
                  <a:pt x="38" y="844"/>
                </a:lnTo>
                <a:lnTo>
                  <a:pt x="31" y="832"/>
                </a:lnTo>
                <a:lnTo>
                  <a:pt x="23" y="814"/>
                </a:lnTo>
                <a:lnTo>
                  <a:pt x="8" y="787"/>
                </a:lnTo>
                <a:lnTo>
                  <a:pt x="8" y="758"/>
                </a:lnTo>
                <a:lnTo>
                  <a:pt x="13" y="748"/>
                </a:lnTo>
                <a:lnTo>
                  <a:pt x="28" y="733"/>
                </a:lnTo>
                <a:lnTo>
                  <a:pt x="29" y="725"/>
                </a:lnTo>
                <a:lnTo>
                  <a:pt x="28" y="716"/>
                </a:lnTo>
                <a:lnTo>
                  <a:pt x="29" y="695"/>
                </a:lnTo>
                <a:lnTo>
                  <a:pt x="22" y="683"/>
                </a:lnTo>
                <a:lnTo>
                  <a:pt x="27" y="661"/>
                </a:lnTo>
                <a:lnTo>
                  <a:pt x="33" y="652"/>
                </a:lnTo>
                <a:lnTo>
                  <a:pt x="39" y="637"/>
                </a:lnTo>
                <a:lnTo>
                  <a:pt x="43" y="634"/>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1" name="TextBox 16"/>
          <p:cNvSpPr/>
          <p:nvPr/>
        </p:nvSpPr>
        <p:spPr>
          <a:xfrm>
            <a:off x="644400" y="4206960"/>
            <a:ext cx="25765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North Americ</a:t>
            </a:r>
            <a:endParaRPr b="0" lang="en-US" sz="2000" spc="-1" strike="noStrike">
              <a:solidFill>
                <a:srgbClr val="000000"/>
              </a:solidFill>
              <a:latin typeface="Calibri"/>
            </a:endParaRPr>
          </a:p>
        </p:txBody>
      </p:sp>
      <p:sp>
        <p:nvSpPr>
          <p:cNvPr id="1232" name="TextBox 17"/>
          <p:cNvSpPr/>
          <p:nvPr/>
        </p:nvSpPr>
        <p:spPr>
          <a:xfrm>
            <a:off x="644400" y="4556160"/>
            <a:ext cx="2576520" cy="797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a:t>
            </a:r>
            <a:endParaRPr b="0" lang="en-US" sz="1100" spc="-1" strike="noStrike">
              <a:solidFill>
                <a:srgbClr val="000000"/>
              </a:solidFill>
              <a:latin typeface="Calibri"/>
            </a:endParaRPr>
          </a:p>
        </p:txBody>
      </p:sp>
      <p:sp>
        <p:nvSpPr>
          <p:cNvPr id="1233" name="AutoShape 124"/>
          <p:cNvSpPr/>
          <p:nvPr/>
        </p:nvSpPr>
        <p:spPr>
          <a:xfrm>
            <a:off x="755640" y="5602320"/>
            <a:ext cx="198360" cy="384120"/>
          </a:xfrm>
          <a:custGeom>
            <a:avLst/>
            <a:gdLst/>
            <a:ahLst/>
            <a:rect l="l" t="t" r="r" b="b"/>
            <a:pathLst>
              <a:path w="21331" h="21465">
                <a:moveTo>
                  <a:pt x="21154" y="11501"/>
                </a:moveTo>
                <a:cubicBezTo>
                  <a:pt x="20885" y="10961"/>
                  <a:pt x="19722" y="9170"/>
                  <a:pt x="18568" y="7385"/>
                </a:cubicBezTo>
                <a:cubicBezTo>
                  <a:pt x="17416" y="5596"/>
                  <a:pt x="15525" y="5350"/>
                  <a:pt x="12285" y="5350"/>
                </a:cubicBezTo>
                <a:lnTo>
                  <a:pt x="9041" y="5350"/>
                </a:lnTo>
                <a:cubicBezTo>
                  <a:pt x="5804" y="5350"/>
                  <a:pt x="3910" y="5596"/>
                  <a:pt x="2756" y="7385"/>
                </a:cubicBezTo>
                <a:cubicBezTo>
                  <a:pt x="1605" y="9170"/>
                  <a:pt x="442" y="10961"/>
                  <a:pt x="177" y="11501"/>
                </a:cubicBezTo>
                <a:cubicBezTo>
                  <a:pt x="-135" y="12129"/>
                  <a:pt x="-130" y="12666"/>
                  <a:pt x="989" y="12842"/>
                </a:cubicBezTo>
                <a:cubicBezTo>
                  <a:pt x="2145" y="13023"/>
                  <a:pt x="3004" y="12642"/>
                  <a:pt x="3473" y="11932"/>
                </a:cubicBezTo>
                <a:cubicBezTo>
                  <a:pt x="3482" y="11925"/>
                  <a:pt x="5551" y="8485"/>
                  <a:pt x="5551" y="8485"/>
                </a:cubicBezTo>
                <a:lnTo>
                  <a:pt x="6418" y="8485"/>
                </a:lnTo>
                <a:lnTo>
                  <a:pt x="3088" y="14913"/>
                </a:lnTo>
                <a:lnTo>
                  <a:pt x="6784" y="14913"/>
                </a:lnTo>
                <a:lnTo>
                  <a:pt x="6419" y="20358"/>
                </a:lnTo>
                <a:cubicBezTo>
                  <a:pt x="6419" y="20969"/>
                  <a:pt x="7067" y="21465"/>
                  <a:pt x="8155" y="21465"/>
                </a:cubicBezTo>
                <a:cubicBezTo>
                  <a:pt x="9241" y="21465"/>
                  <a:pt x="10047" y="20969"/>
                  <a:pt x="10047" y="20355"/>
                </a:cubicBezTo>
                <a:cubicBezTo>
                  <a:pt x="10047" y="20332"/>
                  <a:pt x="10043" y="20309"/>
                  <a:pt x="10043" y="20286"/>
                </a:cubicBezTo>
                <a:lnTo>
                  <a:pt x="9671" y="14913"/>
                </a:lnTo>
                <a:lnTo>
                  <a:pt x="11653" y="14913"/>
                </a:lnTo>
                <a:lnTo>
                  <a:pt x="11284" y="20286"/>
                </a:lnTo>
                <a:cubicBezTo>
                  <a:pt x="11284" y="20309"/>
                  <a:pt x="11280" y="20332"/>
                  <a:pt x="11280" y="20355"/>
                </a:cubicBezTo>
                <a:cubicBezTo>
                  <a:pt x="11280" y="20969"/>
                  <a:pt x="12087" y="21465"/>
                  <a:pt x="13177" y="21465"/>
                </a:cubicBezTo>
                <a:cubicBezTo>
                  <a:pt x="14267" y="21465"/>
                  <a:pt x="14909" y="20969"/>
                  <a:pt x="14909" y="20358"/>
                </a:cubicBezTo>
                <a:lnTo>
                  <a:pt x="14544" y="14913"/>
                </a:lnTo>
                <a:lnTo>
                  <a:pt x="18243" y="14913"/>
                </a:lnTo>
                <a:lnTo>
                  <a:pt x="14909" y="8485"/>
                </a:lnTo>
                <a:lnTo>
                  <a:pt x="15777" y="8485"/>
                </a:lnTo>
                <a:cubicBezTo>
                  <a:pt x="15777" y="8485"/>
                  <a:pt x="17849" y="11925"/>
                  <a:pt x="17857" y="11932"/>
                </a:cubicBezTo>
                <a:cubicBezTo>
                  <a:pt x="18325" y="12642"/>
                  <a:pt x="19183" y="13023"/>
                  <a:pt x="20337" y="12842"/>
                </a:cubicBezTo>
                <a:cubicBezTo>
                  <a:pt x="21465" y="12666"/>
                  <a:pt x="21465" y="12129"/>
                  <a:pt x="21154" y="11501"/>
                </a:cubicBezTo>
                <a:close/>
                <a:moveTo>
                  <a:pt x="6895" y="3317"/>
                </a:moveTo>
                <a:cubicBezTo>
                  <a:pt x="5688" y="3966"/>
                  <a:pt x="4378" y="4398"/>
                  <a:pt x="4378" y="4398"/>
                </a:cubicBezTo>
                <a:cubicBezTo>
                  <a:pt x="4378" y="4398"/>
                  <a:pt x="6436" y="4194"/>
                  <a:pt x="7699" y="3677"/>
                </a:cubicBezTo>
                <a:cubicBezTo>
                  <a:pt x="8249" y="4351"/>
                  <a:pt x="9277" y="4811"/>
                  <a:pt x="10467" y="4811"/>
                </a:cubicBezTo>
                <a:cubicBezTo>
                  <a:pt x="11737" y="4811"/>
                  <a:pt x="12826" y="4291"/>
                  <a:pt x="13344" y="3543"/>
                </a:cubicBezTo>
                <a:cubicBezTo>
                  <a:pt x="14547" y="4159"/>
                  <a:pt x="16953" y="4398"/>
                  <a:pt x="16953" y="4398"/>
                </a:cubicBezTo>
                <a:cubicBezTo>
                  <a:pt x="16953" y="4398"/>
                  <a:pt x="15641" y="3966"/>
                  <a:pt x="14436" y="3316"/>
                </a:cubicBezTo>
                <a:cubicBezTo>
                  <a:pt x="15693" y="3845"/>
                  <a:pt x="17792" y="4054"/>
                  <a:pt x="17792" y="4054"/>
                </a:cubicBezTo>
                <a:cubicBezTo>
                  <a:pt x="17792" y="4054"/>
                  <a:pt x="16463" y="3616"/>
                  <a:pt x="15250" y="2958"/>
                </a:cubicBezTo>
                <a:cubicBezTo>
                  <a:pt x="16408" y="3265"/>
                  <a:pt x="17682" y="3391"/>
                  <a:pt x="17682" y="3391"/>
                </a:cubicBezTo>
                <a:cubicBezTo>
                  <a:pt x="17682" y="3391"/>
                  <a:pt x="16209" y="2942"/>
                  <a:pt x="14907" y="2153"/>
                </a:cubicBezTo>
                <a:cubicBezTo>
                  <a:pt x="14389" y="1841"/>
                  <a:pt x="14145" y="1473"/>
                  <a:pt x="13895" y="1150"/>
                </a:cubicBezTo>
                <a:cubicBezTo>
                  <a:pt x="13646" y="647"/>
                  <a:pt x="12630" y="194"/>
                  <a:pt x="11270" y="48"/>
                </a:cubicBezTo>
                <a:cubicBezTo>
                  <a:pt x="9572" y="-135"/>
                  <a:pt x="7994" y="226"/>
                  <a:pt x="7694" y="856"/>
                </a:cubicBezTo>
                <a:cubicBezTo>
                  <a:pt x="7641" y="911"/>
                  <a:pt x="7584" y="959"/>
                  <a:pt x="7536" y="1024"/>
                </a:cubicBezTo>
                <a:cubicBezTo>
                  <a:pt x="7269" y="1376"/>
                  <a:pt x="7009" y="1800"/>
                  <a:pt x="6425" y="2152"/>
                </a:cubicBezTo>
                <a:cubicBezTo>
                  <a:pt x="5123" y="2941"/>
                  <a:pt x="3650" y="3391"/>
                  <a:pt x="3650" y="3391"/>
                </a:cubicBezTo>
                <a:cubicBezTo>
                  <a:pt x="3650" y="3391"/>
                  <a:pt x="4922" y="3264"/>
                  <a:pt x="6082" y="2958"/>
                </a:cubicBezTo>
                <a:cubicBezTo>
                  <a:pt x="4867" y="3615"/>
                  <a:pt x="3539" y="4053"/>
                  <a:pt x="3539" y="4053"/>
                </a:cubicBezTo>
                <a:cubicBezTo>
                  <a:pt x="3539" y="4053"/>
                  <a:pt x="5637" y="3845"/>
                  <a:pt x="6895" y="3317"/>
                </a:cubicBezTo>
                <a:close/>
                <a:moveTo>
                  <a:pt x="6895" y="3317"/>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AutoShape 137"/>
          <p:cNvSpPr/>
          <p:nvPr/>
        </p:nvSpPr>
        <p:spPr>
          <a:xfrm>
            <a:off x="1954080" y="5599080"/>
            <a:ext cx="171720" cy="380880"/>
          </a:xfrm>
          <a:custGeom>
            <a:avLst/>
            <a:gdLst/>
            <a:ahLst/>
            <a:rect l="l" t="t" r="r" b="b"/>
            <a:pathLst>
              <a:path w="21600" h="21600">
                <a:moveTo>
                  <a:pt x="11123" y="4385"/>
                </a:moveTo>
                <a:cubicBezTo>
                  <a:pt x="13807" y="4385"/>
                  <a:pt x="15986" y="3403"/>
                  <a:pt x="15986" y="2192"/>
                </a:cubicBezTo>
                <a:cubicBezTo>
                  <a:pt x="15986" y="981"/>
                  <a:pt x="13807" y="0"/>
                  <a:pt x="11123" y="0"/>
                </a:cubicBezTo>
                <a:cubicBezTo>
                  <a:pt x="8438" y="0"/>
                  <a:pt x="6262" y="981"/>
                  <a:pt x="6262" y="2192"/>
                </a:cubicBezTo>
                <a:cubicBezTo>
                  <a:pt x="6262" y="3403"/>
                  <a:pt x="8438" y="4385"/>
                  <a:pt x="11123" y="4385"/>
                </a:cubicBezTo>
                <a:close/>
                <a:moveTo>
                  <a:pt x="21600" y="8199"/>
                </a:moveTo>
                <a:cubicBezTo>
                  <a:pt x="21600" y="6295"/>
                  <a:pt x="18177" y="4752"/>
                  <a:pt x="13958" y="4752"/>
                </a:cubicBezTo>
                <a:lnTo>
                  <a:pt x="7644" y="4752"/>
                </a:lnTo>
                <a:cubicBezTo>
                  <a:pt x="3423" y="4752"/>
                  <a:pt x="0" y="6295"/>
                  <a:pt x="0" y="8199"/>
                </a:cubicBezTo>
                <a:lnTo>
                  <a:pt x="0" y="12797"/>
                </a:lnTo>
                <a:lnTo>
                  <a:pt x="2" y="12797"/>
                </a:lnTo>
                <a:cubicBezTo>
                  <a:pt x="2" y="12798"/>
                  <a:pt x="0" y="12800"/>
                  <a:pt x="0" y="12801"/>
                </a:cubicBezTo>
                <a:cubicBezTo>
                  <a:pt x="0" y="13307"/>
                  <a:pt x="908" y="13717"/>
                  <a:pt x="2028" y="13717"/>
                </a:cubicBezTo>
                <a:cubicBezTo>
                  <a:pt x="3148" y="13717"/>
                  <a:pt x="4055" y="13307"/>
                  <a:pt x="4055" y="12801"/>
                </a:cubicBezTo>
                <a:cubicBezTo>
                  <a:pt x="4055" y="12794"/>
                  <a:pt x="4054" y="12786"/>
                  <a:pt x="4054" y="12777"/>
                </a:cubicBezTo>
                <a:lnTo>
                  <a:pt x="4054" y="8030"/>
                </a:lnTo>
                <a:lnTo>
                  <a:pt x="4967" y="8030"/>
                </a:lnTo>
                <a:lnTo>
                  <a:pt x="4967" y="13764"/>
                </a:lnTo>
                <a:lnTo>
                  <a:pt x="4969" y="13764"/>
                </a:lnTo>
                <a:lnTo>
                  <a:pt x="4969" y="20442"/>
                </a:lnTo>
                <a:cubicBezTo>
                  <a:pt x="4971" y="21082"/>
                  <a:pt x="6121" y="21600"/>
                  <a:pt x="7537" y="21600"/>
                </a:cubicBezTo>
                <a:cubicBezTo>
                  <a:pt x="8958" y="21600"/>
                  <a:pt x="10108" y="21081"/>
                  <a:pt x="10108" y="20441"/>
                </a:cubicBezTo>
                <a:cubicBezTo>
                  <a:pt x="10108" y="20416"/>
                  <a:pt x="10104" y="20391"/>
                  <a:pt x="10101" y="20366"/>
                </a:cubicBezTo>
                <a:lnTo>
                  <a:pt x="10101" y="13764"/>
                </a:lnTo>
                <a:lnTo>
                  <a:pt x="11586" y="13764"/>
                </a:lnTo>
                <a:lnTo>
                  <a:pt x="11586" y="20442"/>
                </a:lnTo>
                <a:cubicBezTo>
                  <a:pt x="11590" y="21082"/>
                  <a:pt x="12737" y="21600"/>
                  <a:pt x="14157" y="21600"/>
                </a:cubicBezTo>
                <a:cubicBezTo>
                  <a:pt x="15575" y="21600"/>
                  <a:pt x="16728" y="21081"/>
                  <a:pt x="16728" y="20441"/>
                </a:cubicBezTo>
                <a:cubicBezTo>
                  <a:pt x="16728" y="20416"/>
                  <a:pt x="16721" y="20391"/>
                  <a:pt x="16717" y="20366"/>
                </a:cubicBezTo>
                <a:lnTo>
                  <a:pt x="16717" y="13764"/>
                </a:lnTo>
                <a:lnTo>
                  <a:pt x="16719" y="13764"/>
                </a:lnTo>
                <a:lnTo>
                  <a:pt x="16719" y="8030"/>
                </a:lnTo>
                <a:lnTo>
                  <a:pt x="17542" y="8030"/>
                </a:lnTo>
                <a:lnTo>
                  <a:pt x="17542" y="12797"/>
                </a:lnTo>
                <a:cubicBezTo>
                  <a:pt x="17542" y="12798"/>
                  <a:pt x="17542" y="12800"/>
                  <a:pt x="17542" y="12801"/>
                </a:cubicBezTo>
                <a:cubicBezTo>
                  <a:pt x="17542" y="13307"/>
                  <a:pt x="18451" y="13717"/>
                  <a:pt x="19572" y="13717"/>
                </a:cubicBezTo>
                <a:cubicBezTo>
                  <a:pt x="20690" y="13717"/>
                  <a:pt x="21600" y="13307"/>
                  <a:pt x="21600" y="12801"/>
                </a:cubicBezTo>
                <a:cubicBezTo>
                  <a:pt x="21600" y="12800"/>
                  <a:pt x="21600" y="12798"/>
                  <a:pt x="21600" y="12797"/>
                </a:cubicBezTo>
                <a:lnTo>
                  <a:pt x="21600" y="8199"/>
                </a:lnTo>
                <a:close/>
                <a:moveTo>
                  <a:pt x="21600" y="819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5" name="Rectangle 129"/>
          <p:cNvSpPr/>
          <p:nvPr/>
        </p:nvSpPr>
        <p:spPr>
          <a:xfrm>
            <a:off x="1069920" y="5848200"/>
            <a:ext cx="86508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236" name="Rectangle 129"/>
          <p:cNvSpPr/>
          <p:nvPr/>
        </p:nvSpPr>
        <p:spPr>
          <a:xfrm>
            <a:off x="1044720" y="5511960"/>
            <a:ext cx="86508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51M</a:t>
            </a:r>
            <a:endParaRPr b="0" lang="en-US" sz="2800" spc="-1" strike="noStrike">
              <a:solidFill>
                <a:srgbClr val="000000"/>
              </a:solidFill>
              <a:latin typeface="Calibri"/>
            </a:endParaRPr>
          </a:p>
        </p:txBody>
      </p:sp>
      <p:sp>
        <p:nvSpPr>
          <p:cNvPr id="1237" name="Rectangle 129"/>
          <p:cNvSpPr/>
          <p:nvPr/>
        </p:nvSpPr>
        <p:spPr>
          <a:xfrm>
            <a:off x="2241720" y="5848200"/>
            <a:ext cx="100476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238" name="Rectangle 129"/>
          <p:cNvSpPr/>
          <p:nvPr/>
        </p:nvSpPr>
        <p:spPr>
          <a:xfrm>
            <a:off x="2216160" y="5511960"/>
            <a:ext cx="100476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46M</a:t>
            </a:r>
            <a:endParaRPr b="0" lang="en-US" sz="2800" spc="-1" strike="noStrike">
              <a:solidFill>
                <a:srgbClr val="000000"/>
              </a:solidFill>
              <a:latin typeface="Calibri"/>
            </a:endParaRPr>
          </a:p>
        </p:txBody>
      </p:sp>
      <p:sp>
        <p:nvSpPr>
          <p:cNvPr id="1239" name="Straight Connector 25"/>
          <p:cNvSpPr/>
          <p:nvPr/>
        </p:nvSpPr>
        <p:spPr>
          <a:xfrm>
            <a:off x="755640" y="5376960"/>
            <a:ext cx="2384280" cy="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TextBox 28"/>
          <p:cNvSpPr/>
          <p:nvPr/>
        </p:nvSpPr>
        <p:spPr>
          <a:xfrm>
            <a:off x="4827600" y="420696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China</a:t>
            </a:r>
            <a:endParaRPr b="0" lang="en-US" sz="2000" spc="-1" strike="noStrike">
              <a:solidFill>
                <a:srgbClr val="000000"/>
              </a:solidFill>
              <a:latin typeface="Calibri"/>
            </a:endParaRPr>
          </a:p>
        </p:txBody>
      </p:sp>
      <p:sp>
        <p:nvSpPr>
          <p:cNvPr id="1241" name="TextBox 29"/>
          <p:cNvSpPr/>
          <p:nvPr/>
        </p:nvSpPr>
        <p:spPr>
          <a:xfrm>
            <a:off x="4827600" y="4556160"/>
            <a:ext cx="2575080" cy="797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a:t>
            </a:r>
            <a:endParaRPr b="0" lang="en-US" sz="1100" spc="-1" strike="noStrike">
              <a:solidFill>
                <a:srgbClr val="000000"/>
              </a:solidFill>
              <a:latin typeface="Calibri"/>
            </a:endParaRPr>
          </a:p>
        </p:txBody>
      </p:sp>
      <p:sp>
        <p:nvSpPr>
          <p:cNvPr id="1242" name="AutoShape 124"/>
          <p:cNvSpPr/>
          <p:nvPr/>
        </p:nvSpPr>
        <p:spPr>
          <a:xfrm>
            <a:off x="4938840" y="5602320"/>
            <a:ext cx="198360" cy="384120"/>
          </a:xfrm>
          <a:custGeom>
            <a:avLst/>
            <a:gdLst/>
            <a:ahLst/>
            <a:rect l="l" t="t" r="r" b="b"/>
            <a:pathLst>
              <a:path w="21331" h="21465">
                <a:moveTo>
                  <a:pt x="21154" y="11501"/>
                </a:moveTo>
                <a:cubicBezTo>
                  <a:pt x="20885" y="10961"/>
                  <a:pt x="19722" y="9170"/>
                  <a:pt x="18568" y="7385"/>
                </a:cubicBezTo>
                <a:cubicBezTo>
                  <a:pt x="17416" y="5596"/>
                  <a:pt x="15525" y="5350"/>
                  <a:pt x="12285" y="5350"/>
                </a:cubicBezTo>
                <a:lnTo>
                  <a:pt x="9041" y="5350"/>
                </a:lnTo>
                <a:cubicBezTo>
                  <a:pt x="5804" y="5350"/>
                  <a:pt x="3910" y="5596"/>
                  <a:pt x="2756" y="7385"/>
                </a:cubicBezTo>
                <a:cubicBezTo>
                  <a:pt x="1605" y="9170"/>
                  <a:pt x="442" y="10961"/>
                  <a:pt x="177" y="11501"/>
                </a:cubicBezTo>
                <a:cubicBezTo>
                  <a:pt x="-135" y="12129"/>
                  <a:pt x="-130" y="12666"/>
                  <a:pt x="989" y="12842"/>
                </a:cubicBezTo>
                <a:cubicBezTo>
                  <a:pt x="2145" y="13023"/>
                  <a:pt x="3004" y="12642"/>
                  <a:pt x="3473" y="11932"/>
                </a:cubicBezTo>
                <a:cubicBezTo>
                  <a:pt x="3482" y="11925"/>
                  <a:pt x="5551" y="8485"/>
                  <a:pt x="5551" y="8485"/>
                </a:cubicBezTo>
                <a:lnTo>
                  <a:pt x="6418" y="8485"/>
                </a:lnTo>
                <a:lnTo>
                  <a:pt x="3088" y="14913"/>
                </a:lnTo>
                <a:lnTo>
                  <a:pt x="6784" y="14913"/>
                </a:lnTo>
                <a:lnTo>
                  <a:pt x="6419" y="20358"/>
                </a:lnTo>
                <a:cubicBezTo>
                  <a:pt x="6419" y="20969"/>
                  <a:pt x="7067" y="21465"/>
                  <a:pt x="8155" y="21465"/>
                </a:cubicBezTo>
                <a:cubicBezTo>
                  <a:pt x="9241" y="21465"/>
                  <a:pt x="10047" y="20969"/>
                  <a:pt x="10047" y="20355"/>
                </a:cubicBezTo>
                <a:cubicBezTo>
                  <a:pt x="10047" y="20332"/>
                  <a:pt x="10043" y="20309"/>
                  <a:pt x="10043" y="20286"/>
                </a:cubicBezTo>
                <a:lnTo>
                  <a:pt x="9671" y="14913"/>
                </a:lnTo>
                <a:lnTo>
                  <a:pt x="11653" y="14913"/>
                </a:lnTo>
                <a:lnTo>
                  <a:pt x="11284" y="20286"/>
                </a:lnTo>
                <a:cubicBezTo>
                  <a:pt x="11284" y="20309"/>
                  <a:pt x="11280" y="20332"/>
                  <a:pt x="11280" y="20355"/>
                </a:cubicBezTo>
                <a:cubicBezTo>
                  <a:pt x="11280" y="20969"/>
                  <a:pt x="12087" y="21465"/>
                  <a:pt x="13177" y="21465"/>
                </a:cubicBezTo>
                <a:cubicBezTo>
                  <a:pt x="14267" y="21465"/>
                  <a:pt x="14909" y="20969"/>
                  <a:pt x="14909" y="20358"/>
                </a:cubicBezTo>
                <a:lnTo>
                  <a:pt x="14544" y="14913"/>
                </a:lnTo>
                <a:lnTo>
                  <a:pt x="18243" y="14913"/>
                </a:lnTo>
                <a:lnTo>
                  <a:pt x="14909" y="8485"/>
                </a:lnTo>
                <a:lnTo>
                  <a:pt x="15777" y="8485"/>
                </a:lnTo>
                <a:cubicBezTo>
                  <a:pt x="15777" y="8485"/>
                  <a:pt x="17849" y="11925"/>
                  <a:pt x="17857" y="11932"/>
                </a:cubicBezTo>
                <a:cubicBezTo>
                  <a:pt x="18325" y="12642"/>
                  <a:pt x="19183" y="13023"/>
                  <a:pt x="20337" y="12842"/>
                </a:cubicBezTo>
                <a:cubicBezTo>
                  <a:pt x="21465" y="12666"/>
                  <a:pt x="21465" y="12129"/>
                  <a:pt x="21154" y="11501"/>
                </a:cubicBezTo>
                <a:close/>
                <a:moveTo>
                  <a:pt x="6895" y="3317"/>
                </a:moveTo>
                <a:cubicBezTo>
                  <a:pt x="5688" y="3966"/>
                  <a:pt x="4378" y="4398"/>
                  <a:pt x="4378" y="4398"/>
                </a:cubicBezTo>
                <a:cubicBezTo>
                  <a:pt x="4378" y="4398"/>
                  <a:pt x="6436" y="4194"/>
                  <a:pt x="7699" y="3677"/>
                </a:cubicBezTo>
                <a:cubicBezTo>
                  <a:pt x="8249" y="4351"/>
                  <a:pt x="9277" y="4811"/>
                  <a:pt x="10467" y="4811"/>
                </a:cubicBezTo>
                <a:cubicBezTo>
                  <a:pt x="11737" y="4811"/>
                  <a:pt x="12826" y="4291"/>
                  <a:pt x="13344" y="3543"/>
                </a:cubicBezTo>
                <a:cubicBezTo>
                  <a:pt x="14547" y="4159"/>
                  <a:pt x="16953" y="4398"/>
                  <a:pt x="16953" y="4398"/>
                </a:cubicBezTo>
                <a:cubicBezTo>
                  <a:pt x="16953" y="4398"/>
                  <a:pt x="15641" y="3966"/>
                  <a:pt x="14436" y="3316"/>
                </a:cubicBezTo>
                <a:cubicBezTo>
                  <a:pt x="15693" y="3845"/>
                  <a:pt x="17792" y="4054"/>
                  <a:pt x="17792" y="4054"/>
                </a:cubicBezTo>
                <a:cubicBezTo>
                  <a:pt x="17792" y="4054"/>
                  <a:pt x="16463" y="3616"/>
                  <a:pt x="15250" y="2958"/>
                </a:cubicBezTo>
                <a:cubicBezTo>
                  <a:pt x="16408" y="3265"/>
                  <a:pt x="17682" y="3391"/>
                  <a:pt x="17682" y="3391"/>
                </a:cubicBezTo>
                <a:cubicBezTo>
                  <a:pt x="17682" y="3391"/>
                  <a:pt x="16209" y="2942"/>
                  <a:pt x="14907" y="2153"/>
                </a:cubicBezTo>
                <a:cubicBezTo>
                  <a:pt x="14389" y="1841"/>
                  <a:pt x="14145" y="1473"/>
                  <a:pt x="13895" y="1150"/>
                </a:cubicBezTo>
                <a:cubicBezTo>
                  <a:pt x="13646" y="647"/>
                  <a:pt x="12630" y="194"/>
                  <a:pt x="11270" y="48"/>
                </a:cubicBezTo>
                <a:cubicBezTo>
                  <a:pt x="9572" y="-135"/>
                  <a:pt x="7994" y="226"/>
                  <a:pt x="7694" y="856"/>
                </a:cubicBezTo>
                <a:cubicBezTo>
                  <a:pt x="7641" y="911"/>
                  <a:pt x="7584" y="959"/>
                  <a:pt x="7536" y="1024"/>
                </a:cubicBezTo>
                <a:cubicBezTo>
                  <a:pt x="7269" y="1376"/>
                  <a:pt x="7009" y="1800"/>
                  <a:pt x="6425" y="2152"/>
                </a:cubicBezTo>
                <a:cubicBezTo>
                  <a:pt x="5123" y="2941"/>
                  <a:pt x="3650" y="3391"/>
                  <a:pt x="3650" y="3391"/>
                </a:cubicBezTo>
                <a:cubicBezTo>
                  <a:pt x="3650" y="3391"/>
                  <a:pt x="4922" y="3264"/>
                  <a:pt x="6082" y="2958"/>
                </a:cubicBezTo>
                <a:cubicBezTo>
                  <a:pt x="4867" y="3615"/>
                  <a:pt x="3539" y="4053"/>
                  <a:pt x="3539" y="4053"/>
                </a:cubicBezTo>
                <a:cubicBezTo>
                  <a:pt x="3539" y="4053"/>
                  <a:pt x="5637" y="3845"/>
                  <a:pt x="6895" y="3317"/>
                </a:cubicBezTo>
                <a:close/>
                <a:moveTo>
                  <a:pt x="6895" y="3317"/>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AutoShape 137"/>
          <p:cNvSpPr/>
          <p:nvPr/>
        </p:nvSpPr>
        <p:spPr>
          <a:xfrm>
            <a:off x="6135840" y="5599080"/>
            <a:ext cx="172800" cy="380880"/>
          </a:xfrm>
          <a:custGeom>
            <a:avLst/>
            <a:gdLst/>
            <a:ahLst/>
            <a:rect l="l" t="t" r="r" b="b"/>
            <a:pathLst>
              <a:path w="21600" h="21600">
                <a:moveTo>
                  <a:pt x="11123" y="4385"/>
                </a:moveTo>
                <a:cubicBezTo>
                  <a:pt x="13807" y="4385"/>
                  <a:pt x="15986" y="3403"/>
                  <a:pt x="15986" y="2192"/>
                </a:cubicBezTo>
                <a:cubicBezTo>
                  <a:pt x="15986" y="981"/>
                  <a:pt x="13807" y="0"/>
                  <a:pt x="11123" y="0"/>
                </a:cubicBezTo>
                <a:cubicBezTo>
                  <a:pt x="8438" y="0"/>
                  <a:pt x="6262" y="981"/>
                  <a:pt x="6262" y="2192"/>
                </a:cubicBezTo>
                <a:cubicBezTo>
                  <a:pt x="6262" y="3403"/>
                  <a:pt x="8438" y="4385"/>
                  <a:pt x="11123" y="4385"/>
                </a:cubicBezTo>
                <a:close/>
                <a:moveTo>
                  <a:pt x="21600" y="8199"/>
                </a:moveTo>
                <a:cubicBezTo>
                  <a:pt x="21600" y="6295"/>
                  <a:pt x="18177" y="4752"/>
                  <a:pt x="13958" y="4752"/>
                </a:cubicBezTo>
                <a:lnTo>
                  <a:pt x="7644" y="4752"/>
                </a:lnTo>
                <a:cubicBezTo>
                  <a:pt x="3423" y="4752"/>
                  <a:pt x="0" y="6295"/>
                  <a:pt x="0" y="8199"/>
                </a:cubicBezTo>
                <a:lnTo>
                  <a:pt x="0" y="12797"/>
                </a:lnTo>
                <a:lnTo>
                  <a:pt x="2" y="12797"/>
                </a:lnTo>
                <a:cubicBezTo>
                  <a:pt x="2" y="12798"/>
                  <a:pt x="0" y="12800"/>
                  <a:pt x="0" y="12801"/>
                </a:cubicBezTo>
                <a:cubicBezTo>
                  <a:pt x="0" y="13307"/>
                  <a:pt x="908" y="13717"/>
                  <a:pt x="2028" y="13717"/>
                </a:cubicBezTo>
                <a:cubicBezTo>
                  <a:pt x="3148" y="13717"/>
                  <a:pt x="4055" y="13307"/>
                  <a:pt x="4055" y="12801"/>
                </a:cubicBezTo>
                <a:cubicBezTo>
                  <a:pt x="4055" y="12794"/>
                  <a:pt x="4054" y="12786"/>
                  <a:pt x="4054" y="12777"/>
                </a:cubicBezTo>
                <a:lnTo>
                  <a:pt x="4054" y="8030"/>
                </a:lnTo>
                <a:lnTo>
                  <a:pt x="4967" y="8030"/>
                </a:lnTo>
                <a:lnTo>
                  <a:pt x="4967" y="13764"/>
                </a:lnTo>
                <a:lnTo>
                  <a:pt x="4969" y="13764"/>
                </a:lnTo>
                <a:lnTo>
                  <a:pt x="4969" y="20442"/>
                </a:lnTo>
                <a:cubicBezTo>
                  <a:pt x="4971" y="21082"/>
                  <a:pt x="6121" y="21600"/>
                  <a:pt x="7537" y="21600"/>
                </a:cubicBezTo>
                <a:cubicBezTo>
                  <a:pt x="8958" y="21600"/>
                  <a:pt x="10108" y="21081"/>
                  <a:pt x="10108" y="20441"/>
                </a:cubicBezTo>
                <a:cubicBezTo>
                  <a:pt x="10108" y="20416"/>
                  <a:pt x="10104" y="20391"/>
                  <a:pt x="10101" y="20366"/>
                </a:cubicBezTo>
                <a:lnTo>
                  <a:pt x="10101" y="13764"/>
                </a:lnTo>
                <a:lnTo>
                  <a:pt x="11586" y="13764"/>
                </a:lnTo>
                <a:lnTo>
                  <a:pt x="11586" y="20442"/>
                </a:lnTo>
                <a:cubicBezTo>
                  <a:pt x="11590" y="21082"/>
                  <a:pt x="12737" y="21600"/>
                  <a:pt x="14157" y="21600"/>
                </a:cubicBezTo>
                <a:cubicBezTo>
                  <a:pt x="15575" y="21600"/>
                  <a:pt x="16728" y="21081"/>
                  <a:pt x="16728" y="20441"/>
                </a:cubicBezTo>
                <a:cubicBezTo>
                  <a:pt x="16728" y="20416"/>
                  <a:pt x="16721" y="20391"/>
                  <a:pt x="16717" y="20366"/>
                </a:cubicBezTo>
                <a:lnTo>
                  <a:pt x="16717" y="13764"/>
                </a:lnTo>
                <a:lnTo>
                  <a:pt x="16719" y="13764"/>
                </a:lnTo>
                <a:lnTo>
                  <a:pt x="16719" y="8030"/>
                </a:lnTo>
                <a:lnTo>
                  <a:pt x="17542" y="8030"/>
                </a:lnTo>
                <a:lnTo>
                  <a:pt x="17542" y="12797"/>
                </a:lnTo>
                <a:cubicBezTo>
                  <a:pt x="17542" y="12798"/>
                  <a:pt x="17542" y="12800"/>
                  <a:pt x="17542" y="12801"/>
                </a:cubicBezTo>
                <a:cubicBezTo>
                  <a:pt x="17542" y="13307"/>
                  <a:pt x="18451" y="13717"/>
                  <a:pt x="19572" y="13717"/>
                </a:cubicBezTo>
                <a:cubicBezTo>
                  <a:pt x="20690" y="13717"/>
                  <a:pt x="21600" y="13307"/>
                  <a:pt x="21600" y="12801"/>
                </a:cubicBezTo>
                <a:cubicBezTo>
                  <a:pt x="21600" y="12800"/>
                  <a:pt x="21600" y="12798"/>
                  <a:pt x="21600" y="12797"/>
                </a:cubicBezTo>
                <a:lnTo>
                  <a:pt x="21600" y="8199"/>
                </a:lnTo>
                <a:close/>
                <a:moveTo>
                  <a:pt x="21600" y="819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4" name="Rectangle 129"/>
          <p:cNvSpPr/>
          <p:nvPr/>
        </p:nvSpPr>
        <p:spPr>
          <a:xfrm>
            <a:off x="5251320" y="5848200"/>
            <a:ext cx="86688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245" name="Rectangle 129"/>
          <p:cNvSpPr/>
          <p:nvPr/>
        </p:nvSpPr>
        <p:spPr>
          <a:xfrm>
            <a:off x="5226120" y="5511960"/>
            <a:ext cx="86688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23M</a:t>
            </a:r>
            <a:endParaRPr b="0" lang="en-US" sz="2800" spc="-1" strike="noStrike">
              <a:solidFill>
                <a:srgbClr val="000000"/>
              </a:solidFill>
              <a:latin typeface="Calibri"/>
            </a:endParaRPr>
          </a:p>
        </p:txBody>
      </p:sp>
      <p:sp>
        <p:nvSpPr>
          <p:cNvPr id="1246" name="Rectangle 129"/>
          <p:cNvSpPr/>
          <p:nvPr/>
        </p:nvSpPr>
        <p:spPr>
          <a:xfrm>
            <a:off x="6424560" y="5848200"/>
            <a:ext cx="100332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247" name="Rectangle 129"/>
          <p:cNvSpPr/>
          <p:nvPr/>
        </p:nvSpPr>
        <p:spPr>
          <a:xfrm>
            <a:off x="6399360" y="5511960"/>
            <a:ext cx="100332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41M</a:t>
            </a:r>
            <a:endParaRPr b="0" lang="en-US" sz="2800" spc="-1" strike="noStrike">
              <a:solidFill>
                <a:srgbClr val="000000"/>
              </a:solidFill>
              <a:latin typeface="Calibri"/>
            </a:endParaRPr>
          </a:p>
        </p:txBody>
      </p:sp>
      <p:sp>
        <p:nvSpPr>
          <p:cNvPr id="1248" name="Straight Connector 36"/>
          <p:cNvSpPr/>
          <p:nvPr/>
        </p:nvSpPr>
        <p:spPr>
          <a:xfrm>
            <a:off x="4938840" y="5376960"/>
            <a:ext cx="2382840" cy="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TextBox 38"/>
          <p:cNvSpPr/>
          <p:nvPr/>
        </p:nvSpPr>
        <p:spPr>
          <a:xfrm>
            <a:off x="8970840" y="4206960"/>
            <a:ext cx="25765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boto condensed"/>
              </a:rPr>
              <a:t>Australia</a:t>
            </a:r>
            <a:endParaRPr b="0" lang="en-US" sz="2000" spc="-1" strike="noStrike">
              <a:solidFill>
                <a:srgbClr val="000000"/>
              </a:solidFill>
              <a:latin typeface="Calibri"/>
            </a:endParaRPr>
          </a:p>
        </p:txBody>
      </p:sp>
      <p:sp>
        <p:nvSpPr>
          <p:cNvPr id="1250" name="TextBox 39"/>
          <p:cNvSpPr/>
          <p:nvPr/>
        </p:nvSpPr>
        <p:spPr>
          <a:xfrm>
            <a:off x="8970840" y="4556160"/>
            <a:ext cx="2576520" cy="797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Vestibulum ligut praesent commodo cursus magna, consectetur et. </a:t>
            </a:r>
            <a:endParaRPr b="0" lang="en-US" sz="1100" spc="-1" strike="noStrike">
              <a:solidFill>
                <a:srgbClr val="000000"/>
              </a:solidFill>
              <a:latin typeface="Calibri"/>
            </a:endParaRPr>
          </a:p>
        </p:txBody>
      </p:sp>
      <p:sp>
        <p:nvSpPr>
          <p:cNvPr id="1251" name="AutoShape 124"/>
          <p:cNvSpPr/>
          <p:nvPr/>
        </p:nvSpPr>
        <p:spPr>
          <a:xfrm>
            <a:off x="9083520" y="5602320"/>
            <a:ext cx="196920" cy="384120"/>
          </a:xfrm>
          <a:custGeom>
            <a:avLst/>
            <a:gdLst/>
            <a:ahLst/>
            <a:rect l="l" t="t" r="r" b="b"/>
            <a:pathLst>
              <a:path w="21331" h="21465">
                <a:moveTo>
                  <a:pt x="21154" y="11501"/>
                </a:moveTo>
                <a:cubicBezTo>
                  <a:pt x="20885" y="10961"/>
                  <a:pt x="19722" y="9170"/>
                  <a:pt x="18568" y="7385"/>
                </a:cubicBezTo>
                <a:cubicBezTo>
                  <a:pt x="17416" y="5596"/>
                  <a:pt x="15525" y="5350"/>
                  <a:pt x="12285" y="5350"/>
                </a:cubicBezTo>
                <a:lnTo>
                  <a:pt x="9041" y="5350"/>
                </a:lnTo>
                <a:cubicBezTo>
                  <a:pt x="5804" y="5350"/>
                  <a:pt x="3910" y="5596"/>
                  <a:pt x="2756" y="7385"/>
                </a:cubicBezTo>
                <a:cubicBezTo>
                  <a:pt x="1605" y="9170"/>
                  <a:pt x="442" y="10961"/>
                  <a:pt x="177" y="11501"/>
                </a:cubicBezTo>
                <a:cubicBezTo>
                  <a:pt x="-135" y="12129"/>
                  <a:pt x="-130" y="12666"/>
                  <a:pt x="989" y="12842"/>
                </a:cubicBezTo>
                <a:cubicBezTo>
                  <a:pt x="2145" y="13023"/>
                  <a:pt x="3004" y="12642"/>
                  <a:pt x="3473" y="11932"/>
                </a:cubicBezTo>
                <a:cubicBezTo>
                  <a:pt x="3482" y="11925"/>
                  <a:pt x="5551" y="8485"/>
                  <a:pt x="5551" y="8485"/>
                </a:cubicBezTo>
                <a:lnTo>
                  <a:pt x="6418" y="8485"/>
                </a:lnTo>
                <a:lnTo>
                  <a:pt x="3088" y="14913"/>
                </a:lnTo>
                <a:lnTo>
                  <a:pt x="6784" y="14913"/>
                </a:lnTo>
                <a:lnTo>
                  <a:pt x="6419" y="20358"/>
                </a:lnTo>
                <a:cubicBezTo>
                  <a:pt x="6419" y="20969"/>
                  <a:pt x="7067" y="21465"/>
                  <a:pt x="8155" y="21465"/>
                </a:cubicBezTo>
                <a:cubicBezTo>
                  <a:pt x="9241" y="21465"/>
                  <a:pt x="10047" y="20969"/>
                  <a:pt x="10047" y="20355"/>
                </a:cubicBezTo>
                <a:cubicBezTo>
                  <a:pt x="10047" y="20332"/>
                  <a:pt x="10043" y="20309"/>
                  <a:pt x="10043" y="20286"/>
                </a:cubicBezTo>
                <a:lnTo>
                  <a:pt x="9671" y="14913"/>
                </a:lnTo>
                <a:lnTo>
                  <a:pt x="11653" y="14913"/>
                </a:lnTo>
                <a:lnTo>
                  <a:pt x="11284" y="20286"/>
                </a:lnTo>
                <a:cubicBezTo>
                  <a:pt x="11284" y="20309"/>
                  <a:pt x="11280" y="20332"/>
                  <a:pt x="11280" y="20355"/>
                </a:cubicBezTo>
                <a:cubicBezTo>
                  <a:pt x="11280" y="20969"/>
                  <a:pt x="12087" y="21465"/>
                  <a:pt x="13177" y="21465"/>
                </a:cubicBezTo>
                <a:cubicBezTo>
                  <a:pt x="14267" y="21465"/>
                  <a:pt x="14909" y="20969"/>
                  <a:pt x="14909" y="20358"/>
                </a:cubicBezTo>
                <a:lnTo>
                  <a:pt x="14544" y="14913"/>
                </a:lnTo>
                <a:lnTo>
                  <a:pt x="18243" y="14913"/>
                </a:lnTo>
                <a:lnTo>
                  <a:pt x="14909" y="8485"/>
                </a:lnTo>
                <a:lnTo>
                  <a:pt x="15777" y="8485"/>
                </a:lnTo>
                <a:cubicBezTo>
                  <a:pt x="15777" y="8485"/>
                  <a:pt x="17849" y="11925"/>
                  <a:pt x="17857" y="11932"/>
                </a:cubicBezTo>
                <a:cubicBezTo>
                  <a:pt x="18325" y="12642"/>
                  <a:pt x="19183" y="13023"/>
                  <a:pt x="20337" y="12842"/>
                </a:cubicBezTo>
                <a:cubicBezTo>
                  <a:pt x="21465" y="12666"/>
                  <a:pt x="21465" y="12129"/>
                  <a:pt x="21154" y="11501"/>
                </a:cubicBezTo>
                <a:close/>
                <a:moveTo>
                  <a:pt x="6895" y="3317"/>
                </a:moveTo>
                <a:cubicBezTo>
                  <a:pt x="5688" y="3966"/>
                  <a:pt x="4378" y="4398"/>
                  <a:pt x="4378" y="4398"/>
                </a:cubicBezTo>
                <a:cubicBezTo>
                  <a:pt x="4378" y="4398"/>
                  <a:pt x="6436" y="4194"/>
                  <a:pt x="7699" y="3677"/>
                </a:cubicBezTo>
                <a:cubicBezTo>
                  <a:pt x="8249" y="4351"/>
                  <a:pt x="9277" y="4811"/>
                  <a:pt x="10467" y="4811"/>
                </a:cubicBezTo>
                <a:cubicBezTo>
                  <a:pt x="11737" y="4811"/>
                  <a:pt x="12826" y="4291"/>
                  <a:pt x="13344" y="3543"/>
                </a:cubicBezTo>
                <a:cubicBezTo>
                  <a:pt x="14547" y="4159"/>
                  <a:pt x="16953" y="4398"/>
                  <a:pt x="16953" y="4398"/>
                </a:cubicBezTo>
                <a:cubicBezTo>
                  <a:pt x="16953" y="4398"/>
                  <a:pt x="15641" y="3966"/>
                  <a:pt x="14436" y="3316"/>
                </a:cubicBezTo>
                <a:cubicBezTo>
                  <a:pt x="15693" y="3845"/>
                  <a:pt x="17792" y="4054"/>
                  <a:pt x="17792" y="4054"/>
                </a:cubicBezTo>
                <a:cubicBezTo>
                  <a:pt x="17792" y="4054"/>
                  <a:pt x="16463" y="3616"/>
                  <a:pt x="15250" y="2958"/>
                </a:cubicBezTo>
                <a:cubicBezTo>
                  <a:pt x="16408" y="3265"/>
                  <a:pt x="17682" y="3391"/>
                  <a:pt x="17682" y="3391"/>
                </a:cubicBezTo>
                <a:cubicBezTo>
                  <a:pt x="17682" y="3391"/>
                  <a:pt x="16209" y="2942"/>
                  <a:pt x="14907" y="2153"/>
                </a:cubicBezTo>
                <a:cubicBezTo>
                  <a:pt x="14389" y="1841"/>
                  <a:pt x="14145" y="1473"/>
                  <a:pt x="13895" y="1150"/>
                </a:cubicBezTo>
                <a:cubicBezTo>
                  <a:pt x="13646" y="647"/>
                  <a:pt x="12630" y="194"/>
                  <a:pt x="11270" y="48"/>
                </a:cubicBezTo>
                <a:cubicBezTo>
                  <a:pt x="9572" y="-135"/>
                  <a:pt x="7994" y="226"/>
                  <a:pt x="7694" y="856"/>
                </a:cubicBezTo>
                <a:cubicBezTo>
                  <a:pt x="7641" y="911"/>
                  <a:pt x="7584" y="959"/>
                  <a:pt x="7536" y="1024"/>
                </a:cubicBezTo>
                <a:cubicBezTo>
                  <a:pt x="7269" y="1376"/>
                  <a:pt x="7009" y="1800"/>
                  <a:pt x="6425" y="2152"/>
                </a:cubicBezTo>
                <a:cubicBezTo>
                  <a:pt x="5123" y="2941"/>
                  <a:pt x="3650" y="3391"/>
                  <a:pt x="3650" y="3391"/>
                </a:cubicBezTo>
                <a:cubicBezTo>
                  <a:pt x="3650" y="3391"/>
                  <a:pt x="4922" y="3264"/>
                  <a:pt x="6082" y="2958"/>
                </a:cubicBezTo>
                <a:cubicBezTo>
                  <a:pt x="4867" y="3615"/>
                  <a:pt x="3539" y="4053"/>
                  <a:pt x="3539" y="4053"/>
                </a:cubicBezTo>
                <a:cubicBezTo>
                  <a:pt x="3539" y="4053"/>
                  <a:pt x="5637" y="3845"/>
                  <a:pt x="6895" y="3317"/>
                </a:cubicBezTo>
                <a:close/>
                <a:moveTo>
                  <a:pt x="6895" y="3317"/>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2" name="AutoShape 137"/>
          <p:cNvSpPr/>
          <p:nvPr/>
        </p:nvSpPr>
        <p:spPr>
          <a:xfrm>
            <a:off x="10280520" y="5599080"/>
            <a:ext cx="171720" cy="380880"/>
          </a:xfrm>
          <a:custGeom>
            <a:avLst/>
            <a:gdLst/>
            <a:ahLst/>
            <a:rect l="l" t="t" r="r" b="b"/>
            <a:pathLst>
              <a:path w="21600" h="21600">
                <a:moveTo>
                  <a:pt x="11123" y="4385"/>
                </a:moveTo>
                <a:cubicBezTo>
                  <a:pt x="13807" y="4385"/>
                  <a:pt x="15986" y="3403"/>
                  <a:pt x="15986" y="2192"/>
                </a:cubicBezTo>
                <a:cubicBezTo>
                  <a:pt x="15986" y="981"/>
                  <a:pt x="13807" y="0"/>
                  <a:pt x="11123" y="0"/>
                </a:cubicBezTo>
                <a:cubicBezTo>
                  <a:pt x="8438" y="0"/>
                  <a:pt x="6262" y="981"/>
                  <a:pt x="6262" y="2192"/>
                </a:cubicBezTo>
                <a:cubicBezTo>
                  <a:pt x="6262" y="3403"/>
                  <a:pt x="8438" y="4385"/>
                  <a:pt x="11123" y="4385"/>
                </a:cubicBezTo>
                <a:close/>
                <a:moveTo>
                  <a:pt x="21600" y="8199"/>
                </a:moveTo>
                <a:cubicBezTo>
                  <a:pt x="21600" y="6295"/>
                  <a:pt x="18177" y="4752"/>
                  <a:pt x="13958" y="4752"/>
                </a:cubicBezTo>
                <a:lnTo>
                  <a:pt x="7644" y="4752"/>
                </a:lnTo>
                <a:cubicBezTo>
                  <a:pt x="3423" y="4752"/>
                  <a:pt x="0" y="6295"/>
                  <a:pt x="0" y="8199"/>
                </a:cubicBezTo>
                <a:lnTo>
                  <a:pt x="0" y="12797"/>
                </a:lnTo>
                <a:lnTo>
                  <a:pt x="2" y="12797"/>
                </a:lnTo>
                <a:cubicBezTo>
                  <a:pt x="2" y="12798"/>
                  <a:pt x="0" y="12800"/>
                  <a:pt x="0" y="12801"/>
                </a:cubicBezTo>
                <a:cubicBezTo>
                  <a:pt x="0" y="13307"/>
                  <a:pt x="908" y="13717"/>
                  <a:pt x="2028" y="13717"/>
                </a:cubicBezTo>
                <a:cubicBezTo>
                  <a:pt x="3148" y="13717"/>
                  <a:pt x="4055" y="13307"/>
                  <a:pt x="4055" y="12801"/>
                </a:cubicBezTo>
                <a:cubicBezTo>
                  <a:pt x="4055" y="12794"/>
                  <a:pt x="4054" y="12786"/>
                  <a:pt x="4054" y="12777"/>
                </a:cubicBezTo>
                <a:lnTo>
                  <a:pt x="4054" y="8030"/>
                </a:lnTo>
                <a:lnTo>
                  <a:pt x="4967" y="8030"/>
                </a:lnTo>
                <a:lnTo>
                  <a:pt x="4967" y="13764"/>
                </a:lnTo>
                <a:lnTo>
                  <a:pt x="4969" y="13764"/>
                </a:lnTo>
                <a:lnTo>
                  <a:pt x="4969" y="20442"/>
                </a:lnTo>
                <a:cubicBezTo>
                  <a:pt x="4971" y="21082"/>
                  <a:pt x="6121" y="21600"/>
                  <a:pt x="7537" y="21600"/>
                </a:cubicBezTo>
                <a:cubicBezTo>
                  <a:pt x="8958" y="21600"/>
                  <a:pt x="10108" y="21081"/>
                  <a:pt x="10108" y="20441"/>
                </a:cubicBezTo>
                <a:cubicBezTo>
                  <a:pt x="10108" y="20416"/>
                  <a:pt x="10104" y="20391"/>
                  <a:pt x="10101" y="20366"/>
                </a:cubicBezTo>
                <a:lnTo>
                  <a:pt x="10101" y="13764"/>
                </a:lnTo>
                <a:lnTo>
                  <a:pt x="11586" y="13764"/>
                </a:lnTo>
                <a:lnTo>
                  <a:pt x="11586" y="20442"/>
                </a:lnTo>
                <a:cubicBezTo>
                  <a:pt x="11590" y="21082"/>
                  <a:pt x="12737" y="21600"/>
                  <a:pt x="14157" y="21600"/>
                </a:cubicBezTo>
                <a:cubicBezTo>
                  <a:pt x="15575" y="21600"/>
                  <a:pt x="16728" y="21081"/>
                  <a:pt x="16728" y="20441"/>
                </a:cubicBezTo>
                <a:cubicBezTo>
                  <a:pt x="16728" y="20416"/>
                  <a:pt x="16721" y="20391"/>
                  <a:pt x="16717" y="20366"/>
                </a:cubicBezTo>
                <a:lnTo>
                  <a:pt x="16717" y="13764"/>
                </a:lnTo>
                <a:lnTo>
                  <a:pt x="16719" y="13764"/>
                </a:lnTo>
                <a:lnTo>
                  <a:pt x="16719" y="8030"/>
                </a:lnTo>
                <a:lnTo>
                  <a:pt x="17542" y="8030"/>
                </a:lnTo>
                <a:lnTo>
                  <a:pt x="17542" y="12797"/>
                </a:lnTo>
                <a:cubicBezTo>
                  <a:pt x="17542" y="12798"/>
                  <a:pt x="17542" y="12800"/>
                  <a:pt x="17542" y="12801"/>
                </a:cubicBezTo>
                <a:cubicBezTo>
                  <a:pt x="17542" y="13307"/>
                  <a:pt x="18451" y="13717"/>
                  <a:pt x="19572" y="13717"/>
                </a:cubicBezTo>
                <a:cubicBezTo>
                  <a:pt x="20690" y="13717"/>
                  <a:pt x="21600" y="13307"/>
                  <a:pt x="21600" y="12801"/>
                </a:cubicBezTo>
                <a:cubicBezTo>
                  <a:pt x="21600" y="12800"/>
                  <a:pt x="21600" y="12798"/>
                  <a:pt x="21600" y="12797"/>
                </a:cubicBezTo>
                <a:lnTo>
                  <a:pt x="21600" y="8199"/>
                </a:lnTo>
                <a:close/>
                <a:moveTo>
                  <a:pt x="21600" y="8199"/>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3" name="Rectangle 129"/>
          <p:cNvSpPr/>
          <p:nvPr/>
        </p:nvSpPr>
        <p:spPr>
          <a:xfrm>
            <a:off x="9396360" y="5848200"/>
            <a:ext cx="86688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Females</a:t>
            </a:r>
            <a:endParaRPr b="0" lang="en-US" sz="1200" spc="-1" strike="noStrike">
              <a:solidFill>
                <a:srgbClr val="000000"/>
              </a:solidFill>
              <a:latin typeface="Calibri"/>
            </a:endParaRPr>
          </a:p>
        </p:txBody>
      </p:sp>
      <p:sp>
        <p:nvSpPr>
          <p:cNvPr id="1254" name="Rectangle 129"/>
          <p:cNvSpPr/>
          <p:nvPr/>
        </p:nvSpPr>
        <p:spPr>
          <a:xfrm>
            <a:off x="9371160" y="5511960"/>
            <a:ext cx="86652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56M</a:t>
            </a:r>
            <a:endParaRPr b="0" lang="en-US" sz="2800" spc="-1" strike="noStrike">
              <a:solidFill>
                <a:srgbClr val="000000"/>
              </a:solidFill>
              <a:latin typeface="Calibri"/>
            </a:endParaRPr>
          </a:p>
        </p:txBody>
      </p:sp>
      <p:sp>
        <p:nvSpPr>
          <p:cNvPr id="1255" name="Rectangle 129"/>
          <p:cNvSpPr/>
          <p:nvPr/>
        </p:nvSpPr>
        <p:spPr>
          <a:xfrm>
            <a:off x="10569600" y="5848200"/>
            <a:ext cx="100332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ea typeface="MS PGothic"/>
              </a:rPr>
              <a:t>Males</a:t>
            </a:r>
            <a:endParaRPr b="0" lang="en-US" sz="1200" spc="-1" strike="noStrike">
              <a:solidFill>
                <a:srgbClr val="000000"/>
              </a:solidFill>
              <a:latin typeface="Calibri"/>
            </a:endParaRPr>
          </a:p>
        </p:txBody>
      </p:sp>
      <p:sp>
        <p:nvSpPr>
          <p:cNvPr id="1256" name="Rectangle 129"/>
          <p:cNvSpPr/>
          <p:nvPr/>
        </p:nvSpPr>
        <p:spPr>
          <a:xfrm>
            <a:off x="10544040" y="5511960"/>
            <a:ext cx="1003320" cy="3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ea typeface="MS PGothic"/>
              </a:rPr>
              <a:t>35M</a:t>
            </a:r>
            <a:endParaRPr b="0" lang="en-US" sz="2800" spc="-1" strike="noStrike">
              <a:solidFill>
                <a:srgbClr val="000000"/>
              </a:solidFill>
              <a:latin typeface="Calibri"/>
            </a:endParaRPr>
          </a:p>
        </p:txBody>
      </p:sp>
      <p:sp>
        <p:nvSpPr>
          <p:cNvPr id="1257" name="Straight Connector 46"/>
          <p:cNvSpPr/>
          <p:nvPr/>
        </p:nvSpPr>
        <p:spPr>
          <a:xfrm>
            <a:off x="9083520" y="5376960"/>
            <a:ext cx="2382840" cy="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Straight Connector 47"/>
          <p:cNvSpPr/>
          <p:nvPr/>
        </p:nvSpPr>
        <p:spPr>
          <a:xfrm>
            <a:off x="4076640" y="1682640"/>
            <a:ext cx="0" cy="441648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Straight Connector 49"/>
          <p:cNvSpPr/>
          <p:nvPr/>
        </p:nvSpPr>
        <p:spPr>
          <a:xfrm>
            <a:off x="8124840" y="1682640"/>
            <a:ext cx="0" cy="441648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0" name="组合 1"/>
          <p:cNvGrpSpPr/>
          <p:nvPr/>
        </p:nvGrpSpPr>
        <p:grpSpPr>
          <a:xfrm>
            <a:off x="529920" y="66960"/>
            <a:ext cx="1630080" cy="1447560"/>
            <a:chOff x="529920" y="66960"/>
            <a:chExt cx="1630080" cy="1447560"/>
          </a:xfrm>
        </p:grpSpPr>
        <p:grpSp>
          <p:nvGrpSpPr>
            <p:cNvPr id="1261" name="组合 2"/>
            <p:cNvGrpSpPr/>
            <p:nvPr/>
          </p:nvGrpSpPr>
          <p:grpSpPr>
            <a:xfrm>
              <a:off x="529920" y="66960"/>
              <a:ext cx="1630080" cy="1447560"/>
              <a:chOff x="529920" y="66960"/>
              <a:chExt cx="1630080" cy="1447560"/>
            </a:xfrm>
          </p:grpSpPr>
          <p:sp>
            <p:nvSpPr>
              <p:cNvPr id="1262"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3"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4"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65" name="组合 7"/>
              <p:cNvGrpSpPr/>
              <p:nvPr/>
            </p:nvGrpSpPr>
            <p:grpSpPr>
              <a:xfrm>
                <a:off x="529920" y="142200"/>
                <a:ext cx="1630080" cy="1372320"/>
                <a:chOff x="529920" y="142200"/>
                <a:chExt cx="1630080" cy="1372320"/>
              </a:xfrm>
            </p:grpSpPr>
            <p:sp>
              <p:nvSpPr>
                <p:cNvPr id="1266"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7"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9"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2"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3"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7"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2"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5"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6"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9"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0"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1"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2"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4"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5"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97"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4</a:t>
              </a:r>
              <a:endParaRPr b="0" lang="en-US" sz="6600" spc="-1" strike="noStrike">
                <a:solidFill>
                  <a:srgbClr val="000000"/>
                </a:solidFill>
                <a:latin typeface="Calibri"/>
              </a:endParaRPr>
            </a:p>
          </p:txBody>
        </p:sp>
      </p:grpSp>
      <p:sp>
        <p:nvSpPr>
          <p:cNvPr id="1298"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pic>
        <p:nvPicPr>
          <p:cNvPr id="1299" name="对象 40" descr=""/>
          <p:cNvPicPr/>
          <p:nvPr/>
        </p:nvPicPr>
        <p:blipFill>
          <a:blip r:embed="rId1"/>
          <a:stretch/>
        </p:blipFill>
        <p:spPr>
          <a:xfrm>
            <a:off x="82440" y="2057400"/>
            <a:ext cx="3098880" cy="2554200"/>
          </a:xfrm>
          <a:prstGeom prst="rect">
            <a:avLst/>
          </a:prstGeom>
          <a:ln w="0">
            <a:noFill/>
          </a:ln>
        </p:spPr>
      </p:pic>
      <p:sp>
        <p:nvSpPr>
          <p:cNvPr id="1300" name="텍스트 개체 틀 2"/>
          <p:cNvSpPr/>
          <p:nvPr/>
        </p:nvSpPr>
        <p:spPr>
          <a:xfrm>
            <a:off x="752400" y="4956120"/>
            <a:ext cx="1757520" cy="365040"/>
          </a:xfrm>
          <a:prstGeom prst="rect">
            <a:avLst/>
          </a:prstGeom>
          <a:noFill/>
          <a:ln w="0">
            <a:noFill/>
          </a:ln>
        </p:spPr>
        <p:style>
          <a:lnRef idx="0"/>
          <a:fillRef idx="0"/>
          <a:effectRef idx="0"/>
          <a:fontRef idx="minor"/>
        </p:style>
        <p:txBody>
          <a:bodyPr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condensed"/>
                <a:ea typeface="Malgun Gothic"/>
              </a:rPr>
              <a:t>Total Sales: $ 13,000,000</a:t>
            </a:r>
            <a:endParaRPr b="0" lang="en-US" sz="1000" spc="-1" strike="noStrike">
              <a:solidFill>
                <a:srgbClr val="000000"/>
              </a:solidFill>
              <a:latin typeface="Calibri"/>
            </a:endParaRPr>
          </a:p>
        </p:txBody>
      </p:sp>
      <p:sp>
        <p:nvSpPr>
          <p:cNvPr id="1301" name="텍스트 개체 틀 2"/>
          <p:cNvSpPr/>
          <p:nvPr/>
        </p:nvSpPr>
        <p:spPr>
          <a:xfrm>
            <a:off x="752400" y="2998800"/>
            <a:ext cx="1757520" cy="652320"/>
          </a:xfrm>
          <a:prstGeom prst="rect">
            <a:avLst/>
          </a:prstGeom>
          <a:noFill/>
          <a:ln w="0">
            <a:noFill/>
          </a:ln>
        </p:spPr>
        <p:style>
          <a:lnRef idx="0"/>
          <a:fillRef idx="0"/>
          <a:effectRef idx="0"/>
          <a:fontRef idx="minor"/>
        </p:style>
        <p:txBody>
          <a:bodyPr anchor="ctr">
            <a:no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099d6"/>
                </a:solidFill>
                <a:latin typeface="Roboto condensed"/>
              </a:rPr>
              <a:t>70%</a:t>
            </a:r>
            <a:endParaRPr b="0" lang="en-US" sz="4800" spc="-1" strike="noStrike">
              <a:solidFill>
                <a:srgbClr val="000000"/>
              </a:solidFill>
              <a:latin typeface="Calibri"/>
            </a:endParaRPr>
          </a:p>
        </p:txBody>
      </p:sp>
      <p:sp>
        <p:nvSpPr>
          <p:cNvPr id="1302" name="텍스트 개체 틀 2"/>
          <p:cNvSpPr/>
          <p:nvPr/>
        </p:nvSpPr>
        <p:spPr>
          <a:xfrm>
            <a:off x="560520" y="4487760"/>
            <a:ext cx="2141280" cy="652680"/>
          </a:xfrm>
          <a:prstGeom prst="rect">
            <a:avLst/>
          </a:prstGeom>
          <a:noFill/>
          <a:ln w="0">
            <a:noFill/>
          </a:ln>
        </p:spPr>
        <p:style>
          <a:lnRef idx="0"/>
          <a:fillRef idx="0"/>
          <a:effectRef idx="0"/>
          <a:fontRef idx="minor"/>
        </p:style>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rPr>
              <a:t>$ 12,521,000</a:t>
            </a:r>
            <a:endParaRPr b="0" lang="en-US" sz="2800" spc="-1" strike="noStrike">
              <a:solidFill>
                <a:srgbClr val="000000"/>
              </a:solidFill>
              <a:latin typeface="Calibri"/>
            </a:endParaRPr>
          </a:p>
        </p:txBody>
      </p:sp>
      <p:sp>
        <p:nvSpPr>
          <p:cNvPr id="1303" name="텍스트 개체 틀 2"/>
          <p:cNvSpPr/>
          <p:nvPr/>
        </p:nvSpPr>
        <p:spPr>
          <a:xfrm>
            <a:off x="560520" y="5278320"/>
            <a:ext cx="2141280" cy="798480"/>
          </a:xfrm>
          <a:prstGeom prst="rect">
            <a:avLst/>
          </a:prstGeom>
          <a:noFill/>
          <a:ln w="0">
            <a:noFill/>
          </a:ln>
        </p:spPr>
        <p:style>
          <a:lnRef idx="0"/>
          <a:fillRef idx="0"/>
          <a:effectRef idx="0"/>
          <a:fontRef idx="minor"/>
        </p:style>
        <p:txBody>
          <a:bodyPr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condensed"/>
                <a:ea typeface="Malgun Gothic"/>
              </a:rPr>
              <a:t>First Section : </a:t>
            </a:r>
            <a:r>
              <a:rPr b="0" lang="en-US" sz="1000" spc="-1" strike="noStrike">
                <a:solidFill>
                  <a:srgbClr val="ffffff"/>
                </a:solidFill>
                <a:latin typeface="Roboto condensed"/>
                <a:ea typeface="Malgun Gothic"/>
              </a:rPr>
              <a:t>dolor sit amen, consectetur adipiscing elit. Integer nec odio. </a:t>
            </a:r>
            <a:endParaRPr b="0" lang="en-US" sz="1000" spc="-1" strike="noStrike">
              <a:solidFill>
                <a:srgbClr val="000000"/>
              </a:solidFill>
              <a:latin typeface="Calibri"/>
            </a:endParaRPr>
          </a:p>
        </p:txBody>
      </p:sp>
      <p:pic>
        <p:nvPicPr>
          <p:cNvPr id="1304" name="对象 45" descr=""/>
          <p:cNvPicPr/>
          <p:nvPr/>
        </p:nvPicPr>
        <p:blipFill>
          <a:blip r:embed="rId2"/>
          <a:stretch/>
        </p:blipFill>
        <p:spPr>
          <a:xfrm>
            <a:off x="3059280" y="2057400"/>
            <a:ext cx="3097080" cy="2554200"/>
          </a:xfrm>
          <a:prstGeom prst="rect">
            <a:avLst/>
          </a:prstGeom>
          <a:ln w="0">
            <a:noFill/>
          </a:ln>
        </p:spPr>
      </p:pic>
      <p:sp>
        <p:nvSpPr>
          <p:cNvPr id="1305" name="텍스트 개체 틀 2"/>
          <p:cNvSpPr/>
          <p:nvPr/>
        </p:nvSpPr>
        <p:spPr>
          <a:xfrm>
            <a:off x="3728880" y="4956120"/>
            <a:ext cx="1757520" cy="365040"/>
          </a:xfrm>
          <a:prstGeom prst="rect">
            <a:avLst/>
          </a:prstGeom>
          <a:noFill/>
          <a:ln w="0">
            <a:noFill/>
          </a:ln>
        </p:spPr>
        <p:style>
          <a:lnRef idx="0"/>
          <a:fillRef idx="0"/>
          <a:effectRef idx="0"/>
          <a:fontRef idx="minor"/>
        </p:style>
        <p:txBody>
          <a:bodyPr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condensed"/>
                <a:ea typeface="Malgun Gothic"/>
              </a:rPr>
              <a:t>Total Sales: $ 10,000,000</a:t>
            </a:r>
            <a:endParaRPr b="0" lang="en-US" sz="1000" spc="-1" strike="noStrike">
              <a:solidFill>
                <a:srgbClr val="000000"/>
              </a:solidFill>
              <a:latin typeface="Calibri"/>
            </a:endParaRPr>
          </a:p>
        </p:txBody>
      </p:sp>
      <p:sp>
        <p:nvSpPr>
          <p:cNvPr id="1306" name="텍스트 개체 틀 2"/>
          <p:cNvSpPr/>
          <p:nvPr/>
        </p:nvSpPr>
        <p:spPr>
          <a:xfrm>
            <a:off x="3728880" y="2998800"/>
            <a:ext cx="1757520" cy="652320"/>
          </a:xfrm>
          <a:prstGeom prst="rect">
            <a:avLst/>
          </a:prstGeom>
          <a:noFill/>
          <a:ln w="0">
            <a:noFill/>
          </a:ln>
        </p:spPr>
        <p:style>
          <a:lnRef idx="0"/>
          <a:fillRef idx="0"/>
          <a:effectRef idx="0"/>
          <a:fontRef idx="minor"/>
        </p:style>
        <p:txBody>
          <a:bodyPr anchor="ctr">
            <a:no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099d6"/>
                </a:solidFill>
                <a:latin typeface="Roboto condensed"/>
              </a:rPr>
              <a:t>38%</a:t>
            </a:r>
            <a:endParaRPr b="0" lang="en-US" sz="4800" spc="-1" strike="noStrike">
              <a:solidFill>
                <a:srgbClr val="000000"/>
              </a:solidFill>
              <a:latin typeface="Calibri"/>
            </a:endParaRPr>
          </a:p>
        </p:txBody>
      </p:sp>
      <p:sp>
        <p:nvSpPr>
          <p:cNvPr id="1307" name="텍스트 개체 틀 2"/>
          <p:cNvSpPr/>
          <p:nvPr/>
        </p:nvSpPr>
        <p:spPr>
          <a:xfrm>
            <a:off x="3537000" y="4487760"/>
            <a:ext cx="2141640" cy="652680"/>
          </a:xfrm>
          <a:prstGeom prst="rect">
            <a:avLst/>
          </a:prstGeom>
          <a:noFill/>
          <a:ln w="0">
            <a:noFill/>
          </a:ln>
        </p:spPr>
        <p:style>
          <a:lnRef idx="0"/>
          <a:fillRef idx="0"/>
          <a:effectRef idx="0"/>
          <a:fontRef idx="minor"/>
        </p:style>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rPr>
              <a:t>$ 8,240,000</a:t>
            </a:r>
            <a:endParaRPr b="0" lang="en-US" sz="2800" spc="-1" strike="noStrike">
              <a:solidFill>
                <a:srgbClr val="000000"/>
              </a:solidFill>
              <a:latin typeface="Calibri"/>
            </a:endParaRPr>
          </a:p>
        </p:txBody>
      </p:sp>
      <p:sp>
        <p:nvSpPr>
          <p:cNvPr id="1308" name="텍스트 개체 틀 2"/>
          <p:cNvSpPr/>
          <p:nvPr/>
        </p:nvSpPr>
        <p:spPr>
          <a:xfrm>
            <a:off x="3537000" y="5278320"/>
            <a:ext cx="2141640" cy="798480"/>
          </a:xfrm>
          <a:prstGeom prst="rect">
            <a:avLst/>
          </a:prstGeom>
          <a:noFill/>
          <a:ln w="0">
            <a:noFill/>
          </a:ln>
        </p:spPr>
        <p:style>
          <a:lnRef idx="0"/>
          <a:fillRef idx="0"/>
          <a:effectRef idx="0"/>
          <a:fontRef idx="minor"/>
        </p:style>
        <p:txBody>
          <a:bodyPr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condensed"/>
                <a:ea typeface="Malgun Gothic"/>
              </a:rPr>
              <a:t>First Section : </a:t>
            </a:r>
            <a:r>
              <a:rPr b="0" lang="en-US" sz="1000" spc="-1" strike="noStrike">
                <a:solidFill>
                  <a:srgbClr val="ffffff"/>
                </a:solidFill>
                <a:latin typeface="Roboto condensed"/>
                <a:ea typeface="Malgun Gothic"/>
              </a:rPr>
              <a:t>dolor sit amen, consectetur adipiscing elit. Integer nec odio. </a:t>
            </a:r>
            <a:endParaRPr b="0" lang="en-US" sz="1000" spc="-1" strike="noStrike">
              <a:solidFill>
                <a:srgbClr val="000000"/>
              </a:solidFill>
              <a:latin typeface="Calibri"/>
            </a:endParaRPr>
          </a:p>
        </p:txBody>
      </p:sp>
      <p:pic>
        <p:nvPicPr>
          <p:cNvPr id="1309" name="对象 47" descr=""/>
          <p:cNvPicPr/>
          <p:nvPr/>
        </p:nvPicPr>
        <p:blipFill>
          <a:blip r:embed="rId3"/>
          <a:stretch/>
        </p:blipFill>
        <p:spPr>
          <a:xfrm>
            <a:off x="6035760" y="2057400"/>
            <a:ext cx="3097080" cy="2554200"/>
          </a:xfrm>
          <a:prstGeom prst="rect">
            <a:avLst/>
          </a:prstGeom>
          <a:ln w="0">
            <a:noFill/>
          </a:ln>
        </p:spPr>
      </p:pic>
      <p:sp>
        <p:nvSpPr>
          <p:cNvPr id="1310" name="텍스트 개체 틀 2"/>
          <p:cNvSpPr/>
          <p:nvPr/>
        </p:nvSpPr>
        <p:spPr>
          <a:xfrm>
            <a:off x="6705720" y="4956120"/>
            <a:ext cx="1757160" cy="365040"/>
          </a:xfrm>
          <a:prstGeom prst="rect">
            <a:avLst/>
          </a:prstGeom>
          <a:noFill/>
          <a:ln w="0">
            <a:noFill/>
          </a:ln>
        </p:spPr>
        <p:style>
          <a:lnRef idx="0"/>
          <a:fillRef idx="0"/>
          <a:effectRef idx="0"/>
          <a:fontRef idx="minor"/>
        </p:style>
        <p:txBody>
          <a:bodyPr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condensed"/>
                <a:ea typeface="Malgun Gothic"/>
              </a:rPr>
              <a:t>Total Sales: $ 12,000,000</a:t>
            </a:r>
            <a:endParaRPr b="0" lang="en-US" sz="1000" spc="-1" strike="noStrike">
              <a:solidFill>
                <a:srgbClr val="000000"/>
              </a:solidFill>
              <a:latin typeface="Calibri"/>
            </a:endParaRPr>
          </a:p>
        </p:txBody>
      </p:sp>
      <p:sp>
        <p:nvSpPr>
          <p:cNvPr id="1311" name="텍스트 개체 틀 2"/>
          <p:cNvSpPr/>
          <p:nvPr/>
        </p:nvSpPr>
        <p:spPr>
          <a:xfrm>
            <a:off x="6705720" y="2998800"/>
            <a:ext cx="1757160" cy="652320"/>
          </a:xfrm>
          <a:prstGeom prst="rect">
            <a:avLst/>
          </a:prstGeom>
          <a:noFill/>
          <a:ln w="0">
            <a:noFill/>
          </a:ln>
        </p:spPr>
        <p:style>
          <a:lnRef idx="0"/>
          <a:fillRef idx="0"/>
          <a:effectRef idx="0"/>
          <a:fontRef idx="minor"/>
        </p:style>
        <p:txBody>
          <a:bodyPr anchor="ctr">
            <a:no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099d6"/>
                </a:solidFill>
                <a:latin typeface="Roboto condensed"/>
              </a:rPr>
              <a:t>60%</a:t>
            </a:r>
            <a:endParaRPr b="0" lang="en-US" sz="4800" spc="-1" strike="noStrike">
              <a:solidFill>
                <a:srgbClr val="000000"/>
              </a:solidFill>
              <a:latin typeface="Calibri"/>
            </a:endParaRPr>
          </a:p>
        </p:txBody>
      </p:sp>
      <p:sp>
        <p:nvSpPr>
          <p:cNvPr id="1312" name="텍스트 개체 틀 2"/>
          <p:cNvSpPr/>
          <p:nvPr/>
        </p:nvSpPr>
        <p:spPr>
          <a:xfrm>
            <a:off x="6513480" y="4487760"/>
            <a:ext cx="2141640" cy="652680"/>
          </a:xfrm>
          <a:prstGeom prst="rect">
            <a:avLst/>
          </a:prstGeom>
          <a:noFill/>
          <a:ln w="0">
            <a:noFill/>
          </a:ln>
        </p:spPr>
        <p:style>
          <a:lnRef idx="0"/>
          <a:fillRef idx="0"/>
          <a:effectRef idx="0"/>
          <a:fontRef idx="minor"/>
        </p:style>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rPr>
              <a:t>$ 10,145,000</a:t>
            </a:r>
            <a:endParaRPr b="0" lang="en-US" sz="2800" spc="-1" strike="noStrike">
              <a:solidFill>
                <a:srgbClr val="000000"/>
              </a:solidFill>
              <a:latin typeface="Calibri"/>
            </a:endParaRPr>
          </a:p>
        </p:txBody>
      </p:sp>
      <p:sp>
        <p:nvSpPr>
          <p:cNvPr id="1313" name="텍스트 개체 틀 2"/>
          <p:cNvSpPr/>
          <p:nvPr/>
        </p:nvSpPr>
        <p:spPr>
          <a:xfrm>
            <a:off x="6513480" y="5278320"/>
            <a:ext cx="2141640" cy="798480"/>
          </a:xfrm>
          <a:prstGeom prst="rect">
            <a:avLst/>
          </a:prstGeom>
          <a:noFill/>
          <a:ln w="0">
            <a:noFill/>
          </a:ln>
        </p:spPr>
        <p:style>
          <a:lnRef idx="0"/>
          <a:fillRef idx="0"/>
          <a:effectRef idx="0"/>
          <a:fontRef idx="minor"/>
        </p:style>
        <p:txBody>
          <a:bodyPr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condensed"/>
                <a:ea typeface="Malgun Gothic"/>
              </a:rPr>
              <a:t>First Section : </a:t>
            </a:r>
            <a:r>
              <a:rPr b="0" lang="en-US" sz="1000" spc="-1" strike="noStrike">
                <a:solidFill>
                  <a:srgbClr val="ffffff"/>
                </a:solidFill>
                <a:latin typeface="Roboto condensed"/>
                <a:ea typeface="Malgun Gothic"/>
              </a:rPr>
              <a:t>dolor sit amen, consectetur adipiscing elit. Integer nec odio. </a:t>
            </a:r>
            <a:endParaRPr b="0" lang="en-US" sz="1000" spc="-1" strike="noStrike">
              <a:solidFill>
                <a:srgbClr val="000000"/>
              </a:solidFill>
              <a:latin typeface="Calibri"/>
            </a:endParaRPr>
          </a:p>
        </p:txBody>
      </p:sp>
      <p:pic>
        <p:nvPicPr>
          <p:cNvPr id="1314" name="对象 52" descr=""/>
          <p:cNvPicPr/>
          <p:nvPr/>
        </p:nvPicPr>
        <p:blipFill>
          <a:blip r:embed="rId4"/>
          <a:stretch/>
        </p:blipFill>
        <p:spPr>
          <a:xfrm>
            <a:off x="9010800" y="2057400"/>
            <a:ext cx="3098520" cy="2554200"/>
          </a:xfrm>
          <a:prstGeom prst="rect">
            <a:avLst/>
          </a:prstGeom>
          <a:ln w="0">
            <a:noFill/>
          </a:ln>
        </p:spPr>
      </p:pic>
      <p:sp>
        <p:nvSpPr>
          <p:cNvPr id="1315" name="텍스트 개체 틀 2"/>
          <p:cNvSpPr/>
          <p:nvPr/>
        </p:nvSpPr>
        <p:spPr>
          <a:xfrm>
            <a:off x="9682200" y="4956120"/>
            <a:ext cx="1757160" cy="365040"/>
          </a:xfrm>
          <a:prstGeom prst="rect">
            <a:avLst/>
          </a:prstGeom>
          <a:noFill/>
          <a:ln w="0">
            <a:noFill/>
          </a:ln>
        </p:spPr>
        <p:style>
          <a:lnRef idx="0"/>
          <a:fillRef idx="0"/>
          <a:effectRef idx="0"/>
          <a:fontRef idx="minor"/>
        </p:style>
        <p:txBody>
          <a:bodyPr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boto condensed"/>
                <a:ea typeface="Malgun Gothic"/>
              </a:rPr>
              <a:t>Total Sales: $ 20,000,000</a:t>
            </a:r>
            <a:endParaRPr b="0" lang="en-US" sz="1000" spc="-1" strike="noStrike">
              <a:solidFill>
                <a:srgbClr val="000000"/>
              </a:solidFill>
              <a:latin typeface="Calibri"/>
            </a:endParaRPr>
          </a:p>
        </p:txBody>
      </p:sp>
      <p:sp>
        <p:nvSpPr>
          <p:cNvPr id="1316" name="텍스트 개체 틀 2"/>
          <p:cNvSpPr/>
          <p:nvPr/>
        </p:nvSpPr>
        <p:spPr>
          <a:xfrm>
            <a:off x="9682200" y="2998800"/>
            <a:ext cx="1757160" cy="652320"/>
          </a:xfrm>
          <a:prstGeom prst="rect">
            <a:avLst/>
          </a:prstGeom>
          <a:noFill/>
          <a:ln w="0">
            <a:noFill/>
          </a:ln>
        </p:spPr>
        <p:style>
          <a:lnRef idx="0"/>
          <a:fillRef idx="0"/>
          <a:effectRef idx="0"/>
          <a:fontRef idx="minor"/>
        </p:style>
        <p:txBody>
          <a:bodyPr anchor="ctr">
            <a:no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099d6"/>
                </a:solidFill>
                <a:latin typeface="Roboto condensed"/>
              </a:rPr>
              <a:t>88%</a:t>
            </a:r>
            <a:endParaRPr b="0" lang="en-US" sz="4800" spc="-1" strike="noStrike">
              <a:solidFill>
                <a:srgbClr val="000000"/>
              </a:solidFill>
              <a:latin typeface="Calibri"/>
            </a:endParaRPr>
          </a:p>
        </p:txBody>
      </p:sp>
      <p:sp>
        <p:nvSpPr>
          <p:cNvPr id="1317" name="텍스트 개체 틀 2"/>
          <p:cNvSpPr/>
          <p:nvPr/>
        </p:nvSpPr>
        <p:spPr>
          <a:xfrm>
            <a:off x="9489960" y="4487760"/>
            <a:ext cx="2141640" cy="652680"/>
          </a:xfrm>
          <a:prstGeom prst="rect">
            <a:avLst/>
          </a:prstGeom>
          <a:noFill/>
          <a:ln w="0">
            <a:noFill/>
          </a:ln>
        </p:spPr>
        <p:style>
          <a:lnRef idx="0"/>
          <a:fillRef idx="0"/>
          <a:effectRef idx="0"/>
          <a:fontRef idx="minor"/>
        </p:style>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boto condensed"/>
              </a:rPr>
              <a:t>$ 15,540,000</a:t>
            </a:r>
            <a:endParaRPr b="0" lang="en-US" sz="2800" spc="-1" strike="noStrike">
              <a:solidFill>
                <a:srgbClr val="000000"/>
              </a:solidFill>
              <a:latin typeface="Calibri"/>
            </a:endParaRPr>
          </a:p>
        </p:txBody>
      </p:sp>
      <p:sp>
        <p:nvSpPr>
          <p:cNvPr id="1318" name="텍스트 개체 틀 2"/>
          <p:cNvSpPr/>
          <p:nvPr/>
        </p:nvSpPr>
        <p:spPr>
          <a:xfrm>
            <a:off x="9489960" y="5278320"/>
            <a:ext cx="2141640" cy="798480"/>
          </a:xfrm>
          <a:prstGeom prst="rect">
            <a:avLst/>
          </a:prstGeom>
          <a:noFill/>
          <a:ln w="0">
            <a:noFill/>
          </a:ln>
        </p:spPr>
        <p:style>
          <a:lnRef idx="0"/>
          <a:fillRef idx="0"/>
          <a:effectRef idx="0"/>
          <a:fontRef idx="minor"/>
        </p:style>
        <p:txBody>
          <a:bodyPr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condensed"/>
                <a:ea typeface="Malgun Gothic"/>
              </a:rPr>
              <a:t>First Section : </a:t>
            </a:r>
            <a:r>
              <a:rPr b="0" lang="en-US" sz="1000" spc="-1" strike="noStrike">
                <a:solidFill>
                  <a:srgbClr val="ffffff"/>
                </a:solidFill>
                <a:latin typeface="Roboto condensed"/>
                <a:ea typeface="Malgun Gothic"/>
              </a:rPr>
              <a:t>dolor sit amen, consectetur adipiscing elit. Integer nec odio.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组合 37"/>
          <p:cNvGrpSpPr/>
          <p:nvPr/>
        </p:nvGrpSpPr>
        <p:grpSpPr>
          <a:xfrm>
            <a:off x="1947600" y="870120"/>
            <a:ext cx="138240" cy="137880"/>
            <a:chOff x="1947600" y="870120"/>
            <a:chExt cx="138240" cy="137880"/>
          </a:xfrm>
        </p:grpSpPr>
        <p:sp>
          <p:nvSpPr>
            <p:cNvPr id="1320" name="直接连接符 35"/>
            <p:cNvSpPr/>
            <p:nvPr/>
          </p:nvSpPr>
          <p:spPr>
            <a:xfrm flipH="1">
              <a:off x="1947600" y="870120"/>
              <a:ext cx="137880" cy="137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1" name="直接连接符 36"/>
            <p:cNvSpPr/>
            <p:nvPr/>
          </p:nvSpPr>
          <p:spPr>
            <a:xfrm>
              <a:off x="1947960" y="870120"/>
              <a:ext cx="137880" cy="137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2" name="组合 38"/>
          <p:cNvGrpSpPr/>
          <p:nvPr/>
        </p:nvGrpSpPr>
        <p:grpSpPr>
          <a:xfrm>
            <a:off x="2298600" y="2197080"/>
            <a:ext cx="136800" cy="136440"/>
            <a:chOff x="2298600" y="2197080"/>
            <a:chExt cx="136800" cy="136440"/>
          </a:xfrm>
        </p:grpSpPr>
        <p:sp>
          <p:nvSpPr>
            <p:cNvPr id="1323" name="直接连接符 39"/>
            <p:cNvSpPr/>
            <p:nvPr/>
          </p:nvSpPr>
          <p:spPr>
            <a:xfrm flipH="1">
              <a:off x="2298600" y="2197080"/>
              <a:ext cx="13680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4" name="直接连接符 40"/>
            <p:cNvSpPr/>
            <p:nvPr/>
          </p:nvSpPr>
          <p:spPr>
            <a:xfrm>
              <a:off x="2298600" y="2197080"/>
              <a:ext cx="13680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5" name="组合 41"/>
          <p:cNvGrpSpPr/>
          <p:nvPr/>
        </p:nvGrpSpPr>
        <p:grpSpPr>
          <a:xfrm>
            <a:off x="1152360" y="2135160"/>
            <a:ext cx="138240" cy="138240"/>
            <a:chOff x="1152360" y="2135160"/>
            <a:chExt cx="138240" cy="138240"/>
          </a:xfrm>
        </p:grpSpPr>
        <p:sp>
          <p:nvSpPr>
            <p:cNvPr id="1326"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8" name="组合 44"/>
          <p:cNvGrpSpPr/>
          <p:nvPr/>
        </p:nvGrpSpPr>
        <p:grpSpPr>
          <a:xfrm>
            <a:off x="2230200" y="3811680"/>
            <a:ext cx="68400" cy="68040"/>
            <a:chOff x="2230200" y="3811680"/>
            <a:chExt cx="68400" cy="68040"/>
          </a:xfrm>
        </p:grpSpPr>
        <p:sp>
          <p:nvSpPr>
            <p:cNvPr id="1329" name="直接连接符 45"/>
            <p:cNvSpPr/>
            <p:nvPr/>
          </p:nvSpPr>
          <p:spPr>
            <a:xfrm flipH="1">
              <a:off x="2230200" y="3811680"/>
              <a:ext cx="680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30" name="直接连接符 46"/>
            <p:cNvSpPr/>
            <p:nvPr/>
          </p:nvSpPr>
          <p:spPr>
            <a:xfrm>
              <a:off x="2230560" y="3811680"/>
              <a:ext cx="680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331" name="Freeform 5"/>
          <p:cNvSpPr/>
          <p:nvPr/>
        </p:nvSpPr>
        <p:spPr>
          <a:xfrm>
            <a:off x="6510240" y="-14382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2" name="Freeform 5"/>
          <p:cNvSpPr/>
          <p:nvPr/>
        </p:nvSpPr>
        <p:spPr>
          <a:xfrm>
            <a:off x="7342200" y="-129852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3" name="Freeform 5"/>
          <p:cNvSpPr/>
          <p:nvPr/>
        </p:nvSpPr>
        <p:spPr>
          <a:xfrm>
            <a:off x="8151840" y="-8859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4" name="Freeform 5"/>
          <p:cNvSpPr/>
          <p:nvPr/>
        </p:nvSpPr>
        <p:spPr>
          <a:xfrm>
            <a:off x="8796240" y="-2430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Freeform 5"/>
          <p:cNvSpPr/>
          <p:nvPr/>
        </p:nvSpPr>
        <p:spPr>
          <a:xfrm>
            <a:off x="9209160" y="5684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Freeform 5"/>
          <p:cNvSpPr/>
          <p:nvPr/>
        </p:nvSpPr>
        <p:spPr>
          <a:xfrm>
            <a:off x="9352080" y="1467000"/>
            <a:ext cx="69498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7" name="Freeform 5"/>
          <p:cNvSpPr/>
          <p:nvPr/>
        </p:nvSpPr>
        <p:spPr>
          <a:xfrm>
            <a:off x="9074160" y="2136600"/>
            <a:ext cx="6951600" cy="615816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8" name="Freeform 5"/>
          <p:cNvSpPr/>
          <p:nvPr/>
        </p:nvSpPr>
        <p:spPr>
          <a:xfrm>
            <a:off x="8796240" y="317664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9" name="Freeform 5"/>
          <p:cNvSpPr/>
          <p:nvPr/>
        </p:nvSpPr>
        <p:spPr>
          <a:xfrm>
            <a:off x="3760920" y="21146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Freeform 5"/>
          <p:cNvSpPr/>
          <p:nvPr/>
        </p:nvSpPr>
        <p:spPr>
          <a:xfrm>
            <a:off x="7342200" y="42321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1" name="Freeform 5"/>
          <p:cNvSpPr/>
          <p:nvPr/>
        </p:nvSpPr>
        <p:spPr>
          <a:xfrm>
            <a:off x="6281640" y="453708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2" name="Freeform 5"/>
          <p:cNvSpPr/>
          <p:nvPr/>
        </p:nvSpPr>
        <p:spPr>
          <a:xfrm>
            <a:off x="5543640" y="423216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Freeform 5"/>
          <p:cNvSpPr/>
          <p:nvPr/>
        </p:nvSpPr>
        <p:spPr>
          <a:xfrm>
            <a:off x="4734000" y="38196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4" name="Freeform 5"/>
          <p:cNvSpPr/>
          <p:nvPr/>
        </p:nvSpPr>
        <p:spPr>
          <a:xfrm>
            <a:off x="3514680" y="3220920"/>
            <a:ext cx="6951600" cy="615816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5" name="Freeform 5"/>
          <p:cNvSpPr/>
          <p:nvPr/>
        </p:nvSpPr>
        <p:spPr>
          <a:xfrm>
            <a:off x="4316400" y="227340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Freeform 5"/>
          <p:cNvSpPr/>
          <p:nvPr/>
        </p:nvSpPr>
        <p:spPr>
          <a:xfrm>
            <a:off x="3514680" y="1168560"/>
            <a:ext cx="6951600" cy="61578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Freeform 5"/>
          <p:cNvSpPr/>
          <p:nvPr/>
        </p:nvSpPr>
        <p:spPr>
          <a:xfrm>
            <a:off x="2967120" y="56844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Freeform 5"/>
          <p:cNvSpPr/>
          <p:nvPr/>
        </p:nvSpPr>
        <p:spPr>
          <a:xfrm>
            <a:off x="4100400" y="-5868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Freeform 5"/>
          <p:cNvSpPr/>
          <p:nvPr/>
        </p:nvSpPr>
        <p:spPr>
          <a:xfrm>
            <a:off x="4354560" y="-1085760"/>
            <a:ext cx="6951600" cy="615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Freeform 5"/>
          <p:cNvSpPr/>
          <p:nvPr/>
        </p:nvSpPr>
        <p:spPr>
          <a:xfrm>
            <a:off x="3564000" y="-1922400"/>
            <a:ext cx="6951600" cy="615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椭圆 72"/>
          <p:cNvSpPr/>
          <p:nvPr/>
        </p:nvSpPr>
        <p:spPr>
          <a:xfrm>
            <a:off x="1004760" y="-915840"/>
            <a:ext cx="673200" cy="672840"/>
          </a:xfrm>
          <a:prstGeom prst="ellipse">
            <a:avLst/>
          </a:prstGeom>
          <a:solidFill>
            <a:srgbClr val="3099d6"/>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文本框 73"/>
          <p:cNvSpPr/>
          <p:nvPr/>
        </p:nvSpPr>
        <p:spPr>
          <a:xfrm>
            <a:off x="6138720" y="2189160"/>
            <a:ext cx="5762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099d6"/>
                </a:solidFill>
                <a:latin typeface="微软雅黑"/>
                <a:ea typeface="微软雅黑"/>
              </a:rPr>
              <a:t>输入标题</a:t>
            </a:r>
            <a:r>
              <a:rPr b="1" lang="en-US" sz="4800" spc="-1" strike="noStrike">
                <a:solidFill>
                  <a:srgbClr val="3099d6"/>
                </a:solidFill>
                <a:latin typeface="微软雅黑"/>
                <a:ea typeface="微软雅黑"/>
              </a:rPr>
              <a:t> </a:t>
            </a:r>
            <a:r>
              <a:rPr b="1" lang="en-US" sz="4800" spc="-1" strike="noStrike">
                <a:solidFill>
                  <a:srgbClr val="3099d6"/>
                </a:solidFill>
                <a:latin typeface="微软雅黑"/>
                <a:ea typeface="微软雅黑"/>
              </a:rPr>
              <a:t>POWERPOINT</a:t>
            </a:r>
            <a:endParaRPr b="0" lang="en-US" sz="4800" spc="-1" strike="noStrike">
              <a:solidFill>
                <a:srgbClr val="000000"/>
              </a:solidFill>
              <a:latin typeface="Calibri"/>
            </a:endParaRPr>
          </a:p>
        </p:txBody>
      </p:sp>
      <p:sp>
        <p:nvSpPr>
          <p:cNvPr id="1353" name="文本框 12"/>
          <p:cNvSpPr/>
          <p:nvPr/>
        </p:nvSpPr>
        <p:spPr>
          <a:xfrm>
            <a:off x="6138720" y="3746520"/>
            <a:ext cx="5710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组合 50"/>
          <p:cNvGrpSpPr/>
          <p:nvPr/>
        </p:nvGrpSpPr>
        <p:grpSpPr>
          <a:xfrm>
            <a:off x="3697200" y="293400"/>
            <a:ext cx="4754880" cy="4222080"/>
            <a:chOff x="3697200" y="293400"/>
            <a:chExt cx="4754880" cy="4222080"/>
          </a:xfrm>
        </p:grpSpPr>
        <p:grpSp>
          <p:nvGrpSpPr>
            <p:cNvPr id="118" name="组合 46"/>
            <p:cNvGrpSpPr/>
            <p:nvPr/>
          </p:nvGrpSpPr>
          <p:grpSpPr>
            <a:xfrm>
              <a:off x="3697200" y="293400"/>
              <a:ext cx="4754880" cy="4222080"/>
              <a:chOff x="3697200" y="293400"/>
              <a:chExt cx="4754880" cy="4222080"/>
            </a:xfrm>
          </p:grpSpPr>
          <p:sp>
            <p:nvSpPr>
              <p:cNvPr id="119" name="Freeform 5"/>
              <p:cNvSpPr/>
              <p:nvPr/>
            </p:nvSpPr>
            <p:spPr>
              <a:xfrm rot="19720800">
                <a:off x="4533480" y="778320"/>
                <a:ext cx="248256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Freeform 5"/>
              <p:cNvSpPr/>
              <p:nvPr/>
            </p:nvSpPr>
            <p:spPr>
              <a:xfrm rot="1976400">
                <a:off x="5416920" y="778320"/>
                <a:ext cx="208368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Freeform 5"/>
              <p:cNvSpPr/>
              <p:nvPr/>
            </p:nvSpPr>
            <p:spPr>
              <a:xfrm rot="3250200">
                <a:off x="5759640" y="77832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2" name="组合 45"/>
              <p:cNvGrpSpPr/>
              <p:nvPr/>
            </p:nvGrpSpPr>
            <p:grpSpPr>
              <a:xfrm>
                <a:off x="3697200" y="512640"/>
                <a:ext cx="4754880" cy="4002840"/>
                <a:chOff x="3697200" y="512640"/>
                <a:chExt cx="4754880" cy="4002840"/>
              </a:xfrm>
            </p:grpSpPr>
            <p:sp>
              <p:nvSpPr>
                <p:cNvPr id="123" name="Freeform 5"/>
                <p:cNvSpPr/>
                <p:nvPr/>
              </p:nvSpPr>
              <p:spPr>
                <a:xfrm rot="20532600">
                  <a:off x="4875480" y="9547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Freeform 5"/>
                <p:cNvSpPr/>
                <p:nvPr/>
              </p:nvSpPr>
              <p:spPr>
                <a:xfrm rot="20387400">
                  <a:off x="4533480" y="9021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Freeform 5"/>
                <p:cNvSpPr/>
                <p:nvPr/>
              </p:nvSpPr>
              <p:spPr>
                <a:xfrm rot="20532600">
                  <a:off x="4875480" y="10789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Freeform 5"/>
                <p:cNvSpPr/>
                <p:nvPr/>
              </p:nvSpPr>
              <p:spPr>
                <a:xfrm rot="1976400">
                  <a:off x="5416920" y="90216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Freeform 5"/>
                <p:cNvSpPr/>
                <p:nvPr/>
              </p:nvSpPr>
              <p:spPr>
                <a:xfrm rot="3757200">
                  <a:off x="5759280" y="9021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Freeform 5"/>
                <p:cNvSpPr/>
                <p:nvPr/>
              </p:nvSpPr>
              <p:spPr>
                <a:xfrm rot="21089400">
                  <a:off x="4533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Freeform 5"/>
                <p:cNvSpPr/>
                <p:nvPr/>
              </p:nvSpPr>
              <p:spPr>
                <a:xfrm rot="20532600">
                  <a:off x="4875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Freeform 5"/>
                <p:cNvSpPr/>
                <p:nvPr/>
              </p:nvSpPr>
              <p:spPr>
                <a:xfrm rot="1976400">
                  <a:off x="5416920" y="10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Freeform 5"/>
                <p:cNvSpPr/>
                <p:nvPr/>
              </p:nvSpPr>
              <p:spPr>
                <a:xfrm rot="2876400">
                  <a:off x="5759280" y="102600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Freeform 5"/>
                <p:cNvSpPr/>
                <p:nvPr/>
              </p:nvSpPr>
              <p:spPr>
                <a:xfrm rot="20387400">
                  <a:off x="4533480" y="11498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Freeform 5"/>
                <p:cNvSpPr/>
                <p:nvPr/>
              </p:nvSpPr>
              <p:spPr>
                <a:xfrm rot="20532600">
                  <a:off x="4875480" y="13269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Freeform 5"/>
                <p:cNvSpPr/>
                <p:nvPr/>
              </p:nvSpPr>
              <p:spPr>
                <a:xfrm rot="20387400">
                  <a:off x="4437360" y="15494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Freeform 5"/>
                <p:cNvSpPr/>
                <p:nvPr/>
              </p:nvSpPr>
              <p:spPr>
                <a:xfrm rot="3757200">
                  <a:off x="5954760" y="13006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Freeform 5"/>
                <p:cNvSpPr/>
                <p:nvPr/>
              </p:nvSpPr>
              <p:spPr>
                <a:xfrm rot="20387400">
                  <a:off x="4533480" y="12740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Freeform 5"/>
                <p:cNvSpPr/>
                <p:nvPr/>
              </p:nvSpPr>
              <p:spPr>
                <a:xfrm rot="20532600">
                  <a:off x="4875480" y="14508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Freeform 5"/>
                <p:cNvSpPr/>
                <p:nvPr/>
              </p:nvSpPr>
              <p:spPr>
                <a:xfrm rot="1976400">
                  <a:off x="5416920" y="127404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Freeform 5"/>
                <p:cNvSpPr/>
                <p:nvPr/>
              </p:nvSpPr>
              <p:spPr>
                <a:xfrm rot="3757200">
                  <a:off x="5759280" y="127404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Freeform 5"/>
                <p:cNvSpPr/>
                <p:nvPr/>
              </p:nvSpPr>
              <p:spPr>
                <a:xfrm rot="20387400">
                  <a:off x="4533480" y="13978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Freeform 5"/>
                <p:cNvSpPr/>
                <p:nvPr/>
              </p:nvSpPr>
              <p:spPr>
                <a:xfrm rot="20532600">
                  <a:off x="4875480" y="15746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Freeform 5"/>
                <p:cNvSpPr/>
                <p:nvPr/>
              </p:nvSpPr>
              <p:spPr>
                <a:xfrm rot="1976400">
                  <a:off x="5416920" y="139788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Freeform 5"/>
                <p:cNvSpPr/>
                <p:nvPr/>
              </p:nvSpPr>
              <p:spPr>
                <a:xfrm rot="3757200">
                  <a:off x="5835960" y="18579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Freeform 5"/>
                <p:cNvSpPr/>
                <p:nvPr/>
              </p:nvSpPr>
              <p:spPr>
                <a:xfrm rot="20387400">
                  <a:off x="4533480" y="15220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reeform 5"/>
                <p:cNvSpPr/>
                <p:nvPr/>
              </p:nvSpPr>
              <p:spPr>
                <a:xfrm rot="20532600">
                  <a:off x="4875480" y="1698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Freeform 5"/>
                <p:cNvSpPr/>
                <p:nvPr/>
              </p:nvSpPr>
              <p:spPr>
                <a:xfrm rot="4993800">
                  <a:off x="5736600" y="15220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Freeform 5"/>
                <p:cNvSpPr/>
                <p:nvPr/>
              </p:nvSpPr>
              <p:spPr>
                <a:xfrm rot="20387400">
                  <a:off x="424188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Freeform 5"/>
                <p:cNvSpPr/>
                <p:nvPr/>
              </p:nvSpPr>
              <p:spPr>
                <a:xfrm rot="20387400">
                  <a:off x="4533480" y="164592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Freeform 5"/>
                <p:cNvSpPr/>
                <p:nvPr/>
              </p:nvSpPr>
              <p:spPr>
                <a:xfrm rot="20532600">
                  <a:off x="4947840" y="1823040"/>
                  <a:ext cx="233784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Freeform 5"/>
                <p:cNvSpPr/>
                <p:nvPr/>
              </p:nvSpPr>
              <p:spPr>
                <a:xfrm rot="1976400">
                  <a:off x="5338440" y="19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Freeform 5"/>
                <p:cNvSpPr/>
                <p:nvPr/>
              </p:nvSpPr>
              <p:spPr>
                <a:xfrm>
                  <a:off x="4752360" y="20016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Freeform 5"/>
                <p:cNvSpPr/>
                <p:nvPr/>
              </p:nvSpPr>
              <p:spPr>
                <a:xfrm rot="1976400">
                  <a:off x="409536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Freeform 5"/>
                <p:cNvSpPr/>
                <p:nvPr/>
              </p:nvSpPr>
              <p:spPr>
                <a:xfrm rot="19703400">
                  <a:off x="4236120" y="1833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54" name="文本框 44"/>
            <p:cNvSpPr/>
            <p:nvPr/>
          </p:nvSpPr>
          <p:spPr>
            <a:xfrm>
              <a:off x="4705200" y="765000"/>
              <a:ext cx="278172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3099d6"/>
                  </a:solidFill>
                  <a:latin typeface="微软雅黑"/>
                  <a:ea typeface="微软雅黑"/>
                </a:rPr>
                <a:t>1</a:t>
              </a:r>
              <a:endParaRPr b="0" lang="en-US" sz="19900" spc="-1" strike="noStrike">
                <a:solidFill>
                  <a:srgbClr val="000000"/>
                </a:solidFill>
                <a:latin typeface="Calibri"/>
              </a:endParaRPr>
            </a:p>
          </p:txBody>
        </p:sp>
      </p:grpSp>
      <p:sp>
        <p:nvSpPr>
          <p:cNvPr id="155" name="文本框 48"/>
          <p:cNvSpPr/>
          <p:nvPr/>
        </p:nvSpPr>
        <p:spPr>
          <a:xfrm>
            <a:off x="1392120" y="4714920"/>
            <a:ext cx="940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东方御匠 </a:t>
            </a:r>
            <a:r>
              <a:rPr b="1" lang="en-US" sz="3200" spc="-1" strike="noStrike">
                <a:solidFill>
                  <a:srgbClr val="ffffff"/>
                </a:solidFill>
                <a:latin typeface="微软雅黑"/>
                <a:ea typeface="微软雅黑"/>
              </a:rPr>
              <a:t>POWERPOINT</a:t>
            </a:r>
            <a:endParaRPr b="0" lang="en-US" sz="3200" spc="-1" strike="noStrike">
              <a:solidFill>
                <a:srgbClr val="000000"/>
              </a:solidFill>
              <a:latin typeface="Calibri"/>
            </a:endParaRPr>
          </a:p>
        </p:txBody>
      </p:sp>
      <p:sp>
        <p:nvSpPr>
          <p:cNvPr id="156"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grpSp>
        <p:nvGrpSpPr>
          <p:cNvPr id="157" name="组合 51"/>
          <p:cNvGrpSpPr/>
          <p:nvPr/>
        </p:nvGrpSpPr>
        <p:grpSpPr>
          <a:xfrm>
            <a:off x="1152360" y="2135160"/>
            <a:ext cx="138240" cy="138240"/>
            <a:chOff x="1152360" y="2135160"/>
            <a:chExt cx="138240" cy="138240"/>
          </a:xfrm>
        </p:grpSpPr>
        <p:sp>
          <p:nvSpPr>
            <p:cNvPr id="158" name="直接连接符 5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5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0" name="组合 54"/>
          <p:cNvGrpSpPr/>
          <p:nvPr/>
        </p:nvGrpSpPr>
        <p:grpSpPr>
          <a:xfrm>
            <a:off x="2143080" y="1252440"/>
            <a:ext cx="138240" cy="138240"/>
            <a:chOff x="2143080" y="1252440"/>
            <a:chExt cx="138240" cy="138240"/>
          </a:xfrm>
        </p:grpSpPr>
        <p:sp>
          <p:nvSpPr>
            <p:cNvPr id="161" name="直接连接符 55"/>
            <p:cNvSpPr/>
            <p:nvPr/>
          </p:nvSpPr>
          <p:spPr>
            <a:xfrm flipH="1">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直接连接符 56"/>
            <p:cNvSpPr/>
            <p:nvPr/>
          </p:nvSpPr>
          <p:spPr>
            <a:xfrm>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3" name="组合 57"/>
          <p:cNvGrpSpPr/>
          <p:nvPr/>
        </p:nvGrpSpPr>
        <p:grpSpPr>
          <a:xfrm>
            <a:off x="2544480" y="3079800"/>
            <a:ext cx="138240" cy="136440"/>
            <a:chOff x="2544480" y="3079800"/>
            <a:chExt cx="138240" cy="136440"/>
          </a:xfrm>
        </p:grpSpPr>
        <p:sp>
          <p:nvSpPr>
            <p:cNvPr id="164" name="直接连接符 58"/>
            <p:cNvSpPr/>
            <p:nvPr/>
          </p:nvSpPr>
          <p:spPr>
            <a:xfrm flipH="1">
              <a:off x="254448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直接连接符 59"/>
            <p:cNvSpPr/>
            <p:nvPr/>
          </p:nvSpPr>
          <p:spPr>
            <a:xfrm>
              <a:off x="254484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6" name="组合 60"/>
          <p:cNvGrpSpPr/>
          <p:nvPr/>
        </p:nvGrpSpPr>
        <p:grpSpPr>
          <a:xfrm>
            <a:off x="10661400" y="1319040"/>
            <a:ext cx="138240" cy="136800"/>
            <a:chOff x="10661400" y="1319040"/>
            <a:chExt cx="138240" cy="136800"/>
          </a:xfrm>
        </p:grpSpPr>
        <p:sp>
          <p:nvSpPr>
            <p:cNvPr id="167" name="直接连接符 61"/>
            <p:cNvSpPr/>
            <p:nvPr/>
          </p:nvSpPr>
          <p:spPr>
            <a:xfrm flipH="1">
              <a:off x="1066140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直接连接符 62"/>
            <p:cNvSpPr/>
            <p:nvPr/>
          </p:nvSpPr>
          <p:spPr>
            <a:xfrm>
              <a:off x="1066176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9" name="组合 63"/>
          <p:cNvGrpSpPr/>
          <p:nvPr/>
        </p:nvGrpSpPr>
        <p:grpSpPr>
          <a:xfrm>
            <a:off x="9210240" y="3511440"/>
            <a:ext cx="103680" cy="104760"/>
            <a:chOff x="9210240" y="3511440"/>
            <a:chExt cx="103680" cy="104760"/>
          </a:xfrm>
        </p:grpSpPr>
        <p:sp>
          <p:nvSpPr>
            <p:cNvPr id="170" name="直接连接符 64"/>
            <p:cNvSpPr/>
            <p:nvPr/>
          </p:nvSpPr>
          <p:spPr>
            <a:xfrm flipH="1">
              <a:off x="921024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直接连接符 65"/>
            <p:cNvSpPr/>
            <p:nvPr/>
          </p:nvSpPr>
          <p:spPr>
            <a:xfrm>
              <a:off x="921060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组合 1"/>
          <p:cNvGrpSpPr/>
          <p:nvPr/>
        </p:nvGrpSpPr>
        <p:grpSpPr>
          <a:xfrm>
            <a:off x="529920" y="66960"/>
            <a:ext cx="1630080" cy="1447560"/>
            <a:chOff x="529920" y="66960"/>
            <a:chExt cx="1630080" cy="1447560"/>
          </a:xfrm>
        </p:grpSpPr>
        <p:grpSp>
          <p:nvGrpSpPr>
            <p:cNvPr id="173" name="组合 2"/>
            <p:cNvGrpSpPr/>
            <p:nvPr/>
          </p:nvGrpSpPr>
          <p:grpSpPr>
            <a:xfrm>
              <a:off x="529920" y="66960"/>
              <a:ext cx="1630080" cy="1447560"/>
              <a:chOff x="529920" y="66960"/>
              <a:chExt cx="1630080" cy="1447560"/>
            </a:xfrm>
          </p:grpSpPr>
          <p:sp>
            <p:nvSpPr>
              <p:cNvPr id="174"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7" name="组合 7"/>
              <p:cNvGrpSpPr/>
              <p:nvPr/>
            </p:nvGrpSpPr>
            <p:grpSpPr>
              <a:xfrm>
                <a:off x="529920" y="142200"/>
                <a:ext cx="1630080" cy="1372320"/>
                <a:chOff x="529920" y="142200"/>
                <a:chExt cx="1630080" cy="1372320"/>
              </a:xfrm>
            </p:grpSpPr>
            <p:sp>
              <p:nvSpPr>
                <p:cNvPr id="178"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09"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1</a:t>
              </a:r>
              <a:endParaRPr b="0" lang="en-US" sz="6600" spc="-1" strike="noStrike">
                <a:solidFill>
                  <a:srgbClr val="000000"/>
                </a:solidFill>
                <a:latin typeface="Calibri"/>
              </a:endParaRPr>
            </a:p>
          </p:txBody>
        </p:sp>
      </p:grpSp>
      <p:sp>
        <p:nvSpPr>
          <p:cNvPr id="210"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211" name="Oval 18"/>
          <p:cNvSpPr/>
          <p:nvPr/>
        </p:nvSpPr>
        <p:spPr>
          <a:xfrm>
            <a:off x="63828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About Company</a:t>
            </a:r>
            <a:endParaRPr b="0" lang="en-US" sz="2000" spc="-1" strike="noStrike">
              <a:solidFill>
                <a:srgbClr val="000000"/>
              </a:solidFill>
              <a:latin typeface="Calibri"/>
            </a:endParaRPr>
          </a:p>
        </p:txBody>
      </p:sp>
      <p:sp>
        <p:nvSpPr>
          <p:cNvPr id="212" name="Oval 19"/>
          <p:cNvSpPr/>
          <p:nvPr/>
        </p:nvSpPr>
        <p:spPr>
          <a:xfrm>
            <a:off x="285444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Chart Diagram</a:t>
            </a:r>
            <a:endParaRPr b="0" lang="en-US" sz="2000" spc="-1" strike="noStrike">
              <a:solidFill>
                <a:srgbClr val="000000"/>
              </a:solidFill>
              <a:latin typeface="Calibri"/>
            </a:endParaRPr>
          </a:p>
        </p:txBody>
      </p:sp>
      <p:sp>
        <p:nvSpPr>
          <p:cNvPr id="213" name="Oval 20"/>
          <p:cNvSpPr/>
          <p:nvPr/>
        </p:nvSpPr>
        <p:spPr>
          <a:xfrm>
            <a:off x="507060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Maping Sample</a:t>
            </a:r>
            <a:endParaRPr b="0" lang="en-US" sz="2000" spc="-1" strike="noStrike">
              <a:solidFill>
                <a:srgbClr val="000000"/>
              </a:solidFill>
              <a:latin typeface="Calibri"/>
            </a:endParaRPr>
          </a:p>
        </p:txBody>
      </p:sp>
      <p:sp>
        <p:nvSpPr>
          <p:cNvPr id="214" name="Oval 21"/>
          <p:cNvSpPr/>
          <p:nvPr/>
        </p:nvSpPr>
        <p:spPr>
          <a:xfrm>
            <a:off x="728676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Mobile &amp; Tablet Application</a:t>
            </a:r>
            <a:endParaRPr b="0" lang="en-US" sz="2000" spc="-1" strike="noStrike">
              <a:solidFill>
                <a:srgbClr val="000000"/>
              </a:solidFill>
              <a:latin typeface="Calibri"/>
            </a:endParaRPr>
          </a:p>
        </p:txBody>
      </p:sp>
      <p:sp>
        <p:nvSpPr>
          <p:cNvPr id="215" name="Oval 22"/>
          <p:cNvSpPr/>
          <p:nvPr/>
        </p:nvSpPr>
        <p:spPr>
          <a:xfrm>
            <a:off x="9502920" y="2654280"/>
            <a:ext cx="2050920" cy="2050920"/>
          </a:xfrm>
          <a:prstGeom prst="ellipse">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99d6"/>
                </a:solidFill>
                <a:latin typeface="Roboto condensed light"/>
              </a:rPr>
              <a:t>Our Working</a:t>
            </a:r>
            <a:endParaRPr b="0" lang="en-US" sz="2000" spc="-1" strike="noStrike">
              <a:solidFill>
                <a:srgbClr val="000000"/>
              </a:solidFill>
              <a:latin typeface="Calibri"/>
            </a:endParaRPr>
          </a:p>
        </p:txBody>
      </p:sp>
      <p:sp>
        <p:nvSpPr>
          <p:cNvPr id="216" name="Right Arrow 23"/>
          <p:cNvSpPr/>
          <p:nvPr/>
        </p:nvSpPr>
        <p:spPr>
          <a:xfrm>
            <a:off x="2689200" y="3613320"/>
            <a:ext cx="163440" cy="137880"/>
          </a:xfrm>
          <a:prstGeom prst="rightArrow">
            <a:avLst>
              <a:gd name="adj1" fmla="val 50000"/>
              <a:gd name="adj2" fmla="val 50060"/>
            </a:avLst>
          </a:prstGeom>
          <a:solidFill>
            <a:srgbClr val="3099d6"/>
          </a:solidFill>
          <a:ln w="0">
            <a:noFill/>
          </a:ln>
        </p:spPr>
        <p:style>
          <a:lnRef idx="0"/>
          <a:fillRef idx="0"/>
          <a:effectRef idx="0"/>
          <a:fontRef idx="minor"/>
        </p:style>
        <p:txBody>
          <a:bodyPr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Right Arrow 24"/>
          <p:cNvSpPr/>
          <p:nvPr/>
        </p:nvSpPr>
        <p:spPr>
          <a:xfrm>
            <a:off x="4906800" y="3613320"/>
            <a:ext cx="163800" cy="137880"/>
          </a:xfrm>
          <a:prstGeom prst="rightArrow">
            <a:avLst>
              <a:gd name="adj1" fmla="val 50000"/>
              <a:gd name="adj2" fmla="val 50170"/>
            </a:avLst>
          </a:prstGeom>
          <a:solidFill>
            <a:srgbClr val="3099d6"/>
          </a:solidFill>
          <a:ln w="0">
            <a:noFill/>
          </a:ln>
        </p:spPr>
        <p:style>
          <a:lnRef idx="0"/>
          <a:fillRef idx="0"/>
          <a:effectRef idx="0"/>
          <a:fontRef idx="minor"/>
        </p:style>
        <p:txBody>
          <a:bodyPr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Right Arrow 25"/>
          <p:cNvSpPr/>
          <p:nvPr/>
        </p:nvSpPr>
        <p:spPr>
          <a:xfrm>
            <a:off x="7128000" y="3613320"/>
            <a:ext cx="163440" cy="137880"/>
          </a:xfrm>
          <a:prstGeom prst="rightArrow">
            <a:avLst>
              <a:gd name="adj1" fmla="val 50000"/>
              <a:gd name="adj2" fmla="val 50060"/>
            </a:avLst>
          </a:prstGeom>
          <a:solidFill>
            <a:srgbClr val="3099d6"/>
          </a:solidFill>
          <a:ln w="0">
            <a:noFill/>
          </a:ln>
        </p:spPr>
        <p:style>
          <a:lnRef idx="0"/>
          <a:fillRef idx="0"/>
          <a:effectRef idx="0"/>
          <a:fontRef idx="minor"/>
        </p:style>
        <p:txBody>
          <a:bodyPr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ight Arrow 26"/>
          <p:cNvSpPr/>
          <p:nvPr/>
        </p:nvSpPr>
        <p:spPr>
          <a:xfrm>
            <a:off x="9342360" y="3613320"/>
            <a:ext cx="163440" cy="137880"/>
          </a:xfrm>
          <a:prstGeom prst="rightArrow">
            <a:avLst>
              <a:gd name="adj1" fmla="val 50000"/>
              <a:gd name="adj2" fmla="val 50060"/>
            </a:avLst>
          </a:prstGeom>
          <a:solidFill>
            <a:srgbClr val="3099d6"/>
          </a:solidFill>
          <a:ln w="0">
            <a:noFill/>
          </a:ln>
        </p:spPr>
        <p:style>
          <a:lnRef idx="0"/>
          <a:fillRef idx="0"/>
          <a:effectRef idx="0"/>
          <a:fontRef idx="minor"/>
        </p:style>
        <p:txBody>
          <a:bodyPr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组合 1"/>
          <p:cNvGrpSpPr/>
          <p:nvPr/>
        </p:nvGrpSpPr>
        <p:grpSpPr>
          <a:xfrm>
            <a:off x="529920" y="66960"/>
            <a:ext cx="1630080" cy="1447560"/>
            <a:chOff x="529920" y="66960"/>
            <a:chExt cx="1630080" cy="1447560"/>
          </a:xfrm>
        </p:grpSpPr>
        <p:grpSp>
          <p:nvGrpSpPr>
            <p:cNvPr id="222" name="组合 2"/>
            <p:cNvGrpSpPr/>
            <p:nvPr/>
          </p:nvGrpSpPr>
          <p:grpSpPr>
            <a:xfrm>
              <a:off x="529920" y="66960"/>
              <a:ext cx="1630080" cy="1447560"/>
              <a:chOff x="529920" y="66960"/>
              <a:chExt cx="1630080" cy="1447560"/>
            </a:xfrm>
          </p:grpSpPr>
          <p:sp>
            <p:nvSpPr>
              <p:cNvPr id="223"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6" name="组合 7"/>
              <p:cNvGrpSpPr/>
              <p:nvPr/>
            </p:nvGrpSpPr>
            <p:grpSpPr>
              <a:xfrm>
                <a:off x="529920" y="142200"/>
                <a:ext cx="1630080" cy="1372320"/>
                <a:chOff x="529920" y="142200"/>
                <a:chExt cx="1630080" cy="1372320"/>
              </a:xfrm>
            </p:grpSpPr>
            <p:sp>
              <p:nvSpPr>
                <p:cNvPr id="227"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58"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2</a:t>
              </a:r>
              <a:endParaRPr b="0" lang="en-US" sz="6600" spc="-1" strike="noStrike">
                <a:solidFill>
                  <a:srgbClr val="000000"/>
                </a:solidFill>
                <a:latin typeface="Calibri"/>
              </a:endParaRPr>
            </a:p>
          </p:txBody>
        </p:sp>
      </p:grpSp>
      <p:sp>
        <p:nvSpPr>
          <p:cNvPr id="259"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260" name="Rectangle 3"/>
          <p:cNvSpPr/>
          <p:nvPr/>
        </p:nvSpPr>
        <p:spPr>
          <a:xfrm>
            <a:off x="0" y="2463840"/>
            <a:ext cx="12203280" cy="1579680"/>
          </a:xfrm>
          <a:prstGeom prst="rect">
            <a:avLst/>
          </a:prstGeom>
          <a:solidFill>
            <a:srgbClr val="ffffff">
              <a:alpha val="3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1" name="Picture Placeholder 3" descr="business_people2.png"/>
          <p:cNvPicPr/>
          <p:nvPr/>
        </p:nvPicPr>
        <p:blipFill>
          <a:blip r:embed="rId1"/>
          <a:srcRect l="24012" t="-52255" r="21607" b="0"/>
          <a:stretch/>
        </p:blipFill>
        <p:spPr>
          <a:xfrm flipH="1">
            <a:off x="6087600" y="12600"/>
            <a:ext cx="6115320" cy="6845400"/>
          </a:xfrm>
          <a:prstGeom prst="rect">
            <a:avLst/>
          </a:prstGeom>
          <a:ln w="0">
            <a:noFill/>
          </a:ln>
        </p:spPr>
      </p:pic>
      <p:sp>
        <p:nvSpPr>
          <p:cNvPr id="262" name="텍스트 개체 틀 2"/>
          <p:cNvSpPr/>
          <p:nvPr/>
        </p:nvSpPr>
        <p:spPr>
          <a:xfrm>
            <a:off x="409680" y="4348080"/>
            <a:ext cx="5016240" cy="1571760"/>
          </a:xfrm>
          <a:prstGeom prst="rect">
            <a:avLst/>
          </a:prstGeom>
          <a:noFill/>
          <a:ln w="0">
            <a:noFill/>
          </a:ln>
        </p:spPr>
        <p:style>
          <a:lnRef idx="0"/>
          <a:fillRef idx="0"/>
          <a:effectRef idx="0"/>
          <a:fontRef idx="minor"/>
        </p:style>
        <p:txBody>
          <a:bodyPr anchor="t">
            <a:noAutofit/>
          </a:bodyPr>
          <a:p>
            <a:pPr>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Roboto condensed"/>
                <a:ea typeface="Malgun Gothic"/>
              </a:rPr>
              <a:t>First Section : </a:t>
            </a:r>
            <a:r>
              <a:rPr b="0" lang="en-US" sz="1300" spc="-1" strike="noStrike">
                <a:solidFill>
                  <a:srgbClr val="ffffff"/>
                </a:solidFill>
                <a:latin typeface="Roboto condensed"/>
                <a:ea typeface="Malgun Gothic"/>
              </a:rPr>
              <a:t>usto eu magna luctus suscipit. Sed lectus. Integer euismod lacus luctuss magna. Quisque cursus, metus vitae pharetra auctor, sem massa mattis sem, at interdum magna augue eget diam. Vestibulum ante ipsum primis in faucibus orci luctus et usto eu magna luctus suscipit. Sed lectus. Integer euismod lacus luctuss magna. </a:t>
            </a:r>
            <a:endParaRPr b="0" lang="en-US" sz="1300" spc="-1" strike="noStrike">
              <a:solidFill>
                <a:srgbClr val="000000"/>
              </a:solidFill>
              <a:latin typeface="Calibri"/>
            </a:endParaRPr>
          </a:p>
        </p:txBody>
      </p:sp>
      <p:sp>
        <p:nvSpPr>
          <p:cNvPr id="263" name="텍스트 개체 틀 2"/>
          <p:cNvSpPr/>
          <p:nvPr/>
        </p:nvSpPr>
        <p:spPr>
          <a:xfrm>
            <a:off x="504720" y="2700360"/>
            <a:ext cx="5016600" cy="1116000"/>
          </a:xfrm>
          <a:prstGeom prst="rect">
            <a:avLst/>
          </a:prstGeom>
          <a:noFill/>
          <a:ln w="0">
            <a:noFill/>
          </a:ln>
        </p:spPr>
        <p:style>
          <a:lnRef idx="0"/>
          <a:fillRef idx="0"/>
          <a:effectRef idx="0"/>
          <a:fontRef idx="minor"/>
        </p:style>
        <p:txBody>
          <a:bodyPr anchor="t">
            <a:no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3099d6"/>
                </a:solidFill>
                <a:latin typeface="Roboto condensed light"/>
                <a:ea typeface="Malgun Gothic"/>
              </a:rPr>
              <a:t>Sed lectus. Integer euismod lacus luctuss magna. Quisque cursus, metus vitae pharetra auctor, sem massa mattis sem, at interdum magna augue eget diam. </a:t>
            </a:r>
            <a:endParaRPr b="0" lang="en-US" sz="1500" spc="-1" strike="noStrike">
              <a:solidFill>
                <a:srgbClr val="000000"/>
              </a:solidFill>
              <a:latin typeface="Calibri"/>
            </a:endParaRPr>
          </a:p>
        </p:txBody>
      </p:sp>
      <p:pic>
        <p:nvPicPr>
          <p:cNvPr id="264" name="텍스트 개체 틀 2" descr=""/>
          <p:cNvPicPr/>
          <p:nvPr/>
        </p:nvPicPr>
        <p:blipFill>
          <a:blip r:embed="rId2"/>
          <a:stretch/>
        </p:blipFill>
        <p:spPr>
          <a:xfrm>
            <a:off x="-101520" y="1838160"/>
            <a:ext cx="3409920" cy="3079800"/>
          </a:xfrm>
          <a:prstGeom prst="rect">
            <a:avLst/>
          </a:prstGeom>
          <a:ln w="0">
            <a:noFill/>
          </a:ln>
        </p:spPr>
      </p:pic>
      <p:pic>
        <p:nvPicPr>
          <p:cNvPr id="265" name="텍스트 개체 틀 2" descr=""/>
          <p:cNvPicPr/>
          <p:nvPr/>
        </p:nvPicPr>
        <p:blipFill>
          <a:blip r:embed="rId3"/>
          <a:stretch/>
        </p:blipFill>
        <p:spPr>
          <a:xfrm>
            <a:off x="5172120" y="2749680"/>
            <a:ext cx="3409920" cy="308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组合 1"/>
          <p:cNvGrpSpPr/>
          <p:nvPr/>
        </p:nvGrpSpPr>
        <p:grpSpPr>
          <a:xfrm>
            <a:off x="529920" y="66960"/>
            <a:ext cx="1630080" cy="1447560"/>
            <a:chOff x="529920" y="66960"/>
            <a:chExt cx="1630080" cy="1447560"/>
          </a:xfrm>
        </p:grpSpPr>
        <p:grpSp>
          <p:nvGrpSpPr>
            <p:cNvPr id="267" name="组合 2"/>
            <p:cNvGrpSpPr/>
            <p:nvPr/>
          </p:nvGrpSpPr>
          <p:grpSpPr>
            <a:xfrm>
              <a:off x="529920" y="66960"/>
              <a:ext cx="1630080" cy="1447560"/>
              <a:chOff x="529920" y="66960"/>
              <a:chExt cx="1630080" cy="1447560"/>
            </a:xfrm>
          </p:grpSpPr>
          <p:sp>
            <p:nvSpPr>
              <p:cNvPr id="268"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1" name="组合 7"/>
              <p:cNvGrpSpPr/>
              <p:nvPr/>
            </p:nvGrpSpPr>
            <p:grpSpPr>
              <a:xfrm>
                <a:off x="529920" y="142200"/>
                <a:ext cx="1630080" cy="1372320"/>
                <a:chOff x="529920" y="142200"/>
                <a:chExt cx="1630080" cy="1372320"/>
              </a:xfrm>
            </p:grpSpPr>
            <p:sp>
              <p:nvSpPr>
                <p:cNvPr id="272"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03"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3</a:t>
              </a:r>
              <a:endParaRPr b="0" lang="en-US" sz="6600" spc="-1" strike="noStrike">
                <a:solidFill>
                  <a:srgbClr val="000000"/>
                </a:solidFill>
                <a:latin typeface="Calibri"/>
              </a:endParaRPr>
            </a:p>
          </p:txBody>
        </p:sp>
      </p:grpSp>
      <p:sp>
        <p:nvSpPr>
          <p:cNvPr id="304"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sp>
        <p:nvSpPr>
          <p:cNvPr id="305" name="AutoShape 688"/>
          <p:cNvSpPr/>
          <p:nvPr/>
        </p:nvSpPr>
        <p:spPr>
          <a:xfrm>
            <a:off x="633240" y="2351160"/>
            <a:ext cx="435240" cy="438120"/>
          </a:xfrm>
          <a:custGeom>
            <a:avLst/>
            <a:gdLst/>
            <a:ahLst/>
            <a:rect l="l" t="t" r="r" b="b"/>
            <a:pathLst>
              <a:path w="21600" h="21600">
                <a:moveTo>
                  <a:pt x="21600" y="3610"/>
                </a:moveTo>
                <a:cubicBezTo>
                  <a:pt x="21600" y="1616"/>
                  <a:pt x="19981" y="0"/>
                  <a:pt x="17985" y="0"/>
                </a:cubicBezTo>
                <a:cubicBezTo>
                  <a:pt x="15988" y="0"/>
                  <a:pt x="14370" y="1616"/>
                  <a:pt x="14370" y="3610"/>
                </a:cubicBezTo>
                <a:cubicBezTo>
                  <a:pt x="14370" y="5294"/>
                  <a:pt x="15526" y="6705"/>
                  <a:pt x="17087" y="7105"/>
                </a:cubicBezTo>
                <a:lnTo>
                  <a:pt x="17087" y="9909"/>
                </a:lnTo>
                <a:lnTo>
                  <a:pt x="14300" y="9909"/>
                </a:lnTo>
                <a:cubicBezTo>
                  <a:pt x="13898" y="8338"/>
                  <a:pt x="12477" y="7175"/>
                  <a:pt x="10780" y="7175"/>
                </a:cubicBezTo>
                <a:cubicBezTo>
                  <a:pt x="9082" y="7175"/>
                  <a:pt x="7660" y="8338"/>
                  <a:pt x="7259" y="9909"/>
                </a:cubicBezTo>
                <a:lnTo>
                  <a:pt x="2664" y="9909"/>
                </a:lnTo>
                <a:lnTo>
                  <a:pt x="2664" y="14548"/>
                </a:lnTo>
                <a:cubicBezTo>
                  <a:pt x="1131" y="14957"/>
                  <a:pt x="0" y="16351"/>
                  <a:pt x="0" y="18011"/>
                </a:cubicBezTo>
                <a:cubicBezTo>
                  <a:pt x="0" y="19993"/>
                  <a:pt x="1609" y="21600"/>
                  <a:pt x="3593" y="21600"/>
                </a:cubicBezTo>
                <a:cubicBezTo>
                  <a:pt x="5577" y="21600"/>
                  <a:pt x="7186" y="19994"/>
                  <a:pt x="7186" y="18011"/>
                </a:cubicBezTo>
                <a:cubicBezTo>
                  <a:pt x="7186" y="16331"/>
                  <a:pt x="6028" y="14925"/>
                  <a:pt x="4467" y="14534"/>
                </a:cubicBezTo>
                <a:lnTo>
                  <a:pt x="4467" y="11710"/>
                </a:lnTo>
                <a:lnTo>
                  <a:pt x="7260" y="11710"/>
                </a:lnTo>
                <a:cubicBezTo>
                  <a:pt x="7662" y="13279"/>
                  <a:pt x="9083" y="14441"/>
                  <a:pt x="10780" y="14441"/>
                </a:cubicBezTo>
                <a:cubicBezTo>
                  <a:pt x="12476" y="14441"/>
                  <a:pt x="13897" y="13279"/>
                  <a:pt x="14299" y="11710"/>
                </a:cubicBezTo>
                <a:lnTo>
                  <a:pt x="18890" y="11710"/>
                </a:lnTo>
                <a:lnTo>
                  <a:pt x="18890" y="7103"/>
                </a:lnTo>
                <a:cubicBezTo>
                  <a:pt x="20447" y="6701"/>
                  <a:pt x="21600" y="5293"/>
                  <a:pt x="21600" y="3610"/>
                </a:cubicBezTo>
                <a:close/>
                <a:moveTo>
                  <a:pt x="5382" y="18011"/>
                </a:moveTo>
                <a:cubicBezTo>
                  <a:pt x="5382" y="18997"/>
                  <a:pt x="4580" y="19800"/>
                  <a:pt x="3592" y="19800"/>
                </a:cubicBezTo>
                <a:cubicBezTo>
                  <a:pt x="2605" y="19800"/>
                  <a:pt x="1802" y="18997"/>
                  <a:pt x="1802" y="18011"/>
                </a:cubicBezTo>
                <a:cubicBezTo>
                  <a:pt x="1802" y="17025"/>
                  <a:pt x="2605" y="16223"/>
                  <a:pt x="3592" y="16223"/>
                </a:cubicBezTo>
                <a:cubicBezTo>
                  <a:pt x="4580" y="16223"/>
                  <a:pt x="5382" y="17025"/>
                  <a:pt x="5382" y="18011"/>
                </a:cubicBezTo>
                <a:close/>
                <a:moveTo>
                  <a:pt x="4467" y="15423"/>
                </a:moveTo>
                <a:lnTo>
                  <a:pt x="4467" y="15423"/>
                </a:lnTo>
                <a:close/>
                <a:moveTo>
                  <a:pt x="10779" y="12641"/>
                </a:moveTo>
                <a:cubicBezTo>
                  <a:pt x="9768" y="12641"/>
                  <a:pt x="8945" y="11819"/>
                  <a:pt x="8945" y="10809"/>
                </a:cubicBezTo>
                <a:cubicBezTo>
                  <a:pt x="8945" y="9798"/>
                  <a:pt x="9768" y="8976"/>
                  <a:pt x="10779" y="8976"/>
                </a:cubicBezTo>
                <a:cubicBezTo>
                  <a:pt x="11791" y="8976"/>
                  <a:pt x="12613" y="9798"/>
                  <a:pt x="12613" y="10809"/>
                </a:cubicBezTo>
                <a:cubicBezTo>
                  <a:pt x="12614" y="11819"/>
                  <a:pt x="11791" y="12641"/>
                  <a:pt x="10779" y="12641"/>
                </a:cubicBezTo>
                <a:close/>
                <a:moveTo>
                  <a:pt x="17985" y="5421"/>
                </a:moveTo>
                <a:cubicBezTo>
                  <a:pt x="16986" y="5421"/>
                  <a:pt x="16173" y="4609"/>
                  <a:pt x="16173" y="3610"/>
                </a:cubicBezTo>
                <a:cubicBezTo>
                  <a:pt x="16173" y="2613"/>
                  <a:pt x="16986" y="1800"/>
                  <a:pt x="17985" y="1800"/>
                </a:cubicBezTo>
                <a:cubicBezTo>
                  <a:pt x="18984" y="1800"/>
                  <a:pt x="19798" y="2613"/>
                  <a:pt x="19798" y="3610"/>
                </a:cubicBezTo>
                <a:cubicBezTo>
                  <a:pt x="19798" y="4609"/>
                  <a:pt x="18984" y="5421"/>
                  <a:pt x="17985" y="5421"/>
                </a:cubicBezTo>
                <a:close/>
                <a:moveTo>
                  <a:pt x="17985" y="5421"/>
                </a:move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Oval 5"/>
          <p:cNvSpPr/>
          <p:nvPr/>
        </p:nvSpPr>
        <p:spPr>
          <a:xfrm>
            <a:off x="378000" y="211788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7" name="Group 425" descr=""/>
          <p:cNvPicPr/>
          <p:nvPr/>
        </p:nvPicPr>
        <p:blipFill>
          <a:blip r:embed="rId1"/>
          <a:stretch/>
        </p:blipFill>
        <p:spPr>
          <a:xfrm>
            <a:off x="635040" y="3857760"/>
            <a:ext cx="609480" cy="936360"/>
          </a:xfrm>
          <a:prstGeom prst="rect">
            <a:avLst/>
          </a:prstGeom>
          <a:ln w="0">
            <a:noFill/>
          </a:ln>
        </p:spPr>
      </p:pic>
      <p:sp>
        <p:nvSpPr>
          <p:cNvPr id="308" name="Oval 8"/>
          <p:cNvSpPr/>
          <p:nvPr/>
        </p:nvSpPr>
        <p:spPr>
          <a:xfrm>
            <a:off x="378000" y="363852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9" name="Group 593" descr=""/>
          <p:cNvPicPr/>
          <p:nvPr/>
        </p:nvPicPr>
        <p:blipFill>
          <a:blip r:embed="rId2"/>
          <a:stretch/>
        </p:blipFill>
        <p:spPr>
          <a:xfrm>
            <a:off x="620640" y="5359320"/>
            <a:ext cx="725400" cy="803520"/>
          </a:xfrm>
          <a:prstGeom prst="rect">
            <a:avLst/>
          </a:prstGeom>
          <a:ln w="0">
            <a:noFill/>
          </a:ln>
        </p:spPr>
      </p:pic>
      <p:sp>
        <p:nvSpPr>
          <p:cNvPr id="310" name="Oval 14"/>
          <p:cNvSpPr/>
          <p:nvPr/>
        </p:nvSpPr>
        <p:spPr>
          <a:xfrm>
            <a:off x="378000" y="515952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1" name="Group 90" descr=""/>
          <p:cNvPicPr/>
          <p:nvPr/>
        </p:nvPicPr>
        <p:blipFill>
          <a:blip r:embed="rId3"/>
          <a:stretch/>
        </p:blipFill>
        <p:spPr>
          <a:xfrm>
            <a:off x="6951600" y="2274840"/>
            <a:ext cx="677880" cy="900000"/>
          </a:xfrm>
          <a:prstGeom prst="rect">
            <a:avLst/>
          </a:prstGeom>
          <a:ln w="0">
            <a:noFill/>
          </a:ln>
        </p:spPr>
      </p:pic>
      <p:sp>
        <p:nvSpPr>
          <p:cNvPr id="312" name="Oval 20"/>
          <p:cNvSpPr/>
          <p:nvPr/>
        </p:nvSpPr>
        <p:spPr>
          <a:xfrm>
            <a:off x="6721560" y="211788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3" name="Group 437" descr=""/>
          <p:cNvPicPr/>
          <p:nvPr/>
        </p:nvPicPr>
        <p:blipFill>
          <a:blip r:embed="rId4"/>
          <a:stretch/>
        </p:blipFill>
        <p:spPr>
          <a:xfrm>
            <a:off x="7002360" y="3760920"/>
            <a:ext cx="628920" cy="722160"/>
          </a:xfrm>
          <a:prstGeom prst="rect">
            <a:avLst/>
          </a:prstGeom>
          <a:ln w="0">
            <a:noFill/>
          </a:ln>
        </p:spPr>
      </p:pic>
      <p:sp>
        <p:nvSpPr>
          <p:cNvPr id="314" name="Oval 25"/>
          <p:cNvSpPr/>
          <p:nvPr/>
        </p:nvSpPr>
        <p:spPr>
          <a:xfrm>
            <a:off x="6721560" y="363852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29"/>
          <p:cNvSpPr/>
          <p:nvPr/>
        </p:nvSpPr>
        <p:spPr>
          <a:xfrm>
            <a:off x="1398600" y="1889280"/>
            <a:ext cx="180504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Social Media</a:t>
            </a:r>
            <a:endParaRPr b="0" lang="en-US" sz="2400" spc="-1" strike="noStrike">
              <a:solidFill>
                <a:srgbClr val="000000"/>
              </a:solidFill>
              <a:latin typeface="Calibri"/>
            </a:endParaRPr>
          </a:p>
        </p:txBody>
      </p:sp>
      <p:sp>
        <p:nvSpPr>
          <p:cNvPr id="316" name="TextBox 30"/>
          <p:cNvSpPr/>
          <p:nvPr/>
        </p:nvSpPr>
        <p:spPr>
          <a:xfrm>
            <a:off x="1398600" y="2274840"/>
            <a:ext cx="412920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17" name="TextBox 32"/>
          <p:cNvSpPr/>
          <p:nvPr/>
        </p:nvSpPr>
        <p:spPr>
          <a:xfrm>
            <a:off x="1398600" y="3422520"/>
            <a:ext cx="18050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Code</a:t>
            </a:r>
            <a:endParaRPr b="0" lang="en-US" sz="2400" spc="-1" strike="noStrike">
              <a:solidFill>
                <a:srgbClr val="000000"/>
              </a:solidFill>
              <a:latin typeface="Calibri"/>
            </a:endParaRPr>
          </a:p>
        </p:txBody>
      </p:sp>
      <p:sp>
        <p:nvSpPr>
          <p:cNvPr id="318" name="TextBox 33"/>
          <p:cNvSpPr/>
          <p:nvPr/>
        </p:nvSpPr>
        <p:spPr>
          <a:xfrm>
            <a:off x="1398600" y="3808440"/>
            <a:ext cx="412920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19" name="TextBox 35"/>
          <p:cNvSpPr/>
          <p:nvPr/>
        </p:nvSpPr>
        <p:spPr>
          <a:xfrm>
            <a:off x="1398600" y="4956120"/>
            <a:ext cx="180504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Photography</a:t>
            </a:r>
            <a:endParaRPr b="0" lang="en-US" sz="2400" spc="-1" strike="noStrike">
              <a:solidFill>
                <a:srgbClr val="000000"/>
              </a:solidFill>
              <a:latin typeface="Calibri"/>
            </a:endParaRPr>
          </a:p>
        </p:txBody>
      </p:sp>
      <p:sp>
        <p:nvSpPr>
          <p:cNvPr id="320" name="TextBox 36"/>
          <p:cNvSpPr/>
          <p:nvPr/>
        </p:nvSpPr>
        <p:spPr>
          <a:xfrm>
            <a:off x="1398600" y="5342040"/>
            <a:ext cx="412920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21" name="TextBox 38"/>
          <p:cNvSpPr/>
          <p:nvPr/>
        </p:nvSpPr>
        <p:spPr>
          <a:xfrm>
            <a:off x="7745400" y="1889280"/>
            <a:ext cx="18064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Copywriting</a:t>
            </a:r>
            <a:endParaRPr b="0" lang="en-US" sz="2400" spc="-1" strike="noStrike">
              <a:solidFill>
                <a:srgbClr val="000000"/>
              </a:solidFill>
              <a:latin typeface="Calibri"/>
            </a:endParaRPr>
          </a:p>
        </p:txBody>
      </p:sp>
      <p:sp>
        <p:nvSpPr>
          <p:cNvPr id="322" name="TextBox 39"/>
          <p:cNvSpPr/>
          <p:nvPr/>
        </p:nvSpPr>
        <p:spPr>
          <a:xfrm>
            <a:off x="7745400" y="2274840"/>
            <a:ext cx="413064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23" name="TextBox 41"/>
          <p:cNvSpPr/>
          <p:nvPr/>
        </p:nvSpPr>
        <p:spPr>
          <a:xfrm>
            <a:off x="7745400" y="3422520"/>
            <a:ext cx="18064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Infographic</a:t>
            </a:r>
            <a:endParaRPr b="0" lang="en-US" sz="2400" spc="-1" strike="noStrike">
              <a:solidFill>
                <a:srgbClr val="000000"/>
              </a:solidFill>
              <a:latin typeface="Calibri"/>
            </a:endParaRPr>
          </a:p>
        </p:txBody>
      </p:sp>
      <p:sp>
        <p:nvSpPr>
          <p:cNvPr id="324" name="TextBox 42"/>
          <p:cNvSpPr/>
          <p:nvPr/>
        </p:nvSpPr>
        <p:spPr>
          <a:xfrm>
            <a:off x="7745400" y="3808440"/>
            <a:ext cx="413064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25" name="TextBox 44"/>
          <p:cNvSpPr/>
          <p:nvPr/>
        </p:nvSpPr>
        <p:spPr>
          <a:xfrm>
            <a:off x="7745400" y="4956120"/>
            <a:ext cx="1806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condensed"/>
              </a:rPr>
              <a:t>Cloud</a:t>
            </a:r>
            <a:endParaRPr b="0" lang="en-US" sz="2400" spc="-1" strike="noStrike">
              <a:solidFill>
                <a:srgbClr val="000000"/>
              </a:solidFill>
              <a:latin typeface="Calibri"/>
            </a:endParaRPr>
          </a:p>
        </p:txBody>
      </p:sp>
      <p:sp>
        <p:nvSpPr>
          <p:cNvPr id="326" name="TextBox 45"/>
          <p:cNvSpPr/>
          <p:nvPr/>
        </p:nvSpPr>
        <p:spPr>
          <a:xfrm>
            <a:off x="7745400" y="5342040"/>
            <a:ext cx="4130640" cy="859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condensed"/>
              </a:rPr>
              <a:t>Vestibulum ligut praesent commodo cursus magna, consectetur et. Cum socis natoque penatibus et magnis dis tellus parturient pharetra montes. </a:t>
            </a:r>
            <a:endParaRPr b="0" lang="en-US" sz="1200" spc="-1" strike="noStrike">
              <a:solidFill>
                <a:srgbClr val="000000"/>
              </a:solidFill>
              <a:latin typeface="Calibri"/>
            </a:endParaRPr>
          </a:p>
        </p:txBody>
      </p:sp>
      <p:sp>
        <p:nvSpPr>
          <p:cNvPr id="327" name="Oval 47"/>
          <p:cNvSpPr/>
          <p:nvPr/>
        </p:nvSpPr>
        <p:spPr>
          <a:xfrm>
            <a:off x="6721560" y="5159520"/>
            <a:ext cx="919080" cy="91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8" name="Group 222" descr=""/>
          <p:cNvPicPr/>
          <p:nvPr/>
        </p:nvPicPr>
        <p:blipFill>
          <a:blip r:embed="rId5"/>
          <a:stretch/>
        </p:blipFill>
        <p:spPr>
          <a:xfrm>
            <a:off x="6993000" y="5373720"/>
            <a:ext cx="684000" cy="73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Placeholder 2" descr="dobusiness-slider1.jpg"/>
          <p:cNvPicPr/>
          <p:nvPr/>
        </p:nvPicPr>
        <p:blipFill>
          <a:blip r:embed="rId1"/>
          <a:srcRect l="0" t="9783" r="0" b="1210"/>
          <a:stretch/>
        </p:blipFill>
        <p:spPr>
          <a:xfrm>
            <a:off x="0" y="0"/>
            <a:ext cx="12192120" cy="6858000"/>
          </a:xfrm>
          <a:prstGeom prst="rect">
            <a:avLst/>
          </a:prstGeom>
          <a:ln w="0">
            <a:noFill/>
          </a:ln>
        </p:spPr>
      </p:pic>
      <p:sp>
        <p:nvSpPr>
          <p:cNvPr id="330" name="Teardrop 3"/>
          <p:cNvSpPr/>
          <p:nvPr/>
        </p:nvSpPr>
        <p:spPr>
          <a:xfrm rot="10800000">
            <a:off x="1236600" y="1338120"/>
            <a:ext cx="4105440" cy="4105440"/>
          </a:xfrm>
          <a:custGeom>
            <a:avLst/>
            <a:gdLst/>
            <a:ahLst/>
            <a:rect l="l" t="t" r="r" b="b"/>
            <a:pathLst>
              <a:path w="4105275" h="4105275">
                <a:moveTo>
                  <a:pt x="0" y="2052637"/>
                </a:moveTo>
                <a:cubicBezTo>
                  <a:pt x="0" y="918997"/>
                  <a:pt x="918997" y="0"/>
                  <a:pt x="2052637" y="0"/>
                </a:cubicBezTo>
                <a:cubicBezTo>
                  <a:pt x="2736849" y="0"/>
                  <a:pt x="3421062" y="0"/>
                  <a:pt x="4105275" y="0"/>
                </a:cubicBezTo>
                <a:cubicBezTo>
                  <a:pt x="4105275" y="684212"/>
                  <a:pt x="4105275" y="1368424"/>
                  <a:pt x="4105275" y="2052637"/>
                </a:cubicBezTo>
                <a:cubicBezTo>
                  <a:pt x="4105275" y="3186277"/>
                  <a:pt x="3186278" y="4105274"/>
                  <a:pt x="2052638" y="4105274"/>
                </a:cubicBezTo>
                <a:cubicBezTo>
                  <a:pt x="918998" y="4105274"/>
                  <a:pt x="1" y="3186277"/>
                  <a:pt x="1" y="2052637"/>
                </a:cubicBezTo>
                <a:close/>
              </a:path>
            </a:pathLst>
          </a:custGeom>
          <a:solidFill>
            <a:srgbClr val="3099d6"/>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Group 7" descr=""/>
          <p:cNvPicPr/>
          <p:nvPr/>
        </p:nvPicPr>
        <p:blipFill>
          <a:blip r:embed="rId2"/>
          <a:stretch/>
        </p:blipFill>
        <p:spPr>
          <a:xfrm>
            <a:off x="1252440" y="2581200"/>
            <a:ext cx="3962520" cy="5558040"/>
          </a:xfrm>
          <a:prstGeom prst="rect">
            <a:avLst/>
          </a:prstGeom>
          <a:ln w="0">
            <a:noFill/>
          </a:ln>
        </p:spPr>
      </p:pic>
      <p:grpSp>
        <p:nvGrpSpPr>
          <p:cNvPr id="332" name="组合 1"/>
          <p:cNvGrpSpPr/>
          <p:nvPr/>
        </p:nvGrpSpPr>
        <p:grpSpPr>
          <a:xfrm>
            <a:off x="529920" y="66960"/>
            <a:ext cx="1630080" cy="1447560"/>
            <a:chOff x="529920" y="66960"/>
            <a:chExt cx="1630080" cy="1447560"/>
          </a:xfrm>
        </p:grpSpPr>
        <p:grpSp>
          <p:nvGrpSpPr>
            <p:cNvPr id="333" name="组合 2"/>
            <p:cNvGrpSpPr/>
            <p:nvPr/>
          </p:nvGrpSpPr>
          <p:grpSpPr>
            <a:xfrm>
              <a:off x="529920" y="66960"/>
              <a:ext cx="1630080" cy="1447560"/>
              <a:chOff x="529920" y="66960"/>
              <a:chExt cx="1630080" cy="1447560"/>
            </a:xfrm>
          </p:grpSpPr>
          <p:sp>
            <p:nvSpPr>
              <p:cNvPr id="334"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7" name="组合 7"/>
              <p:cNvGrpSpPr/>
              <p:nvPr/>
            </p:nvGrpSpPr>
            <p:grpSpPr>
              <a:xfrm>
                <a:off x="529920" y="142200"/>
                <a:ext cx="1630080" cy="1372320"/>
                <a:chOff x="529920" y="142200"/>
                <a:chExt cx="1630080" cy="1372320"/>
              </a:xfrm>
            </p:grpSpPr>
            <p:sp>
              <p:nvSpPr>
                <p:cNvPr id="338"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69"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4</a:t>
              </a:r>
              <a:endParaRPr b="0" lang="en-US" sz="6600" spc="-1" strike="noStrike">
                <a:solidFill>
                  <a:srgbClr val="000000"/>
                </a:solidFill>
                <a:latin typeface="Calibri"/>
              </a:endParaRPr>
            </a:p>
          </p:txBody>
        </p:sp>
      </p:grpSp>
      <p:sp>
        <p:nvSpPr>
          <p:cNvPr id="370"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99d6"/>
                </a:solidFill>
                <a:latin typeface="微软雅黑"/>
                <a:ea typeface="微软雅黑"/>
              </a:rPr>
              <a:t>东方御匠 </a:t>
            </a:r>
            <a:r>
              <a:rPr b="1" lang="en-US" sz="2800" spc="-1" strike="noStrike">
                <a:solidFill>
                  <a:srgbClr val="3099d6"/>
                </a:solidFill>
                <a:latin typeface="微软雅黑"/>
                <a:ea typeface="微软雅黑"/>
              </a:rPr>
              <a:t>POWERPOI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组合 50"/>
          <p:cNvGrpSpPr/>
          <p:nvPr/>
        </p:nvGrpSpPr>
        <p:grpSpPr>
          <a:xfrm>
            <a:off x="3697200" y="293400"/>
            <a:ext cx="4754880" cy="4222080"/>
            <a:chOff x="3697200" y="293400"/>
            <a:chExt cx="4754880" cy="4222080"/>
          </a:xfrm>
        </p:grpSpPr>
        <p:grpSp>
          <p:nvGrpSpPr>
            <p:cNvPr id="372" name="组合 46"/>
            <p:cNvGrpSpPr/>
            <p:nvPr/>
          </p:nvGrpSpPr>
          <p:grpSpPr>
            <a:xfrm>
              <a:off x="3697200" y="293400"/>
              <a:ext cx="4754880" cy="4222080"/>
              <a:chOff x="3697200" y="293400"/>
              <a:chExt cx="4754880" cy="4222080"/>
            </a:xfrm>
          </p:grpSpPr>
          <p:sp>
            <p:nvSpPr>
              <p:cNvPr id="373" name="Freeform 5"/>
              <p:cNvSpPr/>
              <p:nvPr/>
            </p:nvSpPr>
            <p:spPr>
              <a:xfrm rot="19720800">
                <a:off x="4533480" y="778320"/>
                <a:ext cx="248256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Freeform 5"/>
              <p:cNvSpPr/>
              <p:nvPr/>
            </p:nvSpPr>
            <p:spPr>
              <a:xfrm rot="1976400">
                <a:off x="5416920" y="778320"/>
                <a:ext cx="2083680" cy="219924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Freeform 5"/>
              <p:cNvSpPr/>
              <p:nvPr/>
            </p:nvSpPr>
            <p:spPr>
              <a:xfrm rot="3250200">
                <a:off x="5759640" y="77832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6" name="组合 45"/>
              <p:cNvGrpSpPr/>
              <p:nvPr/>
            </p:nvGrpSpPr>
            <p:grpSpPr>
              <a:xfrm>
                <a:off x="3697200" y="512640"/>
                <a:ext cx="4754880" cy="4002840"/>
                <a:chOff x="3697200" y="512640"/>
                <a:chExt cx="4754880" cy="4002840"/>
              </a:xfrm>
            </p:grpSpPr>
            <p:sp>
              <p:nvSpPr>
                <p:cNvPr id="377" name="Freeform 5"/>
                <p:cNvSpPr/>
                <p:nvPr/>
              </p:nvSpPr>
              <p:spPr>
                <a:xfrm rot="20532600">
                  <a:off x="4875480" y="9547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Freeform 5"/>
                <p:cNvSpPr/>
                <p:nvPr/>
              </p:nvSpPr>
              <p:spPr>
                <a:xfrm rot="20387400">
                  <a:off x="4533480" y="9021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Freeform 5"/>
                <p:cNvSpPr/>
                <p:nvPr/>
              </p:nvSpPr>
              <p:spPr>
                <a:xfrm rot="20532600">
                  <a:off x="4875480" y="107892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Freeform 5"/>
                <p:cNvSpPr/>
                <p:nvPr/>
              </p:nvSpPr>
              <p:spPr>
                <a:xfrm rot="1976400">
                  <a:off x="5416920" y="90216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Freeform 5"/>
                <p:cNvSpPr/>
                <p:nvPr/>
              </p:nvSpPr>
              <p:spPr>
                <a:xfrm rot="3757200">
                  <a:off x="5759280" y="9021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Freeform 5"/>
                <p:cNvSpPr/>
                <p:nvPr/>
              </p:nvSpPr>
              <p:spPr>
                <a:xfrm rot="21089400">
                  <a:off x="4533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Freeform 5"/>
                <p:cNvSpPr/>
                <p:nvPr/>
              </p:nvSpPr>
              <p:spPr>
                <a:xfrm rot="20532600">
                  <a:off x="4875480" y="12027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Freeform 5"/>
                <p:cNvSpPr/>
                <p:nvPr/>
              </p:nvSpPr>
              <p:spPr>
                <a:xfrm rot="1976400">
                  <a:off x="5416920" y="10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Freeform 5"/>
                <p:cNvSpPr/>
                <p:nvPr/>
              </p:nvSpPr>
              <p:spPr>
                <a:xfrm rot="2876400">
                  <a:off x="5759280" y="102600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Freeform 5"/>
                <p:cNvSpPr/>
                <p:nvPr/>
              </p:nvSpPr>
              <p:spPr>
                <a:xfrm rot="20387400">
                  <a:off x="4533480" y="11498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Freeform 5"/>
                <p:cNvSpPr/>
                <p:nvPr/>
              </p:nvSpPr>
              <p:spPr>
                <a:xfrm rot="20532600">
                  <a:off x="4875480" y="132696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Freeform 5"/>
                <p:cNvSpPr/>
                <p:nvPr/>
              </p:nvSpPr>
              <p:spPr>
                <a:xfrm rot="20387400">
                  <a:off x="4437360" y="15494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Freeform 5"/>
                <p:cNvSpPr/>
                <p:nvPr/>
              </p:nvSpPr>
              <p:spPr>
                <a:xfrm rot="3757200">
                  <a:off x="5954760" y="13006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Freeform 5"/>
                <p:cNvSpPr/>
                <p:nvPr/>
              </p:nvSpPr>
              <p:spPr>
                <a:xfrm rot="20387400">
                  <a:off x="4533480" y="127404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Freeform 5"/>
                <p:cNvSpPr/>
                <p:nvPr/>
              </p:nvSpPr>
              <p:spPr>
                <a:xfrm rot="20532600">
                  <a:off x="4875480" y="14508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Freeform 5"/>
                <p:cNvSpPr/>
                <p:nvPr/>
              </p:nvSpPr>
              <p:spPr>
                <a:xfrm rot="1976400">
                  <a:off x="5416920" y="127404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Freeform 5"/>
                <p:cNvSpPr/>
                <p:nvPr/>
              </p:nvSpPr>
              <p:spPr>
                <a:xfrm rot="3757200">
                  <a:off x="5759280" y="127404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Freeform 5"/>
                <p:cNvSpPr/>
                <p:nvPr/>
              </p:nvSpPr>
              <p:spPr>
                <a:xfrm rot="20387400">
                  <a:off x="4533480" y="13978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Freeform 5"/>
                <p:cNvSpPr/>
                <p:nvPr/>
              </p:nvSpPr>
              <p:spPr>
                <a:xfrm rot="20532600">
                  <a:off x="4875480" y="15746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Freeform 5"/>
                <p:cNvSpPr/>
                <p:nvPr/>
              </p:nvSpPr>
              <p:spPr>
                <a:xfrm rot="1976400">
                  <a:off x="5416920" y="139788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Freeform 5"/>
                <p:cNvSpPr/>
                <p:nvPr/>
              </p:nvSpPr>
              <p:spPr>
                <a:xfrm rot="3757200">
                  <a:off x="5835960" y="185796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Freeform 5"/>
                <p:cNvSpPr/>
                <p:nvPr/>
              </p:nvSpPr>
              <p:spPr>
                <a:xfrm rot="20387400">
                  <a:off x="4533480" y="152208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Freeform 5"/>
                <p:cNvSpPr/>
                <p:nvPr/>
              </p:nvSpPr>
              <p:spPr>
                <a:xfrm rot="20532600">
                  <a:off x="4875480" y="1698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Freeform 5"/>
                <p:cNvSpPr/>
                <p:nvPr/>
              </p:nvSpPr>
              <p:spPr>
                <a:xfrm rot="4993800">
                  <a:off x="5736600" y="1522080"/>
                  <a:ext cx="208332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reeform 5"/>
                <p:cNvSpPr/>
                <p:nvPr/>
              </p:nvSpPr>
              <p:spPr>
                <a:xfrm rot="20387400">
                  <a:off x="424188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Freeform 5"/>
                <p:cNvSpPr/>
                <p:nvPr/>
              </p:nvSpPr>
              <p:spPr>
                <a:xfrm rot="20387400">
                  <a:off x="4533480" y="164592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Freeform 5"/>
                <p:cNvSpPr/>
                <p:nvPr/>
              </p:nvSpPr>
              <p:spPr>
                <a:xfrm rot="20532600">
                  <a:off x="4947840" y="1823040"/>
                  <a:ext cx="233784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Freeform 5"/>
                <p:cNvSpPr/>
                <p:nvPr/>
              </p:nvSpPr>
              <p:spPr>
                <a:xfrm rot="1976400">
                  <a:off x="5338440" y="1926000"/>
                  <a:ext cx="208368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Freeform 5"/>
                <p:cNvSpPr/>
                <p:nvPr/>
              </p:nvSpPr>
              <p:spPr>
                <a:xfrm>
                  <a:off x="4752360" y="200160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5"/>
                <p:cNvSpPr/>
                <p:nvPr/>
              </p:nvSpPr>
              <p:spPr>
                <a:xfrm rot="1976400">
                  <a:off x="4095360" y="1260360"/>
                  <a:ext cx="2482560" cy="21996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Freeform 5"/>
                <p:cNvSpPr/>
                <p:nvPr/>
              </p:nvSpPr>
              <p:spPr>
                <a:xfrm rot="19703400">
                  <a:off x="4236120" y="1833840"/>
                  <a:ext cx="2482560" cy="184572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08" name="文本框 44"/>
            <p:cNvSpPr/>
            <p:nvPr/>
          </p:nvSpPr>
          <p:spPr>
            <a:xfrm>
              <a:off x="4705200" y="765000"/>
              <a:ext cx="278172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3099d6"/>
                  </a:solidFill>
                  <a:latin typeface="微软雅黑"/>
                  <a:ea typeface="微软雅黑"/>
                </a:rPr>
                <a:t>2</a:t>
              </a:r>
              <a:endParaRPr b="0" lang="en-US" sz="19900" spc="-1" strike="noStrike">
                <a:solidFill>
                  <a:srgbClr val="000000"/>
                </a:solidFill>
                <a:latin typeface="Calibri"/>
              </a:endParaRPr>
            </a:p>
          </p:txBody>
        </p:sp>
      </p:grpSp>
      <p:sp>
        <p:nvSpPr>
          <p:cNvPr id="409" name="文本框 48"/>
          <p:cNvSpPr/>
          <p:nvPr/>
        </p:nvSpPr>
        <p:spPr>
          <a:xfrm>
            <a:off x="1392120" y="4714920"/>
            <a:ext cx="940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东方御匠 </a:t>
            </a:r>
            <a:r>
              <a:rPr b="1" lang="en-US" sz="3200" spc="-1" strike="noStrike">
                <a:solidFill>
                  <a:srgbClr val="ffffff"/>
                </a:solidFill>
                <a:latin typeface="微软雅黑"/>
                <a:ea typeface="微软雅黑"/>
              </a:rPr>
              <a:t>POWERPOINT</a:t>
            </a:r>
            <a:endParaRPr b="0" lang="en-US" sz="3200" spc="-1" strike="noStrike">
              <a:solidFill>
                <a:srgbClr val="000000"/>
              </a:solidFill>
              <a:latin typeface="Calibri"/>
            </a:endParaRPr>
          </a:p>
        </p:txBody>
      </p:sp>
      <p:sp>
        <p:nvSpPr>
          <p:cNvPr id="410" name="文本框 12"/>
          <p:cNvSpPr/>
          <p:nvPr/>
        </p:nvSpPr>
        <p:spPr>
          <a:xfrm>
            <a:off x="2612880" y="5398920"/>
            <a:ext cx="696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rbi dignissim nisl in diam sagittis, id dapibus nulla pretium. Sed vitae quam metus. Etiam fermentum turpis vel lectus dignissim consectetur. </a:t>
            </a:r>
            <a:endParaRPr b="0" lang="en-US" sz="1800" spc="-1" strike="noStrike">
              <a:solidFill>
                <a:srgbClr val="000000"/>
              </a:solidFill>
              <a:latin typeface="Calibri"/>
            </a:endParaRPr>
          </a:p>
        </p:txBody>
      </p:sp>
      <p:grpSp>
        <p:nvGrpSpPr>
          <p:cNvPr id="411" name="组合 41"/>
          <p:cNvGrpSpPr/>
          <p:nvPr/>
        </p:nvGrpSpPr>
        <p:grpSpPr>
          <a:xfrm>
            <a:off x="1152360" y="2135160"/>
            <a:ext cx="138240" cy="138240"/>
            <a:chOff x="1152360" y="2135160"/>
            <a:chExt cx="138240" cy="138240"/>
          </a:xfrm>
        </p:grpSpPr>
        <p:sp>
          <p:nvSpPr>
            <p:cNvPr id="412" name="直接连接符 42"/>
            <p:cNvSpPr/>
            <p:nvPr/>
          </p:nvSpPr>
          <p:spPr>
            <a:xfrm flipH="1">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直接连接符 43"/>
            <p:cNvSpPr/>
            <p:nvPr/>
          </p:nvSpPr>
          <p:spPr>
            <a:xfrm>
              <a:off x="1152360" y="213516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4" name="组合 47"/>
          <p:cNvGrpSpPr/>
          <p:nvPr/>
        </p:nvGrpSpPr>
        <p:grpSpPr>
          <a:xfrm>
            <a:off x="2143080" y="1252440"/>
            <a:ext cx="138240" cy="138240"/>
            <a:chOff x="2143080" y="1252440"/>
            <a:chExt cx="138240" cy="138240"/>
          </a:xfrm>
        </p:grpSpPr>
        <p:sp>
          <p:nvSpPr>
            <p:cNvPr id="415" name="直接连接符 51"/>
            <p:cNvSpPr/>
            <p:nvPr/>
          </p:nvSpPr>
          <p:spPr>
            <a:xfrm flipH="1">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直接连接符 52"/>
            <p:cNvSpPr/>
            <p:nvPr/>
          </p:nvSpPr>
          <p:spPr>
            <a:xfrm>
              <a:off x="2143080" y="1252440"/>
              <a:ext cx="13824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7" name="组合 53"/>
          <p:cNvGrpSpPr/>
          <p:nvPr/>
        </p:nvGrpSpPr>
        <p:grpSpPr>
          <a:xfrm>
            <a:off x="2544480" y="3079800"/>
            <a:ext cx="138240" cy="136440"/>
            <a:chOff x="2544480" y="3079800"/>
            <a:chExt cx="138240" cy="136440"/>
          </a:xfrm>
        </p:grpSpPr>
        <p:sp>
          <p:nvSpPr>
            <p:cNvPr id="418" name="直接连接符 54"/>
            <p:cNvSpPr/>
            <p:nvPr/>
          </p:nvSpPr>
          <p:spPr>
            <a:xfrm flipH="1">
              <a:off x="254448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55"/>
            <p:cNvSpPr/>
            <p:nvPr/>
          </p:nvSpPr>
          <p:spPr>
            <a:xfrm>
              <a:off x="2544840" y="3079800"/>
              <a:ext cx="137880" cy="13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0" name="组合 56"/>
          <p:cNvGrpSpPr/>
          <p:nvPr/>
        </p:nvGrpSpPr>
        <p:grpSpPr>
          <a:xfrm>
            <a:off x="10661400" y="1319040"/>
            <a:ext cx="138240" cy="136800"/>
            <a:chOff x="10661400" y="1319040"/>
            <a:chExt cx="138240" cy="136800"/>
          </a:xfrm>
        </p:grpSpPr>
        <p:sp>
          <p:nvSpPr>
            <p:cNvPr id="421" name="直接连接符 57"/>
            <p:cNvSpPr/>
            <p:nvPr/>
          </p:nvSpPr>
          <p:spPr>
            <a:xfrm flipH="1">
              <a:off x="1066140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直接连接符 58"/>
            <p:cNvSpPr/>
            <p:nvPr/>
          </p:nvSpPr>
          <p:spPr>
            <a:xfrm>
              <a:off x="10661760" y="1319040"/>
              <a:ext cx="137880" cy="13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3" name="组合 59"/>
          <p:cNvGrpSpPr/>
          <p:nvPr/>
        </p:nvGrpSpPr>
        <p:grpSpPr>
          <a:xfrm>
            <a:off x="9210240" y="3511440"/>
            <a:ext cx="103680" cy="104760"/>
            <a:chOff x="9210240" y="3511440"/>
            <a:chExt cx="103680" cy="104760"/>
          </a:xfrm>
        </p:grpSpPr>
        <p:sp>
          <p:nvSpPr>
            <p:cNvPr id="424" name="直接连接符 60"/>
            <p:cNvSpPr/>
            <p:nvPr/>
          </p:nvSpPr>
          <p:spPr>
            <a:xfrm flipH="1">
              <a:off x="921024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直接连接符 61"/>
            <p:cNvSpPr/>
            <p:nvPr/>
          </p:nvSpPr>
          <p:spPr>
            <a:xfrm>
              <a:off x="9210600" y="3511440"/>
              <a:ext cx="10332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组合 1"/>
          <p:cNvGrpSpPr/>
          <p:nvPr/>
        </p:nvGrpSpPr>
        <p:grpSpPr>
          <a:xfrm>
            <a:off x="529920" y="66960"/>
            <a:ext cx="1630080" cy="1447560"/>
            <a:chOff x="529920" y="66960"/>
            <a:chExt cx="1630080" cy="1447560"/>
          </a:xfrm>
        </p:grpSpPr>
        <p:grpSp>
          <p:nvGrpSpPr>
            <p:cNvPr id="427" name="组合 2"/>
            <p:cNvGrpSpPr/>
            <p:nvPr/>
          </p:nvGrpSpPr>
          <p:grpSpPr>
            <a:xfrm>
              <a:off x="529920" y="66960"/>
              <a:ext cx="1630080" cy="1447560"/>
              <a:chOff x="529920" y="66960"/>
              <a:chExt cx="1630080" cy="1447560"/>
            </a:xfrm>
          </p:grpSpPr>
          <p:sp>
            <p:nvSpPr>
              <p:cNvPr id="428" name="Freeform 5"/>
              <p:cNvSpPr/>
              <p:nvPr/>
            </p:nvSpPr>
            <p:spPr>
              <a:xfrm rot="19720800">
                <a:off x="816840" y="2329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Freeform 5"/>
              <p:cNvSpPr/>
              <p:nvPr/>
            </p:nvSpPr>
            <p:spPr>
              <a:xfrm rot="1976400">
                <a:off x="111924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Freeform 5"/>
              <p:cNvSpPr/>
              <p:nvPr/>
            </p:nvSpPr>
            <p:spPr>
              <a:xfrm rot="3250200">
                <a:off x="1236600" y="2332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组合 7"/>
              <p:cNvGrpSpPr/>
              <p:nvPr/>
            </p:nvGrpSpPr>
            <p:grpSpPr>
              <a:xfrm>
                <a:off x="529920" y="142200"/>
                <a:ext cx="1630080" cy="1372320"/>
                <a:chOff x="529920" y="142200"/>
                <a:chExt cx="1630080" cy="1372320"/>
              </a:xfrm>
            </p:grpSpPr>
            <p:sp>
              <p:nvSpPr>
                <p:cNvPr id="432" name="Freeform 5"/>
                <p:cNvSpPr/>
                <p:nvPr/>
              </p:nvSpPr>
              <p:spPr>
                <a:xfrm rot="20532600">
                  <a:off x="934200" y="2934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Freeform 5"/>
                <p:cNvSpPr/>
                <p:nvPr/>
              </p:nvSpPr>
              <p:spPr>
                <a:xfrm rot="20387400">
                  <a:off x="816840" y="2757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Freeform 5"/>
                <p:cNvSpPr/>
                <p:nvPr/>
              </p:nvSpPr>
              <p:spPr>
                <a:xfrm rot="20532600">
                  <a:off x="934200" y="3358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Freeform 5"/>
                <p:cNvSpPr/>
                <p:nvPr/>
              </p:nvSpPr>
              <p:spPr>
                <a:xfrm rot="1976400">
                  <a:off x="111924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Freeform 5"/>
                <p:cNvSpPr/>
                <p:nvPr/>
              </p:nvSpPr>
              <p:spPr>
                <a:xfrm rot="3757200">
                  <a:off x="1236960" y="275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Freeform 5"/>
                <p:cNvSpPr/>
                <p:nvPr/>
              </p:nvSpPr>
              <p:spPr>
                <a:xfrm rot="21089400">
                  <a:off x="816840" y="3787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Freeform 5"/>
                <p:cNvSpPr/>
                <p:nvPr/>
              </p:nvSpPr>
              <p:spPr>
                <a:xfrm rot="20532600">
                  <a:off x="934200" y="37836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Freeform 5"/>
                <p:cNvSpPr/>
                <p:nvPr/>
              </p:nvSpPr>
              <p:spPr>
                <a:xfrm rot="1976400">
                  <a:off x="1119240" y="31824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Freeform 5"/>
                <p:cNvSpPr/>
                <p:nvPr/>
              </p:nvSpPr>
              <p:spPr>
                <a:xfrm rot="2876400">
                  <a:off x="1236600" y="3178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Freeform 5"/>
                <p:cNvSpPr/>
                <p:nvPr/>
              </p:nvSpPr>
              <p:spPr>
                <a:xfrm rot="20387400">
                  <a:off x="816840" y="3607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Freeform 5"/>
                <p:cNvSpPr/>
                <p:nvPr/>
              </p:nvSpPr>
              <p:spPr>
                <a:xfrm rot="20532600">
                  <a:off x="934200" y="4208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Freeform 5"/>
                <p:cNvSpPr/>
                <p:nvPr/>
              </p:nvSpPr>
              <p:spPr>
                <a:xfrm rot="20387400">
                  <a:off x="783720" y="497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Freeform 5"/>
                <p:cNvSpPr/>
                <p:nvPr/>
              </p:nvSpPr>
              <p:spPr>
                <a:xfrm rot="3757200">
                  <a:off x="1303920" y="4125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Freeform 5"/>
                <p:cNvSpPr/>
                <p:nvPr/>
              </p:nvSpPr>
              <p:spPr>
                <a:xfrm rot="20387400">
                  <a:off x="816840" y="40320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Freeform 5"/>
                <p:cNvSpPr/>
                <p:nvPr/>
              </p:nvSpPr>
              <p:spPr>
                <a:xfrm rot="20532600">
                  <a:off x="934200" y="46332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Freeform 5"/>
                <p:cNvSpPr/>
                <p:nvPr/>
              </p:nvSpPr>
              <p:spPr>
                <a:xfrm rot="1976400">
                  <a:off x="111924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Freeform 5"/>
                <p:cNvSpPr/>
                <p:nvPr/>
              </p:nvSpPr>
              <p:spPr>
                <a:xfrm rot="3757200">
                  <a:off x="1236960" y="4032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Freeform 5"/>
                <p:cNvSpPr/>
                <p:nvPr/>
              </p:nvSpPr>
              <p:spPr>
                <a:xfrm rot="20387400">
                  <a:off x="816840" y="44568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Freeform 5"/>
                <p:cNvSpPr/>
                <p:nvPr/>
              </p:nvSpPr>
              <p:spPr>
                <a:xfrm rot="20532600">
                  <a:off x="934200" y="50580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5"/>
                <p:cNvSpPr/>
                <p:nvPr/>
              </p:nvSpPr>
              <p:spPr>
                <a:xfrm rot="1976400">
                  <a:off x="1119240" y="44568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Freeform 5"/>
                <p:cNvSpPr/>
                <p:nvPr/>
              </p:nvSpPr>
              <p:spPr>
                <a:xfrm rot="3757200">
                  <a:off x="1263240" y="60372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reeform 5"/>
                <p:cNvSpPr/>
                <p:nvPr/>
              </p:nvSpPr>
              <p:spPr>
                <a:xfrm rot="20387400">
                  <a:off x="816840" y="48816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Freeform 5"/>
                <p:cNvSpPr/>
                <p:nvPr/>
              </p:nvSpPr>
              <p:spPr>
                <a:xfrm rot="20532600">
                  <a:off x="934200" y="54864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Freeform 5"/>
                <p:cNvSpPr/>
                <p:nvPr/>
              </p:nvSpPr>
              <p:spPr>
                <a:xfrm rot="4993800">
                  <a:off x="1228680" y="48780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Freeform 5"/>
                <p:cNvSpPr/>
                <p:nvPr/>
              </p:nvSpPr>
              <p:spPr>
                <a:xfrm rot="20387400">
                  <a:off x="7167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Freeform 5"/>
                <p:cNvSpPr/>
                <p:nvPr/>
              </p:nvSpPr>
              <p:spPr>
                <a:xfrm rot="20387400">
                  <a:off x="816840" y="53064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Freeform 5"/>
                <p:cNvSpPr/>
                <p:nvPr/>
              </p:nvSpPr>
              <p:spPr>
                <a:xfrm rot="20532600">
                  <a:off x="958680" y="591120"/>
                  <a:ext cx="80172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Freeform 5"/>
                <p:cNvSpPr/>
                <p:nvPr/>
              </p:nvSpPr>
              <p:spPr>
                <a:xfrm rot="1976400">
                  <a:off x="1092600" y="626760"/>
                  <a:ext cx="7142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Freeform 5"/>
                <p:cNvSpPr/>
                <p:nvPr/>
              </p:nvSpPr>
              <p:spPr>
                <a:xfrm>
                  <a:off x="891720" y="6526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Freeform 5"/>
                <p:cNvSpPr/>
                <p:nvPr/>
              </p:nvSpPr>
              <p:spPr>
                <a:xfrm rot="1976400">
                  <a:off x="666360" y="398520"/>
                  <a:ext cx="851040" cy="75420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Freeform 5"/>
                <p:cNvSpPr/>
                <p:nvPr/>
              </p:nvSpPr>
              <p:spPr>
                <a:xfrm rot="19703400">
                  <a:off x="714600" y="595080"/>
                  <a:ext cx="851040" cy="632880"/>
                </a:xfrm>
                <a:custGeom>
                  <a:avLst/>
                  <a:gdLst/>
                  <a:ahLst/>
                  <a:rect l="l" t="t" r="r" b="b"/>
                  <a:pathLst>
                    <a:path w="1375" h="1218">
                      <a:moveTo>
                        <a:pt x="407" y="1218"/>
                      </a:moveTo>
                      <a:cubicBezTo>
                        <a:pt x="368" y="1218"/>
                        <a:pt x="319" y="1190"/>
                        <a:pt x="299" y="1156"/>
                      </a:cubicBezTo>
                      <a:cubicBezTo>
                        <a:pt x="19" y="671"/>
                        <a:pt x="19" y="671"/>
                        <a:pt x="19" y="671"/>
                      </a:cubicBezTo>
                      <a:cubicBezTo>
                        <a:pt x="0" y="637"/>
                        <a:pt x="0" y="581"/>
                        <a:pt x="19" y="547"/>
                      </a:cubicBezTo>
                      <a:cubicBezTo>
                        <a:pt x="299" y="62"/>
                        <a:pt x="299" y="62"/>
                        <a:pt x="299" y="62"/>
                      </a:cubicBezTo>
                      <a:cubicBezTo>
                        <a:pt x="319" y="28"/>
                        <a:pt x="368" y="0"/>
                        <a:pt x="407" y="0"/>
                      </a:cubicBezTo>
                      <a:cubicBezTo>
                        <a:pt x="967" y="0"/>
                        <a:pt x="967" y="0"/>
                        <a:pt x="967" y="0"/>
                      </a:cubicBezTo>
                      <a:cubicBezTo>
                        <a:pt x="1007" y="0"/>
                        <a:pt x="1055" y="28"/>
                        <a:pt x="1075" y="62"/>
                      </a:cubicBezTo>
                      <a:cubicBezTo>
                        <a:pt x="1355" y="547"/>
                        <a:pt x="1355" y="547"/>
                        <a:pt x="1355" y="547"/>
                      </a:cubicBezTo>
                      <a:cubicBezTo>
                        <a:pt x="1375" y="581"/>
                        <a:pt x="1375" y="637"/>
                        <a:pt x="1355" y="671"/>
                      </a:cubicBezTo>
                      <a:cubicBezTo>
                        <a:pt x="1075" y="1156"/>
                        <a:pt x="1075" y="1156"/>
                        <a:pt x="1075" y="1156"/>
                      </a:cubicBezTo>
                      <a:cubicBezTo>
                        <a:pt x="1055" y="1190"/>
                        <a:pt x="1007" y="1218"/>
                        <a:pt x="967" y="1218"/>
                      </a:cubicBezTo>
                      <a:lnTo>
                        <a:pt x="407" y="1218"/>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63" name="文本框 3"/>
            <p:cNvSpPr/>
            <p:nvPr/>
          </p:nvSpPr>
          <p:spPr>
            <a:xfrm>
              <a:off x="875520" y="228600"/>
              <a:ext cx="953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099d6"/>
                  </a:solidFill>
                  <a:latin typeface="微软雅黑"/>
                  <a:ea typeface="微软雅黑"/>
                </a:rPr>
                <a:t>1</a:t>
              </a:r>
              <a:endParaRPr b="0" lang="en-US" sz="6600" spc="-1" strike="noStrike">
                <a:solidFill>
                  <a:srgbClr val="000000"/>
                </a:solidFill>
                <a:latin typeface="Calibri"/>
              </a:endParaRPr>
            </a:p>
          </p:txBody>
        </p:sp>
      </p:grpSp>
      <p:sp>
        <p:nvSpPr>
          <p:cNvPr id="464" name="文本框 39"/>
          <p:cNvSpPr/>
          <p:nvPr/>
        </p:nvSpPr>
        <p:spPr>
          <a:xfrm>
            <a:off x="2295360" y="542880"/>
            <a:ext cx="567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东方御匠 </a:t>
            </a:r>
            <a:r>
              <a:rPr b="1" lang="en-US" sz="2800" spc="-1" strike="noStrike">
                <a:solidFill>
                  <a:srgbClr val="ffffff"/>
                </a:solidFill>
                <a:latin typeface="微软雅黑"/>
                <a:ea typeface="微软雅黑"/>
              </a:rPr>
              <a:t>POWERPOINT</a:t>
            </a:r>
            <a:endParaRPr b="0" lang="en-US" sz="2800" spc="-1" strike="noStrike">
              <a:solidFill>
                <a:srgbClr val="000000"/>
              </a:solidFill>
              <a:latin typeface="Calibri"/>
            </a:endParaRPr>
          </a:p>
        </p:txBody>
      </p:sp>
      <p:pic>
        <p:nvPicPr>
          <p:cNvPr id="465" name="Picture Placeholder 19" descr=""/>
          <p:cNvPicPr/>
          <p:nvPr/>
        </p:nvPicPr>
        <p:blipFill>
          <a:blip r:embed="rId1"/>
          <a:stretch/>
        </p:blipFill>
        <p:spPr>
          <a:xfrm>
            <a:off x="343080" y="1967040"/>
            <a:ext cx="1260360" cy="1258920"/>
          </a:xfrm>
          <a:prstGeom prst="rect">
            <a:avLst/>
          </a:prstGeom>
          <a:ln w="0">
            <a:noFill/>
          </a:ln>
        </p:spPr>
      </p:pic>
      <p:pic>
        <p:nvPicPr>
          <p:cNvPr id="466" name="Picture Placeholder 20" descr=""/>
          <p:cNvPicPr/>
          <p:nvPr/>
        </p:nvPicPr>
        <p:blipFill>
          <a:blip r:embed="rId2"/>
          <a:stretch/>
        </p:blipFill>
        <p:spPr>
          <a:xfrm>
            <a:off x="1803240" y="1967040"/>
            <a:ext cx="1260720" cy="1258920"/>
          </a:xfrm>
          <a:prstGeom prst="rect">
            <a:avLst/>
          </a:prstGeom>
          <a:ln w="0">
            <a:noFill/>
          </a:ln>
        </p:spPr>
      </p:pic>
      <p:pic>
        <p:nvPicPr>
          <p:cNvPr id="467" name="Picture Placeholder 21" descr=""/>
          <p:cNvPicPr/>
          <p:nvPr/>
        </p:nvPicPr>
        <p:blipFill>
          <a:blip r:embed="rId3"/>
          <a:stretch/>
        </p:blipFill>
        <p:spPr>
          <a:xfrm>
            <a:off x="3265560" y="1967040"/>
            <a:ext cx="1258920" cy="1258920"/>
          </a:xfrm>
          <a:prstGeom prst="rect">
            <a:avLst/>
          </a:prstGeom>
          <a:ln w="0">
            <a:noFill/>
          </a:ln>
        </p:spPr>
      </p:pic>
      <p:pic>
        <p:nvPicPr>
          <p:cNvPr id="468" name="Picture Placeholder 22" descr=""/>
          <p:cNvPicPr/>
          <p:nvPr/>
        </p:nvPicPr>
        <p:blipFill>
          <a:blip r:embed="rId4"/>
          <a:stretch/>
        </p:blipFill>
        <p:spPr>
          <a:xfrm>
            <a:off x="4726080" y="1967040"/>
            <a:ext cx="1258920" cy="1258920"/>
          </a:xfrm>
          <a:prstGeom prst="rect">
            <a:avLst/>
          </a:prstGeom>
          <a:ln w="0">
            <a:noFill/>
          </a:ln>
        </p:spPr>
      </p:pic>
      <p:pic>
        <p:nvPicPr>
          <p:cNvPr id="469" name="Picture Placeholder 23" descr=""/>
          <p:cNvPicPr/>
          <p:nvPr/>
        </p:nvPicPr>
        <p:blipFill>
          <a:blip r:embed="rId5"/>
          <a:stretch/>
        </p:blipFill>
        <p:spPr>
          <a:xfrm>
            <a:off x="6186600" y="1967040"/>
            <a:ext cx="1258920" cy="1258920"/>
          </a:xfrm>
          <a:prstGeom prst="rect">
            <a:avLst/>
          </a:prstGeom>
          <a:ln w="0">
            <a:noFill/>
          </a:ln>
        </p:spPr>
      </p:pic>
      <p:pic>
        <p:nvPicPr>
          <p:cNvPr id="470" name="Picture Placeholder 24" descr=""/>
          <p:cNvPicPr/>
          <p:nvPr/>
        </p:nvPicPr>
        <p:blipFill>
          <a:blip r:embed="rId6"/>
          <a:stretch/>
        </p:blipFill>
        <p:spPr>
          <a:xfrm>
            <a:off x="7647120" y="1967040"/>
            <a:ext cx="1258920" cy="1258920"/>
          </a:xfrm>
          <a:prstGeom prst="rect">
            <a:avLst/>
          </a:prstGeom>
          <a:ln w="0">
            <a:noFill/>
          </a:ln>
        </p:spPr>
      </p:pic>
      <p:pic>
        <p:nvPicPr>
          <p:cNvPr id="471" name="Picture Placeholder 25" descr=""/>
          <p:cNvPicPr/>
          <p:nvPr/>
        </p:nvPicPr>
        <p:blipFill>
          <a:blip r:embed="rId7"/>
          <a:stretch/>
        </p:blipFill>
        <p:spPr>
          <a:xfrm>
            <a:off x="9109080" y="1967040"/>
            <a:ext cx="1258920" cy="1258920"/>
          </a:xfrm>
          <a:prstGeom prst="rect">
            <a:avLst/>
          </a:prstGeom>
          <a:ln w="0">
            <a:noFill/>
          </a:ln>
        </p:spPr>
      </p:pic>
      <p:pic>
        <p:nvPicPr>
          <p:cNvPr id="472" name="Picture Placeholder 26" descr=""/>
          <p:cNvPicPr/>
          <p:nvPr/>
        </p:nvPicPr>
        <p:blipFill>
          <a:blip r:embed="rId8"/>
          <a:stretch/>
        </p:blipFill>
        <p:spPr>
          <a:xfrm>
            <a:off x="10569600" y="1967040"/>
            <a:ext cx="1258920" cy="1258920"/>
          </a:xfrm>
          <a:prstGeom prst="rect">
            <a:avLst/>
          </a:prstGeom>
          <a:ln w="0">
            <a:noFill/>
          </a:ln>
        </p:spPr>
      </p:pic>
      <p:pic>
        <p:nvPicPr>
          <p:cNvPr id="473" name="Picture Placeholder 27" descr=""/>
          <p:cNvPicPr/>
          <p:nvPr/>
        </p:nvPicPr>
        <p:blipFill>
          <a:blip r:embed="rId9"/>
          <a:stretch/>
        </p:blipFill>
        <p:spPr>
          <a:xfrm>
            <a:off x="343080" y="3419640"/>
            <a:ext cx="1260360" cy="1260360"/>
          </a:xfrm>
          <a:prstGeom prst="rect">
            <a:avLst/>
          </a:prstGeom>
          <a:ln w="0">
            <a:noFill/>
          </a:ln>
        </p:spPr>
      </p:pic>
      <p:pic>
        <p:nvPicPr>
          <p:cNvPr id="474" name="Picture Placeholder 28" descr=""/>
          <p:cNvPicPr/>
          <p:nvPr/>
        </p:nvPicPr>
        <p:blipFill>
          <a:blip r:embed="rId10"/>
          <a:stretch/>
        </p:blipFill>
        <p:spPr>
          <a:xfrm>
            <a:off x="1803240" y="3419640"/>
            <a:ext cx="1260720" cy="1260360"/>
          </a:xfrm>
          <a:prstGeom prst="rect">
            <a:avLst/>
          </a:prstGeom>
          <a:ln w="0">
            <a:noFill/>
          </a:ln>
        </p:spPr>
      </p:pic>
      <p:pic>
        <p:nvPicPr>
          <p:cNvPr id="475" name="Picture Placeholder 29" descr=""/>
          <p:cNvPicPr/>
          <p:nvPr/>
        </p:nvPicPr>
        <p:blipFill>
          <a:blip r:embed="rId11"/>
          <a:stretch/>
        </p:blipFill>
        <p:spPr>
          <a:xfrm>
            <a:off x="3265560" y="3419640"/>
            <a:ext cx="1258920" cy="1260360"/>
          </a:xfrm>
          <a:prstGeom prst="rect">
            <a:avLst/>
          </a:prstGeom>
          <a:ln w="0">
            <a:noFill/>
          </a:ln>
        </p:spPr>
      </p:pic>
      <p:pic>
        <p:nvPicPr>
          <p:cNvPr id="476" name="Picture Placeholder 30" descr=""/>
          <p:cNvPicPr/>
          <p:nvPr/>
        </p:nvPicPr>
        <p:blipFill>
          <a:blip r:embed="rId12"/>
          <a:stretch/>
        </p:blipFill>
        <p:spPr>
          <a:xfrm>
            <a:off x="4726080" y="3419640"/>
            <a:ext cx="1258920" cy="1260360"/>
          </a:xfrm>
          <a:prstGeom prst="rect">
            <a:avLst/>
          </a:prstGeom>
          <a:ln w="0">
            <a:noFill/>
          </a:ln>
        </p:spPr>
      </p:pic>
      <p:pic>
        <p:nvPicPr>
          <p:cNvPr id="477" name="Picture Placeholder 31" descr=""/>
          <p:cNvPicPr/>
          <p:nvPr/>
        </p:nvPicPr>
        <p:blipFill>
          <a:blip r:embed="rId13"/>
          <a:stretch/>
        </p:blipFill>
        <p:spPr>
          <a:xfrm>
            <a:off x="6186600" y="3419640"/>
            <a:ext cx="1258920" cy="1260360"/>
          </a:xfrm>
          <a:prstGeom prst="rect">
            <a:avLst/>
          </a:prstGeom>
          <a:ln w="0">
            <a:noFill/>
          </a:ln>
        </p:spPr>
      </p:pic>
      <p:pic>
        <p:nvPicPr>
          <p:cNvPr id="478" name="Picture Placeholder 32" descr=""/>
          <p:cNvPicPr/>
          <p:nvPr/>
        </p:nvPicPr>
        <p:blipFill>
          <a:blip r:embed="rId14"/>
          <a:stretch/>
        </p:blipFill>
        <p:spPr>
          <a:xfrm>
            <a:off x="7647120" y="3419640"/>
            <a:ext cx="1258920" cy="1260360"/>
          </a:xfrm>
          <a:prstGeom prst="rect">
            <a:avLst/>
          </a:prstGeom>
          <a:ln w="0">
            <a:noFill/>
          </a:ln>
        </p:spPr>
      </p:pic>
      <p:pic>
        <p:nvPicPr>
          <p:cNvPr id="479" name="Picture Placeholder 33" descr=""/>
          <p:cNvPicPr/>
          <p:nvPr/>
        </p:nvPicPr>
        <p:blipFill>
          <a:blip r:embed="rId15"/>
          <a:stretch/>
        </p:blipFill>
        <p:spPr>
          <a:xfrm>
            <a:off x="9109080" y="3419640"/>
            <a:ext cx="1258920" cy="1260360"/>
          </a:xfrm>
          <a:prstGeom prst="rect">
            <a:avLst/>
          </a:prstGeom>
          <a:ln w="0">
            <a:noFill/>
          </a:ln>
        </p:spPr>
      </p:pic>
      <p:pic>
        <p:nvPicPr>
          <p:cNvPr id="480" name="Picture Placeholder 34" descr=""/>
          <p:cNvPicPr/>
          <p:nvPr/>
        </p:nvPicPr>
        <p:blipFill>
          <a:blip r:embed="rId16"/>
          <a:stretch/>
        </p:blipFill>
        <p:spPr>
          <a:xfrm>
            <a:off x="10569600" y="3419640"/>
            <a:ext cx="1258920" cy="1260360"/>
          </a:xfrm>
          <a:prstGeom prst="rect">
            <a:avLst/>
          </a:prstGeom>
          <a:ln w="0">
            <a:noFill/>
          </a:ln>
        </p:spPr>
      </p:pic>
      <p:sp>
        <p:nvSpPr>
          <p:cNvPr id="481" name="Text Placeholder 8"/>
          <p:cNvSpPr/>
          <p:nvPr/>
        </p:nvSpPr>
        <p:spPr>
          <a:xfrm>
            <a:off x="203040" y="5654520"/>
            <a:ext cx="11785680" cy="89856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condensed"/>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a:t>
            </a:r>
            <a:endParaRPr b="0" lang="en-US" sz="1100" spc="-1" strike="noStrike">
              <a:solidFill>
                <a:srgbClr val="000000"/>
              </a:solidFill>
              <a:latin typeface="Calibri"/>
            </a:endParaRPr>
          </a:p>
        </p:txBody>
      </p:sp>
      <p:sp>
        <p:nvSpPr>
          <p:cNvPr id="482" name="Straight Connector 41"/>
          <p:cNvSpPr/>
          <p:nvPr/>
        </p:nvSpPr>
        <p:spPr>
          <a:xfrm flipH="1">
            <a:off x="355320" y="5364000"/>
            <a:ext cx="1150308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2T14:52:00Z</dcterms:created>
  <dc:creator>MOMODA</dc:creator>
  <dc:description/>
  <dc:language>en-US</dc:language>
  <cp:lastModifiedBy>Administrator</cp:lastModifiedBy>
  <dcterms:modified xsi:type="dcterms:W3CDTF">2016-08-09T07:11:15Z</dcterms:modified>
  <cp:revision>10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