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403A-4BE4-4009-A4E2-5A762229A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8FA-4554-472B-ACB9-5CF825DC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C1D0-DA22-4A2E-8900-627B35A4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624-F873-458A-B084-9D30CE51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9A9A-B42B-4B2D-B109-027E5571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B47C-D591-4857-8C6D-D7721A27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E2EE-94A1-47C2-B585-6D25614F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36E0-C2FD-4846-8B06-17DBBA01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F4F-B8DC-4B11-B53A-DC0BC03D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7BC-4C11-4873-AB78-50165BA2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DE90-F219-4F48-9551-858ABB2A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9283-F1C5-45E8-8791-77DCA32E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0A6E-2DF9-42F3-B9F0-9A87A8BBB4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507672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86080" y="583560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优雅茶道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1784880" y="3273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40690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64281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85880" y="714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926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53568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29977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101988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3929040" y="2214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140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116280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7835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9265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286000" y="2714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5689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0696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569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40690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99780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10911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3857760" y="2000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27118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0696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3549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123408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7121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21405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6498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1926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40690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123408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52837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2711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27835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2-27T07:31:36Z</dcterms:modified>
  <cp:revision>37</cp:revision>
  <dc:subject/>
  <dc:title>幻灯片 1</dc:title>
</cp:coreProperties>
</file>