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EE17-41B3-4860-A458-EF63E69F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CC0A-0E25-4DBA-B1B8-D50E1365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FD7E-0BAE-4271-BA95-316EADF2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8154-6AC7-466C-9C42-27E883F9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2641-F63E-4EE0-A80B-6C6E818D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E766-E014-49BC-B822-651474E1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356E-CF0B-4DE4-85FF-FDDB3AF2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BE43-67B7-415B-ADC0-4D070316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58DD-124C-49AB-8CF1-AFE56ED3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F763-1F95-40AF-9AC7-DC069253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A3E3-0F15-4F69-BE68-8E066AF1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585F-9099-4BA2-A8B1-9185D197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F3E3-3123-4410-8A9A-7BB8E0A56D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928960" y="507672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286080" y="583560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优雅茶道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8"/>
          <p:cNvSpPr/>
          <p:nvPr/>
        </p:nvSpPr>
        <p:spPr>
          <a:xfrm>
            <a:off x="116280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1784880" y="3273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40690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64281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85880" y="7142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9260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53568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5497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29977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101988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3929040" y="2214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1407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116280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7835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9265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140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116280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2286000" y="2714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25689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606960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569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40690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399780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109116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3857760" y="2000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27118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0696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3549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123408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7121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21405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8"/>
          <p:cNvSpPr/>
          <p:nvPr/>
        </p:nvSpPr>
        <p:spPr>
          <a:xfrm>
            <a:off x="1162800" y="78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6498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1926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40690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123408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52837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2711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499788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27835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2-27T07:31:36Z</dcterms:modified>
  <cp:revision>37</cp:revision>
  <dc:subject/>
  <dc:title>幻灯片 1</dc:title>
</cp:coreProperties>
</file>