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gif" ContentType="image/gif"/>
  <Override PartName="/ppt/media/image16.png" ContentType="image/png"/>
  <Override PartName="/ppt/media/image1.jpeg" ContentType="image/jpeg"/>
  <Override PartName="/ppt/media/image7.jpeg" ContentType="image/jpeg"/>
  <Override PartName="/ppt/media/image4.png" ContentType="image/png"/>
  <Override PartName="/ppt/media/image5.jpeg" ContentType="image/jpeg"/>
  <Override PartName="/ppt/media/image6.gif" ContentType="image/gif"/>
  <Override PartName="/ppt/media/image2.gif" ContentType="image/gif"/>
  <Override PartName="/ppt/media/image10.jpeg" ContentType="image/jpeg"/>
  <Override PartName="/ppt/media/image11.gif" ContentType="image/gif"/>
  <Override PartName="/ppt/media/image14.png" ContentType="image/png"/>
  <Override PartName="/ppt/media/image8.png" ContentType="image/png"/>
  <Override PartName="/ppt/media/image9.jpeg" ContentType="image/jpeg"/>
  <Override PartName="/ppt/media/image12.gif" ContentType="image/gif"/>
  <Override PartName="/ppt/media/image15.png" ContentType="image/pn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E2F1-9ACB-4F3C-BB92-96CB2B571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05120" y="-1692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05120" y="685800"/>
            <a:ext cx="72388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905120" y="3750840"/>
            <a:ext cx="72388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36D5-381F-4C6C-8E5F-A587D0CBC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05120" y="-1692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05120" y="685800"/>
            <a:ext cx="35323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14560" y="685800"/>
            <a:ext cx="35323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905120" y="3750840"/>
            <a:ext cx="35323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614560" y="3750840"/>
            <a:ext cx="35323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8116-A125-44EB-837E-724C95A47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05120" y="-1692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05120" y="685800"/>
            <a:ext cx="23306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52760" y="685800"/>
            <a:ext cx="23306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00400" y="685800"/>
            <a:ext cx="23306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905120" y="3750840"/>
            <a:ext cx="23306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52760" y="3750840"/>
            <a:ext cx="23306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800400" y="3750840"/>
            <a:ext cx="23306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98EE-6F22-4E6A-A63A-BDD5EF56C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18C54-19E4-420A-A2EF-68BFF5E68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905120" y="-1692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7238880" cy="58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24B34-0B23-43E2-9D1A-C4E4C52D1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05120" y="-1692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905120" y="685800"/>
            <a:ext cx="72388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8DF58-9E34-4B14-9040-FB07C7FB1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05120" y="-1692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905120" y="685800"/>
            <a:ext cx="35323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614560" y="685800"/>
            <a:ext cx="35323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1A3DD-0362-47ED-A702-14EAA8048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05120" y="-1692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1569F-5D13-412C-900F-3955DFD0A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905120" y="-360"/>
            <a:ext cx="72388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B3125-0E67-46E6-80DE-5BBAD77FE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05120" y="-1692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905120" y="685800"/>
            <a:ext cx="35323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614560" y="685800"/>
            <a:ext cx="35323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905120" y="3750840"/>
            <a:ext cx="35323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0656D-9E37-4591-A6B4-15B51B033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05120" y="-1692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7238880" cy="58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D52B-317F-4FA4-817A-BE18E30F5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05120" y="-1692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05120" y="685800"/>
            <a:ext cx="35323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614560" y="685800"/>
            <a:ext cx="35323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614560" y="3750840"/>
            <a:ext cx="35323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D562C-FF31-41BF-A044-38E1C93F3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05120" y="-1692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05120" y="685800"/>
            <a:ext cx="35323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614560" y="685800"/>
            <a:ext cx="35323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905120" y="3750840"/>
            <a:ext cx="72388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D7B14-67A3-411C-BC7C-3DD944DEF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05120" y="-1692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05120" y="685800"/>
            <a:ext cx="72388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905120" y="3750840"/>
            <a:ext cx="72388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D7560-3AB5-46FA-9FEE-F89FB3657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05120" y="-1692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905120" y="685800"/>
            <a:ext cx="35323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14560" y="685800"/>
            <a:ext cx="35323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905120" y="3750840"/>
            <a:ext cx="35323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614560" y="3750840"/>
            <a:ext cx="35323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5E3BA-B10D-4BD0-BA0B-6E546D9EC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05120" y="-1692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905120" y="685800"/>
            <a:ext cx="23306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52760" y="685800"/>
            <a:ext cx="23306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00400" y="685800"/>
            <a:ext cx="23306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905120" y="3750840"/>
            <a:ext cx="23306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52760" y="3750840"/>
            <a:ext cx="23306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800400" y="3750840"/>
            <a:ext cx="23306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EEB2D-68FA-4788-9705-35A59EC8D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05120" y="-1692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905120" y="685800"/>
            <a:ext cx="72388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BE79-5DA6-41D6-940A-2A7DC192D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05120" y="-1692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05120" y="685800"/>
            <a:ext cx="35323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614560" y="685800"/>
            <a:ext cx="35323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B397-B5EB-44E4-97E1-E0B959D5C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05120" y="-1692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A37A-A330-45A9-AB20-BEA1DC82A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05120" y="-360"/>
            <a:ext cx="72388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2C04-CFA3-40EC-A24A-368BC9190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05120" y="-1692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05120" y="685800"/>
            <a:ext cx="35323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14560" y="685800"/>
            <a:ext cx="35323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905120" y="3750840"/>
            <a:ext cx="35323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B9C9-5FC9-4D66-B672-1A26FB93C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05120" y="-1692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05120" y="685800"/>
            <a:ext cx="35323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14560" y="685800"/>
            <a:ext cx="35323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14560" y="3750840"/>
            <a:ext cx="35323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FD10-91A8-4A9E-A9A3-910C6778E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5120" y="-1692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05120" y="685800"/>
            <a:ext cx="35323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14560" y="685800"/>
            <a:ext cx="35323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905120" y="3750840"/>
            <a:ext cx="72388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8910-7B50-46F2-81BE-54368499E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05120" y="-36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05120" y="685800"/>
            <a:ext cx="72388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3084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SzPct val="2570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SzPct val="3084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spcBef>
                <a:spcPts val="601"/>
              </a:spcBef>
              <a:buSzPct val="2056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spcBef>
                <a:spcPts val="601"/>
              </a:spcBef>
              <a:buSzPct val="2056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spcBef>
                <a:spcPts val="601"/>
              </a:spcBef>
              <a:buSzPct val="2056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spcBef>
                <a:spcPts val="601"/>
              </a:spcBef>
              <a:buSzPct val="2056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62904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57840"/>
            <a:ext cx="2895840" cy="2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657840"/>
            <a:ext cx="2133720" cy="2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7DCDF-D4ED-44DD-99E8-2779D976362F}" type="slidenum">
              <a: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5120" y="-36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905120" y="685800"/>
            <a:ext cx="72388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3084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SzPct val="2570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SzPct val="3084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spcBef>
                <a:spcPts val="601"/>
              </a:spcBef>
              <a:buSzPct val="2056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spcBef>
                <a:spcPts val="601"/>
              </a:spcBef>
              <a:buSzPct val="2056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spcBef>
                <a:spcPts val="601"/>
              </a:spcBef>
              <a:buSzPct val="2056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spcBef>
                <a:spcPts val="601"/>
              </a:spcBef>
              <a:buSzPct val="2056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-36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0992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0D56B-1B85-4596-B07E-6D8BEF9E884E}" type="slidenum">
              <a: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gi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gif"/><Relationship Id="rId4" Type="http://schemas.openxmlformats.org/officeDocument/2006/relationships/image" Target="../media/image12.gif"/><Relationship Id="rId5" Type="http://schemas.openxmlformats.org/officeDocument/2006/relationships/image" Target="../media/image13.gif"/><Relationship Id="rId6" Type="http://schemas.openxmlformats.org/officeDocument/2006/relationships/image" Target="../media/image2.gif"/><Relationship Id="rId7" Type="http://schemas.openxmlformats.org/officeDocument/2006/relationships/image" Target="../media/image6.gif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05120" y="-36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宋体"/>
              </a:rPr>
              <a:t>Your Topic Goes Here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905120" y="685800"/>
            <a:ext cx="35431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buSzPct val="30837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rebuchet MS"/>
                <a:ea typeface="宋体"/>
              </a:rPr>
              <a:t>Your subtopic goes here</a:t>
            </a:r>
            <a:endParaRPr b="1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84" name="Picture 65" descr="DNA-engineer"/>
          <p:cNvPicPr/>
          <p:nvPr/>
        </p:nvPicPr>
        <p:blipFill>
          <a:blip r:embed="rId2"/>
          <a:stretch/>
        </p:blipFill>
        <p:spPr>
          <a:xfrm>
            <a:off x="0" y="1709640"/>
            <a:ext cx="3543480" cy="514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457200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宋体"/>
              </a:rPr>
              <a:t>Transitional Page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0" y="5188680"/>
            <a:ext cx="91440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800" spc="-1" strike="noStrike">
              <a:solidFill>
                <a:srgbClr val="ffffff"/>
              </a:solidFill>
              <a:latin typeface="Trebuchet MS"/>
              <a:ea typeface="宋体"/>
            </a:endParaRPr>
          </a:p>
        </p:txBody>
      </p:sp>
      <p:pic>
        <p:nvPicPr>
          <p:cNvPr id="87" name="Picture 8" descr="dna_waving_hg_clr"/>
          <p:cNvPicPr/>
          <p:nvPr/>
        </p:nvPicPr>
        <p:blipFill>
          <a:blip r:embed="rId2"/>
          <a:stretch/>
        </p:blipFill>
        <p:spPr>
          <a:xfrm>
            <a:off x="2895480" y="990720"/>
            <a:ext cx="2830680" cy="36576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905120" y="-36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Arial Black"/>
                <a:ea typeface="宋体"/>
              </a:rPr>
              <a:t>Your Topic Goes Here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905120" y="685800"/>
            <a:ext cx="35431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buSzPct val="30837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Trebuchet MS"/>
                <a:ea typeface="宋体"/>
              </a:rPr>
              <a:t>Your subtopic goes here</a:t>
            </a:r>
            <a:endParaRPr b="1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90" name="Picture 37" descr="DNA-test-tube"/>
          <p:cNvPicPr/>
          <p:nvPr/>
        </p:nvPicPr>
        <p:blipFill>
          <a:blip r:embed="rId3"/>
          <a:stretch/>
        </p:blipFill>
        <p:spPr>
          <a:xfrm>
            <a:off x="0" y="1600200"/>
            <a:ext cx="329580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561" descr="DNA_sld"/>
          <p:cNvPicPr/>
          <p:nvPr/>
        </p:nvPicPr>
        <p:blipFill>
          <a:blip r:embed="rId1"/>
          <a:stretch/>
        </p:blipFill>
        <p:spPr>
          <a:xfrm>
            <a:off x="1905120" y="476244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63" descr="DNA_prt"/>
          <p:cNvPicPr/>
          <p:nvPr/>
        </p:nvPicPr>
        <p:blipFill>
          <a:blip r:embed="rId2"/>
          <a:stretch/>
        </p:blipFill>
        <p:spPr>
          <a:xfrm>
            <a:off x="4572000" y="4762440"/>
            <a:ext cx="2590920" cy="19432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65" descr="dna_engineering_hg_clr"/>
          <p:cNvPicPr/>
          <p:nvPr/>
        </p:nvPicPr>
        <p:blipFill>
          <a:blip r:embed="rId3"/>
          <a:stretch/>
        </p:blipFill>
        <p:spPr>
          <a:xfrm>
            <a:off x="0" y="685800"/>
            <a:ext cx="1720800" cy="19810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66" descr="dna_holding_testtube_hg_clr"/>
          <p:cNvPicPr/>
          <p:nvPr/>
        </p:nvPicPr>
        <p:blipFill>
          <a:blip r:embed="rId4"/>
          <a:stretch/>
        </p:blipFill>
        <p:spPr>
          <a:xfrm>
            <a:off x="1995480" y="685800"/>
            <a:ext cx="1357200" cy="19810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67" descr="dna_looking_through_magnifying_glass_hg_clr"/>
          <p:cNvPicPr/>
          <p:nvPr/>
        </p:nvPicPr>
        <p:blipFill>
          <a:blip r:embed="rId5"/>
          <a:stretch/>
        </p:blipFill>
        <p:spPr>
          <a:xfrm>
            <a:off x="5486400" y="685800"/>
            <a:ext cx="1981080" cy="19810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68" descr="DNA_rotating_hg_clr"/>
          <p:cNvPicPr/>
          <p:nvPr/>
        </p:nvPicPr>
        <p:blipFill>
          <a:blip r:embed="rId6"/>
          <a:stretch/>
        </p:blipFill>
        <p:spPr>
          <a:xfrm>
            <a:off x="3962520" y="685800"/>
            <a:ext cx="1127160" cy="19810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69" descr="dna_waving_hg_clr"/>
          <p:cNvPicPr/>
          <p:nvPr/>
        </p:nvPicPr>
        <p:blipFill>
          <a:blip r:embed="rId7"/>
          <a:stretch/>
        </p:blipFill>
        <p:spPr>
          <a:xfrm>
            <a:off x="7610400" y="685800"/>
            <a:ext cx="1533600" cy="19810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70" descr="DNA-engineer"/>
          <p:cNvPicPr/>
          <p:nvPr/>
        </p:nvPicPr>
        <p:blipFill>
          <a:blip r:embed="rId8"/>
          <a:stretch/>
        </p:blipFill>
        <p:spPr>
          <a:xfrm>
            <a:off x="6630840" y="3206880"/>
            <a:ext cx="2513160" cy="36511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71" descr="DNA-magnify"/>
          <p:cNvPicPr/>
          <p:nvPr/>
        </p:nvPicPr>
        <p:blipFill>
          <a:blip r:embed="rId9"/>
          <a:stretch/>
        </p:blipFill>
        <p:spPr>
          <a:xfrm>
            <a:off x="2895480" y="3200400"/>
            <a:ext cx="3578400" cy="36511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72" descr="DNA-test-tube"/>
          <p:cNvPicPr/>
          <p:nvPr/>
        </p:nvPicPr>
        <p:blipFill>
          <a:blip r:embed="rId10"/>
          <a:stretch/>
        </p:blipFill>
        <p:spPr>
          <a:xfrm>
            <a:off x="0" y="3352680"/>
            <a:ext cx="2195640" cy="35053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8T06:02:24Z</dcterms:created>
  <dc:creator>微软中国</dc:creator>
  <dc:description/>
  <dc:language>en-US</dc:language>
  <cp:lastModifiedBy>nana</cp:lastModifiedBy>
  <dcterms:modified xsi:type="dcterms:W3CDTF">2016-03-05T16:07:50Z</dcterms:modified>
  <cp:revision>4</cp:revision>
  <dc:subject/>
  <dc:title>PowerPoint 演示文稿</dc:title>
</cp:coreProperties>
</file>