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C9412-529B-404D-B14E-113B74225FB0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0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9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9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admin</cp:lastModifiedBy>
  <dcterms:modified xsi:type="dcterms:W3CDTF">2014-07-19T07:54:26Z</dcterms:modified>
  <cp:revision>1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