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0DC-C430-41FA-9BD8-0C1ADC6F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DC4-DC1F-42CF-BE49-5C75548D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062-681E-4550-9727-D698309C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EB6-D576-49E3-9F57-1F42EE24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EAE-C548-4A55-9C57-9CE565FB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80C-A209-42D5-B684-32603BD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7F0-55D6-4ECF-862B-FEECBC7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5DC-FE58-454D-AC40-6F5E5083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6BA-0F84-471F-86D8-A7C1F063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013-BCD5-4D24-8E9A-E44F4609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2D7-5274-45B5-8435-10A1930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235-A381-47C9-AC18-037FD5A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A968-82BC-4242-818F-F3A930925E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00"/>
                            </p:stCondLst>
                            <p:childTnLst>
                              <p:par>
                                <p:cTn id="1265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900"/>
                            </p:stCondLst>
                            <p:childTnLst>
                              <p:par>
                                <p:cTn id="1278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2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300"/>
                            </p:stCondLst>
                            <p:childTnLst>
                              <p:par>
                                <p:cTn id="1287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0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4400"/>
                            </p:stCondLst>
                            <p:childTnLst>
                              <p:par>
                                <p:cTn id="1306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0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2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4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9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0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6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8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2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3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5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9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0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6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2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0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7" dur="1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3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1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8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6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7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9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8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7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6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7" dur="4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93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1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1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3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0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40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2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2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1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5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1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6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2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5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3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4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6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7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9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3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6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2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6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0" dur="3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0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"/>
                            </p:stCondLst>
                            <p:childTnLst>
                              <p:par>
                                <p:cTn id="1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9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7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3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7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6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300"/>
                            </p:stCondLst>
                            <p:childTnLst>
                              <p:par>
                                <p:cTn id="1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8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2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6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0" dur="1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2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2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2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6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2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19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2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3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0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2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0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2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6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2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61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7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6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84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3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0" dur="3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3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39" dur="3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7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89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0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099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8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6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7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8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7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6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4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6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7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600"/>
                            </p:stCondLst>
                            <p:childTnLst>
                              <p:par>
                                <p:cTn id="1760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2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2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1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5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1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2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5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3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0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800"/>
                            </p:stCondLst>
                            <p:childTnLst>
                              <p:par>
                                <p:cTn id="1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400"/>
                            </p:stCondLst>
                            <p:childTnLst>
                              <p:par>
                                <p:cTn id="1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5" dur="3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2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5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7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800"/>
                            </p:stCondLst>
                            <p:childTnLst>
                              <p:par>
                                <p:cTn id="1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3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4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3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64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9200"/>
                            </p:stCondLst>
                            <p:childTnLst>
                              <p:par>
                                <p:cTn id="188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9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89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1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2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0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1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0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8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19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0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29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8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6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6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7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8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9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0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fill="hold">
                      <p:stCondLst>
                        <p:cond delay="0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600"/>
                            </p:stCondLst>
                            <p:childTnLst>
                              <p:par>
                                <p:cTn id="190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400"/>
                            </p:stCondLst>
                            <p:childTnLst>
                              <p:par>
                                <p:cTn id="194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0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6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7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0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2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800"/>
                            </p:stCondLst>
                            <p:childTnLst>
                              <p:par>
                                <p:cTn id="196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2800"/>
                            </p:stCondLst>
                            <p:childTnLst>
                              <p:par>
                                <p:cTn id="19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3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3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3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5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6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299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2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7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0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4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0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7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8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6" dur="3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4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2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2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8" dur="3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2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2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1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9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400"/>
                            </p:stCondLst>
                            <p:childTnLst>
                              <p:par>
                                <p:cTn id="2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900"/>
                            </p:stCondLst>
                            <p:childTnLst>
                              <p:par>
                                <p:cTn id="2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4:52:59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