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9151-80E7-4566-963F-BDE4633844C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p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C684-E230-423E-8C37-5BD63D496D0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B3E-9847-40DC-95E5-E60ED272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7388-0E8E-43A8-90E4-4287DD8A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BCD64-A464-4B95-8757-57AD2E54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9348B-5E04-4E74-9A4A-23485C45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6C998-BC62-463A-A8B6-4E77206C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6CBB7-1D6C-4032-957E-B18EC8B4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90083-A1E1-4168-A76B-FDB0BDAC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1C20D-8174-4A02-A702-0A65E9EF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37A0E-E087-4A39-A0F3-1607479C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CBA32-EE44-4E37-9F1D-266FAE05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88A20-1A96-4831-9947-246B043B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FBBFB-3B54-424E-BE4D-C85E26A2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25B-C1F4-4BA5-897E-8F8F92B2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4F65F-B723-404C-B5A8-737E22DF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AC4FF-9C33-4BDA-B0F0-7FD9D3F4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3074B-F8BE-4C9F-9472-479BE9CC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A6E84-01A7-4BB5-9351-6543AFAF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E1B86-5B06-46EB-BB19-248CBE52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0CAB1-38D3-409B-8A8C-9D391F99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0D9FA-2A61-4E4B-8E0D-9B5CFE54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D68CB-EFF3-449A-9BA2-89290294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39250-C34A-450C-AD80-FFFED0CE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CB0AB-3BC2-4126-B48E-C7BE5AEB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EAAC-0ACB-452A-B760-C106851C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47257-C49D-4FDE-86EB-83CEDE8A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CFAF6-16C7-4854-838C-5D6661D6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04860-929F-410C-A276-F5AAE96F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B1E29-1F42-4D7E-9F1C-E31F3D9A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BC229-0525-4A07-95D1-FDAFACD5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E1E58-979B-47BB-AF8E-BFE79A56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8B9CD-8529-4561-872E-50E55A12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FD0CC-FA06-4D70-A5EC-DE157978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CCB9A-AA68-4806-A99C-CD8E8B96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833B7-5967-44CC-A1D7-872CA09C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2157-8E4C-4582-8BC6-B36E4A7C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CC4CE-0110-48C0-86BA-E0681120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7074E-7B57-4250-9779-0768D7FA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E7199-F58C-4D68-BE28-AC912908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2E89F-0B36-4FB9-A585-1E672FA7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42A88-5B88-4D27-9861-3CE58772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DD66C-233D-4B74-87EA-277184E1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43F7B-4B46-4D97-A5D9-3CFAB07B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88A11-6561-4C6B-9869-1FFAE3B7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65931-6EC1-4A5C-AF90-A7E9754E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E1B32-6A4D-4EEB-9AFD-B59D5460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AA9B-AB42-46F2-BE08-05E57F00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E9260-0386-46C7-B649-A502BA09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9AD0C-3D16-42EB-90E3-4FAF1B32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F3892-4123-49C1-9470-E6211E37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5EB58-6506-436B-981E-EE0027AE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39172-9C52-4FC5-B62F-0882E3AD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94E75-A845-4260-8C66-629D2A58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B2273-A6B2-4BD5-8B3B-61989C66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E8295-2081-4140-B9FC-FE2D9438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4E644D-D966-4BED-8964-A3DD62DE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BFA0CC-7471-4665-ADF2-C4695C42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B14C-0126-41B9-8B43-02DAE6E6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B3651-BAFA-4396-94A5-D8083CE6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2771BA-74E6-4223-AC56-521649A4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0AB3D-763B-4CE7-98BB-22C19C47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64CC44-E665-47C8-895D-57912278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EDFD4-DE05-42CD-8D44-095A312C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5B6E6B-FBBB-473D-962E-F040D95A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6E2D0B-1488-49E3-BF16-97C8A6D5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B445-8FBD-4BAA-9539-C51B3470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CCDF-1C30-4140-9A4A-4C5FEA00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5FDB-F774-437D-BA28-DE8FF748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E745-9E21-4DF8-9BA6-116FD003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71F-9B18-4B95-968A-71B84AD2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104B-61E8-4065-BF08-5D5B3552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9732-BBFA-4346-94BF-BBF9D8D7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5C61-9EEA-4498-8A74-E979D914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E751-BF86-4EC7-847D-62B873D3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BC44-A829-4B70-81D9-02E2F326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819F8-D3DE-4D48-AB67-19FD66BB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4882C-83FB-4B21-9D0C-3F5A23F2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36362-FB0A-47F9-8559-1C94383D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9F562-ABC3-4F6D-B4C1-EC60553F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FC9F1-BB9F-457D-9E63-0E576F8B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0890-4781-4BB5-8EEC-0B543FC1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70998-AA62-4B80-85F7-AD779D0A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1B9CA-A40A-4D14-A95A-67F9AE70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7C995-BAA7-483F-B9A2-587A1506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5E926-AE11-4F09-9398-F8465190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15978-1BBC-4619-8F98-355A4AEF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3AB49-5DB2-41E3-B847-781F6343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C08EB-90CF-4966-AAE0-987C02EC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29953-A75F-4AC2-9A9C-9089E841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4E096-E607-4F07-B4AD-3500314C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9EC65-6096-4889-B794-75B0CE76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EFA0-3C21-40F9-95E1-2CA0A016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2280C-15F6-4226-83A4-805B069A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4356D-C16D-4E19-B61C-EE823B56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688A6-C7A8-4103-A3CF-6479578C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A2B3C-7549-4ECE-953B-1EB8084F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F1929-DD8B-4F2F-B4C0-0F9532E5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0DF69-C50B-4444-9B84-446A5271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D1736-AD1A-4C0E-A02C-E80E7E15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BDA2C-2B25-4715-8289-818DF616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402DF-9966-4E7D-8D9F-0760813F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B8C7A-E71A-4544-A88D-E6924451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AF60-3FCD-45F2-8EFF-E98EB232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7EC43-014B-4E00-AB92-2A71B8B1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A12E7-D359-4D2A-A1D6-B91AB416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2D393-FE4E-4B29-AC10-1F957FB2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D9C68-EDFC-49F4-8453-9A5CE264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672F3-32DA-497D-BD48-0AF44381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49ABB-8B52-4507-A2B1-89E5A53A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CF7AF-CE80-4548-BEC4-DD970CBE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8619B-EC41-495C-8A06-ED0100B7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B2DFC-5B6C-4407-B1D3-ACC34F18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09883-4B85-40B8-A9B8-EF338FD0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246-672F-4C56-A74F-4B0B1A3F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7666E-61E4-4FC7-8141-B5E4807E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30BC4-8556-47C4-A65B-FF6DBCFB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A8ADA-111A-4BCD-989C-9FB98D90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B9774-ADF7-4E38-88F9-7DF17440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2D72F-811A-42B0-B7EE-546C2A59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B162C-BD43-4519-A232-DD030A08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CBC6A-2FAE-416C-9F4E-0FA1C59D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3131B-D32A-4FFC-9BE3-F2527B66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87DD7-0D57-4F89-9627-981A11E6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AD429-6A0D-4C67-870F-07C930F1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4E53-482E-4DB3-81CE-C6452AF3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37BA1-689E-4639-B2AB-BD2292F1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07353-E3A0-43A5-953E-19BA276B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95FD6-C324-48A5-B479-FA374902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6DC8A-C167-49E2-A590-D5631908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4A7A7-62FA-40AD-8CAC-F4CF504C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B5AD0-27EB-44AE-9E1C-901E57D2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3C8B2-C4B7-48E3-B657-C48E759B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BC535-614D-441A-A74A-9D13F7C8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6FF39-E610-4319-9AFE-B08C0A24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F8098-241D-495D-8492-950EF7D3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FBD9-20D0-4BA2-BF63-BFFC5F0E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9BA57-1439-4918-BEBE-F3D8655E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2E717-2B81-41FA-845B-DFE26B2F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5DA73-AD75-4A61-959D-03EA744D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1A145-7213-48A3-AE1E-B9EE460B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3DBCA-2428-4BD8-A044-71748057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EBBDA-2A66-4735-88C0-56584979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4CE29-5552-4D11-9CFC-71CCA75F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821F9-AF1F-4CD8-AEAB-06A8BBBA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DB923-A138-40B1-8364-02DF93E3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1EEA9-DBC4-4ABB-A6B7-A49CCB1E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114-73D7-482B-8E8F-BFC39D86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AD872-2FC4-41E8-BF39-575C9392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3304F-0105-4E88-B855-D2511D6E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1B975-C8FD-49BA-96A5-D5EE9680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42D8A-5AAB-4929-B773-11585A89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CD051-3370-4B77-9214-8D1BE7C7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BCA13-CD9B-49F9-AB82-DC17FED9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45A4C-08D3-4CDF-ABF5-1A623231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8AFF0-ED4C-4B76-B996-75363FA9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D8F3C-7C52-419B-A178-9EE73FD4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EE80C-A8D2-4103-9F3A-37841D98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E3DE-565F-4B58-839B-5C534073729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16BD-4248-4C14-970D-9FAC69381D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2A0D-D696-4C76-94A7-7D581DE806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CF0E-C7C7-43EE-A471-E1CC23BCBD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8AD8-48F0-49A8-B5DF-5B44B3A1F7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5626-F07B-4EB6-B3ED-C453B3481D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F1C4-9F69-4257-9500-DE33E7A983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D8C0-2D8D-42F3-BE86-C1D0142668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94DB-BDFA-45B0-AD19-47172781FB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4B9D-54BE-44CB-9CA7-F04F12C707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0D3E-2547-49BD-9E00-9FE3CF1670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C74B-4D3B-436A-842E-C0442A6DBE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194A-2663-4068-9332-4CD58377C9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组合 19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41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8" name="TextBox 27"/>
          <p:cNvSpPr/>
          <p:nvPr/>
        </p:nvSpPr>
        <p:spPr>
          <a:xfrm rot="746400">
            <a:off x="8569440" y="2311560"/>
            <a:ext cx="297180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家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Picture 3" descr="C:\Users\lenovo\Desktop\大妞1.png"/>
          <p:cNvPicPr/>
          <p:nvPr/>
        </p:nvPicPr>
        <p:blipFill>
          <a:blip r:embed="rId2"/>
          <a:srcRect l="0" t="0" r="29722" b="0"/>
          <a:stretch/>
        </p:blipFill>
        <p:spPr>
          <a:xfrm>
            <a:off x="-63360" y="0"/>
            <a:ext cx="6627600" cy="63165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105160" y="2417400"/>
            <a:ext cx="3733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梦</a:t>
            </a:r>
            <a:r>
              <a:rPr b="0" lang="ja-JP" sz="12400" spc="-1" strike="noStrike">
                <a:solidFill>
                  <a:srgbClr val="960000"/>
                </a:solidFill>
                <a:latin typeface="方正艺黑简体"/>
                <a:ea typeface="方正艺黑简体"/>
              </a:rPr>
              <a:t>の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29"/>
          <p:cNvGrpSpPr/>
          <p:nvPr/>
        </p:nvGrpSpPr>
        <p:grpSpPr>
          <a:xfrm>
            <a:off x="4660200" y="-140040"/>
            <a:ext cx="8839800" cy="3179160"/>
            <a:chOff x="4660200" y="-140040"/>
            <a:chExt cx="8839800" cy="3179160"/>
          </a:xfrm>
        </p:grpSpPr>
        <p:pic>
          <p:nvPicPr>
            <p:cNvPr id="552" name="Picture 6" descr="C:\Users\lenovo\Desktop\M2.gif"/>
            <p:cNvPicPr/>
            <p:nvPr/>
          </p:nvPicPr>
          <p:blipFill>
            <a:blip r:embed="rId3"/>
            <a:srcRect l="0" t="0" r="38096" b="0"/>
            <a:stretch/>
          </p:blipFill>
          <p:spPr>
            <a:xfrm rot="537000">
              <a:off x="4846680" y="114120"/>
              <a:ext cx="34801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TextBox 4"/>
            <p:cNvSpPr/>
            <p:nvPr/>
          </p:nvSpPr>
          <p:spPr>
            <a:xfrm>
              <a:off x="6782040" y="1319760"/>
              <a:ext cx="67179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960000"/>
                  </a:solidFill>
                  <a:latin typeface="Kozuka Mincho Pro B"/>
                  <a:ea typeface="Kozuka Mincho Pro B"/>
                </a:rPr>
                <a:t>mèng</a:t>
              </a:r>
              <a:endParaRPr b="0" lang="en-US" sz="3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4" name="Picture 4" descr="G:\DURING\坐着大妞.png"/>
          <p:cNvPicPr/>
          <p:nvPr/>
        </p:nvPicPr>
        <p:blipFill>
          <a:blip r:embed="rId4"/>
          <a:stretch/>
        </p:blipFill>
        <p:spPr>
          <a:xfrm>
            <a:off x="3165480" y="541440"/>
            <a:ext cx="1863720" cy="3321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C:\Users\lenovo\Desktop\M1.gif"/>
          <p:cNvPicPr/>
          <p:nvPr/>
        </p:nvPicPr>
        <p:blipFill>
          <a:blip r:embed="rId5"/>
          <a:srcRect l="36587" t="0" r="34144" b="0"/>
          <a:stretch/>
        </p:blipFill>
        <p:spPr>
          <a:xfrm>
            <a:off x="10058400" y="1263600"/>
            <a:ext cx="1828800" cy="29671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C:\Users\lenovo\Desktop\牧羊.png"/>
          <p:cNvPicPr/>
          <p:nvPr/>
        </p:nvPicPr>
        <p:blipFill>
          <a:blip r:embed="rId6"/>
          <a:stretch/>
        </p:blipFill>
        <p:spPr>
          <a:xfrm>
            <a:off x="8839080" y="4873680"/>
            <a:ext cx="1716120" cy="15285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9" descr="C:\Users\lenovo\Desktop\推.gif"/>
          <p:cNvPicPr/>
          <p:nvPr/>
        </p:nvPicPr>
        <p:blipFill>
          <a:blip r:embed="rId7"/>
          <a:stretch/>
        </p:blipFill>
        <p:spPr>
          <a:xfrm>
            <a:off x="9067680" y="3139920"/>
            <a:ext cx="176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825640"/>
            <a:ext cx="4419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目录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5257800" y="184140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4" descr="G:\DURING\坐着大妞.png"/>
          <p:cNvPicPr/>
          <p:nvPr/>
        </p:nvPicPr>
        <p:blipFill>
          <a:blip r:embed="rId2"/>
          <a:stretch/>
        </p:blipFill>
        <p:spPr>
          <a:xfrm>
            <a:off x="762120" y="442800"/>
            <a:ext cx="1981080" cy="3529080"/>
          </a:xfrm>
          <a:prstGeom prst="rect">
            <a:avLst/>
          </a:prstGeom>
          <a:ln w="0">
            <a:noFill/>
          </a:ln>
        </p:spPr>
      </p:pic>
      <p:grpSp>
        <p:nvGrpSpPr>
          <p:cNvPr id="561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6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TextBox 25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直接连接符 18"/>
          <p:cNvSpPr/>
          <p:nvPr/>
        </p:nvSpPr>
        <p:spPr>
          <a:xfrm>
            <a:off x="5029200" y="1335240"/>
            <a:ext cx="0" cy="3681360"/>
          </a:xfrm>
          <a:prstGeom prst="line">
            <a:avLst/>
          </a:prstGeom>
          <a:ln w="28440">
            <a:solidFill>
              <a:srgbClr val="2a15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29"/>
          <p:cNvSpPr/>
          <p:nvPr/>
        </p:nvSpPr>
        <p:spPr>
          <a:xfrm>
            <a:off x="5257800" y="2562120"/>
            <a:ext cx="6400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我们的故事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踏上征途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努力拼搏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再别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657240" y="249048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壹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26"/>
          <p:cNvGrpSpPr/>
          <p:nvPr/>
        </p:nvGrpSpPr>
        <p:grpSpPr>
          <a:xfrm>
            <a:off x="7113600" y="1984320"/>
            <a:ext cx="2639880" cy="2600280"/>
            <a:chOff x="7113600" y="1984320"/>
            <a:chExt cx="2639880" cy="2600280"/>
          </a:xfrm>
        </p:grpSpPr>
        <p:sp>
          <p:nvSpPr>
            <p:cNvPr id="573" name="直接连接符 17"/>
            <p:cNvSpPr/>
            <p:nvPr/>
          </p:nvSpPr>
          <p:spPr>
            <a:xfrm>
              <a:off x="731520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4" name="Picture 5" descr="C:\Users\lenovo\Desktop\M1.gif"/>
            <p:cNvPicPr/>
            <p:nvPr/>
          </p:nvPicPr>
          <p:blipFill>
            <a:blip r:embed="rId2"/>
            <a:srcRect l="36585" t="27784" r="30253" b="11108"/>
            <a:stretch/>
          </p:blipFill>
          <p:spPr>
            <a:xfrm>
              <a:off x="7113600" y="2273040"/>
              <a:ext cx="2639880" cy="23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5" name="组合 21"/>
          <p:cNvGrpSpPr/>
          <p:nvPr/>
        </p:nvGrpSpPr>
        <p:grpSpPr>
          <a:xfrm>
            <a:off x="2514600" y="1984320"/>
            <a:ext cx="2743200" cy="2600280"/>
            <a:chOff x="2514600" y="1984320"/>
            <a:chExt cx="2743200" cy="2600280"/>
          </a:xfrm>
        </p:grpSpPr>
        <p:sp>
          <p:nvSpPr>
            <p:cNvPr id="576" name="直接连接符 18"/>
            <p:cNvSpPr/>
            <p:nvPr/>
          </p:nvSpPr>
          <p:spPr>
            <a:xfrm>
              <a:off x="472464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7" name="Picture 6" descr="C:\Users\lenovo\Desktop\M2.gif"/>
            <p:cNvPicPr/>
            <p:nvPr/>
          </p:nvPicPr>
          <p:blipFill>
            <a:blip r:embed="rId3"/>
            <a:srcRect l="6399" t="19655" r="58133" b="15481"/>
            <a:stretch/>
          </p:blipFill>
          <p:spPr>
            <a:xfrm>
              <a:off x="2514600" y="1984320"/>
              <a:ext cx="2743200" cy="23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8" name="TextBox 27"/>
          <p:cNvSpPr/>
          <p:nvPr/>
        </p:nvSpPr>
        <p:spPr>
          <a:xfrm>
            <a:off x="5181480" y="4511520"/>
            <a:ext cx="18288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组合 16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80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4"/>
          <p:cNvSpPr/>
          <p:nvPr/>
        </p:nvSpPr>
        <p:spPr>
          <a:xfrm>
            <a:off x="6400800" y="-169704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组合 31"/>
          <p:cNvGrpSpPr/>
          <p:nvPr/>
        </p:nvGrpSpPr>
        <p:grpSpPr>
          <a:xfrm>
            <a:off x="1143000" y="2057400"/>
            <a:ext cx="10071000" cy="3873600"/>
            <a:chOff x="1143000" y="2057400"/>
            <a:chExt cx="10071000" cy="3873600"/>
          </a:xfrm>
        </p:grpSpPr>
        <p:sp>
          <p:nvSpPr>
            <p:cNvPr id="589" name="TextBox 29"/>
            <p:cNvSpPr/>
            <p:nvPr/>
          </p:nvSpPr>
          <p:spPr>
            <a:xfrm>
              <a:off x="1143000" y="2057400"/>
              <a:ext cx="10058040" cy="1739880"/>
            </a:xfrm>
            <a:prstGeom prst="rect">
              <a:avLst/>
            </a:prstGeom>
            <a:noFill/>
            <a:ln w="936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1500"/>
                  </a:solidFill>
                  <a:latin typeface="Calibri"/>
                </a:rPr>
                <a:t>         </a:t>
              </a:r>
              <a:r>
                <a:rPr b="0" lang="zh-CN" sz="1500" spc="-1" strike="noStrike">
                  <a:solidFill>
                    <a:srgbClr val="2a1500"/>
                  </a:solidFill>
                  <a:latin typeface="Calibri"/>
                </a:rPr>
                <a:t>清晨第一束阳光洒在美丽的地球上，虽然还不够明亮但我能感受到它的能量。坚定自己的信仰，只为共同的梦想！起到有双翅膀 能助我们飞翔。无论多大风多大的浪，前进的方向永远不会迷茫；狂风暴雨再怎么顽强都无法阻挡我们的梦想！有过狼狈的模样，讨厌那种看不起的眼光。昂起头挺胸向前，这是我们的梦想。穿上华丽的衣装，璀璨的灯光站在舞台中央，释放出那撼动身心的力量。看似丑陋的仙人掌，花开却散发着芬香。虽然仅一天可赏，但却难把它的香味遗忘。坚定自己的信仰，只为共同的梦想</a:t>
              </a: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TextBox 16"/>
            <p:cNvSpPr/>
            <p:nvPr/>
          </p:nvSpPr>
          <p:spPr>
            <a:xfrm>
              <a:off x="1143000" y="2156040"/>
              <a:ext cx="761760" cy="10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600" spc="-1" strike="noStrike" baseline="-25000">
                  <a:solidFill>
                    <a:srgbClr val="2a1500"/>
                  </a:solidFill>
                  <a:latin typeface="Calibri"/>
                </a:rPr>
                <a:t>当</a:t>
              </a:r>
              <a:endParaRPr b="0" lang="en-US" sz="5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91" name="Picture 4" descr="G:\DURING\坐着大妞.png"/>
            <p:cNvPicPr/>
            <p:nvPr/>
          </p:nvPicPr>
          <p:blipFill>
            <a:blip r:embed="rId2"/>
            <a:stretch/>
          </p:blipFill>
          <p:spPr>
            <a:xfrm>
              <a:off x="10147320" y="4030920"/>
              <a:ext cx="1066680" cy="19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组合 30"/>
          <p:cNvGrpSpPr/>
          <p:nvPr/>
        </p:nvGrpSpPr>
        <p:grpSpPr>
          <a:xfrm>
            <a:off x="-609840" y="-476280"/>
            <a:ext cx="10147680" cy="2967120"/>
            <a:chOff x="-609840" y="-476280"/>
            <a:chExt cx="10147680" cy="2967120"/>
          </a:xfrm>
        </p:grpSpPr>
        <p:pic>
          <p:nvPicPr>
            <p:cNvPr id="593" name="Picture 5" descr="C:\Users\lenovo\Desktop\M1.gif"/>
            <p:cNvPicPr/>
            <p:nvPr/>
          </p:nvPicPr>
          <p:blipFill>
            <a:blip r:embed="rId3"/>
            <a:stretch/>
          </p:blipFill>
          <p:spPr>
            <a:xfrm flipH="1">
              <a:off x="-609840" y="-476280"/>
              <a:ext cx="5410440" cy="29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直接连接符 19"/>
            <p:cNvSpPr/>
            <p:nvPr/>
          </p:nvSpPr>
          <p:spPr>
            <a:xfrm>
              <a:off x="2743200" y="560160"/>
              <a:ext cx="0" cy="1443240"/>
            </a:xfrm>
            <a:prstGeom prst="line">
              <a:avLst/>
            </a:prstGeom>
            <a:ln w="28440">
              <a:solidFill>
                <a:srgbClr val="96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5" name="组合 28"/>
            <p:cNvGrpSpPr/>
            <p:nvPr/>
          </p:nvGrpSpPr>
          <p:grpSpPr>
            <a:xfrm>
              <a:off x="2743200" y="1065240"/>
              <a:ext cx="6794640" cy="1014120"/>
              <a:chOff x="2743200" y="1065240"/>
              <a:chExt cx="6794640" cy="1014120"/>
            </a:xfrm>
          </p:grpSpPr>
          <p:sp>
            <p:nvSpPr>
              <p:cNvPr id="596" name="TextBox 26"/>
              <p:cNvSpPr/>
              <p:nvPr/>
            </p:nvSpPr>
            <p:spPr>
              <a:xfrm>
                <a:off x="2743200" y="1065240"/>
                <a:ext cx="3505320" cy="10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我们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       </a:t>
                </a:r>
                <a:r>
                  <a:rPr b="0" lang="ja-JP" sz="3700" spc="-1" strike="noStrike">
                    <a:solidFill>
                      <a:srgbClr val="2a1500"/>
                    </a:solidFill>
                    <a:latin typeface="方正艺黑简体"/>
                    <a:ea typeface="方正艺黑简体"/>
                  </a:rPr>
                  <a:t>の</a:t>
                </a: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梦想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TextBox 27"/>
              <p:cNvSpPr/>
              <p:nvPr/>
            </p:nvSpPr>
            <p:spPr>
              <a:xfrm>
                <a:off x="2819160" y="1423080"/>
                <a:ext cx="67186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960000"/>
                    </a:solidFill>
                    <a:latin typeface="Kozuka Mincho Pro B"/>
                    <a:ea typeface="Kozuka Mincho Pro B"/>
                  </a:rPr>
                  <a:t>mèng</a:t>
                </a: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8" name="组合 20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99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TextBox 34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495320" y="285084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谢谢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组合 19"/>
          <p:cNvGrpSpPr/>
          <p:nvPr/>
        </p:nvGrpSpPr>
        <p:grpSpPr>
          <a:xfrm>
            <a:off x="609480" y="1335240"/>
            <a:ext cx="3810240" cy="3754440"/>
            <a:chOff x="609480" y="1335240"/>
            <a:chExt cx="3810240" cy="3754440"/>
          </a:xfrm>
        </p:grpSpPr>
        <p:pic>
          <p:nvPicPr>
            <p:cNvPr id="608" name="Picture 6" descr="C:\Users\lenovo\Desktop\M2.gif"/>
            <p:cNvPicPr/>
            <p:nvPr/>
          </p:nvPicPr>
          <p:blipFill>
            <a:blip r:embed="rId2"/>
            <a:srcRect l="4646" t="21858" r="62824" b="9275"/>
            <a:stretch/>
          </p:blipFill>
          <p:spPr>
            <a:xfrm>
              <a:off x="609480" y="1335240"/>
              <a:ext cx="3734280" cy="37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直接连接符 18"/>
            <p:cNvSpPr/>
            <p:nvPr/>
          </p:nvSpPr>
          <p:spPr>
            <a:xfrm>
              <a:off x="4419720" y="1623960"/>
              <a:ext cx="0" cy="324972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0" name="TextBox 16"/>
          <p:cNvSpPr/>
          <p:nvPr/>
        </p:nvSpPr>
        <p:spPr>
          <a:xfrm>
            <a:off x="5016600" y="2228760"/>
            <a:ext cx="6718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60000"/>
                </a:solidFill>
                <a:latin typeface="Kozuka Mincho Pro B"/>
                <a:ea typeface="Kozuka Mincho Pro B"/>
              </a:rPr>
              <a:t>Thanks 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61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TextBox 28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任意多边形 2"/>
          <p:cNvSpPr/>
          <p:nvPr/>
        </p:nvSpPr>
        <p:spPr>
          <a:xfrm>
            <a:off x="2243160" y="2946240"/>
            <a:ext cx="596880" cy="65736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3"/>
          <p:cNvSpPr/>
          <p:nvPr/>
        </p:nvSpPr>
        <p:spPr>
          <a:xfrm>
            <a:off x="2832120" y="2949480"/>
            <a:ext cx="9360000" cy="657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    </a:t>
            </a:r>
            <a:r>
              <a:rPr b="0" lang="en-US" sz="2800" spc="-1" strike="noStrike">
                <a:solidFill>
                  <a:srgbClr val="ffffff"/>
                </a:solidFill>
                <a:latin typeface="幼圆"/>
                <a:ea typeface="幼圆"/>
              </a:rPr>
              <a:t> </a:t>
            </a:r>
            <a:r>
              <a:rPr b="0" lang="en-US" sz="2800" spc="-1" strike="noStrike">
                <a:solidFill>
                  <a:srgbClr val="ceeab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6"/>
          <p:cNvSpPr/>
          <p:nvPr/>
        </p:nvSpPr>
        <p:spPr>
          <a:xfrm>
            <a:off x="0" y="2182680"/>
            <a:ext cx="9312120" cy="77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直角三角形 5"/>
          <p:cNvSpPr/>
          <p:nvPr/>
        </p:nvSpPr>
        <p:spPr>
          <a:xfrm>
            <a:off x="9312120" y="2178000"/>
            <a:ext cx="854280" cy="77940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11"/>
          <p:cNvSpPr/>
          <p:nvPr/>
        </p:nvSpPr>
        <p:spPr>
          <a:xfrm>
            <a:off x="2581200" y="3921120"/>
            <a:ext cx="69073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moban/    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er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beijing/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tub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sucai/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aocheng/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pptbz.com</dc:creator>
  <dc:description/>
  <dc:language>en-US</dc:language>
  <cp:lastModifiedBy>Administrator</cp:lastModifiedBy>
  <dcterms:modified xsi:type="dcterms:W3CDTF">2015-05-25T10:21:5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