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FD72-B3A5-4361-8785-64227CC2A4C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ppp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796E-A86B-402B-BC7D-6323FF56C6C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2851-EEE4-4699-8CD9-44A7B0ED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7676-3A05-4A3F-B748-D0AED947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43256-E375-43B1-8BE1-5E36B5CC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BCFAB-D790-49A0-A6EE-9354CE58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3C933-494E-466B-928A-F518EA65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3423A-E209-4C78-9D93-8FF37429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A9C38-69C7-48B9-AE5B-4F62FECE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A7D6E-649E-4BCF-8D96-E05295E3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67A04-42B1-4AA7-8E7E-28E20C66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72ECB-4726-44F8-A7F0-B57C0386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46489-F5D2-434C-8CA0-98EB3133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461AF-C779-4BC5-8306-0E152C65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EC15-1C1E-4E38-B6B4-DD42BD95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8CDA7-114F-4290-AE67-72483D01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0BAC7-D8E0-4DBB-BB29-D54DB2D2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8A3A1-A182-4DE4-887D-4B7601D9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934AF-D0C2-47CC-974D-D4B93E23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111F2-201E-4DED-8E36-47A47870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1B98F-C635-44D9-B512-004386FA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8D514-EE1D-4289-846E-D7C64C0F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7AED6-9917-48FE-BF51-F462AB65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CEC4A-4398-4CCF-BAD8-7F508099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35D66-DFB9-471C-9918-004BBD11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B387-B12E-42C3-BE32-ADBDF196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0AE9D-508F-47B8-9F49-16E9300E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DDD09-9012-4B88-BF83-4E89DA5A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9B78E-A10B-41C3-B101-64C132F9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CC88D-E797-4334-A507-3F21A7A1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1381F-CD8D-4BF9-8AA7-628CCE7D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EF46D-7C87-47E9-A6BC-788488EF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632A7-5CBA-4C00-92E6-36430B45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C00C7-9E99-466D-B614-6DB88846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9FDDC-371F-4701-A780-D9709D81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13163-B343-4796-A241-9E7E398F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17FD-2FFD-4755-B6E4-709CBEEF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7B253-ECB2-4EBE-BAB5-67A484FF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0C2A2-3194-44A5-9B75-A64A3800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E2B1C-CEB9-47A5-92E6-CD17FD12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A6E8A-68D9-4393-841B-4D75CA0C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81F8B-4979-4D74-9E23-4487EDBB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A709A5-F123-453E-82E6-AA66629A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DBF80-44B2-4339-82E8-33A11823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AB09B-E0A6-4DB2-A511-8F18F9CF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F3805-24F0-4829-A67F-3F176D08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E8DF0-C4F3-4302-8BAA-F521C3DC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4066-5901-46FB-92F2-53DD2CC8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15421C-46B7-4DD4-A4A8-55CBDB55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8DDD8-EFB1-414A-A09C-9BC814FE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BC84E-39E3-43E6-9349-8CB4F291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F6A42-488B-4E77-97C8-C2BC6BDE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273C5-C713-46D2-B580-B5956896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0F9846-B4DB-4FA1-B034-F8812AC0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016543-F3BA-4BA6-BC60-7C9ED247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054C34-BF9D-4990-9213-FBB4E43F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D4E3C9-6B44-49CD-80A4-DBEA7DD2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B9D6C6-E60A-4EE8-8FE1-51947955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46C9-7761-4D39-8CC8-59850668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3278C8-0ACC-4D32-92DC-7215B137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96672B-A9AD-46DE-9791-653256AA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54A890-2A32-4E21-AB68-FF4D1862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9E6A21-8B09-479E-BD66-F2F29B62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F8D6D3-D45F-40F1-969C-39A37607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ECFF66-CE2F-4AB7-82FE-FD2E35A0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AC4882-50FF-4E66-B57C-0F8F5AD0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AA77-99E6-410E-A25E-48EA8C4C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7D88-0284-4C46-AB86-B203EF20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5BA0-9D0D-4F61-9555-5CC5048A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28FD-7673-4FB9-A6D4-A0F39E30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5E63-0666-4C9C-8831-960E3873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1D17-0D0E-413B-8633-8DA4C6B5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A639-FAB4-4828-BCFE-466DCCBE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DC8C-A3F1-456B-B88F-CF3502C0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53D6-1AC1-4DA7-908F-8BD40F96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AFC8-883B-4CB1-A15F-AEEB21DE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45885-68E5-4287-8841-2643F368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185D3-5C05-4E0F-9662-0667A4CA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9357B-9955-4F1F-9DCD-0D195814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6B5F6-9D71-467F-8910-7D6D3912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63C20-42F7-4486-9718-952CE72B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7E51-CB56-40EC-B9A2-F2D696FF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C8190-E4FF-49E8-A1AF-5B08154B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69C5E-7993-45A8-B3A6-C393C0CB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417DB-EC91-4FE0-B4F3-11ADD118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317D4-4101-48B2-9034-618E5954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152FD-69D3-4C39-AB0D-3F9AF38C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6DD76-1523-49E0-9860-434BCB91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A06A8-4A6E-46DF-BD35-629D8E45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3E772-0AC1-453B-803F-66026A50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D64F3-A231-42C1-AAF4-43B93BB8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BA0C8-10B8-4DD4-8269-01377A80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6D5F-387D-44E8-A646-D645D00F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34DE3-D978-4183-9B49-D927E383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9928F-E169-49A1-8414-4A7DD8DB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C05F1-CB06-46AC-907D-2BA0D00E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7734B-7FF1-4FF2-A797-6498EB77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45E94-0E84-4833-9BF3-614A702E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E7A72-9C57-45D4-9264-228A9882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C5D31-5616-4C39-81DF-3D4738AA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0EF11-102C-48A5-ACB7-F9D5D06E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73F05-DB48-4C55-9E3E-FBB9D0A7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D0CB9-7EED-4417-9597-B9AAAA63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6DD1-CDF1-449A-BD31-2D104FFF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79A91-424F-43AE-8B94-D0915535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35EB5-40C2-4583-8D09-1912D7E3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CC909-459B-4461-8D05-D1566DE6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2F3B2-5DC4-4130-BB8A-90A787A3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0D406-FFB2-4407-8008-249C8BFF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3A6E4-2D4A-4472-BE10-57939955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04770-0C76-400E-A8D9-58A2B2A8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B861B-6BC3-43F4-A1F3-359620F2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26894-FD57-4198-B059-130D9680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DC345-3B4C-43D1-B5A1-C36742E3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9314-75A9-4AD9-8BA1-9E226CBA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DE280-47A0-4BC8-8AFF-8942BEE0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C6467-B2DA-4120-8EFD-746CA332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D417F-F145-4EBC-BDF2-8CB28783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B5E68-1F19-456F-95CB-1820A70F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0C245-F5DE-4619-8CC8-93B2B52E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112DE-A7C3-4D82-85AD-2B4CEEDA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552AF-324A-4A20-83C4-E1BB6415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B7C35-D6FE-4509-9137-92081307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996B7-3173-4BF4-97D6-58326184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FBF73-9DBC-41CB-8ADC-533E1365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EBD8-BFC5-45B6-B7DC-AB6995A0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160F9-BADC-48EC-80E1-B4BAAF0E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67CD0-4BE5-4891-BD99-E1C9F2EA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0A607-05C5-47E4-B34E-2DAD3428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305F8-B820-4F19-8E97-669683DB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427DB-669B-4FFE-A761-3DD9245D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61266-8150-4E46-B7BB-AF0F11E3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35B87-AA7F-4539-A864-FDED3469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B75B9-DFEB-4F31-BEA2-47E87F6E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2E981-CACA-4AA1-AB89-B86239F9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7F70C-6BBA-4322-9B7F-B23BBE24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DFF6-64FD-4DAC-A1E2-1576AF94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EE250-9D8F-4532-85D0-02827277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DAFBF-2F9C-4B9D-9693-8EC41B97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727AC-69CC-485B-95A4-A87A643A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8EBD5-6140-4C6A-8513-24F77B08D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33622-D538-4170-8A52-91B5E590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8CD57-A908-4B8F-8D5A-DEDFE677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1C8A0-9C76-456A-BEAE-247335DA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E9937-281C-4964-A94E-E77E1F13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C6D0C-368B-40ED-8F7B-793F411A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32DCA-2574-444F-AA98-BA8812F7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F19E-21F0-4743-BADA-58FB07A2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61A31-B946-4C9C-BF92-EEC5EF80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561EB-B146-4494-B559-064EF58B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B0F6B-E2A6-4D27-B4AA-5F2A566E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E3808-E54E-4839-B248-4520166E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D0B72-2D67-486B-AA5C-35A97684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B290E-86A1-4138-83A4-ABAD720A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73D5A-0369-4B83-950C-4B0EE257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64920-0780-43FA-AAF2-F0E32703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CFEB0-1BE5-45F4-8021-B553E466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02D93-D008-4C9D-8A62-064344AE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1385-0F7B-4215-A609-92C47DAA65E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57B4-92A2-43EC-8FE9-A947664BF7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DBB3-EDA2-4CE0-9CC3-AC7B6C14E3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475C-A41B-4EBE-8817-8FE40448B2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6200-8AA3-4C9F-ADB2-06BFB5B27F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6EE3-215F-4B13-B09B-45ACE1058D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0860-61AB-4D65-9E2E-5A36B1C530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3986-8D51-4D1B-B2FA-62809151B1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3020-F7D2-46F7-BBA2-F26CD93646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E83A-8705-4B9F-8203-29F4E27CB9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D0DC-28F2-450F-A365-7B2CBD5CDD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7587-8029-4920-B7DA-068989924C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5AA1-2BE2-461F-8FCF-64A37F7327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组合 19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541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8" name="TextBox 27"/>
          <p:cNvSpPr/>
          <p:nvPr/>
        </p:nvSpPr>
        <p:spPr>
          <a:xfrm rot="746400">
            <a:off x="8569440" y="2311560"/>
            <a:ext cx="2971800" cy="19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家</a:t>
            </a: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Picture 3" descr="C:\Users\lenovo\Desktop\大妞1.png"/>
          <p:cNvPicPr/>
          <p:nvPr/>
        </p:nvPicPr>
        <p:blipFill>
          <a:blip r:embed="rId2"/>
          <a:srcRect l="0" t="0" r="29722" b="0"/>
          <a:stretch/>
        </p:blipFill>
        <p:spPr>
          <a:xfrm>
            <a:off x="-63360" y="0"/>
            <a:ext cx="6627600" cy="631656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105160" y="2417400"/>
            <a:ext cx="3733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梦</a:t>
            </a:r>
            <a:r>
              <a:rPr b="0" lang="ja-JP" sz="12400" spc="-1" strike="noStrike">
                <a:solidFill>
                  <a:srgbClr val="960000"/>
                </a:solidFill>
                <a:latin typeface="方正艺黑简体"/>
                <a:ea typeface="方正艺黑简体"/>
              </a:rPr>
              <a:t>の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29"/>
          <p:cNvGrpSpPr/>
          <p:nvPr/>
        </p:nvGrpSpPr>
        <p:grpSpPr>
          <a:xfrm>
            <a:off x="4660200" y="-140040"/>
            <a:ext cx="8839800" cy="3179160"/>
            <a:chOff x="4660200" y="-140040"/>
            <a:chExt cx="8839800" cy="3179160"/>
          </a:xfrm>
        </p:grpSpPr>
        <p:pic>
          <p:nvPicPr>
            <p:cNvPr id="552" name="Picture 6" descr="C:\Users\lenovo\Desktop\M2.gif"/>
            <p:cNvPicPr/>
            <p:nvPr/>
          </p:nvPicPr>
          <p:blipFill>
            <a:blip r:embed="rId3"/>
            <a:srcRect l="0" t="0" r="38096" b="0"/>
            <a:stretch/>
          </p:blipFill>
          <p:spPr>
            <a:xfrm rot="537000">
              <a:off x="4846680" y="114120"/>
              <a:ext cx="348012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TextBox 4"/>
            <p:cNvSpPr/>
            <p:nvPr/>
          </p:nvSpPr>
          <p:spPr>
            <a:xfrm>
              <a:off x="6782040" y="1319760"/>
              <a:ext cx="671796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960000"/>
                  </a:solidFill>
                  <a:latin typeface="Kozuka Mincho Pro B"/>
                  <a:ea typeface="Kozuka Mincho Pro B"/>
                </a:rPr>
                <a:t>mèng</a:t>
              </a:r>
              <a:endParaRPr b="0" lang="en-US" sz="3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4" name="Picture 4" descr="G:\DURING\坐着大妞.png"/>
          <p:cNvPicPr/>
          <p:nvPr/>
        </p:nvPicPr>
        <p:blipFill>
          <a:blip r:embed="rId4"/>
          <a:stretch/>
        </p:blipFill>
        <p:spPr>
          <a:xfrm>
            <a:off x="3165480" y="541440"/>
            <a:ext cx="1863720" cy="3321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" descr="C:\Users\lenovo\Desktop\M1.gif"/>
          <p:cNvPicPr/>
          <p:nvPr/>
        </p:nvPicPr>
        <p:blipFill>
          <a:blip r:embed="rId5"/>
          <a:srcRect l="36587" t="0" r="34144" b="0"/>
          <a:stretch/>
        </p:blipFill>
        <p:spPr>
          <a:xfrm>
            <a:off x="10058400" y="1263600"/>
            <a:ext cx="1828800" cy="29671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0" descr="C:\Users\lenovo\Desktop\牧羊.png"/>
          <p:cNvPicPr/>
          <p:nvPr/>
        </p:nvPicPr>
        <p:blipFill>
          <a:blip r:embed="rId6"/>
          <a:stretch/>
        </p:blipFill>
        <p:spPr>
          <a:xfrm>
            <a:off x="8839080" y="4873680"/>
            <a:ext cx="1716120" cy="15285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9" descr="C:\Users\lenovo\Desktop\推.gif"/>
          <p:cNvPicPr/>
          <p:nvPr/>
        </p:nvPicPr>
        <p:blipFill>
          <a:blip r:embed="rId7"/>
          <a:stretch/>
        </p:blipFill>
        <p:spPr>
          <a:xfrm>
            <a:off x="9067680" y="3139920"/>
            <a:ext cx="17640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2825640"/>
            <a:ext cx="4419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目录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4"/>
          <p:cNvSpPr/>
          <p:nvPr/>
        </p:nvSpPr>
        <p:spPr>
          <a:xfrm>
            <a:off x="5257800" y="184140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Picture 4" descr="G:\DURING\坐着大妞.png"/>
          <p:cNvPicPr/>
          <p:nvPr/>
        </p:nvPicPr>
        <p:blipFill>
          <a:blip r:embed="rId2"/>
          <a:stretch/>
        </p:blipFill>
        <p:spPr>
          <a:xfrm>
            <a:off x="762120" y="442800"/>
            <a:ext cx="1981080" cy="3529080"/>
          </a:xfrm>
          <a:prstGeom prst="rect">
            <a:avLst/>
          </a:prstGeom>
          <a:ln w="0">
            <a:noFill/>
          </a:ln>
        </p:spPr>
      </p:pic>
      <p:grpSp>
        <p:nvGrpSpPr>
          <p:cNvPr id="561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562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TextBox 25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直接连接符 18"/>
          <p:cNvSpPr/>
          <p:nvPr/>
        </p:nvSpPr>
        <p:spPr>
          <a:xfrm>
            <a:off x="5029200" y="1335240"/>
            <a:ext cx="0" cy="3681360"/>
          </a:xfrm>
          <a:prstGeom prst="line">
            <a:avLst/>
          </a:prstGeom>
          <a:ln w="28440">
            <a:solidFill>
              <a:srgbClr val="2a15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29"/>
          <p:cNvSpPr/>
          <p:nvPr/>
        </p:nvSpPr>
        <p:spPr>
          <a:xfrm>
            <a:off x="5257800" y="2562120"/>
            <a:ext cx="640080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我们的故事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踏上征途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努力拼搏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再别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657240" y="2490480"/>
            <a:ext cx="4419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壹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组合 26"/>
          <p:cNvGrpSpPr/>
          <p:nvPr/>
        </p:nvGrpSpPr>
        <p:grpSpPr>
          <a:xfrm>
            <a:off x="7113600" y="1984320"/>
            <a:ext cx="2639880" cy="2600280"/>
            <a:chOff x="7113600" y="1984320"/>
            <a:chExt cx="2639880" cy="2600280"/>
          </a:xfrm>
        </p:grpSpPr>
        <p:sp>
          <p:nvSpPr>
            <p:cNvPr id="573" name="直接连接符 17"/>
            <p:cNvSpPr/>
            <p:nvPr/>
          </p:nvSpPr>
          <p:spPr>
            <a:xfrm>
              <a:off x="731520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4" name="Picture 5" descr="C:\Users\lenovo\Desktop\M1.gif"/>
            <p:cNvPicPr/>
            <p:nvPr/>
          </p:nvPicPr>
          <p:blipFill>
            <a:blip r:embed="rId2"/>
            <a:srcRect l="36585" t="27784" r="30253" b="11108"/>
            <a:stretch/>
          </p:blipFill>
          <p:spPr>
            <a:xfrm>
              <a:off x="7113600" y="2273040"/>
              <a:ext cx="2639880" cy="231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5" name="组合 21"/>
          <p:cNvGrpSpPr/>
          <p:nvPr/>
        </p:nvGrpSpPr>
        <p:grpSpPr>
          <a:xfrm>
            <a:off x="2514600" y="1984320"/>
            <a:ext cx="2743200" cy="2600280"/>
            <a:chOff x="2514600" y="1984320"/>
            <a:chExt cx="2743200" cy="2600280"/>
          </a:xfrm>
        </p:grpSpPr>
        <p:sp>
          <p:nvSpPr>
            <p:cNvPr id="576" name="直接连接符 18"/>
            <p:cNvSpPr/>
            <p:nvPr/>
          </p:nvSpPr>
          <p:spPr>
            <a:xfrm>
              <a:off x="472464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7" name="Picture 6" descr="C:\Users\lenovo\Desktop\M2.gif"/>
            <p:cNvPicPr/>
            <p:nvPr/>
          </p:nvPicPr>
          <p:blipFill>
            <a:blip r:embed="rId3"/>
            <a:srcRect l="6399" t="19655" r="58133" b="15481"/>
            <a:stretch/>
          </p:blipFill>
          <p:spPr>
            <a:xfrm>
              <a:off x="2514600" y="1984320"/>
              <a:ext cx="2743200" cy="238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8" name="TextBox 27"/>
          <p:cNvSpPr/>
          <p:nvPr/>
        </p:nvSpPr>
        <p:spPr>
          <a:xfrm>
            <a:off x="5181480" y="4511520"/>
            <a:ext cx="182880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组合 16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580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4"/>
          <p:cNvSpPr/>
          <p:nvPr/>
        </p:nvSpPr>
        <p:spPr>
          <a:xfrm>
            <a:off x="6400800" y="-169704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组合 31"/>
          <p:cNvGrpSpPr/>
          <p:nvPr/>
        </p:nvGrpSpPr>
        <p:grpSpPr>
          <a:xfrm>
            <a:off x="1143000" y="2057400"/>
            <a:ext cx="10071000" cy="3873600"/>
            <a:chOff x="1143000" y="2057400"/>
            <a:chExt cx="10071000" cy="3873600"/>
          </a:xfrm>
        </p:grpSpPr>
        <p:sp>
          <p:nvSpPr>
            <p:cNvPr id="589" name="TextBox 29"/>
            <p:cNvSpPr/>
            <p:nvPr/>
          </p:nvSpPr>
          <p:spPr>
            <a:xfrm>
              <a:off x="1143000" y="2057400"/>
              <a:ext cx="10058040" cy="1739880"/>
            </a:xfrm>
            <a:prstGeom prst="rect">
              <a:avLst/>
            </a:prstGeom>
            <a:noFill/>
            <a:ln w="936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1500"/>
                  </a:solidFill>
                  <a:latin typeface="Calibri"/>
                </a:rPr>
                <a:t>         </a:t>
              </a:r>
              <a:r>
                <a:rPr b="0" lang="zh-CN" sz="1500" spc="-1" strike="noStrike">
                  <a:solidFill>
                    <a:srgbClr val="2a1500"/>
                  </a:solidFill>
                  <a:latin typeface="Calibri"/>
                </a:rPr>
                <a:t>清晨第一束阳光洒在美丽的地球上，虽然还不够明亮但我能感受到它的能量。坚定自己的信仰，只为共同的梦想！起到有双翅膀 能助我们飞翔。无论多大风多大的浪，前进的方向永远不会迷茫；狂风暴雨再怎么顽强都无法阻挡我们的梦想！有过狼狈的模样，讨厌那种看不起的眼光。昂起头挺胸向前，这是我们的梦想。穿上华丽的衣装，璀璨的灯光站在舞台中央，释放出那撼动身心的力量。看似丑陋的仙人掌，花开却散发着芬香。虽然仅一天可赏，但却难把它的香味遗忘。坚定自己的信仰，只为共同的梦想</a:t>
              </a: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TextBox 16"/>
            <p:cNvSpPr/>
            <p:nvPr/>
          </p:nvSpPr>
          <p:spPr>
            <a:xfrm>
              <a:off x="1143000" y="2156040"/>
              <a:ext cx="761760" cy="10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600" spc="-1" strike="noStrike" baseline="-25000">
                  <a:solidFill>
                    <a:srgbClr val="2a1500"/>
                  </a:solidFill>
                  <a:latin typeface="Calibri"/>
                </a:rPr>
                <a:t>当</a:t>
              </a:r>
              <a:endParaRPr b="0" lang="en-US" sz="5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91" name="Picture 4" descr="G:\DURING\坐着大妞.png"/>
            <p:cNvPicPr/>
            <p:nvPr/>
          </p:nvPicPr>
          <p:blipFill>
            <a:blip r:embed="rId2"/>
            <a:stretch/>
          </p:blipFill>
          <p:spPr>
            <a:xfrm>
              <a:off x="10147320" y="4030920"/>
              <a:ext cx="1066680" cy="190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2" name="组合 30"/>
          <p:cNvGrpSpPr/>
          <p:nvPr/>
        </p:nvGrpSpPr>
        <p:grpSpPr>
          <a:xfrm>
            <a:off x="-609840" y="-476280"/>
            <a:ext cx="10147680" cy="2967120"/>
            <a:chOff x="-609840" y="-476280"/>
            <a:chExt cx="10147680" cy="2967120"/>
          </a:xfrm>
        </p:grpSpPr>
        <p:pic>
          <p:nvPicPr>
            <p:cNvPr id="593" name="Picture 5" descr="C:\Users\lenovo\Desktop\M1.gif"/>
            <p:cNvPicPr/>
            <p:nvPr/>
          </p:nvPicPr>
          <p:blipFill>
            <a:blip r:embed="rId3"/>
            <a:stretch/>
          </p:blipFill>
          <p:spPr>
            <a:xfrm flipH="1">
              <a:off x="-609840" y="-476280"/>
              <a:ext cx="5410440" cy="29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直接连接符 19"/>
            <p:cNvSpPr/>
            <p:nvPr/>
          </p:nvSpPr>
          <p:spPr>
            <a:xfrm>
              <a:off x="2743200" y="560160"/>
              <a:ext cx="0" cy="1443240"/>
            </a:xfrm>
            <a:prstGeom prst="line">
              <a:avLst/>
            </a:prstGeom>
            <a:ln w="28440">
              <a:solidFill>
                <a:srgbClr val="96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5" name="组合 28"/>
            <p:cNvGrpSpPr/>
            <p:nvPr/>
          </p:nvGrpSpPr>
          <p:grpSpPr>
            <a:xfrm>
              <a:off x="2743200" y="1065240"/>
              <a:ext cx="6794640" cy="1014120"/>
              <a:chOff x="2743200" y="1065240"/>
              <a:chExt cx="6794640" cy="1014120"/>
            </a:xfrm>
          </p:grpSpPr>
          <p:sp>
            <p:nvSpPr>
              <p:cNvPr id="596" name="TextBox 26"/>
              <p:cNvSpPr/>
              <p:nvPr/>
            </p:nvSpPr>
            <p:spPr>
              <a:xfrm>
                <a:off x="2743200" y="1065240"/>
                <a:ext cx="3505320" cy="10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我们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       </a:t>
                </a:r>
                <a:r>
                  <a:rPr b="0" lang="ja-JP" sz="3700" spc="-1" strike="noStrike">
                    <a:solidFill>
                      <a:srgbClr val="2a1500"/>
                    </a:solidFill>
                    <a:latin typeface="方正艺黑简体"/>
                    <a:ea typeface="方正艺黑简体"/>
                  </a:rPr>
                  <a:t>の</a:t>
                </a: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梦想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TextBox 27"/>
              <p:cNvSpPr/>
              <p:nvPr/>
            </p:nvSpPr>
            <p:spPr>
              <a:xfrm>
                <a:off x="2819160" y="1423080"/>
                <a:ext cx="67186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960000"/>
                    </a:solidFill>
                    <a:latin typeface="Kozuka Mincho Pro B"/>
                    <a:ea typeface="Kozuka Mincho Pro B"/>
                  </a:rPr>
                  <a:t>mèng</a:t>
                </a:r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8" name="组合 20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599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TextBox 34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495320" y="2850840"/>
            <a:ext cx="7086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谢谢！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组合 19"/>
          <p:cNvGrpSpPr/>
          <p:nvPr/>
        </p:nvGrpSpPr>
        <p:grpSpPr>
          <a:xfrm>
            <a:off x="609480" y="1335240"/>
            <a:ext cx="3810240" cy="3754440"/>
            <a:chOff x="609480" y="1335240"/>
            <a:chExt cx="3810240" cy="3754440"/>
          </a:xfrm>
        </p:grpSpPr>
        <p:pic>
          <p:nvPicPr>
            <p:cNvPr id="608" name="Picture 6" descr="C:\Users\lenovo\Desktop\M2.gif"/>
            <p:cNvPicPr/>
            <p:nvPr/>
          </p:nvPicPr>
          <p:blipFill>
            <a:blip r:embed="rId2"/>
            <a:srcRect l="4646" t="21858" r="62824" b="9275"/>
            <a:stretch/>
          </p:blipFill>
          <p:spPr>
            <a:xfrm>
              <a:off x="609480" y="1335240"/>
              <a:ext cx="3734280" cy="37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直接连接符 18"/>
            <p:cNvSpPr/>
            <p:nvPr/>
          </p:nvSpPr>
          <p:spPr>
            <a:xfrm>
              <a:off x="4419720" y="1623960"/>
              <a:ext cx="0" cy="324972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0" name="TextBox 16"/>
          <p:cNvSpPr/>
          <p:nvPr/>
        </p:nvSpPr>
        <p:spPr>
          <a:xfrm>
            <a:off x="5016600" y="2228760"/>
            <a:ext cx="6718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60000"/>
                </a:solidFill>
                <a:latin typeface="Kozuka Mincho Pro B"/>
                <a:ea typeface="Kozuka Mincho Pro B"/>
              </a:rPr>
              <a:t>Thanks 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612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TextBox 28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任意多边形 2"/>
          <p:cNvSpPr/>
          <p:nvPr/>
        </p:nvSpPr>
        <p:spPr>
          <a:xfrm>
            <a:off x="2243160" y="2946240"/>
            <a:ext cx="596880" cy="657360"/>
          </a:xfrm>
          <a:custGeom>
            <a:avLst/>
            <a:gdLst/>
            <a:ahLst/>
            <a:rect l="l" t="t" r="r" b="b"/>
            <a:pathLst>
              <a:path w="576448" h="576263">
                <a:moveTo>
                  <a:pt x="0" y="0"/>
                </a:moveTo>
                <a:lnTo>
                  <a:pt x="575933" y="576263"/>
                </a:lnTo>
                <a:cubicBezTo>
                  <a:pt x="577576" y="384175"/>
                  <a:pt x="574620" y="192088"/>
                  <a:pt x="5762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19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矩形 3"/>
          <p:cNvSpPr/>
          <p:nvPr/>
        </p:nvSpPr>
        <p:spPr>
          <a:xfrm>
            <a:off x="2832120" y="2949480"/>
            <a:ext cx="9360000" cy="657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ypppt.com    </a:t>
            </a:r>
            <a:r>
              <a:rPr b="0" lang="en-US" sz="2800" spc="-1" strike="noStrike">
                <a:solidFill>
                  <a:srgbClr val="ffffff"/>
                </a:solidFill>
                <a:latin typeface="幼圆"/>
                <a:ea typeface="幼圆"/>
              </a:rPr>
              <a:t> </a:t>
            </a:r>
            <a:r>
              <a:rPr b="0" lang="en-US" sz="2800" spc="-1" strike="noStrike">
                <a:solidFill>
                  <a:srgbClr val="ceeab0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矩形 6"/>
          <p:cNvSpPr/>
          <p:nvPr/>
        </p:nvSpPr>
        <p:spPr>
          <a:xfrm>
            <a:off x="0" y="2182680"/>
            <a:ext cx="9312120" cy="77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精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源尽在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直角三角形 5"/>
          <p:cNvSpPr/>
          <p:nvPr/>
        </p:nvSpPr>
        <p:spPr>
          <a:xfrm>
            <a:off x="9312120" y="2178000"/>
            <a:ext cx="854280" cy="779400"/>
          </a:xfrm>
          <a:prstGeom prst="rtTriangle">
            <a:avLst/>
          </a:prstGeom>
          <a:solidFill>
            <a:srgbClr val="007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矩形 11"/>
          <p:cNvSpPr/>
          <p:nvPr/>
        </p:nvSpPr>
        <p:spPr>
          <a:xfrm>
            <a:off x="2581200" y="3921120"/>
            <a:ext cx="690732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moban/         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er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beijing/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tub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sucai/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aocheng/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www.pptbz.com</dc:creator>
  <dc:description/>
  <dc:language>en-US</dc:language>
  <cp:lastModifiedBy>Administrator</cp:lastModifiedBy>
  <dcterms:modified xsi:type="dcterms:W3CDTF">2015-05-25T10:21:5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