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760-8933-4332-970B-BF999AAB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9A8-AE31-4EAF-AC0F-C42A14ED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4C458-2BE6-4ADE-8B37-5C016B8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F9DBE-D59E-47B8-8032-CD5AC92E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F41B1-CA3F-463B-9328-D2A322BB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30B91-EC40-44A4-8337-6F228409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2AD1D-97C0-441E-B0DB-160E0F5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50108-BDD8-4B64-89F9-C2AF6C6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3FF5A-A29C-4782-847D-7EBE9B58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A5E1D-52EA-4473-9E4B-4BAC6B83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98A02-2483-4F98-AFCC-D4435FEE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43F8F-F55A-460A-8384-EC8C767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AAD-D6A5-4CA4-A69D-B2876B37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D164C-52AD-4C6F-8FC1-9F0EA247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5811F-D912-45B3-8BAE-94C29040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925D7-024F-4B5E-90D9-4A98A80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2C753-C9BC-4F28-B7F5-FB86962B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0A9E0-7560-47DC-8EE2-405D31D5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E1B9B-3348-46AB-B0D7-A1E3FE2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C810C-407C-451C-B742-8BC2D39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15A1A-7977-4AA1-AABA-8F03102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41197-96B1-4211-B04A-0B275FB2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9A09A-7BD5-498F-BCD4-109428F0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BC8-FB2A-4C83-961B-0C69A2B5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0610D-3267-4465-8F7A-019F3577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2E47A-1E45-4C2A-A779-3FC88937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C358B-21A8-4C8C-8DC8-153BCF44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6BFF3-6ADD-4DAA-8A88-2EFE7BD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4FE68-6FB2-4BFA-B93F-6559532E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F4104-0EDE-4F68-BCDC-18B2D539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95521-54CF-41C1-89D0-7723C71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39237-06F4-4C5A-9F75-53EB7E3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9BFA1-D069-437F-9A35-4293265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E19C-645D-4608-AE66-EEF7716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5C83-686C-4EA0-B87F-B2E92FC4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8901-0BA1-4688-90EE-8B52207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2F389-CA4B-41CD-9142-7A821947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BEDBD-B5D4-400D-B068-869BB241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CE7A4-89CB-484D-BEA4-0908E2D2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7006E-C8F7-4DEB-B716-6C0FB1A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DDB35-8DF3-41EF-AE55-BE2CE88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7FA47-B456-4A39-9124-05D5787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ADCA0-3227-4BB8-AF6A-41DA2D8B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05D36-527C-48FD-AE49-FB7E3686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5BFA7-3370-41AD-B892-7D1F133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785B-CF74-493C-BDC6-7C0B6FEA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02CC7-686A-4A8C-A22F-6CB80F3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B06B4-4E72-4647-BE63-F47F806C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31D71-45E6-4565-BC96-81565DB8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6FD21-3CF3-48E7-8FA2-8A28C4B2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3B7A0-DC3E-4B42-A229-17D8B738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2FA4-6340-40C5-8AFF-95A7E973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16D7-0E8C-4202-90A3-4CDD4FDB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1DF-71DA-43FC-AB84-AAB4D0E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9563-A923-4D34-B2CF-44FF5B2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74BC-2761-43F6-99C4-27B7EC4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DBC-6A66-468F-A560-1C928FC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89AC-1A7F-4DA1-944E-3229BEE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7FCE-7E57-48A1-9744-07B2D7F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DC2-ADDB-467C-B032-B6C2276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C7EB-0FF4-4ADF-9DD9-0BAE9449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4ED6-295A-48B6-97F4-3343835F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CD6D-A1AB-4AD1-AB21-FAE43003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02DD-AA7B-4F13-AB08-259340D8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E56F-A88D-412D-A1A8-A3F8EF67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0B68-E2E8-457A-A78E-6F4B352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4681-F1F2-4914-9C55-ED2A52DB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442-7384-4F9B-B0AF-14EC856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F2D0-889C-4E0F-895E-8E98673B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245D-191C-4C5F-81B7-5425DD5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9067-C325-40ED-994A-EAA8790E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21B0-4CD3-4494-BE88-3E78423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1DF2-D4A6-4F29-8274-EDAF1CE6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7B49-9136-46C7-AEC5-225C5A78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6B5D-16BC-4025-8B76-F531EC2A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F4AD-E6E1-4CED-92E0-E1D3A68F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F959F-94B1-4516-BC96-6138EC2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993AD-DA01-4452-BEAD-2A7E1FE0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380-7AC0-4BAE-AAA7-1521A6D4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830A-B771-4B40-9185-6969555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2DD6-77DD-4F43-995D-C78EAAEB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DFFF-58B0-46F4-A8FF-E3C887C5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06E7-677D-4DCF-8871-4E8A4B2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9355-E055-4E9B-B44E-0DE81AB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7271-85E6-40F4-BAFB-89E791C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D365-139F-4DD1-A18F-8B0FF6E3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0AF9-EF7E-4A84-AD72-C28C8F95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8672-EDAC-4F16-BE99-478C5C0C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D359-1829-4128-B8EE-704D8A5B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EE9-00E9-4B16-9FC8-F265CA5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32E0-BB7D-484F-BC5C-E9E57A27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A777-E4E4-4346-B4B8-37F3BC94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AEBA-7088-45F7-AFEA-07B43761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DFD8-9D2B-46A1-95B0-3D1A2AE7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CD41-8D32-4EE8-B5AE-54693927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AD3E-5DA0-4E4D-BFB7-26A5C9A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6CACE-1C7C-43D3-8FA2-89CE4E9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6CD06-CACE-4167-8F82-F1A0369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9154-0B28-4739-AB4F-57D550F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B0D9-EE8E-4CE4-AA7C-5BB40077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77F-CEAE-4FB5-9D60-BCED1F0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7183C-F67B-44DF-8034-D5A2EDE5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3B5B-86E5-450F-96DD-0275F76C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3FDF-95BD-4B88-BD58-3E969BFC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D1F2-123C-4166-9EAD-E7987A4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E57C-E6BF-45F0-AEAA-3612CB9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3359-3DE1-49C1-A0B2-FED52CEC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4CF77-7C93-4845-9D56-2B09901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1558F-55CE-4A08-B343-B977B91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CEBF2-CAEC-49F0-8486-1387D06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9AA3E-CDBA-41EB-99F0-24696A7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61F-55DA-4941-8FB2-8B7BA8F4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DEE3-3984-4C7B-B478-B28C450A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E5B75-6E96-4D60-88E3-D706F351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4D17-98AE-466D-9052-92F18AD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DB67-F9C2-44CF-A5A0-E797B0B9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603A-B4D4-4B41-BE6C-4BBD436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42B3-553F-440D-9781-A2BFFF2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3EF2-9180-45B8-BE27-A2461706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AF0E-00C4-4FEC-B64B-135D730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7C6DA-2B73-4A9F-A8E0-709B5B11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DFCF-C2E6-4111-BC06-3449184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342-E96D-4AAA-A79E-3F6C0C6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B5F53-CD7B-4189-B018-CF3F29C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BA03-195E-4A85-967A-EE49841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BDCDC-8041-4BD1-B502-AB6C011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5282B-C7BD-41BD-86E8-7B6F755E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AC16-217F-4CE7-8719-8D9A9539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38789-05B8-4B93-93D6-4FE7CC72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46865-9474-43F5-AA28-B51F59DB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4338-0ECB-4033-89E4-E1C97F17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151AB-64C3-4771-962C-13BD5DD1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4FB9E-8A7F-4B97-B14A-433B4D75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A2D-C8B0-41F8-B891-1CA447D3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0B734-5230-46EC-B29A-1389641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2616D-ACF8-40E8-9F95-515F4E8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3B4EC-F96A-4FC7-8455-3367D87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DCA0B-7F3C-4525-8324-E439399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64E9D-7C04-4BBA-ADCD-3E49EE97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4DB69-7C81-4774-BC73-0B43B9AA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589B-4210-4A13-A81F-40138E31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04990-C1A5-4CDB-A178-1EDD7B1C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283A1-5B66-4DF8-AFEC-F4C11435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808F7-21FF-4CD8-871E-4C91E27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ABED-070A-4510-8BFA-9C4206E1B6B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93C-35A0-403F-A723-B97B38D3B4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CE1-3E62-4DCB-855B-E095D0C60C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76C-E0F2-40F1-A375-CF6CD20D28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0D49-A47A-460B-AD33-489D0BE561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AFBE-5921-4019-A1D5-BBA883373F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334-BA3D-4D8F-AE2D-75BE17F828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5CA1-93E6-4CB4-9BCF-C58A7E51CA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9E77-83EA-49D4-A127-A3EA59F6CE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052-7357-4AC9-B2F7-8DFF334038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9384-4CBF-4762-8531-FF1D88CBBF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691F-E5CD-4834-9D74-BD1398F0A5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CC3B-1AE4-45DC-A785-9488CE3C49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D115-7EB6-4C26-9868-5C3E235C8C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A8A6-580F-469C-ADA9-A019912127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F6EC-215B-4FFC-B3F0-EE41B9C3F6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FFE7-285B-4234-8851-B7D1419FC7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646D-0647-4F61-9AEE-F32FF20F55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3B4-5E7A-4A31-ADB3-6E2E3567F7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6961-B0EC-4433-A8F2-9EE9CC3F40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6AB3-FDCF-42E0-99A7-0C0CB74C1E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605-7332-4A3C-97D4-DB6B710FDF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B6B1-F871-445E-8906-93F02E70F9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0C6E-81EB-457A-9651-0C5F355BF6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9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图片 3" descr=""/>
          <p:cNvPicPr/>
          <p:nvPr/>
        </p:nvPicPr>
        <p:blipFill>
          <a:blip r:embed="rId15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2824200" y="2125800"/>
            <a:ext cx="54291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生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8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9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0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1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2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2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2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3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3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3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3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3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4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4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4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4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5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57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57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57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576" name="椭圆 90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 91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 92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93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 94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5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8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59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59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59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59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0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0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1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-1606680" y="2763720"/>
            <a:ext cx="4762800" cy="3873600"/>
            <a:chOff x="-1606680" y="2763720"/>
            <a:chExt cx="4762800" cy="3873600"/>
          </a:xfrm>
        </p:grpSpPr>
        <p:sp>
          <p:nvSpPr>
            <p:cNvPr id="624" name="椭圆 75"/>
            <p:cNvSpPr/>
            <p:nvPr/>
          </p:nvSpPr>
          <p:spPr>
            <a:xfrm>
              <a:off x="77580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76"/>
            <p:cNvSpPr/>
            <p:nvPr/>
          </p:nvSpPr>
          <p:spPr>
            <a:xfrm>
              <a:off x="-504000" y="42555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77"/>
            <p:cNvSpPr/>
            <p:nvPr/>
          </p:nvSpPr>
          <p:spPr>
            <a:xfrm>
              <a:off x="-414000" y="27637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78"/>
            <p:cNvSpPr/>
            <p:nvPr/>
          </p:nvSpPr>
          <p:spPr>
            <a:xfrm>
              <a:off x="-1606680" y="318132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79"/>
            <p:cNvSpPr/>
            <p:nvPr/>
          </p:nvSpPr>
          <p:spPr>
            <a:xfrm>
              <a:off x="32832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80"/>
            <p:cNvSpPr/>
            <p:nvPr/>
          </p:nvSpPr>
          <p:spPr>
            <a:xfrm>
              <a:off x="-1157040" y="3981960"/>
              <a:ext cx="238032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3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3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4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4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4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5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5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5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6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66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66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67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0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680" name="椭圆 106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107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椭圆 108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椭圆 109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110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11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8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69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69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0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0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9"/>
          <p:cNvGrpSpPr/>
          <p:nvPr/>
        </p:nvGrpSpPr>
        <p:grpSpPr>
          <a:xfrm>
            <a:off x="-1606680" y="2733840"/>
            <a:ext cx="4762800" cy="3873240"/>
            <a:chOff x="-1606680" y="2733840"/>
            <a:chExt cx="4762800" cy="3873240"/>
          </a:xfrm>
        </p:grpSpPr>
        <p:sp>
          <p:nvSpPr>
            <p:cNvPr id="718" name="椭圆 22"/>
            <p:cNvSpPr/>
            <p:nvPr/>
          </p:nvSpPr>
          <p:spPr>
            <a:xfrm>
              <a:off x="77580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23"/>
            <p:cNvSpPr/>
            <p:nvPr/>
          </p:nvSpPr>
          <p:spPr>
            <a:xfrm>
              <a:off x="-504000" y="42256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4"/>
            <p:cNvSpPr/>
            <p:nvPr/>
          </p:nvSpPr>
          <p:spPr>
            <a:xfrm>
              <a:off x="-414000" y="27338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5"/>
            <p:cNvSpPr/>
            <p:nvPr/>
          </p:nvSpPr>
          <p:spPr>
            <a:xfrm>
              <a:off x="-1606680" y="315144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6"/>
            <p:cNvSpPr/>
            <p:nvPr/>
          </p:nvSpPr>
          <p:spPr>
            <a:xfrm>
              <a:off x="32832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7"/>
            <p:cNvSpPr/>
            <p:nvPr/>
          </p:nvSpPr>
          <p:spPr>
            <a:xfrm>
              <a:off x="-1157040" y="3952080"/>
              <a:ext cx="238032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33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4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5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36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37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39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41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46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2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5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dc:language>en-US</dc:language>
  <cp:lastModifiedBy>lenovo</cp:lastModifiedBy>
  <dcterms:modified xsi:type="dcterms:W3CDTF">2014-07-20T06:37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