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DE0-A8A9-4A7D-ACBD-CE188833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5C1-76E3-4EF1-8208-76A18397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979-3645-4CEF-8D73-ACCEA2EB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79C-44FE-4BD1-B617-F92EEF3B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913-C190-47F9-9F54-5815CA45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B90-61C1-4C36-8402-2B2D20C1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0A04-F89C-4634-8015-AE9F49D7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884-EBD4-46BA-98C3-55A11E9C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8C2-B28E-4797-8EE2-0BB850BE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D50-9323-4549-B8CA-9B4A9F9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F26-4CFD-4988-881A-E415C38F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2EF-3803-4E65-9FA8-57F5D693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A91E-AEF4-4ECD-8756-1B2D5AA520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9A9E-5BBF-46D8-86F9-1438ADEE68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4592520" y="1216080"/>
            <a:ext cx="3006720" cy="598788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3549600" y="4210200"/>
            <a:ext cx="5092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91"/>
          <p:cNvGrpSpPr/>
          <p:nvPr/>
        </p:nvGrpSpPr>
        <p:grpSpPr>
          <a:xfrm>
            <a:off x="4006800" y="1487520"/>
            <a:ext cx="1371600" cy="1874880"/>
            <a:chOff x="4006800" y="1487520"/>
            <a:chExt cx="1371600" cy="1874880"/>
          </a:xfrm>
        </p:grpSpPr>
        <p:sp>
          <p:nvSpPr>
            <p:cNvPr id="46" name="圆角矩形 4"/>
            <p:cNvSpPr/>
            <p:nvPr/>
          </p:nvSpPr>
          <p:spPr>
            <a:xfrm>
              <a:off x="400680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86"/>
            <p:cNvGrpSpPr/>
            <p:nvPr/>
          </p:nvGrpSpPr>
          <p:grpSpPr>
            <a:xfrm>
              <a:off x="4138920" y="1618560"/>
              <a:ext cx="1107360" cy="1109520"/>
              <a:chOff x="4138920" y="1618560"/>
              <a:chExt cx="1107360" cy="1109520"/>
            </a:xfrm>
          </p:grpSpPr>
          <p:sp>
            <p:nvSpPr>
              <p:cNvPr id="48" name="流程图: 联系 33"/>
              <p:cNvSpPr/>
              <p:nvPr/>
            </p:nvSpPr>
            <p:spPr>
              <a:xfrm flipH="1" rot="16200000">
                <a:off x="4651200" y="2133000"/>
                <a:ext cx="80640" cy="80640"/>
              </a:xfrm>
              <a:prstGeom prst="flowChartConnector">
                <a:avLst/>
              </a:prstGeom>
              <a:solidFill>
                <a:srgbClr val="fffff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任意多边形 32"/>
              <p:cNvSpPr/>
              <p:nvPr/>
            </p:nvSpPr>
            <p:spPr>
              <a:xfrm flipH="1" rot="16200000">
                <a:off x="4434120" y="171756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7713b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任意多边形 41"/>
              <p:cNvSpPr/>
              <p:nvPr/>
            </p:nvSpPr>
            <p:spPr>
              <a:xfrm flipH="1" rot="8100000">
                <a:off x="4643280" y="18050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c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36"/>
              <p:cNvSpPr/>
              <p:nvPr/>
            </p:nvSpPr>
            <p:spPr>
              <a:xfrm flipH="1" rot="10800000">
                <a:off x="473220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6ba0a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39"/>
              <p:cNvSpPr/>
              <p:nvPr/>
            </p:nvSpPr>
            <p:spPr>
              <a:xfrm flipH="1" rot="13500000">
                <a:off x="4643280" y="22262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07622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31"/>
              <p:cNvSpPr/>
              <p:nvPr/>
            </p:nvSpPr>
            <p:spPr>
              <a:xfrm flipH="1" rot="16200000">
                <a:off x="4434120" y="2312640"/>
                <a:ext cx="514440" cy="316080"/>
              </a:xfrm>
              <a:custGeom>
                <a:avLst/>
                <a:gdLst>
                  <a:gd name="textAreaLeft" fmla="*/ -360 w 514440"/>
                  <a:gd name="textAreaRight" fmla="*/ 514440 w 51444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0183b1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任意多边形 42"/>
              <p:cNvSpPr/>
              <p:nvPr/>
            </p:nvSpPr>
            <p:spPr>
              <a:xfrm flipH="1" rot="8100000">
                <a:off x="4223520" y="222444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7030a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任意多边形 37"/>
              <p:cNvSpPr/>
              <p:nvPr/>
            </p:nvSpPr>
            <p:spPr>
              <a:xfrm flipH="1" rot="10800000">
                <a:off x="4138920" y="201528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b71968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任意多边形 40"/>
              <p:cNvSpPr/>
              <p:nvPr/>
            </p:nvSpPr>
            <p:spPr>
              <a:xfrm flipH="1" rot="13500000">
                <a:off x="4222080" y="1805400"/>
                <a:ext cx="514080" cy="316080"/>
              </a:xfrm>
              <a:custGeom>
                <a:avLst/>
                <a:gdLst>
                  <a:gd name="textAreaLeft" fmla="*/ 360 w 514080"/>
                  <a:gd name="textAreaRight" fmla="*/ 514800 w 514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2609923" h="1308296">
                    <a:moveTo>
                      <a:pt x="1956523" y="0"/>
                    </a:moveTo>
                    <a:lnTo>
                      <a:pt x="1306800" y="0"/>
                    </a:lnTo>
                    <a:lnTo>
                      <a:pt x="1303123" y="0"/>
                    </a:lnTo>
                    <a:lnTo>
                      <a:pt x="653400" y="0"/>
                    </a:lnTo>
                    <a:cubicBezTo>
                      <a:pt x="292537" y="0"/>
                      <a:pt x="0" y="292872"/>
                      <a:pt x="0" y="654148"/>
                    </a:cubicBezTo>
                    <a:cubicBezTo>
                      <a:pt x="0" y="1015424"/>
                      <a:pt x="292537" y="1308296"/>
                      <a:pt x="653400" y="1308296"/>
                    </a:cubicBezTo>
                    <a:lnTo>
                      <a:pt x="1303123" y="1308296"/>
                    </a:lnTo>
                    <a:lnTo>
                      <a:pt x="1306800" y="1308296"/>
                    </a:lnTo>
                    <a:lnTo>
                      <a:pt x="1956523" y="1308296"/>
                    </a:lnTo>
                    <a:cubicBezTo>
                      <a:pt x="2317386" y="1308296"/>
                      <a:pt x="2609923" y="1015424"/>
                      <a:pt x="2609923" y="654148"/>
                    </a:cubicBezTo>
                    <a:cubicBezTo>
                      <a:pt x="2609923" y="292872"/>
                      <a:pt x="2317386" y="0"/>
                      <a:pt x="1956523" y="0"/>
                    </a:cubicBezTo>
                    <a:close/>
                  </a:path>
                </a:pathLst>
              </a:custGeom>
              <a:solidFill>
                <a:srgbClr val="ff0000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矩形 88"/>
            <p:cNvSpPr/>
            <p:nvPr/>
          </p:nvSpPr>
          <p:spPr>
            <a:xfrm>
              <a:off x="400680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图片处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2"/>
          <p:cNvGrpSpPr/>
          <p:nvPr/>
        </p:nvGrpSpPr>
        <p:grpSpPr>
          <a:xfrm>
            <a:off x="6943680" y="1487520"/>
            <a:ext cx="1371600" cy="1874880"/>
            <a:chOff x="6943680" y="1487520"/>
            <a:chExt cx="1371600" cy="1874880"/>
          </a:xfrm>
        </p:grpSpPr>
        <p:sp>
          <p:nvSpPr>
            <p:cNvPr id="59" name="圆角矩形 93"/>
            <p:cNvSpPr/>
            <p:nvPr/>
          </p:nvSpPr>
          <p:spPr>
            <a:xfrm>
              <a:off x="6943680" y="1487520"/>
              <a:ext cx="1371600" cy="137196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371960"/>
                <a:gd name="textAreaBottom" fmla="*/ 1305000 h 13719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字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5"/>
            <p:cNvSpPr/>
            <p:nvPr/>
          </p:nvSpPr>
          <p:spPr>
            <a:xfrm>
              <a:off x="6943680" y="2982600"/>
              <a:ext cx="13716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细等线简体"/>
                  <a:ea typeface="方正细等线简体"/>
                </a:rPr>
                <a:t>炫彩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6369120" y="2340000"/>
            <a:ext cx="4106880" cy="25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525680" y="1995480"/>
          <a:ext cx="4190760" cy="295596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一张图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建议选择颜色丰富的图片，作为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PPT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会更绚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图片质量不高没问题，像素更是随你心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图片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5680" y="1995480"/>
          <a:ext cx="4190760" cy="3019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添加艺术效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双击图片，在功能区选择艺术效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选择虚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程度不理想？请调整虚化半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虚化半径在哪里？请点击艺术效果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图片 4" descr=""/>
          <p:cNvPicPr/>
          <p:nvPr/>
        </p:nvPicPr>
        <p:blipFill>
          <a:blip r:embed="rId2"/>
          <a:stretch/>
        </p:blipFill>
        <p:spPr>
          <a:xfrm>
            <a:off x="6073920" y="2081160"/>
            <a:ext cx="46958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5680" y="1995480"/>
          <a:ext cx="4190760" cy="2200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安装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英文字体为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GillSans-L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为：方正细等线简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中文字体的原生字体我没有下到，不好意思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圆角矩形 6"/>
          <p:cNvSpPr/>
          <p:nvPr/>
        </p:nvSpPr>
        <p:spPr>
          <a:xfrm>
            <a:off x="7666200" y="2160720"/>
            <a:ext cx="2538360" cy="253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.PhonepadTwo"/>
              </a:rPr>
              <a:t>7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炫彩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5680" y="1995480"/>
          <a:ext cx="6099120" cy="2104920"/>
        </p:xfrm>
        <a:graphic>
          <a:graphicData uri="http://schemas.openxmlformats.org/drawingml/2006/table">
            <a:tbl>
              <a:tblPr/>
              <a:tblGrid>
                <a:gridCol w="609912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调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输入文字：举个栗子：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颜色：选择渐变，此处主要为确定渐变方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光圈设置：增加光圈数，调整每个光圈的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：调整各光圈间距离来调整整体颜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7797960" y="1533600"/>
            <a:ext cx="2336760" cy="447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 106"/>
          <p:cNvSpPr/>
          <p:nvPr/>
        </p:nvSpPr>
        <p:spPr>
          <a:xfrm>
            <a:off x="1069920" y="1341360"/>
            <a:ext cx="10058400" cy="4938840"/>
          </a:xfrm>
          <a:prstGeom prst="roundRect">
            <a:avLst>
              <a:gd name="adj" fmla="val 16667"/>
            </a:avLst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心得分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5680" y="1995480"/>
          <a:ext cx="8842320" cy="1982880"/>
        </p:xfrm>
        <a:graphic>
          <a:graphicData uri="http://schemas.openxmlformats.org/drawingml/2006/table">
            <a:tbl>
              <a:tblPr/>
              <a:tblGrid>
                <a:gridCol w="8842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背景要虚，做出摄影棚里无数灯的光晕效果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字体细圆，但不能够细到看不见，圆到木有骨头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透明度是设置图形的好帮手，可以瞬间变成背景，默默突出主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颜色设置不要太饱和，柔柔的才是小清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ffffff"/>
                          </a:solidFill>
                          <a:latin typeface="GillSans-Light"/>
                          <a:ea typeface="方正细等线简体"/>
                        </a:rPr>
                        <a:t>欢迎勾搭，欢迎点赞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Picture 10" descr=""/>
          <p:cNvPicPr/>
          <p:nvPr/>
        </p:nvPicPr>
        <p:blipFill>
          <a:blip r:embed="rId2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 106"/>
          <p:cNvSpPr/>
          <p:nvPr/>
        </p:nvSpPr>
        <p:spPr>
          <a:xfrm>
            <a:off x="3484440" y="1341360"/>
            <a:ext cx="4937400" cy="4938840"/>
          </a:xfrm>
          <a:custGeom>
            <a:avLst/>
            <a:gdLst>
              <a:gd name="textAreaLeft" fmla="*/ 240840 w 4937400"/>
              <a:gd name="textAreaRight" fmla="*/ 4696560 w 4937400"/>
              <a:gd name="textAreaTop" fmla="*/ 240840 h 4938840"/>
              <a:gd name="textAreaBottom" fmla="*/ 4698000 h 49388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8"/>
          <p:cNvSpPr/>
          <p:nvPr/>
        </p:nvSpPr>
        <p:spPr>
          <a:xfrm>
            <a:off x="3484440" y="534960"/>
            <a:ext cx="4937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勾搭途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4" descr=""/>
          <p:cNvPicPr/>
          <p:nvPr/>
        </p:nvPicPr>
        <p:blipFill>
          <a:blip r:embed="rId2"/>
          <a:stretch/>
        </p:blipFill>
        <p:spPr>
          <a:xfrm>
            <a:off x="387360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3873600" y="386712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新浪微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" descr=""/>
          <p:cNvPicPr/>
          <p:nvPr/>
        </p:nvPicPr>
        <p:blipFill>
          <a:blip r:embed="rId3"/>
          <a:stretch/>
        </p:blipFill>
        <p:spPr>
          <a:xfrm>
            <a:off x="6438960" y="2406600"/>
            <a:ext cx="1360440" cy="1360440"/>
          </a:xfrm>
          <a:prstGeom prst="rect">
            <a:avLst/>
          </a:prstGeom>
          <a:ln w="0">
            <a:noFill/>
          </a:ln>
        </p:spPr>
      </p:pic>
      <p:sp>
        <p:nvSpPr>
          <p:cNvPr id="94" name="矩形 9"/>
          <p:cNvSpPr/>
          <p:nvPr/>
        </p:nvSpPr>
        <p:spPr>
          <a:xfrm>
            <a:off x="6438960" y="3873600"/>
            <a:ext cx="137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细等线简体"/>
                <a:ea typeface="方正细等线简体"/>
              </a:rPr>
              <a:t>腾讯微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828800" y="6505560"/>
            <a:ext cx="8580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2:27:00Z</dcterms:created>
  <dc:creator>LL H</dc:creator>
  <dc:description/>
  <cp:keywords/>
  <dc:language>en-US</dc:language>
  <cp:lastModifiedBy>Yehuan Liu</cp:lastModifiedBy>
  <dcterms:modified xsi:type="dcterms:W3CDTF">2014-11-06T02:02:43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