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67F1-5F39-4810-9809-EAE808C3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9180-DF23-422D-986B-40B8799A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2F23-A21A-4D55-AB2C-1D894EB59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D710-1CED-46F6-9097-743054564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220E-0E53-4192-A7BA-1B637A76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90DF-856B-4623-9059-0283CEC3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6758-F767-4ABE-B250-251E39DC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FBCF-4505-4A35-85C0-671AD8F0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7E0F-5FBB-4665-B2DC-D32B3CAC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8A15-E1B4-4893-8783-1620AC11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6F2A-FADA-4DDC-8745-95EDC93F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49E7-AF51-48B6-BD7B-9F160C22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419F-BF6C-4007-A272-6F04E6BA63A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1018-71D5-4278-ABC9-38EC5484423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8" descr=""/>
          <p:cNvPicPr/>
          <p:nvPr/>
        </p:nvPicPr>
        <p:blipFill>
          <a:blip r:embed="rId2"/>
          <a:stretch/>
        </p:blipFill>
        <p:spPr>
          <a:xfrm>
            <a:off x="4592520" y="1216080"/>
            <a:ext cx="3006720" cy="5987880"/>
          </a:xfrm>
          <a:prstGeom prst="rect">
            <a:avLst/>
          </a:prstGeom>
          <a:ln w="0">
            <a:noFill/>
          </a:ln>
        </p:spPr>
      </p:pic>
      <p:sp>
        <p:nvSpPr>
          <p:cNvPr id="43" name="矩形 12"/>
          <p:cNvSpPr/>
          <p:nvPr/>
        </p:nvSpPr>
        <p:spPr>
          <a:xfrm>
            <a:off x="3549600" y="4210200"/>
            <a:ext cx="509292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5" name="组合 91"/>
          <p:cNvGrpSpPr/>
          <p:nvPr/>
        </p:nvGrpSpPr>
        <p:grpSpPr>
          <a:xfrm>
            <a:off x="4006800" y="1487520"/>
            <a:ext cx="1371600" cy="1874880"/>
            <a:chOff x="4006800" y="1487520"/>
            <a:chExt cx="1371600" cy="1874880"/>
          </a:xfrm>
        </p:grpSpPr>
        <p:sp>
          <p:nvSpPr>
            <p:cNvPr id="46" name="圆角矩形 4"/>
            <p:cNvSpPr/>
            <p:nvPr/>
          </p:nvSpPr>
          <p:spPr>
            <a:xfrm>
              <a:off x="4006800" y="1487520"/>
              <a:ext cx="1371600" cy="1371960"/>
            </a:xfrm>
            <a:custGeom>
              <a:avLst/>
              <a:gdLst>
                <a:gd name="textAreaLeft" fmla="*/ 66960 w 1371600"/>
                <a:gd name="textAreaRight" fmla="*/ 1304640 w 1371600"/>
                <a:gd name="textAreaTop" fmla="*/ 66960 h 1371960"/>
                <a:gd name="textAreaBottom" fmla="*/ 1305000 h 1371960"/>
              </a:gdLst>
              <a:ahLst/>
              <a:rect l="textAreaLeft" t="textAreaTop" r="textAreaRight" b="textAreaBottom"/>
              <a:pathLst>
                <a:path w="21600" h="21606">
                  <a:moveTo>
                    <a:pt x="3600" y="0"/>
                  </a:moveTo>
                  <a:arcTo wR="3600" hR="3600" stAng="16200000" swAng="-5400000"/>
                  <a:lnTo>
                    <a:pt x="0" y="18006"/>
                  </a:lnTo>
                  <a:arcTo wR="3600" hR="3600" stAng="10800000" swAng="-5400000"/>
                  <a:lnTo>
                    <a:pt x="18000" y="216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组合 86"/>
            <p:cNvGrpSpPr/>
            <p:nvPr/>
          </p:nvGrpSpPr>
          <p:grpSpPr>
            <a:xfrm>
              <a:off x="4138920" y="1618560"/>
              <a:ext cx="1107360" cy="1109520"/>
              <a:chOff x="4138920" y="1618560"/>
              <a:chExt cx="1107360" cy="1109520"/>
            </a:xfrm>
          </p:grpSpPr>
          <p:sp>
            <p:nvSpPr>
              <p:cNvPr id="48" name="流程图: 联系 33"/>
              <p:cNvSpPr/>
              <p:nvPr/>
            </p:nvSpPr>
            <p:spPr>
              <a:xfrm flipH="1" rot="16200000">
                <a:off x="4651200" y="2133000"/>
                <a:ext cx="80640" cy="80640"/>
              </a:xfrm>
              <a:prstGeom prst="flowChartConnector">
                <a:avLst/>
              </a:prstGeom>
              <a:solidFill>
                <a:srgbClr val="ffffff">
                  <a:alpha val="7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任意多边形 32"/>
              <p:cNvSpPr/>
              <p:nvPr/>
            </p:nvSpPr>
            <p:spPr>
              <a:xfrm flipH="1" rot="16200000">
                <a:off x="4434120" y="1717560"/>
                <a:ext cx="514440" cy="316080"/>
              </a:xfrm>
              <a:custGeom>
                <a:avLst/>
                <a:gdLst>
                  <a:gd name="textAreaLeft" fmla="*/ -360 w 514440"/>
                  <a:gd name="textAreaRight" fmla="*/ 514440 w 514440"/>
                  <a:gd name="textAreaTop" fmla="*/ 0 h 316080"/>
                  <a:gd name="textAreaBottom" fmla="*/ 316080 h 316080"/>
                </a:gdLst>
                <a:ahLst/>
                <a:rect l="textAreaLeft" t="textAreaTop" r="textAreaRight" b="textAreaBottom"/>
                <a:pathLst>
                  <a:path w="2609923" h="1308296">
                    <a:moveTo>
                      <a:pt x="1956523" y="0"/>
                    </a:moveTo>
                    <a:lnTo>
                      <a:pt x="1306800" y="0"/>
                    </a:lnTo>
                    <a:lnTo>
                      <a:pt x="1303123" y="0"/>
                    </a:lnTo>
                    <a:lnTo>
                      <a:pt x="653400" y="0"/>
                    </a:lnTo>
                    <a:cubicBezTo>
                      <a:pt x="292537" y="0"/>
                      <a:pt x="0" y="292872"/>
                      <a:pt x="0" y="654148"/>
                    </a:cubicBezTo>
                    <a:cubicBezTo>
                      <a:pt x="0" y="1015424"/>
                      <a:pt x="292537" y="1308296"/>
                      <a:pt x="653400" y="1308296"/>
                    </a:cubicBezTo>
                    <a:lnTo>
                      <a:pt x="1303123" y="1308296"/>
                    </a:lnTo>
                    <a:lnTo>
                      <a:pt x="1306800" y="1308296"/>
                    </a:lnTo>
                    <a:lnTo>
                      <a:pt x="1956523" y="1308296"/>
                    </a:lnTo>
                    <a:cubicBezTo>
                      <a:pt x="2317386" y="1308296"/>
                      <a:pt x="2609923" y="1015424"/>
                      <a:pt x="2609923" y="654148"/>
                    </a:cubicBezTo>
                    <a:cubicBezTo>
                      <a:pt x="2609923" y="292872"/>
                      <a:pt x="2317386" y="0"/>
                      <a:pt x="1956523" y="0"/>
                    </a:cubicBezTo>
                    <a:close/>
                  </a:path>
                </a:pathLst>
              </a:custGeom>
              <a:solidFill>
                <a:srgbClr val="f7713b">
                  <a:alpha val="7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任意多边形 41"/>
              <p:cNvSpPr/>
              <p:nvPr/>
            </p:nvSpPr>
            <p:spPr>
              <a:xfrm flipH="1" rot="8100000">
                <a:off x="4643280" y="1805040"/>
                <a:ext cx="514080" cy="316080"/>
              </a:xfrm>
              <a:custGeom>
                <a:avLst/>
                <a:gdLst>
                  <a:gd name="textAreaLeft" fmla="*/ 360 w 514080"/>
                  <a:gd name="textAreaRight" fmla="*/ 514800 w 514080"/>
                  <a:gd name="textAreaTop" fmla="*/ 0 h 316080"/>
                  <a:gd name="textAreaBottom" fmla="*/ 316080 h 316080"/>
                </a:gdLst>
                <a:ahLst/>
                <a:rect l="textAreaLeft" t="textAreaTop" r="textAreaRight" b="textAreaBottom"/>
                <a:pathLst>
                  <a:path w="2609923" h="1308296">
                    <a:moveTo>
                      <a:pt x="1956523" y="0"/>
                    </a:moveTo>
                    <a:lnTo>
                      <a:pt x="1306800" y="0"/>
                    </a:lnTo>
                    <a:lnTo>
                      <a:pt x="1303123" y="0"/>
                    </a:lnTo>
                    <a:lnTo>
                      <a:pt x="653400" y="0"/>
                    </a:lnTo>
                    <a:cubicBezTo>
                      <a:pt x="292537" y="0"/>
                      <a:pt x="0" y="292872"/>
                      <a:pt x="0" y="654148"/>
                    </a:cubicBezTo>
                    <a:cubicBezTo>
                      <a:pt x="0" y="1015424"/>
                      <a:pt x="292537" y="1308296"/>
                      <a:pt x="653400" y="1308296"/>
                    </a:cubicBezTo>
                    <a:lnTo>
                      <a:pt x="1303123" y="1308296"/>
                    </a:lnTo>
                    <a:lnTo>
                      <a:pt x="1306800" y="1308296"/>
                    </a:lnTo>
                    <a:lnTo>
                      <a:pt x="1956523" y="1308296"/>
                    </a:lnTo>
                    <a:cubicBezTo>
                      <a:pt x="2317386" y="1308296"/>
                      <a:pt x="2609923" y="1015424"/>
                      <a:pt x="2609923" y="654148"/>
                    </a:cubicBezTo>
                    <a:cubicBezTo>
                      <a:pt x="2609923" y="292872"/>
                      <a:pt x="2317386" y="0"/>
                      <a:pt x="1956523" y="0"/>
                    </a:cubicBezTo>
                    <a:close/>
                  </a:path>
                </a:pathLst>
              </a:custGeom>
              <a:solidFill>
                <a:srgbClr val="ffc000">
                  <a:alpha val="7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任意多边形 36"/>
              <p:cNvSpPr/>
              <p:nvPr/>
            </p:nvSpPr>
            <p:spPr>
              <a:xfrm flipH="1" rot="10800000">
                <a:off x="4732200" y="2015280"/>
                <a:ext cx="514080" cy="316080"/>
              </a:xfrm>
              <a:custGeom>
                <a:avLst/>
                <a:gdLst>
                  <a:gd name="textAreaLeft" fmla="*/ 360 w 514080"/>
                  <a:gd name="textAreaRight" fmla="*/ 514800 w 514080"/>
                  <a:gd name="textAreaTop" fmla="*/ 0 h 316080"/>
                  <a:gd name="textAreaBottom" fmla="*/ 316080 h 316080"/>
                </a:gdLst>
                <a:ahLst/>
                <a:rect l="textAreaLeft" t="textAreaTop" r="textAreaRight" b="textAreaBottom"/>
                <a:pathLst>
                  <a:path w="2609923" h="1308296">
                    <a:moveTo>
                      <a:pt x="1956523" y="0"/>
                    </a:moveTo>
                    <a:lnTo>
                      <a:pt x="1306800" y="0"/>
                    </a:lnTo>
                    <a:lnTo>
                      <a:pt x="1303123" y="0"/>
                    </a:lnTo>
                    <a:lnTo>
                      <a:pt x="653400" y="0"/>
                    </a:lnTo>
                    <a:cubicBezTo>
                      <a:pt x="292537" y="0"/>
                      <a:pt x="0" y="292872"/>
                      <a:pt x="0" y="654148"/>
                    </a:cubicBezTo>
                    <a:cubicBezTo>
                      <a:pt x="0" y="1015424"/>
                      <a:pt x="292537" y="1308296"/>
                      <a:pt x="653400" y="1308296"/>
                    </a:cubicBezTo>
                    <a:lnTo>
                      <a:pt x="1303123" y="1308296"/>
                    </a:lnTo>
                    <a:lnTo>
                      <a:pt x="1306800" y="1308296"/>
                    </a:lnTo>
                    <a:lnTo>
                      <a:pt x="1956523" y="1308296"/>
                    </a:lnTo>
                    <a:cubicBezTo>
                      <a:pt x="2317386" y="1308296"/>
                      <a:pt x="2609923" y="1015424"/>
                      <a:pt x="2609923" y="654148"/>
                    </a:cubicBezTo>
                    <a:cubicBezTo>
                      <a:pt x="2609923" y="292872"/>
                      <a:pt x="2317386" y="0"/>
                      <a:pt x="1956523" y="0"/>
                    </a:cubicBezTo>
                    <a:close/>
                  </a:path>
                </a:pathLst>
              </a:custGeom>
              <a:solidFill>
                <a:srgbClr val="06ba0a">
                  <a:alpha val="7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任意多边形 39"/>
              <p:cNvSpPr/>
              <p:nvPr/>
            </p:nvSpPr>
            <p:spPr>
              <a:xfrm flipH="1" rot="13500000">
                <a:off x="4643280" y="2226240"/>
                <a:ext cx="514080" cy="316080"/>
              </a:xfrm>
              <a:custGeom>
                <a:avLst/>
                <a:gdLst>
                  <a:gd name="textAreaLeft" fmla="*/ 360 w 514080"/>
                  <a:gd name="textAreaRight" fmla="*/ 514800 w 514080"/>
                  <a:gd name="textAreaTop" fmla="*/ 0 h 316080"/>
                  <a:gd name="textAreaBottom" fmla="*/ 316080 h 316080"/>
                </a:gdLst>
                <a:ahLst/>
                <a:rect l="textAreaLeft" t="textAreaTop" r="textAreaRight" b="textAreaBottom"/>
                <a:pathLst>
                  <a:path w="2609923" h="1308296">
                    <a:moveTo>
                      <a:pt x="1956523" y="0"/>
                    </a:moveTo>
                    <a:lnTo>
                      <a:pt x="1306800" y="0"/>
                    </a:lnTo>
                    <a:lnTo>
                      <a:pt x="1303123" y="0"/>
                    </a:lnTo>
                    <a:lnTo>
                      <a:pt x="653400" y="0"/>
                    </a:lnTo>
                    <a:cubicBezTo>
                      <a:pt x="292537" y="0"/>
                      <a:pt x="0" y="292872"/>
                      <a:pt x="0" y="654148"/>
                    </a:cubicBezTo>
                    <a:cubicBezTo>
                      <a:pt x="0" y="1015424"/>
                      <a:pt x="292537" y="1308296"/>
                      <a:pt x="653400" y="1308296"/>
                    </a:cubicBezTo>
                    <a:lnTo>
                      <a:pt x="1303123" y="1308296"/>
                    </a:lnTo>
                    <a:lnTo>
                      <a:pt x="1306800" y="1308296"/>
                    </a:lnTo>
                    <a:lnTo>
                      <a:pt x="1956523" y="1308296"/>
                    </a:lnTo>
                    <a:cubicBezTo>
                      <a:pt x="2317386" y="1308296"/>
                      <a:pt x="2609923" y="1015424"/>
                      <a:pt x="2609923" y="654148"/>
                    </a:cubicBezTo>
                    <a:cubicBezTo>
                      <a:pt x="2609923" y="292872"/>
                      <a:pt x="2317386" y="0"/>
                      <a:pt x="1956523" y="0"/>
                    </a:cubicBezTo>
                    <a:close/>
                  </a:path>
                </a:pathLst>
              </a:custGeom>
              <a:solidFill>
                <a:srgbClr val="007622">
                  <a:alpha val="7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任意多边形 31"/>
              <p:cNvSpPr/>
              <p:nvPr/>
            </p:nvSpPr>
            <p:spPr>
              <a:xfrm flipH="1" rot="16200000">
                <a:off x="4434120" y="2312640"/>
                <a:ext cx="514440" cy="316080"/>
              </a:xfrm>
              <a:custGeom>
                <a:avLst/>
                <a:gdLst>
                  <a:gd name="textAreaLeft" fmla="*/ -360 w 514440"/>
                  <a:gd name="textAreaRight" fmla="*/ 514440 w 514440"/>
                  <a:gd name="textAreaTop" fmla="*/ 0 h 316080"/>
                  <a:gd name="textAreaBottom" fmla="*/ 316080 h 316080"/>
                </a:gdLst>
                <a:ahLst/>
                <a:rect l="textAreaLeft" t="textAreaTop" r="textAreaRight" b="textAreaBottom"/>
                <a:pathLst>
                  <a:path w="2609923" h="1308296">
                    <a:moveTo>
                      <a:pt x="1956523" y="0"/>
                    </a:moveTo>
                    <a:lnTo>
                      <a:pt x="1306800" y="0"/>
                    </a:lnTo>
                    <a:lnTo>
                      <a:pt x="1303123" y="0"/>
                    </a:lnTo>
                    <a:lnTo>
                      <a:pt x="653400" y="0"/>
                    </a:lnTo>
                    <a:cubicBezTo>
                      <a:pt x="292537" y="0"/>
                      <a:pt x="0" y="292872"/>
                      <a:pt x="0" y="654148"/>
                    </a:cubicBezTo>
                    <a:cubicBezTo>
                      <a:pt x="0" y="1015424"/>
                      <a:pt x="292537" y="1308296"/>
                      <a:pt x="653400" y="1308296"/>
                    </a:cubicBezTo>
                    <a:lnTo>
                      <a:pt x="1303123" y="1308296"/>
                    </a:lnTo>
                    <a:lnTo>
                      <a:pt x="1306800" y="1308296"/>
                    </a:lnTo>
                    <a:lnTo>
                      <a:pt x="1956523" y="1308296"/>
                    </a:lnTo>
                    <a:cubicBezTo>
                      <a:pt x="2317386" y="1308296"/>
                      <a:pt x="2609923" y="1015424"/>
                      <a:pt x="2609923" y="654148"/>
                    </a:cubicBezTo>
                    <a:cubicBezTo>
                      <a:pt x="2609923" y="292872"/>
                      <a:pt x="2317386" y="0"/>
                      <a:pt x="1956523" y="0"/>
                    </a:cubicBezTo>
                    <a:close/>
                  </a:path>
                </a:pathLst>
              </a:custGeom>
              <a:solidFill>
                <a:srgbClr val="0183b1">
                  <a:alpha val="7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任意多边形 42"/>
              <p:cNvSpPr/>
              <p:nvPr/>
            </p:nvSpPr>
            <p:spPr>
              <a:xfrm flipH="1" rot="8100000">
                <a:off x="4223520" y="2224440"/>
                <a:ext cx="514080" cy="316080"/>
              </a:xfrm>
              <a:custGeom>
                <a:avLst/>
                <a:gdLst>
                  <a:gd name="textAreaLeft" fmla="*/ 360 w 514080"/>
                  <a:gd name="textAreaRight" fmla="*/ 514800 w 514080"/>
                  <a:gd name="textAreaTop" fmla="*/ 0 h 316080"/>
                  <a:gd name="textAreaBottom" fmla="*/ 316080 h 316080"/>
                </a:gdLst>
                <a:ahLst/>
                <a:rect l="textAreaLeft" t="textAreaTop" r="textAreaRight" b="textAreaBottom"/>
                <a:pathLst>
                  <a:path w="2609923" h="1308296">
                    <a:moveTo>
                      <a:pt x="1956523" y="0"/>
                    </a:moveTo>
                    <a:lnTo>
                      <a:pt x="1306800" y="0"/>
                    </a:lnTo>
                    <a:lnTo>
                      <a:pt x="1303123" y="0"/>
                    </a:lnTo>
                    <a:lnTo>
                      <a:pt x="653400" y="0"/>
                    </a:lnTo>
                    <a:cubicBezTo>
                      <a:pt x="292537" y="0"/>
                      <a:pt x="0" y="292872"/>
                      <a:pt x="0" y="654148"/>
                    </a:cubicBezTo>
                    <a:cubicBezTo>
                      <a:pt x="0" y="1015424"/>
                      <a:pt x="292537" y="1308296"/>
                      <a:pt x="653400" y="1308296"/>
                    </a:cubicBezTo>
                    <a:lnTo>
                      <a:pt x="1303123" y="1308296"/>
                    </a:lnTo>
                    <a:lnTo>
                      <a:pt x="1306800" y="1308296"/>
                    </a:lnTo>
                    <a:lnTo>
                      <a:pt x="1956523" y="1308296"/>
                    </a:lnTo>
                    <a:cubicBezTo>
                      <a:pt x="2317386" y="1308296"/>
                      <a:pt x="2609923" y="1015424"/>
                      <a:pt x="2609923" y="654148"/>
                    </a:cubicBezTo>
                    <a:cubicBezTo>
                      <a:pt x="2609923" y="292872"/>
                      <a:pt x="2317386" y="0"/>
                      <a:pt x="1956523" y="0"/>
                    </a:cubicBezTo>
                    <a:close/>
                  </a:path>
                </a:pathLst>
              </a:custGeom>
              <a:solidFill>
                <a:srgbClr val="7030a0">
                  <a:alpha val="7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任意多边形 37"/>
              <p:cNvSpPr/>
              <p:nvPr/>
            </p:nvSpPr>
            <p:spPr>
              <a:xfrm flipH="1" rot="10800000">
                <a:off x="4138920" y="2015280"/>
                <a:ext cx="514080" cy="316080"/>
              </a:xfrm>
              <a:custGeom>
                <a:avLst/>
                <a:gdLst>
                  <a:gd name="textAreaLeft" fmla="*/ 360 w 514080"/>
                  <a:gd name="textAreaRight" fmla="*/ 514800 w 514080"/>
                  <a:gd name="textAreaTop" fmla="*/ 0 h 316080"/>
                  <a:gd name="textAreaBottom" fmla="*/ 316080 h 316080"/>
                </a:gdLst>
                <a:ahLst/>
                <a:rect l="textAreaLeft" t="textAreaTop" r="textAreaRight" b="textAreaBottom"/>
                <a:pathLst>
                  <a:path w="2609923" h="1308296">
                    <a:moveTo>
                      <a:pt x="1956523" y="0"/>
                    </a:moveTo>
                    <a:lnTo>
                      <a:pt x="1306800" y="0"/>
                    </a:lnTo>
                    <a:lnTo>
                      <a:pt x="1303123" y="0"/>
                    </a:lnTo>
                    <a:lnTo>
                      <a:pt x="653400" y="0"/>
                    </a:lnTo>
                    <a:cubicBezTo>
                      <a:pt x="292537" y="0"/>
                      <a:pt x="0" y="292872"/>
                      <a:pt x="0" y="654148"/>
                    </a:cubicBezTo>
                    <a:cubicBezTo>
                      <a:pt x="0" y="1015424"/>
                      <a:pt x="292537" y="1308296"/>
                      <a:pt x="653400" y="1308296"/>
                    </a:cubicBezTo>
                    <a:lnTo>
                      <a:pt x="1303123" y="1308296"/>
                    </a:lnTo>
                    <a:lnTo>
                      <a:pt x="1306800" y="1308296"/>
                    </a:lnTo>
                    <a:lnTo>
                      <a:pt x="1956523" y="1308296"/>
                    </a:lnTo>
                    <a:cubicBezTo>
                      <a:pt x="2317386" y="1308296"/>
                      <a:pt x="2609923" y="1015424"/>
                      <a:pt x="2609923" y="654148"/>
                    </a:cubicBezTo>
                    <a:cubicBezTo>
                      <a:pt x="2609923" y="292872"/>
                      <a:pt x="2317386" y="0"/>
                      <a:pt x="1956523" y="0"/>
                    </a:cubicBezTo>
                    <a:close/>
                  </a:path>
                </a:pathLst>
              </a:custGeom>
              <a:solidFill>
                <a:srgbClr val="b71968">
                  <a:alpha val="7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任意多边形 40"/>
              <p:cNvSpPr/>
              <p:nvPr/>
            </p:nvSpPr>
            <p:spPr>
              <a:xfrm flipH="1" rot="13500000">
                <a:off x="4222080" y="1805400"/>
                <a:ext cx="514080" cy="316080"/>
              </a:xfrm>
              <a:custGeom>
                <a:avLst/>
                <a:gdLst>
                  <a:gd name="textAreaLeft" fmla="*/ 360 w 514080"/>
                  <a:gd name="textAreaRight" fmla="*/ 514800 w 514080"/>
                  <a:gd name="textAreaTop" fmla="*/ 0 h 316080"/>
                  <a:gd name="textAreaBottom" fmla="*/ 316080 h 316080"/>
                </a:gdLst>
                <a:ahLst/>
                <a:rect l="textAreaLeft" t="textAreaTop" r="textAreaRight" b="textAreaBottom"/>
                <a:pathLst>
                  <a:path w="2609923" h="1308296">
                    <a:moveTo>
                      <a:pt x="1956523" y="0"/>
                    </a:moveTo>
                    <a:lnTo>
                      <a:pt x="1306800" y="0"/>
                    </a:lnTo>
                    <a:lnTo>
                      <a:pt x="1303123" y="0"/>
                    </a:lnTo>
                    <a:lnTo>
                      <a:pt x="653400" y="0"/>
                    </a:lnTo>
                    <a:cubicBezTo>
                      <a:pt x="292537" y="0"/>
                      <a:pt x="0" y="292872"/>
                      <a:pt x="0" y="654148"/>
                    </a:cubicBezTo>
                    <a:cubicBezTo>
                      <a:pt x="0" y="1015424"/>
                      <a:pt x="292537" y="1308296"/>
                      <a:pt x="653400" y="1308296"/>
                    </a:cubicBezTo>
                    <a:lnTo>
                      <a:pt x="1303123" y="1308296"/>
                    </a:lnTo>
                    <a:lnTo>
                      <a:pt x="1306800" y="1308296"/>
                    </a:lnTo>
                    <a:lnTo>
                      <a:pt x="1956523" y="1308296"/>
                    </a:lnTo>
                    <a:cubicBezTo>
                      <a:pt x="2317386" y="1308296"/>
                      <a:pt x="2609923" y="1015424"/>
                      <a:pt x="2609923" y="654148"/>
                    </a:cubicBezTo>
                    <a:cubicBezTo>
                      <a:pt x="2609923" y="292872"/>
                      <a:pt x="2317386" y="0"/>
                      <a:pt x="1956523" y="0"/>
                    </a:cubicBezTo>
                    <a:close/>
                  </a:path>
                </a:pathLst>
              </a:custGeom>
              <a:solidFill>
                <a:srgbClr val="ff0000">
                  <a:alpha val="7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矩形 88"/>
            <p:cNvSpPr/>
            <p:nvPr/>
          </p:nvSpPr>
          <p:spPr>
            <a:xfrm>
              <a:off x="4006800" y="2982600"/>
              <a:ext cx="137160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细等线简体"/>
                  <a:ea typeface="方正细等线简体"/>
                </a:rPr>
                <a:t>图片处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组合 92"/>
          <p:cNvGrpSpPr/>
          <p:nvPr/>
        </p:nvGrpSpPr>
        <p:grpSpPr>
          <a:xfrm>
            <a:off x="6943680" y="1487520"/>
            <a:ext cx="1371600" cy="1874880"/>
            <a:chOff x="6943680" y="1487520"/>
            <a:chExt cx="1371600" cy="1874880"/>
          </a:xfrm>
        </p:grpSpPr>
        <p:sp>
          <p:nvSpPr>
            <p:cNvPr id="59" name="圆角矩形 93"/>
            <p:cNvSpPr/>
            <p:nvPr/>
          </p:nvSpPr>
          <p:spPr>
            <a:xfrm>
              <a:off x="6943680" y="1487520"/>
              <a:ext cx="1371600" cy="1371960"/>
            </a:xfrm>
            <a:custGeom>
              <a:avLst/>
              <a:gdLst>
                <a:gd name="textAreaLeft" fmla="*/ 66960 w 1371600"/>
                <a:gd name="textAreaRight" fmla="*/ 1304640 w 1371600"/>
                <a:gd name="textAreaTop" fmla="*/ 66960 h 1371960"/>
                <a:gd name="textAreaBottom" fmla="*/ 1305000 h 1371960"/>
              </a:gdLst>
              <a:ahLst/>
              <a:rect l="textAreaLeft" t="textAreaTop" r="textAreaRight" b="textAreaBottom"/>
              <a:pathLst>
                <a:path w="21600" h="21606">
                  <a:moveTo>
                    <a:pt x="3600" y="0"/>
                  </a:moveTo>
                  <a:arcTo wR="3600" hR="3600" stAng="16200000" swAng="-5400000"/>
                  <a:lnTo>
                    <a:pt x="0" y="18006"/>
                  </a:lnTo>
                  <a:arcTo wR="3600" hR="3600" stAng="10800000" swAng="-5400000"/>
                  <a:lnTo>
                    <a:pt x="18000" y="216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ffffff"/>
                  </a:solidFill>
                  <a:latin typeface="方正细等线简体"/>
                  <a:ea typeface="方正细等线简体"/>
                </a:rPr>
                <a:t>字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95"/>
            <p:cNvSpPr/>
            <p:nvPr/>
          </p:nvSpPr>
          <p:spPr>
            <a:xfrm>
              <a:off x="6943680" y="2982600"/>
              <a:ext cx="137160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细等线简体"/>
                  <a:ea typeface="方正细等线简体"/>
                </a:rPr>
                <a:t>炫彩字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圆角矩形 106"/>
          <p:cNvSpPr/>
          <p:nvPr/>
        </p:nvSpPr>
        <p:spPr>
          <a:xfrm>
            <a:off x="1069920" y="1341360"/>
            <a:ext cx="10058400" cy="4938840"/>
          </a:xfrm>
          <a:prstGeom prst="roundRect">
            <a:avLst>
              <a:gd name="adj" fmla="val 16667"/>
            </a:avLst>
          </a:prstGeom>
          <a:solidFill>
            <a:srgbClr val="f2f2f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08"/>
          <p:cNvSpPr/>
          <p:nvPr/>
        </p:nvSpPr>
        <p:spPr>
          <a:xfrm>
            <a:off x="3484440" y="534960"/>
            <a:ext cx="4937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细等线简体"/>
                <a:ea typeface="方正细等线简体"/>
              </a:rPr>
              <a:t>图片处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1" descr=""/>
          <p:cNvPicPr/>
          <p:nvPr/>
        </p:nvPicPr>
        <p:blipFill>
          <a:blip r:embed="rId2"/>
          <a:stretch/>
        </p:blipFill>
        <p:spPr>
          <a:xfrm>
            <a:off x="6369120" y="2340000"/>
            <a:ext cx="4106880" cy="256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1525680" y="1995480"/>
          <a:ext cx="4190760" cy="2955960"/>
        </p:xfrm>
        <a:graphic>
          <a:graphicData uri="http://schemas.openxmlformats.org/drawingml/2006/table">
            <a:tbl>
              <a:tblPr/>
              <a:tblGrid>
                <a:gridCol w="419076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选择一张图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建议选择颜色丰富的图片，作为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PPT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背景会更绚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图片质量不高没问题，像素更是随你心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圆角矩形 106"/>
          <p:cNvSpPr/>
          <p:nvPr/>
        </p:nvSpPr>
        <p:spPr>
          <a:xfrm>
            <a:off x="1069920" y="1341360"/>
            <a:ext cx="10058400" cy="4938840"/>
          </a:xfrm>
          <a:prstGeom prst="roundRect">
            <a:avLst>
              <a:gd name="adj" fmla="val 16667"/>
            </a:avLst>
          </a:prstGeom>
          <a:solidFill>
            <a:srgbClr val="f2f2f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08"/>
          <p:cNvSpPr/>
          <p:nvPr/>
        </p:nvSpPr>
        <p:spPr>
          <a:xfrm>
            <a:off x="3484440" y="534960"/>
            <a:ext cx="4937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细等线简体"/>
                <a:ea typeface="方正细等线简体"/>
              </a:rPr>
              <a:t>图片处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525680" y="1995480"/>
          <a:ext cx="4190760" cy="3019320"/>
        </p:xfrm>
        <a:graphic>
          <a:graphicData uri="http://schemas.openxmlformats.org/drawingml/2006/table">
            <a:tbl>
              <a:tblPr/>
              <a:tblGrid>
                <a:gridCol w="419076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添加艺术效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双击图片，在功能区选择艺术效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选择虚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虚化程度不理想？请调整虚化半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虚化半径在哪里？请点击艺术效果选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图片 4" descr=""/>
          <p:cNvPicPr/>
          <p:nvPr/>
        </p:nvPicPr>
        <p:blipFill>
          <a:blip r:embed="rId2"/>
          <a:stretch/>
        </p:blipFill>
        <p:spPr>
          <a:xfrm>
            <a:off x="6073920" y="2081160"/>
            <a:ext cx="469584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圆角矩形 106"/>
          <p:cNvSpPr/>
          <p:nvPr/>
        </p:nvSpPr>
        <p:spPr>
          <a:xfrm>
            <a:off x="1069920" y="1341360"/>
            <a:ext cx="10058400" cy="4938840"/>
          </a:xfrm>
          <a:prstGeom prst="roundRect">
            <a:avLst>
              <a:gd name="adj" fmla="val 16667"/>
            </a:avLst>
          </a:prstGeom>
          <a:solidFill>
            <a:srgbClr val="f2f2f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08"/>
          <p:cNvSpPr/>
          <p:nvPr/>
        </p:nvSpPr>
        <p:spPr>
          <a:xfrm>
            <a:off x="3484440" y="534960"/>
            <a:ext cx="4937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细等线简体"/>
                <a:ea typeface="方正细等线简体"/>
              </a:rPr>
              <a:t>炫彩字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5680" y="1995480"/>
          <a:ext cx="4190760" cy="2200320"/>
        </p:xfrm>
        <a:graphic>
          <a:graphicData uri="http://schemas.openxmlformats.org/drawingml/2006/table">
            <a:tbl>
              <a:tblPr/>
              <a:tblGrid>
                <a:gridCol w="4190760"/>
              </a:tblGrid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安装字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英文字体为：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GillSans-L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中文字体为：方正细等线简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中文字体的原生字体我没有下到，不好意思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圆角矩形 6"/>
          <p:cNvSpPr/>
          <p:nvPr/>
        </p:nvSpPr>
        <p:spPr>
          <a:xfrm>
            <a:off x="7666200" y="2160720"/>
            <a:ext cx="2538360" cy="253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.PhonepadTwo"/>
              </a:rPr>
              <a:t>7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"/>
          <p:cNvPicPr/>
          <p:nvPr/>
        </p:nvPicPr>
        <p:blipFill>
          <a:blip r:embed="rId2"/>
          <a:stretch/>
        </p:blipFill>
        <p:spPr>
          <a:xfrm>
            <a:off x="1828800" y="6505560"/>
            <a:ext cx="85806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圆角矩形 106"/>
          <p:cNvSpPr/>
          <p:nvPr/>
        </p:nvSpPr>
        <p:spPr>
          <a:xfrm>
            <a:off x="1069920" y="1341360"/>
            <a:ext cx="10058400" cy="4938840"/>
          </a:xfrm>
          <a:prstGeom prst="roundRect">
            <a:avLst>
              <a:gd name="adj" fmla="val 16667"/>
            </a:avLst>
          </a:prstGeom>
          <a:solidFill>
            <a:srgbClr val="f2f2f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08"/>
          <p:cNvSpPr/>
          <p:nvPr/>
        </p:nvSpPr>
        <p:spPr>
          <a:xfrm>
            <a:off x="3484440" y="534960"/>
            <a:ext cx="4937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细等线简体"/>
                <a:ea typeface="方正细等线简体"/>
              </a:rPr>
              <a:t>炫彩字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25680" y="1995480"/>
          <a:ext cx="6099120" cy="2104920"/>
        </p:xfrm>
        <a:graphic>
          <a:graphicData uri="http://schemas.openxmlformats.org/drawingml/2006/table">
            <a:tbl>
              <a:tblPr/>
              <a:tblGrid>
                <a:gridCol w="6099120"/>
              </a:tblGrid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颜色调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输入文字：举个栗子：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字体颜色：选择渐变，此处主要为确定渐变方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光圈设置：增加光圈数，调整每个光圈的颜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颜色设置：调整各光圈间距离来调整整体颜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1" name="图片 1" descr=""/>
          <p:cNvPicPr/>
          <p:nvPr/>
        </p:nvPicPr>
        <p:blipFill>
          <a:blip r:embed="rId2"/>
          <a:stretch/>
        </p:blipFill>
        <p:spPr>
          <a:xfrm>
            <a:off x="7797960" y="1533600"/>
            <a:ext cx="2336760" cy="4475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/>
          <p:cNvPicPr/>
          <p:nvPr/>
        </p:nvPicPr>
        <p:blipFill>
          <a:blip r:embed="rId3"/>
          <a:stretch/>
        </p:blipFill>
        <p:spPr>
          <a:xfrm>
            <a:off x="1828800" y="6505560"/>
            <a:ext cx="85806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圆角矩形 106"/>
          <p:cNvSpPr/>
          <p:nvPr/>
        </p:nvSpPr>
        <p:spPr>
          <a:xfrm>
            <a:off x="1069920" y="1341360"/>
            <a:ext cx="10058400" cy="4938840"/>
          </a:xfrm>
          <a:prstGeom prst="roundRect">
            <a:avLst>
              <a:gd name="adj" fmla="val 16667"/>
            </a:avLst>
          </a:prstGeom>
          <a:solidFill>
            <a:srgbClr val="f2f2f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08"/>
          <p:cNvSpPr/>
          <p:nvPr/>
        </p:nvSpPr>
        <p:spPr>
          <a:xfrm>
            <a:off x="3484440" y="534960"/>
            <a:ext cx="4937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细等线简体"/>
                <a:ea typeface="方正细等线简体"/>
              </a:rPr>
              <a:t>心得分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5680" y="1995480"/>
          <a:ext cx="8842320" cy="1982880"/>
        </p:xfrm>
        <a:graphic>
          <a:graphicData uri="http://schemas.openxmlformats.org/drawingml/2006/table">
            <a:tbl>
              <a:tblPr/>
              <a:tblGrid>
                <a:gridCol w="8842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背景要虚，做出摄影棚里无数灯的光晕效果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字体细圆，但不能够细到看不见，圆到木有骨头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透明度是设置图形的好帮手，可以瞬间变成背景，默默突出主题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颜色设置不要太饱和，柔柔的才是小清新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欢迎勾搭，欢迎点赞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7" name="Picture 10" descr=""/>
          <p:cNvPicPr/>
          <p:nvPr/>
        </p:nvPicPr>
        <p:blipFill>
          <a:blip r:embed="rId2"/>
          <a:stretch/>
        </p:blipFill>
        <p:spPr>
          <a:xfrm>
            <a:off x="1828800" y="6505560"/>
            <a:ext cx="85806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圆角矩形 106"/>
          <p:cNvSpPr/>
          <p:nvPr/>
        </p:nvSpPr>
        <p:spPr>
          <a:xfrm>
            <a:off x="3484440" y="1341360"/>
            <a:ext cx="4937400" cy="4938840"/>
          </a:xfrm>
          <a:custGeom>
            <a:avLst/>
            <a:gdLst>
              <a:gd name="textAreaLeft" fmla="*/ 240840 w 4937400"/>
              <a:gd name="textAreaRight" fmla="*/ 4696560 w 4937400"/>
              <a:gd name="textAreaTop" fmla="*/ 240840 h 4938840"/>
              <a:gd name="textAreaBottom" fmla="*/ 4698000 h 4938840"/>
            </a:gdLst>
            <a:ahLst/>
            <a:rect l="textAreaLeft" t="textAreaTop" r="textAreaRight" b="textAreaBottom"/>
            <a:pathLst>
              <a:path w="21600" h="21606">
                <a:moveTo>
                  <a:pt x="3600" y="0"/>
                </a:moveTo>
                <a:arcTo wR="3600" hR="3600" stAng="16200000" swAng="-5400000"/>
                <a:lnTo>
                  <a:pt x="0" y="18006"/>
                </a:lnTo>
                <a:arcTo wR="3600" hR="3600" stAng="10800000" swAng="-5400000"/>
                <a:lnTo>
                  <a:pt x="18000" y="216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2f2f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08"/>
          <p:cNvSpPr/>
          <p:nvPr/>
        </p:nvSpPr>
        <p:spPr>
          <a:xfrm>
            <a:off x="3484440" y="534960"/>
            <a:ext cx="4937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细等线简体"/>
                <a:ea typeface="方正细等线简体"/>
              </a:rPr>
              <a:t>勾搭途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4" descr=""/>
          <p:cNvPicPr/>
          <p:nvPr/>
        </p:nvPicPr>
        <p:blipFill>
          <a:blip r:embed="rId2"/>
          <a:stretch/>
        </p:blipFill>
        <p:spPr>
          <a:xfrm>
            <a:off x="3873600" y="2406600"/>
            <a:ext cx="1360440" cy="1360440"/>
          </a:xfrm>
          <a:prstGeom prst="rect">
            <a:avLst/>
          </a:prstGeom>
          <a:ln w="0">
            <a:noFill/>
          </a:ln>
        </p:spPr>
      </p:pic>
      <p:sp>
        <p:nvSpPr>
          <p:cNvPr id="92" name="矩形 7"/>
          <p:cNvSpPr/>
          <p:nvPr/>
        </p:nvSpPr>
        <p:spPr>
          <a:xfrm>
            <a:off x="3873600" y="3867120"/>
            <a:ext cx="13716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细等线简体"/>
                <a:ea typeface="方正细等线简体"/>
              </a:rPr>
              <a:t>新浪微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5" descr=""/>
          <p:cNvPicPr/>
          <p:nvPr/>
        </p:nvPicPr>
        <p:blipFill>
          <a:blip r:embed="rId3"/>
          <a:stretch/>
        </p:blipFill>
        <p:spPr>
          <a:xfrm>
            <a:off x="6438960" y="2406600"/>
            <a:ext cx="1360440" cy="1360440"/>
          </a:xfrm>
          <a:prstGeom prst="rect">
            <a:avLst/>
          </a:prstGeom>
          <a:ln w="0">
            <a:noFill/>
          </a:ln>
        </p:spPr>
      </p:pic>
      <p:sp>
        <p:nvSpPr>
          <p:cNvPr id="94" name="矩形 9"/>
          <p:cNvSpPr/>
          <p:nvPr/>
        </p:nvSpPr>
        <p:spPr>
          <a:xfrm>
            <a:off x="6438960" y="3873600"/>
            <a:ext cx="13716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细等线简体"/>
                <a:ea typeface="方正细等线简体"/>
              </a:rPr>
              <a:t>腾讯微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4"/>
          <a:stretch/>
        </p:blipFill>
        <p:spPr>
          <a:xfrm>
            <a:off x="1828800" y="6505560"/>
            <a:ext cx="85806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9T02:27:00Z</dcterms:created>
  <dc:creator>LL H</dc:creator>
  <dc:description/>
  <cp:keywords/>
  <dc:language>en-US</dc:language>
  <cp:lastModifiedBy>Yehuan Liu</cp:lastModifiedBy>
  <dcterms:modified xsi:type="dcterms:W3CDTF">2014-11-06T02:02:43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