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CCF-D710-409B-AC73-67A47F6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146-4AB1-4C61-A525-8E284B0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62C-91CA-4A24-AFCC-E38963FC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824-8DAB-4B9D-A9BA-C9F378B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861-9750-43D3-B428-F0C55B53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C25-8C05-4DB0-9256-1242B64B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8BC-1F71-49F2-871F-C54C9BB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08B-DBD2-4A4F-A2C1-6C0847A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729-D6B9-4D17-AC66-3D41472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A6C-AB19-41EA-BCBF-5E90484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367-06C0-44F7-AEA9-1738B17B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993-9563-474D-B3AA-25DD4A7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07C1-22BD-4E5D-89BD-E6F95E0EAE2C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5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6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47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8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49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0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1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2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3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4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2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3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4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5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6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67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8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69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0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1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2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3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4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6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77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3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89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6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19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0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2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27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8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9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1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2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4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5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36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7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47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8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2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58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59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1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3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65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0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3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78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6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87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3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5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0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1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2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3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1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2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3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4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5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6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9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4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25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7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9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3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6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7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3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5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5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0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0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1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4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5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86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87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8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89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1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4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396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7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8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0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2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05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06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07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8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09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0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1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2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3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4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5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6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17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18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9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0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1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26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0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1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3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5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0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3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4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0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2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58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49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2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3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64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5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6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7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8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9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0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2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3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74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77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78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79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0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2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3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6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89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0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4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5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6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7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8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69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0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1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498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99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0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2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9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2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1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4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26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27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4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7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9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5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1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2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1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2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3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4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5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6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7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8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89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1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3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6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7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98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99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0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1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2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3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4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5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6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7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08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9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0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4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5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7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2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3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4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5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6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8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/>
  <dc:description/>
  <dc:language>en-US</dc:language>
  <cp:lastModifiedBy/>
  <dcterms:modified xsi:type="dcterms:W3CDTF">2017-06-02T12:00:51Z</dcterms:modified>
  <cp:revision>32</cp:revision>
  <dc:subject/>
  <dc:title/>
</cp:coreProperties>
</file>