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0D5-59F3-4015-8F71-69C8A62F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7CE-CA81-4E4A-8C45-8EDC8215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172-2AF6-447D-A1DB-4D29413D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073-0A44-4753-9E95-5614BA1B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032-C6FC-4408-A05A-59CCE4A3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EFA-127D-4004-839A-FA6C94B1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204-A72E-4777-9171-E4CD9EFB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490-C0C2-479E-AF25-B79BA990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3A2-2D86-4896-BF83-E5C4DF7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3F7-58D4-4BAF-A75F-50C60944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993-44AB-4E4B-8A8E-819F1A3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441-3E15-4B12-862C-101B0C61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60DA-6CB5-4B29-AED5-F7C5834ED7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222000" y="1357200"/>
            <a:ext cx="454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222000" y="2428920"/>
            <a:ext cx="454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997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855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83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428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5690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997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712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5718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497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355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426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06900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0-30T09:46:43Z</dcterms:modified>
  <cp:revision>41</cp:revision>
  <dc:subject/>
  <dc:title>幻灯片 1</dc:title>
</cp:coreProperties>
</file>