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1D5-F439-47D9-82B0-46914166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895-8B1A-4450-BE39-2D96C91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F7C-C47B-4C1D-A996-C0A10775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4CB-5360-4D92-A604-AD19C195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E06-0274-4153-B2AD-93D5501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24B-C8DC-48D6-A84D-D54379C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385-CA78-4187-AAA4-123EC1C8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EEA-AFED-4B44-A07C-298E3A6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C1E-957A-4FEA-B7BB-2E03BD90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34D-DD8B-4F73-A6CD-9C4558F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9CA-ED67-4F0D-A134-AEF9AFF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75B-27B1-4739-A9A3-857B45F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D726-FBCD-4CB4-BBF0-245A9640EB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38400" y="24289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344960" y="464076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762560" y="23572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爽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35772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711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78612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426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28600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98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497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643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35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3-07T06:07:50Z</dcterms:modified>
  <cp:revision>35</cp:revision>
  <dc:subject/>
  <dc:title>幻灯片 1</dc:title>
</cp:coreProperties>
</file>