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684E-7CF7-4BBB-80B6-408F16B9DB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guild the two points with corresponding graphic… screen shot or other illu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F70-C688-4DA0-BADA-C5499EEA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233-1E7F-4783-9E0A-8550E46B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078-EE6F-43E0-98B5-63F144C6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78E-B44F-418D-AEF6-1060A3CE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C637-12BB-4C14-9A82-C7BE66FC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1A65-BAB7-4BFA-BA88-E7E91F63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6292-1EC7-4AB1-A051-7FB4A0E2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420F-7A1B-40DA-BB92-715F2EC1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5DAB-A386-40F0-A0C1-BCEA52B4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BE9E-B758-4EC6-87C5-439468B9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9E72-7015-48EC-AE8A-A91C0A45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17F-6470-454C-A227-7414BE89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F831-E9BA-4384-964F-A5C84ECF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AD43-B625-4B00-B528-7B5CF47B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0F5B-9627-42BE-A3E9-234D26E1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B4CE-B853-4E85-BE51-E08FC0F8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C955-0929-43CE-8C10-1251829A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126-5F79-4F66-B2FF-939920E1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BB7-AE9C-420E-B23D-0940FD13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C48-B02D-4144-AA8C-CBD21DDD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A82-138C-462C-A8CE-65E128A2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E0E-8F03-47F7-A26C-2C8F2BCF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C5B-2F46-4154-A047-A1B5850B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A75-4BC2-4270-89F3-94575B7A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LA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AB46-6042-4818-832E-0CA3C8A7D0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676520" cy="867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ff"/>
                </a:solidFill>
                <a:latin typeface="Times New Roman"/>
                <a:ea typeface="隶书"/>
              </a:rPr>
              <a:t>跟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 Black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840" y="2921040"/>
            <a:ext cx="911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讲：何亚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500200">
            <a:off x="-654840" y="54342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apyrus"/>
              </a:rPr>
              <a:t>1305486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background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600200" y="0"/>
              <a:ext cx="7543800" cy="6172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5AD1-62F2-485D-9D8A-69D3F27111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package" Target="../embeddings/oleObject2.docx"/><Relationship Id="rId5" Type="http://schemas.openxmlformats.org/officeDocument/2006/relationships/image" Target="../media/image5.pn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hyperlink" Target="file:///tmp/home/.config/libreoffice/4/user/gallery/MOUSED.WAV" TargetMode="External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slide" Target="slide4.xml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10.png"/><Relationship Id="rId11" Type="http://schemas.openxmlformats.org/officeDocument/2006/relationships/hyperlink" Target="file:///tmp/home/.config/libreoffice/4/user/gallery/MOUSED.WAV" TargetMode="External"/><Relationship Id="rId12" Type="http://schemas.openxmlformats.org/officeDocument/2006/relationships/hyperlink" Target="file:///tmp/home/.config/libreoffice/4/user/gallery/MOUSED.WAV" TargetMode="Externa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1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Camera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image" Target="../media/image8.png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2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-169920"/>
          <a:ext cx="9372600" cy="70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69920"/>
                    <a:ext cx="937260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52280"/>
          <a:ext cx="1376280" cy="1690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52280"/>
                    <a:ext cx="13762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6200" y="76320"/>
            <a:ext cx="68580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5840" indent="0">
              <a:lnSpc>
                <a:spcPct val="70000"/>
              </a:lnSpc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跟我学</a:t>
            </a:r>
            <a:br>
              <a:rPr sz="80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owerPoint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97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最流行的多媒体制作软件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ox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382760" cy="169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7000" y="5257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太激动人心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28480" y="1585800"/>
          <a:ext cx="1376640" cy="16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8480" y="1585800"/>
                    <a:ext cx="13766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3248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Arial Narrow"/>
              </a:rPr>
              <a:t>学习内容</a:t>
            </a:r>
            <a:endParaRPr b="1" i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素材的获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ox" descr=""/>
          <p:cNvPicPr/>
          <p:nvPr/>
        </p:nvPicPr>
        <p:blipFill>
          <a:blip r:embed="rId5"/>
          <a:stretch/>
        </p:blipFill>
        <p:spPr>
          <a:xfrm>
            <a:off x="65160" y="1143000"/>
            <a:ext cx="1382760" cy="169704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previousslide"/>
            <a:hlinkClick r:id="rId6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  <a:hlinkClick r:id="rId7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2240" y="3276720"/>
          <a:ext cx="750600" cy="358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2240" y="3276720"/>
                    <a:ext cx="750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2971800" y="1447920"/>
            <a:ext cx="3505320" cy="761760"/>
          </a:xfrm>
          <a:custGeom>
            <a:avLst/>
            <a:gdLst>
              <a:gd name="textAreaLeft" fmla="*/ 49320 w 3505320"/>
              <a:gd name="textAreaRight" fmla="*/ 3456000 w 3505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99358" h="21600">
                <a:moveTo>
                  <a:pt x="0" y="0"/>
                </a:moveTo>
                <a:lnTo>
                  <a:pt x="99358" y="0"/>
                </a:lnTo>
                <a:lnTo>
                  <a:pt x="99358" y="21600"/>
                </a:lnTo>
                <a:lnTo>
                  <a:pt x="0" y="21600"/>
                </a:lnTo>
                <a:close/>
              </a:path>
              <a:path fill="lightenLess" w="99358" h="21600">
                <a:moveTo>
                  <a:pt x="0" y="0"/>
                </a:moveTo>
                <a:lnTo>
                  <a:pt x="99358" y="0"/>
                </a:lnTo>
                <a:lnTo>
                  <a:pt x="97958" y="1400"/>
                </a:lnTo>
                <a:lnTo>
                  <a:pt x="1400" y="1400"/>
                </a:lnTo>
                <a:close/>
              </a:path>
              <a:path fill="darken" w="99358" h="21600">
                <a:moveTo>
                  <a:pt x="99358" y="0"/>
                </a:moveTo>
                <a:lnTo>
                  <a:pt x="99358" y="21600"/>
                </a:lnTo>
                <a:lnTo>
                  <a:pt x="97958" y="20200"/>
                </a:lnTo>
                <a:lnTo>
                  <a:pt x="97958" y="1400"/>
                </a:lnTo>
                <a:close/>
              </a:path>
              <a:path fill="darkenLess" w="99358" h="21600">
                <a:moveTo>
                  <a:pt x="99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58" y="20200"/>
                </a:lnTo>
                <a:close/>
              </a:path>
              <a:path fill="lighten" w="99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342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br>
              <a:rPr sz="2200"/>
            </a:b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窗口、启动、关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2133720"/>
            <a:ext cx="1981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776920"/>
            <a:ext cx="5686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100" spc="-1" strike="noStrike">
                <a:solidFill>
                  <a:srgbClr val="000066"/>
                </a:solidFill>
                <a:latin typeface="Arial Narrow"/>
              </a:rPr>
              <a:t>请单击一个按钮继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开始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之旅</a:t>
            </a:r>
            <a:endParaRPr b="1" i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>
            <a:hlinkClick r:id="" action="ppaction://hlinkshowjump?jump=endshow"/>
            <a:hlinkClick r:id="rId2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SJUMP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1295280"/>
            <a:ext cx="2057400" cy="11858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4038480" y="3048120"/>
            <a:ext cx="3353040" cy="838080"/>
          </a:xfrm>
          <a:custGeom>
            <a:avLst/>
            <a:gdLst>
              <a:gd name="textAreaLeft" fmla="*/ 54000 w 3353040"/>
              <a:gd name="textAreaRight" fmla="*/ 3299040 w 3353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91" h="21600">
                <a:moveTo>
                  <a:pt x="0" y="0"/>
                </a:moveTo>
                <a:lnTo>
                  <a:pt x="86391" y="0"/>
                </a:lnTo>
                <a:lnTo>
                  <a:pt x="86391" y="21600"/>
                </a:lnTo>
                <a:lnTo>
                  <a:pt x="0" y="21600"/>
                </a:lnTo>
                <a:close/>
              </a:path>
              <a:path fill="lightenLess" w="86391" h="21600">
                <a:moveTo>
                  <a:pt x="0" y="0"/>
                </a:moveTo>
                <a:lnTo>
                  <a:pt x="86391" y="0"/>
                </a:lnTo>
                <a:lnTo>
                  <a:pt x="84991" y="1400"/>
                </a:lnTo>
                <a:lnTo>
                  <a:pt x="1400" y="1400"/>
                </a:lnTo>
                <a:close/>
              </a:path>
              <a:path fill="darken" w="86391" h="21600">
                <a:moveTo>
                  <a:pt x="86391" y="0"/>
                </a:moveTo>
                <a:lnTo>
                  <a:pt x="86391" y="21600"/>
                </a:lnTo>
                <a:lnTo>
                  <a:pt x="84991" y="20200"/>
                </a:lnTo>
                <a:lnTo>
                  <a:pt x="84991" y="1400"/>
                </a:lnTo>
                <a:close/>
              </a:path>
              <a:path fill="darkenLess" w="86391" h="21600">
                <a:moveTo>
                  <a:pt x="86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1" y="20200"/>
                </a:lnTo>
                <a:close/>
              </a:path>
              <a:path fill="lighten" w="86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精细内容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a quick look a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werPoint’s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TOUR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2286000"/>
            <a:ext cx="2209680" cy="174636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8" action="ppaction://hlinksldjump"/>
          </p:cNvPr>
          <p:cNvSpPr/>
          <p:nvPr/>
        </p:nvSpPr>
        <p:spPr>
          <a:xfrm>
            <a:off x="3581280" y="46483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34308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高级技巧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ere to go for mo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RESOR2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600200" y="34290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  <a:hlinkClick r:id="rId11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  <a:hlinkClick r:id="rId1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4600" y="3200400"/>
          <a:ext cx="768240" cy="365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4600" y="3200400"/>
                    <a:ext cx="768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JUMP2" descr=""/>
          <p:cNvPicPr/>
          <p:nvPr/>
        </p:nvPicPr>
        <p:blipFill>
          <a:blip r:embed="rId3"/>
          <a:stretch/>
        </p:blipFill>
        <p:spPr>
          <a:xfrm>
            <a:off x="1617840" y="345960"/>
            <a:ext cx="2573280" cy="1482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800600" y="151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能做什么？</a:t>
            </a:r>
            <a:endParaRPr b="1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COMBO" descr=""/>
          <p:cNvPicPr/>
          <p:nvPr/>
        </p:nvPicPr>
        <p:blipFill>
          <a:blip r:embed="rId5"/>
          <a:stretch/>
        </p:blipFill>
        <p:spPr>
          <a:xfrm>
            <a:off x="4356000" y="3505320"/>
            <a:ext cx="4788000" cy="2666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75280" y="1644480"/>
            <a:ext cx="3902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幻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屏幕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学术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429000"/>
            <a:ext cx="329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计算机辅助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电子教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网络远程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2743200"/>
          <a:ext cx="1066680" cy="411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743200"/>
                    <a:ext cx="1066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SJUMP2" descr=""/>
          <p:cNvPicPr/>
          <p:nvPr/>
        </p:nvPicPr>
        <p:blipFill>
          <a:blip r:embed="rId1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endParaRPr b="1" i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057480" y="4952880"/>
            <a:ext cx="1219320" cy="609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133800" y="1371600"/>
            <a:ext cx="1828800" cy="356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962600" y="1971720"/>
            <a:ext cx="1666800" cy="2914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3200000">
            <a:off x="595296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3200000">
            <a:off x="3895560" y="52578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3200000">
            <a:off x="4047840" y="22856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3440" y="838080"/>
            <a:ext cx="17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286000"/>
          <a:ext cx="901800" cy="429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286000"/>
                    <a:ext cx="90180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45720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后的对话框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276720" y="1981080"/>
            <a:ext cx="4057560" cy="2800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13200000">
            <a:off x="480060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2362320"/>
          <a:ext cx="942840" cy="449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362320"/>
                    <a:ext cx="9428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打开一个文稿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600200" y="1143000"/>
            <a:ext cx="7477200" cy="47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0" y="3276720"/>
          <a:ext cx="990720" cy="358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276720"/>
                    <a:ext cx="9907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324480" y="685440"/>
            <a:ext cx="2438640" cy="21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OFFICE</a:t>
            </a: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助手一直在等待你的号令，随时为你效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809880"/>
            <a:ext cx="2133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通过目录和索引，你会得到更系统全面的帮助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获取帮助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286000" y="1219320"/>
            <a:ext cx="1276200" cy="1095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13200000">
            <a:off x="3200400" y="190512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886200" y="533520"/>
            <a:ext cx="231444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4038480" y="2438280"/>
            <a:ext cx="4124520" cy="3772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914400" y="2590920"/>
            <a:ext cx="2266920" cy="1085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3200000">
            <a:off x="1981080" y="2895120"/>
            <a:ext cx="533520" cy="381240"/>
          </a:xfrm>
          <a:prstGeom prst="rightArrow">
            <a:avLst>
              <a:gd name="adj1" fmla="val 50000"/>
              <a:gd name="adj2" fmla="val 69978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70120" cy="4143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2438280"/>
                    <a:ext cx="87012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-22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认识窗口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5" name="SJUMP2" descr=""/>
          <p:cNvPicPr/>
          <p:nvPr/>
        </p:nvPicPr>
        <p:blipFill>
          <a:blip r:embed="rId4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5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838080"/>
            <a:ext cx="59436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1523880" cy="1447920"/>
          </a:xfrm>
          <a:prstGeom prst="cloudCallout">
            <a:avLst>
              <a:gd name="adj1" fmla="val 44999"/>
              <a:gd name="adj2" fmla="val -102523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1066680"/>
            <a:ext cx="6324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1752480"/>
            <a:ext cx="1523880" cy="1447920"/>
          </a:xfrm>
          <a:prstGeom prst="cloudCallout">
            <a:avLst>
              <a:gd name="adj1" fmla="val 95416"/>
              <a:gd name="adj2" fmla="val -85745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5486400"/>
            <a:ext cx="99036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1066680" y="4419720"/>
            <a:ext cx="2005200" cy="377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48006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9640" y="3678120"/>
            <a:ext cx="912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视图切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5867280"/>
            <a:ext cx="47246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505320"/>
            <a:ext cx="1523880" cy="1447560"/>
          </a:xfrm>
          <a:prstGeom prst="cloudCallout">
            <a:avLst>
              <a:gd name="adj1" fmla="val -67708"/>
              <a:gd name="adj2" fmla="val 116226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态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91720" y="1523880"/>
            <a:ext cx="152280" cy="3886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514600"/>
            <a:ext cx="1523880" cy="1447920"/>
          </a:xfrm>
          <a:prstGeom prst="cloudCallout">
            <a:avLst>
              <a:gd name="adj1" fmla="val 94166"/>
              <a:gd name="adj2" fmla="val -22587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滚动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2209680"/>
          <a:ext cx="917640" cy="4372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209680"/>
                    <a:ext cx="91764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8:06:56Z</dcterms:created>
  <dc:creator> </dc:creator>
  <dc:description/>
  <dc:language>en-US</dc:language>
  <cp:lastModifiedBy>ft</cp:lastModifiedBy>
  <dcterms:modified xsi:type="dcterms:W3CDTF">1999-07-12T00:10:02Z</dcterms:modified>
  <cp:revision>103</cp:revision>
  <dc:subject/>
  <dc:title>Microsoft   PowerPoint97   Quick Start</dc:title>
</cp:coreProperties>
</file>