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656-4B53-426A-9692-C14912EB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110-0F92-48A1-8A92-4F2572C2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33D-A82F-434A-B8D2-69FB7E1C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8C7-7CF5-4D6D-889D-1F17A2FC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FD4-7B75-4630-A3BC-F0103595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A13-8C6F-4F9E-AADE-AA3AB0A7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C59-6D97-4395-8E23-ECBD93F9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1F8-07BA-49D0-A365-19CC461C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021-6A24-4635-8D68-9FEC93E8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396-3A29-4948-BDE4-85623A3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805-7E63-43BC-85B2-7D8C44E3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7E0-51FE-4AD6-B84C-545A081A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8BCA-9D26-4C74-AF38-37D5D7BFCA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2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3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39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0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1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5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6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7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48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2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3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4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5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7" name="TextBox 11"/>
          <p:cNvSpPr/>
          <p:nvPr/>
        </p:nvSpPr>
        <p:spPr>
          <a:xfrm>
            <a:off x="188928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4987800" y="4270320"/>
            <a:ext cx="204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821700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69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0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2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4"/>
          <p:cNvSpPr/>
          <p:nvPr/>
        </p:nvSpPr>
        <p:spPr>
          <a:xfrm>
            <a:off x="7567560" y="2668680"/>
            <a:ext cx="3641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淘宝搜索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3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4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5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6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8" name="文本框 12"/>
          <p:cNvSpPr/>
          <p:nvPr/>
        </p:nvSpPr>
        <p:spPr>
          <a:xfrm>
            <a:off x="858960" y="2365200"/>
            <a:ext cx="3641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淘宝搜索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6"/>
          <p:cNvGrpSpPr/>
          <p:nvPr/>
        </p:nvGrpSpPr>
        <p:grpSpPr>
          <a:xfrm>
            <a:off x="4879800" y="1809720"/>
            <a:ext cx="2444760" cy="876960"/>
            <a:chOff x="4879800" y="1809720"/>
            <a:chExt cx="2444760" cy="876960"/>
          </a:xfrm>
        </p:grpSpPr>
        <p:sp>
          <p:nvSpPr>
            <p:cNvPr id="109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16"/>
            <p:cNvSpPr/>
            <p:nvPr/>
          </p:nvSpPr>
          <p:spPr>
            <a:xfrm>
              <a:off x="4885200" y="2166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35"/>
          <p:cNvSpPr/>
          <p:nvPr/>
        </p:nvSpPr>
        <p:spPr>
          <a:xfrm>
            <a:off x="8134200" y="1806480"/>
            <a:ext cx="26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淘宝搜索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3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6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29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3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38" name="组合 183"/>
          <p:cNvGrpSpPr/>
          <p:nvPr/>
        </p:nvGrpSpPr>
        <p:grpSpPr>
          <a:xfrm>
            <a:off x="8137440" y="3067200"/>
            <a:ext cx="3332160" cy="866880"/>
            <a:chOff x="8137440" y="3067200"/>
            <a:chExt cx="3332160" cy="866880"/>
          </a:xfrm>
        </p:grpSpPr>
        <p:pic>
          <p:nvPicPr>
            <p:cNvPr id="139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60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组合 185"/>
            <p:cNvGrpSpPr/>
            <p:nvPr/>
          </p:nvGrpSpPr>
          <p:grpSpPr>
            <a:xfrm>
              <a:off x="8841600" y="3067200"/>
              <a:ext cx="2628000" cy="840240"/>
              <a:chOff x="8841600" y="3067200"/>
              <a:chExt cx="2628000" cy="840240"/>
            </a:xfrm>
          </p:grpSpPr>
          <p:sp>
            <p:nvSpPr>
              <p:cNvPr id="141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TextBox 11"/>
              <p:cNvSpPr/>
              <p:nvPr/>
            </p:nvSpPr>
            <p:spPr>
              <a:xfrm>
                <a:off x="8904960" y="3387240"/>
                <a:ext cx="2564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xiaoz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3" name="组合 188"/>
          <p:cNvGrpSpPr/>
          <p:nvPr/>
        </p:nvGrpSpPr>
        <p:grpSpPr>
          <a:xfrm>
            <a:off x="8177040" y="4402080"/>
            <a:ext cx="3230640" cy="856800"/>
            <a:chOff x="8177040" y="4402080"/>
            <a:chExt cx="3230640" cy="856800"/>
          </a:xfrm>
        </p:grpSpPr>
        <p:pic>
          <p:nvPicPr>
            <p:cNvPr id="144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组合 190"/>
            <p:cNvGrpSpPr/>
            <p:nvPr/>
          </p:nvGrpSpPr>
          <p:grpSpPr>
            <a:xfrm>
              <a:off x="8857080" y="4402080"/>
              <a:ext cx="2550600" cy="840240"/>
              <a:chOff x="8857080" y="4402080"/>
              <a:chExt cx="2550600" cy="840240"/>
            </a:xfrm>
          </p:grpSpPr>
          <p:sp>
            <p:nvSpPr>
              <p:cNvPr id="146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Box 11"/>
              <p:cNvSpPr/>
              <p:nvPr/>
            </p:nvSpPr>
            <p:spPr>
              <a:xfrm>
                <a:off x="8920440" y="472212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xiaoz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0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rm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rm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rm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rm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3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6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69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2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文本框 31"/>
          <p:cNvSpPr/>
          <p:nvPr/>
        </p:nvSpPr>
        <p:spPr>
          <a:xfrm>
            <a:off x="1728720" y="4867200"/>
            <a:ext cx="859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淘宝搜索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1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3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5" name="TextBox 11"/>
            <p:cNvSpPr/>
            <p:nvPr/>
          </p:nvSpPr>
          <p:spPr>
            <a:xfrm>
              <a:off x="123120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88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0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2" name="TextBox 11"/>
            <p:cNvSpPr/>
            <p:nvPr/>
          </p:nvSpPr>
          <p:spPr>
            <a:xfrm>
              <a:off x="37771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5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7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TextBox 11"/>
            <p:cNvSpPr/>
            <p:nvPr/>
          </p:nvSpPr>
          <p:spPr>
            <a:xfrm>
              <a:off x="63709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2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3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4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TextBox 11"/>
            <p:cNvSpPr/>
            <p:nvPr/>
          </p:nvSpPr>
          <p:spPr>
            <a:xfrm>
              <a:off x="888516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9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0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4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5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6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0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1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18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226" name="文本框 19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25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229" name="文本框 26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cp:keywords/>
  <dc:language>en-US</dc:language>
  <cp:lastModifiedBy>Administrator</cp:lastModifiedBy>
  <dcterms:modified xsi:type="dcterms:W3CDTF">2015-11-10T06:02:0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