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66F-C5DC-45BA-BC8E-BD6C761F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FB4-EB2C-465E-9F01-E28866FD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817-8DC8-4FB8-876D-584329AD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59E-488F-4947-ADD6-AD818D37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F01-6440-47FD-B198-41DAFC04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CCB-2EDE-4B63-AFA3-9188955C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972-DFB2-4473-AF25-E63FE793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505-5861-4136-9BCD-31FE6F40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3CF-E133-4711-A942-EB40998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A6B-5B73-45B0-8DAD-EA381C0B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769-E0C7-4B08-B5BC-3C991D0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DBB-AEDE-4511-8A86-769EE82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6C2C-9440-4269-BCE8-02B9FE54BA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prstGeom prst="pie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5:03:24Z</dcterms:modified>
  <cp:revision>3</cp:revision>
  <dc:subject/>
  <dc:title>PowerPoint 演示文稿</dc:title>
</cp:coreProperties>
</file>