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0856-495C-44F9-8D54-D68D0866DE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CA8D-BD1A-42B3-BFE5-1E828BE9EB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A7F-58C0-4115-A3C5-4328527A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9F2-00FF-4EF5-9205-A3BBEAC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695-D4AC-4C94-B29A-851E52EC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DA7-192F-445C-A12A-761A10A7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91E-E553-4F95-B31C-F266D71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363-624F-4C89-95B2-EF6A52A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0CF-C657-46D7-9E67-F569D691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582-EDE7-4FB6-8CF1-45EE0851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DD0-F5F2-4BF2-B89A-07CE1EA2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380-0999-4910-AEA6-443D14E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8FD-5E1F-4A32-A2A6-77BF8971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DA6-3FBB-4005-A1B6-BD491D6B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4DEB-F89D-47A4-BAE0-64F182EC60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prstGeom prst="pie">
            <a:avLst/>
          </a:pr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6:06:18Z</dcterms:modified>
  <cp:revision>2</cp:revision>
  <dc:subject/>
  <dc:title>PowerPoint 演示文稿</dc:title>
</cp:coreProperties>
</file>