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47D-DB09-4AE6-8464-3CFAAEC3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71D-FEDA-43B1-9184-7D3119FC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FCD-49A1-4BB9-95F6-9429EA7E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461-C0BA-4216-8612-BBA1D0CF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441-B23C-467F-82CF-38D0A478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5C6-4D4E-4189-B2B4-4233888D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762-3B51-42B5-A506-45FBBD8A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0E1-FDA7-4CD9-91EC-ED44BC65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0EE-40D4-4EC1-A62B-FD6790EC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B10-F585-4712-8236-5ECDA74D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AA1-0BCA-4F03-993D-F9F0DD84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6FA-7DA1-413D-A961-C0C88851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6CAF-68CD-4ECB-B94C-439CB561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1060-0C1E-4CB8-A552-3C21D6A1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15C4-63A4-4B4B-BA4E-298EF4BB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B2EC-8080-41BE-AE6B-F0E02ADB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56A3-F7C6-4146-B3EC-4101D26C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5279-F8C0-4ED5-B1CB-483C397E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49E0-45F3-49EE-B7E3-B73108A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31AA-FD51-4202-9594-3929555C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0BCF-292D-4635-BC4B-9BA408B3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5AA9-38C8-4003-A1C0-17264CA9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3C39-5F06-45C7-A7BA-8146DFEC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8E00-624C-4296-9490-CBAC8647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4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6D7D-B14F-4D23-B673-CF1C7F72DE9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22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FA7B-10B4-443D-BA20-825B5213AD3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0120" y="245664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"/>
          <p:cNvSpPr/>
          <p:nvPr/>
        </p:nvSpPr>
        <p:spPr>
          <a:xfrm>
            <a:off x="2144880" y="2517840"/>
            <a:ext cx="76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828880" y="261792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2352600" y="261792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828880" y="311292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/>
  <dc:description/>
  <dc:language>en-US</dc:language>
  <cp:lastModifiedBy>Administrator</cp:lastModifiedBy>
  <dcterms:modified xsi:type="dcterms:W3CDTF">2016-03-25T21:31:0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