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825-85B0-44CE-AD3A-3B599BDF17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E51-A9A9-48D3-9A45-17F2B2668E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8EA-FA1F-4D0D-94CB-FA108AD9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F46-42CB-4FE9-BB6D-B76D4A49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7B9-EE96-4FB9-9F70-1F9C868D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D5F-E53A-4204-993B-2960DD2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87B-FAFC-4E10-B209-8FF07A1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E99-3FB0-4739-AB07-8E17C2AB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305-B5BA-4BAD-A41E-CAA83D40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F71-E9C3-48B8-8D72-38D2A326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505-B0EC-4051-BE74-34ACCC8C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0B5-0266-4216-807F-2283FE8E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5DA-D626-440A-9D50-E185F4B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98E-E744-4B41-B6C0-4EF9D54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FC8-87B1-444F-9E44-3D27EAA8EC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096640" y="6093000"/>
            <a:ext cx="44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4T13:49:21Z</dcterms:modified>
  <cp:revision>74</cp:revision>
  <dc:subject/>
  <dc:title>幻灯片 1</dc:title>
</cp:coreProperties>
</file>