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70E7-E581-4173-B3B0-554C7C43946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A873-F323-42EA-85A1-5FC0A510280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AC10-1657-4CC1-886E-03BA5D4E8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4DC1-4ACC-485B-9F74-EF94EB30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F082-9A3C-4A8B-937A-FFF2B4A1A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D9DA-85DF-4C5D-8312-A2E33AA69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0255-0EE2-47C0-896F-496BEB31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614E-632B-4C30-9AC2-CC919DA1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EC74-3232-4473-8AE5-B58E6F90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C5D2-4C5C-4607-A254-6A02BF6A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7B91-8112-45F5-AFA7-426F6401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41B1-02BA-47D5-A5E6-3E985A01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9BC8-24C9-407E-BC69-261212A1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165C-12E7-4965-8540-32004ABA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3AAF-C2ED-4A89-B43E-13C302ACF89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7"/>
          <p:cNvGrpSpPr/>
          <p:nvPr/>
        </p:nvGrpSpPr>
        <p:grpSpPr>
          <a:xfrm>
            <a:off x="-324000" y="3284640"/>
            <a:ext cx="9720360" cy="1585080"/>
            <a:chOff x="-324000" y="3284640"/>
            <a:chExt cx="9720360" cy="1585080"/>
          </a:xfrm>
        </p:grpSpPr>
        <p:sp>
          <p:nvSpPr>
            <p:cNvPr id="49" name="Rectangle 45"/>
            <p:cNvSpPr/>
            <p:nvPr/>
          </p:nvSpPr>
          <p:spPr>
            <a:xfrm>
              <a:off x="-324000" y="3284640"/>
              <a:ext cx="9720360" cy="1154520"/>
            </a:xfrm>
            <a:prstGeom prst="rect">
              <a:avLst/>
            </a:prstGeom>
            <a:solidFill>
              <a:srgbClr val="539fcd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46"/>
            <p:cNvSpPr/>
            <p:nvPr/>
          </p:nvSpPr>
          <p:spPr>
            <a:xfrm flipV="1">
              <a:off x="-323640" y="4438080"/>
              <a:ext cx="9720360" cy="430920"/>
            </a:xfrm>
            <a:prstGeom prst="rect">
              <a:avLst/>
            </a:prstGeom>
            <a:gradFill rotWithShape="0">
              <a:gsLst>
                <a:gs pos="0">
                  <a:srgbClr val="264a5f">
                    <a:alpha val="0"/>
                  </a:srgbClr>
                </a:gs>
                <a:gs pos="100000">
                  <a:srgbClr val="539fcd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43"/>
          <p:cNvGrpSpPr/>
          <p:nvPr/>
        </p:nvGrpSpPr>
        <p:grpSpPr>
          <a:xfrm>
            <a:off x="-576360" y="1333440"/>
            <a:ext cx="9720360" cy="2815920"/>
            <a:chOff x="-576360" y="1333440"/>
            <a:chExt cx="9720360" cy="2815920"/>
          </a:xfrm>
        </p:grpSpPr>
        <p:sp>
          <p:nvSpPr>
            <p:cNvPr id="52" name="Rectangle 41"/>
            <p:cNvSpPr/>
            <p:nvPr/>
          </p:nvSpPr>
          <p:spPr>
            <a:xfrm>
              <a:off x="-576360" y="1333440"/>
              <a:ext cx="9720360" cy="172008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2"/>
            <p:cNvSpPr/>
            <p:nvPr/>
          </p:nvSpPr>
          <p:spPr>
            <a:xfrm flipV="1">
              <a:off x="-576000" y="3043080"/>
              <a:ext cx="9720360" cy="110592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图片 3" descr="波浪后2.png"/>
          <p:cNvPicPr/>
          <p:nvPr/>
        </p:nvPicPr>
        <p:blipFill>
          <a:blip r:embed="rId1"/>
          <a:stretch/>
        </p:blipFill>
        <p:spPr>
          <a:xfrm rot="21540000">
            <a:off x="-428760" y="4871880"/>
            <a:ext cx="10072800" cy="2713320"/>
          </a:xfrm>
          <a:prstGeom prst="rect">
            <a:avLst/>
          </a:prstGeom>
          <a:ln w="0">
            <a:noFill/>
          </a:ln>
        </p:spPr>
      </p:pic>
      <p:pic>
        <p:nvPicPr>
          <p:cNvPr id="55" name="图片 8" descr="1.png"/>
          <p:cNvPicPr/>
          <p:nvPr/>
        </p:nvPicPr>
        <p:blipFill>
          <a:blip r:embed="rId2"/>
          <a:stretch/>
        </p:blipFill>
        <p:spPr>
          <a:xfrm>
            <a:off x="0" y="4929120"/>
            <a:ext cx="9144000" cy="7873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1" descr="1.png"/>
          <p:cNvPicPr/>
          <p:nvPr/>
        </p:nvPicPr>
        <p:blipFill>
          <a:blip r:embed="rId3"/>
          <a:stretch/>
        </p:blipFill>
        <p:spPr>
          <a:xfrm>
            <a:off x="41400" y="5429160"/>
            <a:ext cx="9144000" cy="787320"/>
          </a:xfrm>
          <a:prstGeom prst="rect">
            <a:avLst/>
          </a:prstGeom>
          <a:ln w="0">
            <a:noFill/>
          </a:ln>
        </p:spPr>
      </p:pic>
      <p:grpSp>
        <p:nvGrpSpPr>
          <p:cNvPr id="57" name="组合 22"/>
          <p:cNvGrpSpPr/>
          <p:nvPr/>
        </p:nvGrpSpPr>
        <p:grpSpPr>
          <a:xfrm>
            <a:off x="0" y="3357720"/>
            <a:ext cx="1785960" cy="5589360"/>
            <a:chOff x="0" y="3357720"/>
            <a:chExt cx="1785960" cy="5589360"/>
          </a:xfrm>
        </p:grpSpPr>
        <p:pic>
          <p:nvPicPr>
            <p:cNvPr id="58" name="图片 23" descr="人物.png"/>
            <p:cNvPicPr/>
            <p:nvPr/>
          </p:nvPicPr>
          <p:blipFill>
            <a:blip r:embed="rId4"/>
            <a:stretch/>
          </p:blipFill>
          <p:spPr>
            <a:xfrm>
              <a:off x="24480" y="3357720"/>
              <a:ext cx="1761480" cy="28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矩形 24"/>
            <p:cNvSpPr/>
            <p:nvPr/>
          </p:nvSpPr>
          <p:spPr>
            <a:xfrm>
              <a:off x="0" y="6129360"/>
              <a:ext cx="1752840" cy="28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图片 4" descr="波浪前1.png"/>
          <p:cNvPicPr/>
          <p:nvPr/>
        </p:nvPicPr>
        <p:blipFill>
          <a:blip r:embed="rId5"/>
          <a:stretch/>
        </p:blipFill>
        <p:spPr>
          <a:xfrm>
            <a:off x="-785880" y="4944960"/>
            <a:ext cx="10644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61" name="组合 18"/>
          <p:cNvGrpSpPr/>
          <p:nvPr/>
        </p:nvGrpSpPr>
        <p:grpSpPr>
          <a:xfrm>
            <a:off x="4000680" y="5908680"/>
            <a:ext cx="928440" cy="415800"/>
            <a:chOff x="4000680" y="5908680"/>
            <a:chExt cx="928440" cy="415800"/>
          </a:xfrm>
        </p:grpSpPr>
        <p:sp>
          <p:nvSpPr>
            <p:cNvPr id="62" name="直接连接符 15"/>
            <p:cNvSpPr/>
            <p:nvPr/>
          </p:nvSpPr>
          <p:spPr>
            <a:xfrm>
              <a:off x="4000680" y="6116760"/>
              <a:ext cx="9284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直接连接符 17"/>
            <p:cNvSpPr/>
            <p:nvPr/>
          </p:nvSpPr>
          <p:spPr>
            <a:xfrm flipH="1">
              <a:off x="4464000" y="590868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19"/>
          <p:cNvGrpSpPr/>
          <p:nvPr/>
        </p:nvGrpSpPr>
        <p:grpSpPr>
          <a:xfrm>
            <a:off x="4178160" y="6019920"/>
            <a:ext cx="928800" cy="415800"/>
            <a:chOff x="4178160" y="6019920"/>
            <a:chExt cx="928800" cy="415800"/>
          </a:xfrm>
        </p:grpSpPr>
        <p:sp>
          <p:nvSpPr>
            <p:cNvPr id="65" name="直接连接符 20"/>
            <p:cNvSpPr/>
            <p:nvPr/>
          </p:nvSpPr>
          <p:spPr>
            <a:xfrm>
              <a:off x="4178160" y="6228000"/>
              <a:ext cx="9288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直接连接符 21"/>
            <p:cNvSpPr/>
            <p:nvPr/>
          </p:nvSpPr>
          <p:spPr>
            <a:xfrm flipH="1">
              <a:off x="4641840" y="601992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25"/>
          <p:cNvGrpSpPr/>
          <p:nvPr/>
        </p:nvGrpSpPr>
        <p:grpSpPr>
          <a:xfrm>
            <a:off x="0" y="3357720"/>
            <a:ext cx="1784520" cy="5589360"/>
            <a:chOff x="0" y="3357720"/>
            <a:chExt cx="1784520" cy="5589360"/>
          </a:xfrm>
        </p:grpSpPr>
        <p:pic>
          <p:nvPicPr>
            <p:cNvPr id="68" name="图片 26" descr="人物倒影.png"/>
            <p:cNvPicPr/>
            <p:nvPr/>
          </p:nvPicPr>
          <p:blipFill>
            <a:blip r:embed="rId6"/>
            <a:stretch/>
          </p:blipFill>
          <p:spPr>
            <a:xfrm>
              <a:off x="0" y="6129000"/>
              <a:ext cx="1752120" cy="281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矩形 27"/>
            <p:cNvSpPr/>
            <p:nvPr/>
          </p:nvSpPr>
          <p:spPr>
            <a:xfrm>
              <a:off x="23760" y="3357720"/>
              <a:ext cx="176076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图片 30" descr="图片2.png"/>
          <p:cNvPicPr/>
          <p:nvPr/>
        </p:nvPicPr>
        <p:blipFill>
          <a:blip r:embed="rId7"/>
          <a:stretch/>
        </p:blipFill>
        <p:spPr>
          <a:xfrm>
            <a:off x="7429680" y="-142920"/>
            <a:ext cx="2428560" cy="2428920"/>
          </a:xfrm>
          <a:prstGeom prst="rect">
            <a:avLst/>
          </a:prstGeom>
          <a:ln w="0">
            <a:noFill/>
          </a:ln>
        </p:spPr>
      </p:pic>
      <p:sp>
        <p:nvSpPr>
          <p:cNvPr id="71" name="副标题 2"/>
          <p:cNvSpPr/>
          <p:nvPr/>
        </p:nvSpPr>
        <p:spPr>
          <a:xfrm>
            <a:off x="1116000" y="3500280"/>
            <a:ext cx="8459640" cy="144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成都嘉祥外国语学校郫县分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011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届毕业典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7"/>
          <p:cNvSpPr/>
          <p:nvPr/>
        </p:nvSpPr>
        <p:spPr>
          <a:xfrm>
            <a:off x="-21423240" y="1268280"/>
            <a:ext cx="164178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彩虹1"/>
          <p:cNvPicPr/>
          <p:nvPr/>
        </p:nvPicPr>
        <p:blipFill>
          <a:blip r:embed="rId8"/>
          <a:stretch/>
        </p:blipFill>
        <p:spPr>
          <a:xfrm>
            <a:off x="-1116000" y="1916280"/>
            <a:ext cx="10972800" cy="2552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4" descr="1"/>
          <p:cNvPicPr/>
          <p:nvPr/>
        </p:nvPicPr>
        <p:blipFill>
          <a:blip r:embed="rId9"/>
          <a:stretch/>
        </p:blipFill>
        <p:spPr>
          <a:xfrm>
            <a:off x="611280" y="2381400"/>
            <a:ext cx="78483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C 0.00573 0.04769 -0.01719 0.09283 -0.05156 0.09931 C -0.08577 0.10672 -0.11788 0.07338 -0.12344 0.0257 C -0.12899 -0.02222 -0.1059 -0.06643 -0.07136 -0.07361 C -0.03733 -0.08055 -0.00486 -0.04815 1.38889E-006 -2.96296E-006 Z">
                                      <p:cBhvr>
                                        <p:cTn id="6" dur="5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649999976158142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47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47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 repeatCount="indefinite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23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4.07407E-006 C 0.0184 0.00231 0.02569 0.00625 0.01979 0.01018 C -0.00399 0.00972 -0.02413 0.00717 -0.03212 0.0037 C -0.01215 0.00138 0.01302 0.00162 0.03229 0.0037 C 0.02361 0.0074 0.00278 0.00972 -0.01997 0.01018 C -0.02604 0.00601 -0.01754 0.00231 1.66667E-006 4.07407E-006 Z">
                                      <p:cBhvr>
                                        <p:cTn id="30" dur="10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23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94444E-006 -7.40741E-007 C 0.02031 0.00278 0.0283 0.00741 0.0217 0.01181 C -0.00434 0.01134 -0.02621 0.00857 -0.03524 0.0044 C -0.01337 0.00185 0.01441 0.00208 0.03542 0.0044 C 0.02587 0.0088 0.00295 0.01134 -0.02187 0.01181 C -0.02864 0.00718 -0.01927 0.00278 -1.94444E-006 -7.40741E-007 Z">
                                      <p:cBhvr>
                                        <p:cTn id="32" dur="10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6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家书副本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  <p:pic>
        <p:nvPicPr>
          <p:cNvPr id="76" name="神秘园之歌.mp3" descr=""/>
          <p:cNvPicPr/>
          <p:nvPr/>
        </p:nvPicPr>
        <p:blipFill>
          <a:blip r:embed="rId2"/>
          <a:stretch/>
        </p:blipFill>
        <p:spPr>
          <a:xfrm>
            <a:off x="8459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46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261196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Tears.mp3" descr=""/>
          <p:cNvPicPr/>
          <p:nvPr/>
        </p:nvPicPr>
        <p:blipFill>
          <a:blip r:embed="rId1"/>
          <a:stretch/>
        </p:blipFill>
        <p:spPr>
          <a:xfrm>
            <a:off x="601200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诗歌副本"/>
          <p:cNvPicPr/>
          <p:nvPr/>
        </p:nvPicPr>
        <p:blipFill>
          <a:blip r:embed="rId2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259473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教师寄语副本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校长寄语副本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2096640" y="6093000"/>
            <a:ext cx="44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网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整理发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5:09:42Z</dcterms:created>
  <dc:creator>jin shulin</dc:creator>
  <dc:description/>
  <dc:language>en-US</dc:language>
  <cp:lastModifiedBy>YANGS-PC</cp:lastModifiedBy>
  <dcterms:modified xsi:type="dcterms:W3CDTF">2015-06-24T13:49:21Z</dcterms:modified>
  <cp:revision>74</cp:revision>
  <dc:subject/>
  <dc:title>幻灯片 1</dc:title>
</cp:coreProperties>
</file>