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EE94-3897-48F1-B208-17D7419D0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1583-1213-4E20-829D-A7B7F54E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8CB2D-B1EE-4970-91B1-FAF8CBD0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0289F-2EC3-4BF4-A6CA-F00407E8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4B0B0-3E7E-4F7D-8897-ED7619DB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DF12B-B71E-4DFC-B6A0-EE2D8706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F5FFC-3EF1-49A6-8E72-E9EF1ADC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A3C50-D6CE-47EC-9576-01C1727D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3B299-38BE-4D45-8891-55916370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0DF96-B11D-4B37-AC39-CF908696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CC84A-5B90-402B-95F1-F54DFA6E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19A17-04FE-47CF-BF01-400838A7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9E2A-CCB6-4762-B696-C73A2A99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F1593-0981-4F2F-9B5A-893FE673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629C4-D1B4-4226-9450-2038192B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65F53-9D20-40B6-B48E-250F0C4A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0A7BA-CA06-42B4-B352-E618C353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D147C-A66C-4904-9780-9FB6E025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C1A19-F2D8-4938-9D1B-0708CE02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53382-DDAD-4CFF-9112-643A724C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01CDF-327E-496B-A40C-58EEE2FF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D6D32-18E3-4633-B893-7C3DDCFC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C8ACE-A013-48CB-B53B-9E2F7A34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7E93-B155-40F4-919E-DFC01ED5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3946B-BAF3-49D8-A4A1-0EA27179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7E4E3-F6F1-4BCC-9134-530ABEC3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F8274-D78F-4B94-8B2E-C1F0736D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9510C-493C-48DB-95EA-60EE746C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5CF4C-0E3C-4C7B-BCC2-0AA3C6CE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502FB-B302-42E8-8F77-A3BEF144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B88BD-93D6-41F2-A0BC-9228FF9F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4428A-99B5-4C8F-B088-C4AB10CE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B2A97-B7D5-4E4F-A46F-A0E0CC67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2807D-F227-43AA-8C2F-E36D0551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CF6A-6EE5-4981-AEDC-1313A03F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1DB65-DB80-426F-8973-0F109CF1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9E4C3-C7E1-4BB8-9549-A66A1F0F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D3707-C6CE-4286-95B7-80476539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95E5E-0F80-43BD-A75F-D77A5971A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0964A-D222-4453-B18E-6E1065CA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379B5-FD30-491B-A208-461E53C3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F65E6-D27F-4875-B63E-ACD3C074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F38E9-0865-4F14-A326-D00E6899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D6DC2-F6D8-4F81-A279-78011CD1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630A7-4B87-4F76-8FF7-F91376A4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5649-06E2-424A-8ACB-0540D3B4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775B1-5781-47FF-A16C-146EF1F3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372F0-EAFC-4142-920D-A5396BDF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A9BF4-3B4C-4B3C-B090-8AB994AE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2C492-3DB4-43CF-90F8-6AED7BBA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128F8-3A8B-40AC-A8B4-2FB5A231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5C3D1B-68A4-48D4-8894-F39EF4BEE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42ECBC-4895-4DC5-9870-B94D2BAF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0BD6A5-F92D-419F-A7A7-B4DAB9E0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45A61B-E572-4B5D-A174-4CCBD439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6E7DA4-EE00-475A-9F21-027C6528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4524-8710-4441-A2B5-0E145DBE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82FACA-8D32-4DE2-8206-F935B367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C4B31-F2A5-460D-8540-1141232A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2AE82C-8EC1-4DD2-9F69-84BACB5B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FC3816-6120-4FCE-A8C4-1D0EA8DD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A3992A-28A0-4C82-A6F6-CC61E946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A50EB4-FC27-4230-9C1C-F17B8097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F2BF9B-E7BE-46E4-A27E-D0335D23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7B73-FC8C-4CDD-9C2B-DC8AAA54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D0F2-16FF-4067-BB8B-F603A62A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93A7-495E-4886-811E-289DB607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0DDE-0077-43FA-BE15-1E1DA2ED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8AB1-48FF-4C5A-A01A-CC20970C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5627-A8AB-4E76-BC28-3B593BBE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F632-F438-4984-98AC-E7E010C4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59FA-35B6-4DD3-8B5E-6B957C82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22E2-59E4-4650-B038-ABE65789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512B-426C-43E4-AEBC-167DFA0D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3B29D-59AD-4E00-9526-7C2C0EF8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B7479-0526-44FA-BC35-95EBDF6D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9147C-E9F3-4C84-A4DA-A51774CC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D8F77-76D3-41D9-8D12-47268211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CBAC2-EB0C-4DAF-BCDD-9B5B890C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B7C9-2176-45F3-AC5D-8B469CFC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18D87-492B-4299-9655-45A32C93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A260B-4401-47EB-9AAF-E2868D2D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BB106-CB6E-41C7-8720-94AB524D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EFAF8-E8A1-4C6D-853C-E544BEB5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E00DF-5827-44F1-880F-9E4472F1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6A090-42F9-479D-92FD-C6283086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54E23-2F0F-47F2-A5AE-1652E929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24B7E-5B69-43A0-99D5-9CA51C5D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A6C09-6629-4756-B7C6-053E182F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5740F-E083-4937-9A3F-C69AF04D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7D49-2BB9-4443-8912-85B0D03C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81DF3-C971-427E-AC4B-48FED6B4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5CD21-6E56-466E-894B-5D31566C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44547-389E-4C61-8FC0-5391371B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D4828-F6C7-4F9B-9335-080A89E2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D2AD6-7E68-46D4-8502-B683102A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09BC4-EA8A-4FC0-AB17-E166C3C8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0F70A-E1B5-4F69-85C9-F4D45A3A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EF75A-A3AE-4319-B1F9-92503810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52A07-E9C8-4FCF-B830-316C2FE8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F1069-5B12-4301-AE74-7F1FC691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6301-A6D2-47FB-8470-A796ABD3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92BF6-C867-4A87-8DF6-165823E3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01F5B-440A-474B-92AB-ACDE3C6C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647B6-B840-4530-B6E5-97A06950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DB83C-5E1D-4639-9846-4DA21530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3AC6D-3B2D-4772-99A6-946B3221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75E71-AB8E-49EF-A8FC-B479CDC9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67F29-2D7D-4C50-AAEC-0A252051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C8D3B-71D5-414E-81FE-75ABAB8F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83234-7B68-4E90-93D8-AD989F64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D9DA3-2DE2-43D0-8126-065FA20E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1932-FBF7-45CF-9843-F043A7EA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F66AA-E333-4667-935D-B23FA386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38399-A7DC-4F97-AB9E-C6517F84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E3E6F-95F6-4D15-BD7B-34B8B8C8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4DBDE-A22A-4583-A665-D56D2511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6AC26-04B7-4335-A249-7F9FB73D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8DB05-31CE-4842-AB72-EE51BA4D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5754E-BC8F-4B70-B8AA-5E29FE8C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1C4BE-5F78-46F4-A522-2FC5B8C4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52B3C-91A9-46A7-A40F-1B530029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8F90C-3B04-4572-8988-46F9EED2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408A-7BAD-4592-9CB5-6C288F7D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35AA6-F5BD-460C-AF58-B9989255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E2767-C05A-43FF-A3B6-A8A648AB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717A4-05EF-4F4C-BE12-46FD3B06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FC8AD-06F8-4F4A-914A-9E10E438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FA4A2-8F51-41A7-B0B9-44196813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8F8B9-F93E-449E-9BB7-B67BDBCB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54BDB-DEC2-4AF4-B7C0-5B1E02D6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D68D6-DD8E-4A29-9C73-57BA904F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0C786-D31D-4093-8A52-6B3F7B84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A79CD-1F89-462F-A950-CD2B0B0B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7F5C-505A-4C24-91D6-ACBD00BF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DADB8-031D-4495-9640-5748F37F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C4EDD-BB4B-47AB-8F5A-17D5C5BF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2D6D4-2D3D-4F46-A2A2-29A6D1DF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85D32-5450-441B-8E69-CC811C35F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46862-38D5-4D2A-AA0E-6D7065A2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4784E-1958-49B4-A786-3F2CEF5F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D2525-9F9A-42EF-9BC1-83AC3750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9CD0C-441E-46D4-9546-F4BE54E1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906DE-082B-45DC-ADC7-C60C1CCF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29BA6-C897-450A-8FED-46847B28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BBE3-275E-4865-9E12-21F5CDF1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B9068-C0D0-4B25-9685-2E5A50F6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86F0A-0AB4-44D1-8418-9EA310C7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14A6A-D700-4418-90B0-63B60566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0278D-34F0-4FDF-A41C-73D71C39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B3E72-8748-4174-A492-04C246A5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E8262-61E4-45E2-B917-085FA10D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A5CC6-3EB9-4140-8E50-4B8E6A69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ADFF1-12CD-47A1-B74E-5D6A0C9D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EE933-D502-408D-B39C-86D985F4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CB224-C37D-49C9-BD21-166F8189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0FF4-AF76-4194-8CE5-D1039B996A8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8F5F-7BA5-43AB-B82B-5902FC19DBF1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C50E-F283-4299-BC67-3E5C201F2B35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411D-A4AC-458E-96F3-26B12EB2F7AD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243D-F282-41B9-8B12-9F03AFCB7035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F769-6E22-4F2F-8E42-2668E43C0558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D17A-CFC9-4BBF-9FCA-BB7A4746A77C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611F-CF51-4915-A91B-716BED3AC0CD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869D-1B30-4459-AD39-3DC8ACE65741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22E3-4C53-4E09-9CE8-B82C6A32EE3E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C789-6542-4A01-AF8F-AC0EFE88B863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5DAD-5C6A-4A91-9A01-8257659662D5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8A53-046D-476B-B918-A8060165B00C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4" name="组合 4098"/>
          <p:cNvGrpSpPr/>
          <p:nvPr/>
        </p:nvGrpSpPr>
        <p:grpSpPr>
          <a:xfrm>
            <a:off x="1601640" y="1473120"/>
            <a:ext cx="755640" cy="755640"/>
            <a:chOff x="1601640" y="1473120"/>
            <a:chExt cx="755640" cy="755640"/>
          </a:xfrm>
        </p:grpSpPr>
        <p:sp>
          <p:nvSpPr>
            <p:cNvPr id="535" name="Rectangle 3"/>
            <p:cNvSpPr/>
            <p:nvPr/>
          </p:nvSpPr>
          <p:spPr>
            <a:xfrm>
              <a:off x="1601640" y="1473120"/>
              <a:ext cx="755640" cy="755640"/>
            </a:xfrm>
            <a:prstGeom prst="rect">
              <a:avLst/>
            </a:prstGeom>
            <a:noFill/>
            <a:ln w="190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4"/>
            <p:cNvSpPr/>
            <p:nvPr/>
          </p:nvSpPr>
          <p:spPr>
            <a:xfrm>
              <a:off x="1601640" y="1473120"/>
              <a:ext cx="400320" cy="400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Rectangle 5"/>
          <p:cNvSpPr/>
          <p:nvPr/>
        </p:nvSpPr>
        <p:spPr>
          <a:xfrm>
            <a:off x="1979640" y="1855800"/>
            <a:ext cx="7845480" cy="1366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3014640" y="2030400"/>
            <a:ext cx="60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键入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4103"/>
          <p:cNvGrpSpPr/>
          <p:nvPr/>
        </p:nvGrpSpPr>
        <p:grpSpPr>
          <a:xfrm>
            <a:off x="9837720" y="3219480"/>
            <a:ext cx="793800" cy="577800"/>
            <a:chOff x="9837720" y="3219480"/>
            <a:chExt cx="793800" cy="577800"/>
          </a:xfrm>
        </p:grpSpPr>
        <p:sp>
          <p:nvSpPr>
            <p:cNvPr id="540" name="Rectangle 8"/>
            <p:cNvSpPr/>
            <p:nvPr/>
          </p:nvSpPr>
          <p:spPr>
            <a:xfrm>
              <a:off x="10198440" y="3580560"/>
              <a:ext cx="216360" cy="216720"/>
            </a:xfrm>
            <a:prstGeom prst="rect">
              <a:avLst/>
            </a:prstGeom>
            <a:solidFill>
              <a:srgbClr val="66cc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9"/>
            <p:cNvSpPr/>
            <p:nvPr/>
          </p:nvSpPr>
          <p:spPr>
            <a:xfrm>
              <a:off x="10415160" y="3363840"/>
              <a:ext cx="216360" cy="216720"/>
            </a:xfrm>
            <a:prstGeom prst="rect">
              <a:avLst/>
            </a:prstGeom>
            <a:solidFill>
              <a:srgbClr val="66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10"/>
            <p:cNvSpPr/>
            <p:nvPr/>
          </p:nvSpPr>
          <p:spPr>
            <a:xfrm>
              <a:off x="9837720" y="3219480"/>
              <a:ext cx="360720" cy="361080"/>
            </a:xfrm>
            <a:prstGeom prst="rect">
              <a:avLst/>
            </a:prstGeom>
            <a:solidFill>
              <a:srgbClr val="33cc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11"/>
          <p:cNvSpPr/>
          <p:nvPr/>
        </p:nvSpPr>
        <p:spPr>
          <a:xfrm>
            <a:off x="2128680" y="1944720"/>
            <a:ext cx="7548840" cy="1187280"/>
          </a:xfrm>
          <a:prstGeom prst="rect">
            <a:avLst/>
          </a:prstGeom>
          <a:noFill/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6560"/>
          </a:xfrm>
          <a:prstGeom prst="rect">
            <a:avLst/>
          </a:prstGeom>
          <a:ln w="0">
            <a:noFill/>
          </a:ln>
        </p:spPr>
      </p:pic>
      <p:pic>
        <p:nvPicPr>
          <p:cNvPr id="545" name="云层" descr=""/>
          <p:cNvPicPr/>
          <p:nvPr/>
        </p:nvPicPr>
        <p:blipFill>
          <a:blip r:embed="rId2"/>
          <a:srcRect l="13813" t="9223" r="29255" b="5969"/>
          <a:stretch/>
        </p:blipFill>
        <p:spPr>
          <a:xfrm rot="238800">
            <a:off x="14245920" y="592200"/>
            <a:ext cx="3968640" cy="1817640"/>
          </a:xfrm>
          <a:prstGeom prst="rect">
            <a:avLst/>
          </a:prstGeom>
          <a:ln w="0">
            <a:noFill/>
          </a:ln>
        </p:spPr>
      </p:pic>
      <p:sp>
        <p:nvSpPr>
          <p:cNvPr id="546" name="文本框 23"/>
          <p:cNvSpPr/>
          <p:nvPr/>
        </p:nvSpPr>
        <p:spPr>
          <a:xfrm>
            <a:off x="5388120" y="1133640"/>
            <a:ext cx="145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组合 5124"/>
          <p:cNvGrpSpPr/>
          <p:nvPr/>
        </p:nvGrpSpPr>
        <p:grpSpPr>
          <a:xfrm>
            <a:off x="5832360" y="2651040"/>
            <a:ext cx="561960" cy="560520"/>
            <a:chOff x="5832360" y="2651040"/>
            <a:chExt cx="561960" cy="560520"/>
          </a:xfrm>
        </p:grpSpPr>
        <p:sp>
          <p:nvSpPr>
            <p:cNvPr id="548" name="椭圆 25"/>
            <p:cNvSpPr/>
            <p:nvPr/>
          </p:nvSpPr>
          <p:spPr>
            <a:xfrm>
              <a:off x="5832360" y="2651040"/>
              <a:ext cx="561960" cy="56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椭圆 26"/>
            <p:cNvSpPr/>
            <p:nvPr/>
          </p:nvSpPr>
          <p:spPr>
            <a:xfrm>
              <a:off x="5857560" y="2676240"/>
              <a:ext cx="511560" cy="510120"/>
            </a:xfrm>
            <a:prstGeom prst="ellipse">
              <a:avLst/>
            </a:prstGeom>
            <a:noFill/>
            <a:ln w="12600">
              <a:solidFill>
                <a:srgbClr val="81d9fa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文本框 28"/>
            <p:cNvSpPr/>
            <p:nvPr/>
          </p:nvSpPr>
          <p:spPr>
            <a:xfrm>
              <a:off x="5946120" y="2731320"/>
              <a:ext cx="33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组合 5128"/>
          <p:cNvGrpSpPr/>
          <p:nvPr/>
        </p:nvGrpSpPr>
        <p:grpSpPr>
          <a:xfrm>
            <a:off x="5857920" y="3522600"/>
            <a:ext cx="560520" cy="560520"/>
            <a:chOff x="5857920" y="3522600"/>
            <a:chExt cx="560520" cy="560520"/>
          </a:xfrm>
        </p:grpSpPr>
        <p:sp>
          <p:nvSpPr>
            <p:cNvPr id="552" name="椭圆 33"/>
            <p:cNvSpPr/>
            <p:nvPr/>
          </p:nvSpPr>
          <p:spPr>
            <a:xfrm>
              <a:off x="5857920" y="3522600"/>
              <a:ext cx="560520" cy="56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椭圆 34"/>
            <p:cNvSpPr/>
            <p:nvPr/>
          </p:nvSpPr>
          <p:spPr>
            <a:xfrm>
              <a:off x="5883120" y="3547800"/>
              <a:ext cx="510120" cy="510120"/>
            </a:xfrm>
            <a:prstGeom prst="ellipse">
              <a:avLst/>
            </a:prstGeom>
            <a:noFill/>
            <a:ln w="12600">
              <a:solidFill>
                <a:srgbClr val="81d9fa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35"/>
            <p:cNvSpPr/>
            <p:nvPr/>
          </p:nvSpPr>
          <p:spPr>
            <a:xfrm>
              <a:off x="5971320" y="3602880"/>
              <a:ext cx="3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组合 5132"/>
          <p:cNvGrpSpPr/>
          <p:nvPr/>
        </p:nvGrpSpPr>
        <p:grpSpPr>
          <a:xfrm>
            <a:off x="5857920" y="4370400"/>
            <a:ext cx="560520" cy="560520"/>
            <a:chOff x="5857920" y="4370400"/>
            <a:chExt cx="560520" cy="560520"/>
          </a:xfrm>
        </p:grpSpPr>
        <p:sp>
          <p:nvSpPr>
            <p:cNvPr id="556" name="椭圆 37"/>
            <p:cNvSpPr/>
            <p:nvPr/>
          </p:nvSpPr>
          <p:spPr>
            <a:xfrm>
              <a:off x="5857920" y="4370400"/>
              <a:ext cx="560520" cy="56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38"/>
            <p:cNvSpPr/>
            <p:nvPr/>
          </p:nvSpPr>
          <p:spPr>
            <a:xfrm>
              <a:off x="5883120" y="4395600"/>
              <a:ext cx="510120" cy="510120"/>
            </a:xfrm>
            <a:prstGeom prst="ellipse">
              <a:avLst/>
            </a:prstGeom>
            <a:noFill/>
            <a:ln w="12600">
              <a:solidFill>
                <a:srgbClr val="81d9fa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文本框 39"/>
            <p:cNvSpPr/>
            <p:nvPr/>
          </p:nvSpPr>
          <p:spPr>
            <a:xfrm>
              <a:off x="5971320" y="4450680"/>
              <a:ext cx="3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Text Box 16"/>
          <p:cNvSpPr/>
          <p:nvPr/>
        </p:nvSpPr>
        <p:spPr>
          <a:xfrm>
            <a:off x="6483240" y="2676600"/>
            <a:ext cx="30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输入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6"/>
          <p:cNvSpPr/>
          <p:nvPr/>
        </p:nvSpPr>
        <p:spPr>
          <a:xfrm>
            <a:off x="6483240" y="3529080"/>
            <a:ext cx="30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输入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6"/>
          <p:cNvSpPr/>
          <p:nvPr/>
        </p:nvSpPr>
        <p:spPr>
          <a:xfrm>
            <a:off x="6483240" y="4383000"/>
            <a:ext cx="30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输入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77556E-017 L -0.83099 2.77556E-017 E">
                                      <p:cBhvr>
                                        <p:cTn id="6" dur="3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5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2.29167E-006 -4.81481E-006 L -0.15065 -4.81481E-006 E">
                                      <p:cBhvr>
                                        <p:cTn id="34" dur="1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4.58333E-006 3.7037E-007 L -0.15157 3.7037E-007 E">
                                      <p:cBhvr>
                                        <p:cTn id="36" dur="1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4.58333E-006 7.40741E-007 L -0.15261 7.40741E-007 E">
                                      <p:cBhvr>
                                        <p:cTn id="38" dur="1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35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3.54167E-006 1.11111E-006 L -0.15703 -0.00533 E">
                                      <p:cBhvr>
                                        <p:cTn id="58" dur="75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35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3.54167E-006 4.07407E-006 L -0.15507 -0.00254 E">
                                      <p:cBhvr>
                                        <p:cTn id="60" dur="75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35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3.54167E-006 -2.96296E-006 L -0.15508 -0.00371 E">
                                      <p:cBhvr>
                                        <p:cTn id="62" dur="75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6560"/>
          </a:xfrm>
          <a:prstGeom prst="rect">
            <a:avLst/>
          </a:prstGeom>
          <a:ln w="0">
            <a:noFill/>
          </a:ln>
        </p:spPr>
      </p:pic>
      <p:grpSp>
        <p:nvGrpSpPr>
          <p:cNvPr id="563" name="组合 6146"/>
          <p:cNvGrpSpPr/>
          <p:nvPr/>
        </p:nvGrpSpPr>
        <p:grpSpPr>
          <a:xfrm>
            <a:off x="660600" y="-1409760"/>
            <a:ext cx="1533240" cy="1591920"/>
            <a:chOff x="660600" y="-1409760"/>
            <a:chExt cx="1533240" cy="1591920"/>
          </a:xfrm>
        </p:grpSpPr>
        <p:grpSp>
          <p:nvGrpSpPr>
            <p:cNvPr id="564" name="组合 6147"/>
            <p:cNvGrpSpPr/>
            <p:nvPr/>
          </p:nvGrpSpPr>
          <p:grpSpPr>
            <a:xfrm>
              <a:off x="660600" y="-1409760"/>
              <a:ext cx="1533240" cy="1591920"/>
              <a:chOff x="660600" y="-1409760"/>
              <a:chExt cx="1533240" cy="1591920"/>
            </a:xfrm>
          </p:grpSpPr>
          <p:sp>
            <p:nvSpPr>
              <p:cNvPr id="565" name="任意多边形 4"/>
              <p:cNvSpPr/>
              <p:nvPr/>
            </p:nvSpPr>
            <p:spPr>
              <a:xfrm flipH="1" rot="12492600">
                <a:off x="889560" y="-1270080"/>
                <a:ext cx="589680" cy="1119240"/>
              </a:xfrm>
              <a:custGeom>
                <a:avLst/>
                <a:gdLst/>
                <a:ahLst/>
                <a:rect l="l" t="t" r="r" b="b"/>
                <a:pathLst>
                  <a:path w="2199932" h="4183459">
                    <a:moveTo>
                      <a:pt x="2050823" y="309459"/>
                    </a:moveTo>
                    <a:cubicBezTo>
                      <a:pt x="2021688" y="401347"/>
                      <a:pt x="2030652" y="609777"/>
                      <a:pt x="1970140" y="766659"/>
                    </a:cubicBezTo>
                    <a:cubicBezTo>
                      <a:pt x="1909628" y="923541"/>
                      <a:pt x="1752746" y="1075941"/>
                      <a:pt x="1687752" y="1250753"/>
                    </a:cubicBezTo>
                    <a:cubicBezTo>
                      <a:pt x="1622758" y="1425565"/>
                      <a:pt x="1591382" y="1640718"/>
                      <a:pt x="1580176" y="1815530"/>
                    </a:cubicBezTo>
                    <a:cubicBezTo>
                      <a:pt x="1568970" y="1990342"/>
                      <a:pt x="1674305" y="2299624"/>
                      <a:pt x="1620517" y="2299624"/>
                    </a:cubicBezTo>
                    <a:cubicBezTo>
                      <a:pt x="1566729" y="2299624"/>
                      <a:pt x="1430017" y="1900695"/>
                      <a:pt x="1257446" y="1815530"/>
                    </a:cubicBezTo>
                    <a:cubicBezTo>
                      <a:pt x="1084875" y="1730365"/>
                      <a:pt x="757663" y="1811048"/>
                      <a:pt x="585093" y="1788636"/>
                    </a:cubicBezTo>
                    <a:cubicBezTo>
                      <a:pt x="412523" y="1766224"/>
                      <a:pt x="233229" y="1649683"/>
                      <a:pt x="222023" y="1681059"/>
                    </a:cubicBezTo>
                    <a:cubicBezTo>
                      <a:pt x="210817" y="1712435"/>
                      <a:pt x="455105" y="1860354"/>
                      <a:pt x="517858" y="1976895"/>
                    </a:cubicBezTo>
                    <a:cubicBezTo>
                      <a:pt x="580611" y="2093436"/>
                      <a:pt x="477517" y="2250318"/>
                      <a:pt x="598540" y="2380306"/>
                    </a:cubicBezTo>
                    <a:cubicBezTo>
                      <a:pt x="719563" y="2510294"/>
                      <a:pt x="1196934" y="2676142"/>
                      <a:pt x="1243999" y="2756824"/>
                    </a:cubicBezTo>
                    <a:cubicBezTo>
                      <a:pt x="1291064" y="2837506"/>
                      <a:pt x="1001952" y="2826300"/>
                      <a:pt x="880929" y="2864400"/>
                    </a:cubicBezTo>
                    <a:cubicBezTo>
                      <a:pt x="759906" y="2902500"/>
                      <a:pt x="636641" y="2895777"/>
                      <a:pt x="517858" y="2985424"/>
                    </a:cubicBezTo>
                    <a:cubicBezTo>
                      <a:pt x="399075" y="3075071"/>
                      <a:pt x="253399" y="3310395"/>
                      <a:pt x="168234" y="3402283"/>
                    </a:cubicBezTo>
                    <a:cubicBezTo>
                      <a:pt x="83069" y="3494171"/>
                      <a:pt x="-28989" y="3521065"/>
                      <a:pt x="6870" y="3536753"/>
                    </a:cubicBezTo>
                    <a:cubicBezTo>
                      <a:pt x="42729" y="3552441"/>
                      <a:pt x="239952" y="3509859"/>
                      <a:pt x="383387" y="3496412"/>
                    </a:cubicBezTo>
                    <a:cubicBezTo>
                      <a:pt x="526822" y="3482965"/>
                      <a:pt x="703875" y="3496412"/>
                      <a:pt x="867481" y="3456071"/>
                    </a:cubicBezTo>
                    <a:cubicBezTo>
                      <a:pt x="1031087" y="3415730"/>
                      <a:pt x="1338129" y="3236436"/>
                      <a:pt x="1365023" y="3254365"/>
                    </a:cubicBezTo>
                    <a:cubicBezTo>
                      <a:pt x="1391917" y="3272294"/>
                      <a:pt x="1131940" y="3451588"/>
                      <a:pt x="1028846" y="3563647"/>
                    </a:cubicBezTo>
                    <a:cubicBezTo>
                      <a:pt x="925752" y="3675706"/>
                      <a:pt x="847311" y="3823624"/>
                      <a:pt x="746458" y="3926718"/>
                    </a:cubicBezTo>
                    <a:cubicBezTo>
                      <a:pt x="645605" y="4029812"/>
                      <a:pt x="396835" y="4166524"/>
                      <a:pt x="423729" y="4182212"/>
                    </a:cubicBezTo>
                    <a:cubicBezTo>
                      <a:pt x="450623" y="4197900"/>
                      <a:pt x="726288" y="4061188"/>
                      <a:pt x="907823" y="4020847"/>
                    </a:cubicBezTo>
                    <a:cubicBezTo>
                      <a:pt x="1089358" y="3980506"/>
                      <a:pt x="1356058" y="3969300"/>
                      <a:pt x="1512940" y="3940165"/>
                    </a:cubicBezTo>
                    <a:cubicBezTo>
                      <a:pt x="1669822" y="3911030"/>
                      <a:pt x="1741541" y="3881895"/>
                      <a:pt x="1849117" y="3846036"/>
                    </a:cubicBezTo>
                    <a:cubicBezTo>
                      <a:pt x="1956693" y="3810177"/>
                      <a:pt x="2100129" y="3745183"/>
                      <a:pt x="2158399" y="3725012"/>
                    </a:cubicBezTo>
                    <a:cubicBezTo>
                      <a:pt x="2216670" y="3704841"/>
                      <a:pt x="2194258" y="3796730"/>
                      <a:pt x="2198740" y="3725012"/>
                    </a:cubicBezTo>
                    <a:cubicBezTo>
                      <a:pt x="2203222" y="3653294"/>
                      <a:pt x="2194258" y="3879653"/>
                      <a:pt x="2185293" y="3294706"/>
                    </a:cubicBezTo>
                    <a:cubicBezTo>
                      <a:pt x="2176328" y="2709759"/>
                      <a:pt x="2165122" y="708389"/>
                      <a:pt x="2144952" y="215330"/>
                    </a:cubicBezTo>
                    <a:cubicBezTo>
                      <a:pt x="2124782" y="-277729"/>
                      <a:pt x="2079958" y="217571"/>
                      <a:pt x="2050823" y="3094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任意多边形 5"/>
              <p:cNvSpPr/>
              <p:nvPr/>
            </p:nvSpPr>
            <p:spPr>
              <a:xfrm rot="12492600">
                <a:off x="1374480" y="-1009800"/>
                <a:ext cx="589680" cy="1119240"/>
              </a:xfrm>
              <a:custGeom>
                <a:avLst/>
                <a:gdLst/>
                <a:ahLst/>
                <a:rect l="l" t="t" r="r" b="b"/>
                <a:pathLst>
                  <a:path w="2199932" h="4183459">
                    <a:moveTo>
                      <a:pt x="2050823" y="309459"/>
                    </a:moveTo>
                    <a:cubicBezTo>
                      <a:pt x="2021688" y="401347"/>
                      <a:pt x="2030652" y="609777"/>
                      <a:pt x="1970140" y="766659"/>
                    </a:cubicBezTo>
                    <a:cubicBezTo>
                      <a:pt x="1909628" y="923541"/>
                      <a:pt x="1752746" y="1075941"/>
                      <a:pt x="1687752" y="1250753"/>
                    </a:cubicBezTo>
                    <a:cubicBezTo>
                      <a:pt x="1622758" y="1425565"/>
                      <a:pt x="1591382" y="1640718"/>
                      <a:pt x="1580176" y="1815530"/>
                    </a:cubicBezTo>
                    <a:cubicBezTo>
                      <a:pt x="1568970" y="1990342"/>
                      <a:pt x="1674305" y="2299624"/>
                      <a:pt x="1620517" y="2299624"/>
                    </a:cubicBezTo>
                    <a:cubicBezTo>
                      <a:pt x="1566729" y="2299624"/>
                      <a:pt x="1430017" y="1900695"/>
                      <a:pt x="1257446" y="1815530"/>
                    </a:cubicBezTo>
                    <a:cubicBezTo>
                      <a:pt x="1084875" y="1730365"/>
                      <a:pt x="757663" y="1811048"/>
                      <a:pt x="585093" y="1788636"/>
                    </a:cubicBezTo>
                    <a:cubicBezTo>
                      <a:pt x="412523" y="1766224"/>
                      <a:pt x="233229" y="1649683"/>
                      <a:pt x="222023" y="1681059"/>
                    </a:cubicBezTo>
                    <a:cubicBezTo>
                      <a:pt x="210817" y="1712435"/>
                      <a:pt x="455105" y="1860354"/>
                      <a:pt x="517858" y="1976895"/>
                    </a:cubicBezTo>
                    <a:cubicBezTo>
                      <a:pt x="580611" y="2093436"/>
                      <a:pt x="477517" y="2250318"/>
                      <a:pt x="598540" y="2380306"/>
                    </a:cubicBezTo>
                    <a:cubicBezTo>
                      <a:pt x="719563" y="2510294"/>
                      <a:pt x="1196934" y="2676142"/>
                      <a:pt x="1243999" y="2756824"/>
                    </a:cubicBezTo>
                    <a:cubicBezTo>
                      <a:pt x="1291064" y="2837506"/>
                      <a:pt x="1001952" y="2826300"/>
                      <a:pt x="880929" y="2864400"/>
                    </a:cubicBezTo>
                    <a:cubicBezTo>
                      <a:pt x="759906" y="2902500"/>
                      <a:pt x="636641" y="2895777"/>
                      <a:pt x="517858" y="2985424"/>
                    </a:cubicBezTo>
                    <a:cubicBezTo>
                      <a:pt x="399075" y="3075071"/>
                      <a:pt x="253399" y="3310395"/>
                      <a:pt x="168234" y="3402283"/>
                    </a:cubicBezTo>
                    <a:cubicBezTo>
                      <a:pt x="83069" y="3494171"/>
                      <a:pt x="-28989" y="3521065"/>
                      <a:pt x="6870" y="3536753"/>
                    </a:cubicBezTo>
                    <a:cubicBezTo>
                      <a:pt x="42729" y="3552441"/>
                      <a:pt x="239952" y="3509859"/>
                      <a:pt x="383387" y="3496412"/>
                    </a:cubicBezTo>
                    <a:cubicBezTo>
                      <a:pt x="526822" y="3482965"/>
                      <a:pt x="703875" y="3496412"/>
                      <a:pt x="867481" y="3456071"/>
                    </a:cubicBezTo>
                    <a:cubicBezTo>
                      <a:pt x="1031087" y="3415730"/>
                      <a:pt x="1338129" y="3236436"/>
                      <a:pt x="1365023" y="3254365"/>
                    </a:cubicBezTo>
                    <a:cubicBezTo>
                      <a:pt x="1391917" y="3272294"/>
                      <a:pt x="1131940" y="3451588"/>
                      <a:pt x="1028846" y="3563647"/>
                    </a:cubicBezTo>
                    <a:cubicBezTo>
                      <a:pt x="925752" y="3675706"/>
                      <a:pt x="847311" y="3823624"/>
                      <a:pt x="746458" y="3926718"/>
                    </a:cubicBezTo>
                    <a:cubicBezTo>
                      <a:pt x="645605" y="4029812"/>
                      <a:pt x="396835" y="4166524"/>
                      <a:pt x="423729" y="4182212"/>
                    </a:cubicBezTo>
                    <a:cubicBezTo>
                      <a:pt x="450623" y="4197900"/>
                      <a:pt x="726288" y="4061188"/>
                      <a:pt x="907823" y="4020847"/>
                    </a:cubicBezTo>
                    <a:cubicBezTo>
                      <a:pt x="1089358" y="3980506"/>
                      <a:pt x="1356058" y="3969300"/>
                      <a:pt x="1512940" y="3940165"/>
                    </a:cubicBezTo>
                    <a:cubicBezTo>
                      <a:pt x="1669822" y="3911030"/>
                      <a:pt x="1741541" y="3881895"/>
                      <a:pt x="1849117" y="3846036"/>
                    </a:cubicBezTo>
                    <a:cubicBezTo>
                      <a:pt x="1956693" y="3810177"/>
                      <a:pt x="2100129" y="3745183"/>
                      <a:pt x="2158399" y="3725012"/>
                    </a:cubicBezTo>
                    <a:cubicBezTo>
                      <a:pt x="2216670" y="3704841"/>
                      <a:pt x="2194258" y="3796730"/>
                      <a:pt x="2198740" y="3725012"/>
                    </a:cubicBezTo>
                    <a:cubicBezTo>
                      <a:pt x="2203222" y="3653294"/>
                      <a:pt x="2194258" y="3879653"/>
                      <a:pt x="2185293" y="3294706"/>
                    </a:cubicBezTo>
                    <a:cubicBezTo>
                      <a:pt x="2176328" y="2709759"/>
                      <a:pt x="2165122" y="708389"/>
                      <a:pt x="2144952" y="215330"/>
                    </a:cubicBezTo>
                    <a:cubicBezTo>
                      <a:pt x="2124782" y="-277729"/>
                      <a:pt x="2079958" y="217571"/>
                      <a:pt x="2050823" y="3094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任意多边形 6"/>
              <p:cNvSpPr/>
              <p:nvPr/>
            </p:nvSpPr>
            <p:spPr>
              <a:xfrm rot="12492600">
                <a:off x="1681560" y="-1426320"/>
                <a:ext cx="70920" cy="559800"/>
              </a:xfrm>
              <a:custGeom>
                <a:avLst/>
                <a:gdLst/>
                <a:ahLst/>
                <a:rect l="l" t="t" r="r" b="b"/>
                <a:pathLst>
                  <a:path w="264569" h="2092698">
                    <a:moveTo>
                      <a:pt x="121267" y="49632"/>
                    </a:moveTo>
                    <a:cubicBezTo>
                      <a:pt x="92132" y="139279"/>
                      <a:pt x="4725" y="291679"/>
                      <a:pt x="243" y="560620"/>
                    </a:cubicBezTo>
                    <a:cubicBezTo>
                      <a:pt x="-4239" y="829561"/>
                      <a:pt x="54032" y="1410026"/>
                      <a:pt x="94373" y="1663279"/>
                    </a:cubicBezTo>
                    <a:cubicBezTo>
                      <a:pt x="134714" y="1916532"/>
                      <a:pt x="215396" y="2033073"/>
                      <a:pt x="242290" y="2080138"/>
                    </a:cubicBezTo>
                    <a:cubicBezTo>
                      <a:pt x="269184" y="2127203"/>
                      <a:pt x="269184" y="2033073"/>
                      <a:pt x="255737" y="1945667"/>
                    </a:cubicBezTo>
                    <a:cubicBezTo>
                      <a:pt x="242290" y="1858261"/>
                      <a:pt x="190743" y="1748444"/>
                      <a:pt x="161608" y="1555703"/>
                    </a:cubicBezTo>
                    <a:cubicBezTo>
                      <a:pt x="132473" y="1362962"/>
                      <a:pt x="92132" y="990926"/>
                      <a:pt x="80926" y="789220"/>
                    </a:cubicBezTo>
                    <a:cubicBezTo>
                      <a:pt x="69720" y="587514"/>
                      <a:pt x="78685" y="457526"/>
                      <a:pt x="94373" y="345467"/>
                    </a:cubicBezTo>
                    <a:cubicBezTo>
                      <a:pt x="110061" y="233408"/>
                      <a:pt x="161608" y="170655"/>
                      <a:pt x="175055" y="116867"/>
                    </a:cubicBezTo>
                    <a:cubicBezTo>
                      <a:pt x="188502" y="63079"/>
                      <a:pt x="186261" y="27220"/>
                      <a:pt x="175055" y="22738"/>
                    </a:cubicBezTo>
                    <a:cubicBezTo>
                      <a:pt x="163849" y="18256"/>
                      <a:pt x="150402" y="-40015"/>
                      <a:pt x="121267" y="496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椭圆 7"/>
              <p:cNvSpPr/>
              <p:nvPr/>
            </p:nvSpPr>
            <p:spPr>
              <a:xfrm rot="12492600">
                <a:off x="1606320" y="-983520"/>
                <a:ext cx="70920" cy="23400"/>
              </a:xfrm>
              <a:custGeom>
                <a:avLst/>
                <a:gdLst/>
                <a:ahLst/>
                <a:rect l="l" t="t" r="r" b="b"/>
                <a:pathLst>
                  <a:path w="264821" h="88460">
                    <a:moveTo>
                      <a:pt x="794" y="85388"/>
                    </a:moveTo>
                    <a:cubicBezTo>
                      <a:pt x="8638" y="75395"/>
                      <a:pt x="74108" y="3128"/>
                      <a:pt x="117849" y="123"/>
                    </a:cubicBezTo>
                    <a:cubicBezTo>
                      <a:pt x="161590" y="-2882"/>
                      <a:pt x="249189" y="49636"/>
                      <a:pt x="263238" y="67357"/>
                    </a:cubicBezTo>
                    <a:cubicBezTo>
                      <a:pt x="277287" y="85078"/>
                      <a:pt x="193750" y="33853"/>
                      <a:pt x="173812" y="44630"/>
                    </a:cubicBezTo>
                    <a:cubicBezTo>
                      <a:pt x="153874" y="55407"/>
                      <a:pt x="135021" y="85653"/>
                      <a:pt x="117849" y="88229"/>
                    </a:cubicBezTo>
                    <a:cubicBezTo>
                      <a:pt x="100677" y="90805"/>
                      <a:pt x="96301" y="71290"/>
                      <a:pt x="70782" y="60084"/>
                    </a:cubicBezTo>
                    <a:cubicBezTo>
                      <a:pt x="45263" y="48878"/>
                      <a:pt x="-7050" y="95381"/>
                      <a:pt x="794" y="85388"/>
                    </a:cubicBez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文本框 9"/>
            <p:cNvSpPr/>
            <p:nvPr/>
          </p:nvSpPr>
          <p:spPr>
            <a:xfrm>
              <a:off x="1336680" y="-1017360"/>
              <a:ext cx="54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任意多边形 13"/>
          <p:cNvSpPr/>
          <p:nvPr/>
        </p:nvSpPr>
        <p:spPr>
          <a:xfrm>
            <a:off x="2063880" y="1008000"/>
            <a:ext cx="8534160" cy="4772160"/>
          </a:xfrm>
          <a:custGeom>
            <a:avLst/>
            <a:gdLst/>
            <a:ahLst/>
            <a:rect l="l" t="t" r="r" b="b"/>
            <a:pathLst>
              <a:path w="8533201" h="4771292">
                <a:moveTo>
                  <a:pt x="7500929" y="1337629"/>
                </a:moveTo>
                <a:lnTo>
                  <a:pt x="7642247" y="1594339"/>
                </a:lnTo>
                <a:lnTo>
                  <a:pt x="7783564" y="1337629"/>
                </a:lnTo>
                <a:lnTo>
                  <a:pt x="7500929" y="1337629"/>
                </a:lnTo>
                <a:close/>
                <a:moveTo>
                  <a:pt x="8124321" y="1079394"/>
                </a:moveTo>
                <a:lnTo>
                  <a:pt x="7924471" y="1279244"/>
                </a:lnTo>
                <a:lnTo>
                  <a:pt x="8205875" y="1360798"/>
                </a:lnTo>
                <a:lnTo>
                  <a:pt x="8124321" y="1079394"/>
                </a:lnTo>
                <a:close/>
                <a:moveTo>
                  <a:pt x="7160172" y="1079394"/>
                </a:moveTo>
                <a:lnTo>
                  <a:pt x="7078544" y="1360798"/>
                </a:lnTo>
                <a:lnTo>
                  <a:pt x="7360022" y="1279244"/>
                </a:lnTo>
                <a:lnTo>
                  <a:pt x="7160172" y="1079394"/>
                </a:lnTo>
                <a:close/>
                <a:moveTo>
                  <a:pt x="0" y="949569"/>
                </a:moveTo>
                <a:lnTo>
                  <a:pt x="7176391" y="949569"/>
                </a:lnTo>
                <a:lnTo>
                  <a:pt x="7188575" y="988820"/>
                </a:lnTo>
                <a:cubicBezTo>
                  <a:pt x="7263320" y="1165537"/>
                  <a:pt x="7438303" y="1289534"/>
                  <a:pt x="7642247" y="1289534"/>
                </a:cubicBezTo>
                <a:cubicBezTo>
                  <a:pt x="7846191" y="1289534"/>
                  <a:pt x="8021174" y="1165537"/>
                  <a:pt x="8095919" y="988820"/>
                </a:cubicBezTo>
                <a:lnTo>
                  <a:pt x="8108103" y="949569"/>
                </a:lnTo>
                <a:lnTo>
                  <a:pt x="8533201" y="949569"/>
                </a:lnTo>
                <a:lnTo>
                  <a:pt x="8533201" y="4771292"/>
                </a:lnTo>
                <a:lnTo>
                  <a:pt x="0" y="4771292"/>
                </a:lnTo>
                <a:lnTo>
                  <a:pt x="0" y="949569"/>
                </a:lnTo>
                <a:close/>
                <a:moveTo>
                  <a:pt x="8182706" y="655852"/>
                </a:moveTo>
                <a:lnTo>
                  <a:pt x="8439416" y="797170"/>
                </a:lnTo>
                <a:lnTo>
                  <a:pt x="8182706" y="938487"/>
                </a:lnTo>
                <a:lnTo>
                  <a:pt x="8182706" y="655852"/>
                </a:lnTo>
                <a:close/>
                <a:moveTo>
                  <a:pt x="7101787" y="655852"/>
                </a:moveTo>
                <a:lnTo>
                  <a:pt x="7101787" y="938487"/>
                </a:lnTo>
                <a:lnTo>
                  <a:pt x="6845077" y="797170"/>
                </a:lnTo>
                <a:lnTo>
                  <a:pt x="7101787" y="655852"/>
                </a:lnTo>
                <a:close/>
                <a:moveTo>
                  <a:pt x="7642247" y="304806"/>
                </a:moveTo>
                <a:cubicBezTo>
                  <a:pt x="7914172" y="304806"/>
                  <a:pt x="8134611" y="525245"/>
                  <a:pt x="8134611" y="797170"/>
                </a:cubicBezTo>
                <a:cubicBezTo>
                  <a:pt x="8134611" y="831161"/>
                  <a:pt x="8131167" y="864347"/>
                  <a:pt x="8124608" y="896398"/>
                </a:cubicBezTo>
                <a:lnTo>
                  <a:pt x="8108103" y="949569"/>
                </a:lnTo>
                <a:lnTo>
                  <a:pt x="7176391" y="949569"/>
                </a:lnTo>
                <a:lnTo>
                  <a:pt x="7159886" y="896398"/>
                </a:lnTo>
                <a:cubicBezTo>
                  <a:pt x="7153327" y="864347"/>
                  <a:pt x="7149883" y="831161"/>
                  <a:pt x="7149883" y="797170"/>
                </a:cubicBezTo>
                <a:cubicBezTo>
                  <a:pt x="7149883" y="525245"/>
                  <a:pt x="7370322" y="304806"/>
                  <a:pt x="7642247" y="304806"/>
                </a:cubicBezTo>
                <a:close/>
                <a:moveTo>
                  <a:pt x="8205875" y="233467"/>
                </a:moveTo>
                <a:lnTo>
                  <a:pt x="8124321" y="514945"/>
                </a:lnTo>
                <a:lnTo>
                  <a:pt x="7924471" y="315095"/>
                </a:lnTo>
                <a:lnTo>
                  <a:pt x="8205875" y="233467"/>
                </a:lnTo>
                <a:close/>
                <a:moveTo>
                  <a:pt x="7078544" y="233467"/>
                </a:moveTo>
                <a:lnTo>
                  <a:pt x="7360022" y="315095"/>
                </a:lnTo>
                <a:lnTo>
                  <a:pt x="7160172" y="514945"/>
                </a:lnTo>
                <a:lnTo>
                  <a:pt x="7078544" y="233467"/>
                </a:lnTo>
                <a:close/>
                <a:moveTo>
                  <a:pt x="7642247" y="0"/>
                </a:moveTo>
                <a:lnTo>
                  <a:pt x="7783564" y="256710"/>
                </a:lnTo>
                <a:lnTo>
                  <a:pt x="7500929" y="256710"/>
                </a:lnTo>
                <a:lnTo>
                  <a:pt x="7642247" y="0"/>
                </a:lnTo>
                <a:close/>
              </a:path>
            </a:pathLst>
          </a:cu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1927080" y="1128600"/>
            <a:ext cx="420552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ccff"/>
                </a:solidFill>
                <a:latin typeface="微软雅黑"/>
                <a:ea typeface="微软雅黑"/>
              </a:rPr>
              <a:t>[</a:t>
            </a:r>
            <a:r>
              <a:rPr b="0" lang="zh-CN" sz="3600" spc="-1" strike="noStrike">
                <a:solidFill>
                  <a:srgbClr val="01c1ff"/>
                </a:solidFill>
                <a:latin typeface="微软雅黑"/>
                <a:ea typeface="微软雅黑"/>
              </a:rPr>
              <a:t>单击此处添加标题</a:t>
            </a:r>
            <a:r>
              <a:rPr b="1" lang="zh-CN" sz="4200" spc="-1" strike="noStrike">
                <a:solidFill>
                  <a:srgbClr val="33ccff"/>
                </a:solidFill>
                <a:latin typeface="微软雅黑"/>
                <a:ea typeface="微软雅黑"/>
              </a:rPr>
              <a:t>]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15"/>
          <p:cNvSpPr/>
          <p:nvPr/>
        </p:nvSpPr>
        <p:spPr>
          <a:xfrm>
            <a:off x="2193840" y="2309760"/>
            <a:ext cx="8180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875E-006 -1.11111E-006 L 0.00013 0.32986 E">
                                      <p:cBhvr>
                                        <p:cTn id="68" dur="2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7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文本框 3"/>
          <p:cNvSpPr/>
          <p:nvPr/>
        </p:nvSpPr>
        <p:spPr>
          <a:xfrm>
            <a:off x="4603680" y="2616120"/>
            <a:ext cx="267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5"/>
          <p:cNvSpPr/>
          <p:nvPr/>
        </p:nvSpPr>
        <p:spPr>
          <a:xfrm>
            <a:off x="5491080" y="4046400"/>
            <a:ext cx="84240" cy="209520"/>
          </a:xfrm>
          <a:prstGeom prst="line">
            <a:avLst/>
          </a:prstGeom>
          <a:ln w="12600">
            <a:solidFill>
              <a:srgbClr val="ffffff">
                <a:alpha val="47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直接连接符 6"/>
          <p:cNvSpPr/>
          <p:nvPr/>
        </p:nvSpPr>
        <p:spPr>
          <a:xfrm flipH="1">
            <a:off x="6480000" y="4046400"/>
            <a:ext cx="82800" cy="20952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直接连接符 7"/>
          <p:cNvSpPr/>
          <p:nvPr/>
        </p:nvSpPr>
        <p:spPr>
          <a:xfrm>
            <a:off x="6015600" y="3799080"/>
            <a:ext cx="2160" cy="22680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图片 9" descr=""/>
          <p:cNvPicPr/>
          <p:nvPr/>
        </p:nvPicPr>
        <p:blipFill>
          <a:blip r:embed="rId2"/>
          <a:srcRect l="55276" t="24643" r="37567" b="57364"/>
          <a:stretch/>
        </p:blipFill>
        <p:spPr>
          <a:xfrm>
            <a:off x="4019400" y="2138400"/>
            <a:ext cx="400320" cy="957240"/>
          </a:xfrm>
          <a:prstGeom prst="rect">
            <a:avLst/>
          </a:prstGeom>
          <a:ln w="0">
            <a:noFill/>
          </a:ln>
        </p:spPr>
      </p:pic>
      <p:pic>
        <p:nvPicPr>
          <p:cNvPr id="579" name="图片 10" descr=""/>
          <p:cNvPicPr/>
          <p:nvPr/>
        </p:nvPicPr>
        <p:blipFill>
          <a:blip r:embed="rId3"/>
          <a:srcRect l="37568" t="57369" r="55280" b="24648"/>
          <a:stretch/>
        </p:blipFill>
        <p:spPr>
          <a:xfrm>
            <a:off x="7400880" y="2955960"/>
            <a:ext cx="399960" cy="955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6" dur="35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175" autoRev="1" fill="hold"/>
                                        <p:tgtEl>
                                          <p:spTgt spid="5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9" dur="35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175" autoRev="1" fill="hold"/>
                                        <p:tgtEl>
                                          <p:spTgt spid="5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92" dur="35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75" autoRev="1" fill="hold"/>
                                        <p:tgtEl>
                                          <p:spTgt spid="5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3T19:48:00Z</dcterms:created>
  <dc:creator>D13001</dc:creator>
  <dc:description/>
  <cp:keywords/>
  <dc:language>en-US</dc:language>
  <cp:lastModifiedBy>Bee Little</cp:lastModifiedBy>
  <dcterms:modified xsi:type="dcterms:W3CDTF">2017-08-06T07:36:07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