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23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8" descr="闪电柯南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9" descr="集体2"/>
          <p:cNvPicPr/>
          <p:nvPr/>
        </p:nvPicPr>
        <p:blipFill>
          <a:blip r:embed="rId2"/>
          <a:srcRect l="0" t="0" r="0" b="4861"/>
          <a:stretch/>
        </p:blipFill>
        <p:spPr>
          <a:xfrm>
            <a:off x="0" y="3716280"/>
            <a:ext cx="2987640" cy="31417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5" descr="多图"/>
          <p:cNvPicPr/>
          <p:nvPr/>
        </p:nvPicPr>
        <p:blipFill>
          <a:blip r:embed="rId3"/>
          <a:srcRect l="6520" t="9694" r="7479" b="9669"/>
          <a:stretch/>
        </p:blipFill>
        <p:spPr>
          <a:xfrm>
            <a:off x="6553080" y="449568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40" name="WordArt 22"/>
          <p:cNvSpPr txBox="1"/>
          <p:nvPr/>
        </p:nvSpPr>
        <p:spPr>
          <a:xfrm>
            <a:off x="6588000" y="2924280"/>
            <a:ext cx="2556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柯南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1" name="Picture 23" descr="柯南多图"/>
          <p:cNvPicPr/>
          <p:nvPr/>
        </p:nvPicPr>
        <p:blipFill>
          <a:blip r:embed="rId4"/>
          <a:stretch/>
        </p:blipFill>
        <p:spPr>
          <a:xfrm>
            <a:off x="6229440" y="-387360"/>
            <a:ext cx="2914560" cy="3068640"/>
          </a:xfrm>
          <a:prstGeom prst="rect">
            <a:avLst/>
          </a:prstGeom>
          <a:ln w="0">
            <a:noFill/>
          </a:ln>
        </p:spPr>
      </p:pic>
      <p:pic>
        <p:nvPicPr>
          <p:cNvPr id="42" name="名侦探柯南 - 名探偵コナン メイン.mp3" descr=""/>
          <p:cNvPicPr/>
          <p:nvPr/>
        </p:nvPicPr>
        <p:blipFill>
          <a:blip r:embed="rId5"/>
          <a:stretch/>
        </p:blipFill>
        <p:spPr>
          <a:xfrm>
            <a:off x="665964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25"/>
          <p:cNvSpPr/>
          <p:nvPr/>
        </p:nvSpPr>
        <p:spPr>
          <a:xfrm rot="13233600">
            <a:off x="5940360" y="6208560"/>
            <a:ext cx="719280" cy="649440"/>
          </a:xfrm>
          <a:custGeom>
            <a:avLst/>
            <a:gdLst>
              <a:gd name="textAreaLeft" fmla="*/ 112320 w 719280"/>
              <a:gd name="textAreaRight" fmla="*/ 689760 w 719280"/>
              <a:gd name="textAreaTop" fmla="*/ 265680 h 649440"/>
              <a:gd name="textAreaBottom" fmla="*/ 383760 h 649440"/>
            </a:gdLst>
            <a:ahLst/>
            <a:rect l="textAreaLeft" t="textAreaTop" r="textAreaRight" b="textAreaBottom"/>
            <a:pathLst>
              <a:path w="21600" h="21600">
                <a:moveTo>
                  <a:pt x="16678" y="0"/>
                </a:moveTo>
                <a:lnTo>
                  <a:pt x="16678" y="8840"/>
                </a:lnTo>
                <a:lnTo>
                  <a:pt x="3375" y="8840"/>
                </a:lnTo>
                <a:lnTo>
                  <a:pt x="3375" y="12760"/>
                </a:lnTo>
                <a:lnTo>
                  <a:pt x="16678" y="12760"/>
                </a:lnTo>
                <a:lnTo>
                  <a:pt x="1667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8840"/>
                </a:moveTo>
                <a:lnTo>
                  <a:pt x="1350" y="12760"/>
                </a:lnTo>
                <a:lnTo>
                  <a:pt x="2700" y="12760"/>
                </a:lnTo>
                <a:lnTo>
                  <a:pt x="2700" y="8840"/>
                </a:lnTo>
                <a:close/>
              </a:path>
              <a:path w="21600" h="21600">
                <a:moveTo>
                  <a:pt x="0" y="8840"/>
                </a:moveTo>
                <a:lnTo>
                  <a:pt x="0" y="12760"/>
                </a:lnTo>
                <a:lnTo>
                  <a:pt x="675" y="12760"/>
                </a:lnTo>
                <a:lnTo>
                  <a:pt x="675" y="884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Picture 28" descr="柯南与小兰"/>
          <p:cNvPicPr/>
          <p:nvPr/>
        </p:nvPicPr>
        <p:blipFill>
          <a:blip r:embed="rId6"/>
          <a:srcRect l="0" t="0" r="-246" b="14663"/>
          <a:stretch/>
        </p:blipFill>
        <p:spPr>
          <a:xfrm>
            <a:off x="250920" y="-387360"/>
            <a:ext cx="2700360" cy="25639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26"/>
          <p:cNvSpPr/>
          <p:nvPr/>
        </p:nvSpPr>
        <p:spPr>
          <a:xfrm>
            <a:off x="5940360" y="2924280"/>
            <a:ext cx="576360" cy="718920"/>
          </a:xfrm>
          <a:custGeom>
            <a:avLst/>
            <a:gdLst>
              <a:gd name="textAreaLeft" fmla="*/ 82080 w 576360"/>
              <a:gd name="textAreaRight" fmla="*/ 494280 w 576360"/>
              <a:gd name="textAreaTop" fmla="*/ 410760 h 718920"/>
              <a:gd name="textAreaBottom" fmla="*/ 616320 h 718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AutoShape 27"/>
          <p:cNvSpPr/>
          <p:nvPr/>
        </p:nvSpPr>
        <p:spPr>
          <a:xfrm rot="1293600">
            <a:off x="2987280" y="4869000"/>
            <a:ext cx="576360" cy="792000"/>
          </a:xfrm>
          <a:custGeom>
            <a:avLst/>
            <a:gdLst>
              <a:gd name="textAreaLeft" fmla="*/ 82080 w 576360"/>
              <a:gd name="textAreaRight" fmla="*/ 494280 w 576360"/>
              <a:gd name="textAreaTop" fmla="*/ 452520 h 792000"/>
              <a:gd name="textAreaBottom" fmla="*/ 678960 h 79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0" y="2637000"/>
            <a:ext cx="334800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名侦探</a:t>
            </a:r>
            <a:endParaRPr b="0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AutoShape 29"/>
          <p:cNvSpPr/>
          <p:nvPr/>
        </p:nvSpPr>
        <p:spPr>
          <a:xfrm rot="1305600">
            <a:off x="2987280" y="2349000"/>
            <a:ext cx="576360" cy="505080"/>
          </a:xfrm>
          <a:prstGeom prst="rightArrow">
            <a:avLst>
              <a:gd name="adj1" fmla="val 22056"/>
              <a:gd name="adj2" fmla="val 3398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3214800" y="442908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ppt.downhot.com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advTm="10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3副本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116000" y="3284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468360" y="3284640"/>
            <a:ext cx="4933800" cy="56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WordArt 14"/>
          <p:cNvSpPr txBox="1"/>
          <p:nvPr/>
        </p:nvSpPr>
        <p:spPr>
          <a:xfrm>
            <a:off x="539640" y="4149720"/>
            <a:ext cx="42292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advTm="10000">
    <p:newsflash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826920" y="2492280"/>
            <a:ext cx="56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50920" y="1197000"/>
            <a:ext cx="6697440" cy="566100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6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116000" y="191628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江户川柯南 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                       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日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                            血型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爱好：足球，推理                     害怕：吃葡萄干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偶像：夏洛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福尔摩斯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言：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真相永远只有一个！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犯罪手法终究是人类想出来的谜题而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要人类绞尽脑汁，还是可以导出一个逻辑性的答案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用推理把凶手逼到尽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眼睁睁看着对方自杀的侦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跟凶手又有什么两样？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去除掉所有不可能的因素，留下来的东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无论你多么不愿意去相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但它就是真相！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杀人的动机是什么我不清楚，但如果是帮人的话，就根本不用经过理性的思考。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5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柯南"/>
          <p:cNvPicPr/>
          <p:nvPr/>
        </p:nvPicPr>
        <p:blipFill>
          <a:blip r:embed="rId1"/>
          <a:stretch/>
        </p:blipFill>
        <p:spPr>
          <a:xfrm>
            <a:off x="5292720" y="357120"/>
            <a:ext cx="3851280" cy="324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新一与小兰"/>
          <p:cNvPicPr/>
          <p:nvPr/>
        </p:nvPicPr>
        <p:blipFill>
          <a:blip r:embed="rId2"/>
          <a:stretch/>
        </p:blipFill>
        <p:spPr>
          <a:xfrm>
            <a:off x="0" y="3429000"/>
            <a:ext cx="414036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毛利小五郎与妃英里"/>
          <p:cNvPicPr/>
          <p:nvPr/>
        </p:nvPicPr>
        <p:blipFill>
          <a:blip r:embed="rId1"/>
          <a:stretch/>
        </p:blipFill>
        <p:spPr>
          <a:xfrm>
            <a:off x="0" y="404640"/>
            <a:ext cx="3851280" cy="25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阿笠博士与灰原哀"/>
          <p:cNvPicPr/>
          <p:nvPr/>
        </p:nvPicPr>
        <p:blipFill>
          <a:blip r:embed="rId2"/>
          <a:stretch/>
        </p:blipFill>
        <p:spPr>
          <a:xfrm>
            <a:off x="4716360" y="3662280"/>
            <a:ext cx="4427640" cy="319572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吉田步美"/>
          <p:cNvPicPr/>
          <p:nvPr/>
        </p:nvPicPr>
        <p:blipFill>
          <a:blip r:embed="rId1"/>
          <a:stretch/>
        </p:blipFill>
        <p:spPr>
          <a:xfrm>
            <a:off x="5076720" y="0"/>
            <a:ext cx="2374920" cy="325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圆谷光彦"/>
          <p:cNvPicPr/>
          <p:nvPr/>
        </p:nvPicPr>
        <p:blipFill>
          <a:blip r:embed="rId2"/>
          <a:stretch/>
        </p:blipFill>
        <p:spPr>
          <a:xfrm>
            <a:off x="6948360" y="260280"/>
            <a:ext cx="2195640" cy="343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小岛元太"/>
          <p:cNvPicPr/>
          <p:nvPr/>
        </p:nvPicPr>
        <p:blipFill>
          <a:blip r:embed="rId3"/>
          <a:srcRect l="3313" t="0" r="20979" b="-891"/>
          <a:stretch/>
        </p:blipFill>
        <p:spPr>
          <a:xfrm>
            <a:off x="5003640" y="335772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小林澄子"/>
          <p:cNvPicPr/>
          <p:nvPr/>
        </p:nvPicPr>
        <p:blipFill>
          <a:blip r:embed="rId4"/>
          <a:srcRect l="14504" t="0" r="14445" b="0"/>
          <a:stretch/>
        </p:blipFill>
        <p:spPr>
          <a:xfrm>
            <a:off x="7199280" y="3645000"/>
            <a:ext cx="1944720" cy="321300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服部平次"/>
          <p:cNvPicPr/>
          <p:nvPr/>
        </p:nvPicPr>
        <p:blipFill>
          <a:blip r:embed="rId1"/>
          <a:stretch/>
        </p:blipFill>
        <p:spPr>
          <a:xfrm>
            <a:off x="395280" y="692280"/>
            <a:ext cx="3851280" cy="259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目暮十三"/>
          <p:cNvPicPr/>
          <p:nvPr/>
        </p:nvPicPr>
        <p:blipFill>
          <a:blip r:embed="rId2"/>
          <a:stretch/>
        </p:blipFill>
        <p:spPr>
          <a:xfrm>
            <a:off x="4572000" y="2276640"/>
            <a:ext cx="3960720" cy="233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铃木园子"/>
          <p:cNvPicPr/>
          <p:nvPr/>
        </p:nvPicPr>
        <p:blipFill>
          <a:blip r:embed="rId3"/>
          <a:stretch/>
        </p:blipFill>
        <p:spPr>
          <a:xfrm>
            <a:off x="324000" y="4797360"/>
            <a:ext cx="3600360" cy="206064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 rot="5178000">
            <a:off x="6047640" y="3249720"/>
            <a:ext cx="475308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2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剧情介绍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2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2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名侦探柯南の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2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1127160"/>
            <a:ext cx="7956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工藤新一是著名的关东高中生名侦探。某天，当他跟青梅竹马的毛利兰去游乐园玩时，遇到了杀人事件。新一轻松地解决了事件，却也对同坐过山车的两名黑衣人起了疑心。凭着侦探的敏锐，新一悄悄跟上了他们。然而，聚精会神监视的他却被发现。黑衣人为了永诀后患，喂他吃下组织研发的新种毒药。不想新一竟因此变成了小孩。不得已下，他住进了毛利兰的家，化名江户川柯南。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某次偶然的机会下，他利用变声领结，假借昏迷的私家侦探毛利小五郎的声音，破解了案件。从此，沉睡的小五郎之名开始在新闻界、警界盛传。而新一也由此隐藏起真实身份，凭借着他的聪明才智解决了一件又一件棘手案件。当然，他也不曾放弃过寻找黑衣人的下落。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之后，关西高中生名侦探服部平次在与新一数番较量后，发现了新一的真实身份，并出手协助。此时，黑衣人组织的成员之一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--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雪莉出逃，抱着侥幸的她也吃下了那毒药。幸运的是，她也变成了小孩，从此化名灰原哀，借住于阿笠博士家。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66ffff"/>
                </a:solidFill>
                <a:latin typeface="Arial"/>
              </a:rPr>
              <a:t>随着一次次接触与错过，新一距离黑暗组织的真面目越来越近了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… …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WordArt 4" descr=""/>
          <p:cNvPicPr/>
          <p:nvPr/>
        </p:nvPicPr>
        <p:blipFill>
          <a:blip r:embed="rId1"/>
          <a:stretch/>
        </p:blipFill>
        <p:spPr>
          <a:xfrm>
            <a:off x="822240" y="2987640"/>
            <a:ext cx="4981680" cy="133992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7:01:16Z</dcterms:created>
  <dc:creator>微软用户</dc:creator>
  <dc:description/>
  <dc:language>en-US</dc:language>
  <cp:lastModifiedBy>weiying</cp:lastModifiedBy>
  <dcterms:modified xsi:type="dcterms:W3CDTF">2015-08-28T08:40:11Z</dcterms:modified>
  <cp:revision>19</cp:revision>
  <dc:subject/>
  <dc:title>幻灯片 1</dc:title>
</cp:coreProperties>
</file>