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8DD-F87B-4EFC-9FA1-510A397F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00F-42B9-4478-9943-4227ECAA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06E-344C-499A-9E39-B317AF92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04E-836B-4BB5-8D70-DC1422B9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09B-27D8-43D5-9444-E0B13C0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B3F-5FD7-45C0-A14B-631E968B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5DA-ED18-4965-A97F-163F89DB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83F-467E-4568-B8FA-02133493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F7E-DC13-42FA-9CB2-C75DEE12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E00-1E07-4EA8-9782-EA00BDF2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B3F-DDF9-43B2-83C0-CF3F33D6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E47-12EC-4BFC-BA3C-2CDCBBE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0986-E1AC-4AFB-94CD-9AE786D6CC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429000" y="46594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71920" y="53672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浪漫爱情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2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927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92796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569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61560" y="905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12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61560" y="9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78596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854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6156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2884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212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640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tmoban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ANGS</cp:lastModifiedBy>
  <dcterms:modified xsi:type="dcterms:W3CDTF">2014-09-08T14:07:33Z</dcterms:modified>
  <cp:revision>42</cp:revision>
  <dc:subject/>
  <dc:title>幻灯片 1</dc:title>
</cp:coreProperties>
</file>