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A84-8E12-48D6-B08B-8826BBA7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4F5-778E-42A8-95ED-290F4F79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22D-3614-4133-90C5-C814550A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DC1-EF05-481A-AA4C-4CAC6177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608-2E67-4770-BA05-15B2573E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634-7602-47AD-B7EF-F06424BB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C79-9847-4D82-AEF9-681F879F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690-E632-4493-924C-CCC77B33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105-EC74-45BD-9DB4-A7609B7E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A36-A557-41DB-A415-EFD6672B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7FE-BA3D-4912-A61F-D8256FFD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01C6-0796-4E0D-887F-030E9360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7F8D-E5A9-4A88-8CF8-6D1B0F1DD6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000240" y="14335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286080" y="22147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514800" y="428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4000680" y="2214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5712120" y="5214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497920" y="342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211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6627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6140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926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283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711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497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99788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7736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071880" y="2071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569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2497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711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4-06-23T07:56:29Z</dcterms:modified>
  <cp:revision>36</cp:revision>
  <dc:subject/>
  <dc:title>幻灯片 1</dc:title>
</cp:coreProperties>
</file>