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FA11-C85A-4672-B115-611F8EB1C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B4A0-4D91-41C4-90B0-44EB4635A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FB61-9B95-4095-A426-2468DB57A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E576-1C43-45F1-9972-AA13CE2DE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84038-40E7-4AF3-AEF1-E5DD8BF86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8C14F-67BD-474A-AB1D-CA8214A3D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39E21-2EAA-4081-89E9-780AD8B9D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A61FE-552D-4232-AF43-460FC2497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65050-D646-43D7-A70C-53DBF3E23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0B63E-FE56-4084-AF43-276D455ED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57DD8-3B10-4D54-A6EB-EB443CDAC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939B-C04F-4FA4-AA78-D0BD391D5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25637-24F8-4F6D-8877-162BA2F7C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8940C-2109-44C9-8EA1-8FAE08AE4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95B35-2B73-4FB2-B6F0-C6696B45C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57310-A7B7-4134-AD90-4A909BF2A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EBDC5-3ABA-4602-8C88-652DF3E97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7472-BDE3-4FB4-9C3C-E43315C2C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A37E-2214-44BB-8F0A-24FB4954F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19FD-BE72-4328-A466-E92DB4635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9844-7C51-4619-94C5-ECB6E023A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82C0-B3D8-4A26-8BDB-E129670C3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02DE-25BB-40E5-AB14-E642FAA49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7115-7E12-4407-AE96-B7E6804DA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C03E5-29C0-4836-B22B-1596403DE193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0364C-79A2-4C12-8A6D-8A18834B4C1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封面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目录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5840" y="0"/>
            <a:ext cx="9128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过渡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5840" y="0"/>
            <a:ext cx="9128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内容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5840" y="0"/>
            <a:ext cx="9128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结束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2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cp:keywords/>
  <dc:language>en-US</dc:language>
  <cp:lastModifiedBy>微软用户</cp:lastModifiedBy>
  <dcterms:modified xsi:type="dcterms:W3CDTF">2013-09-30T03:39:36Z</dcterms:modified>
  <cp:revision>3</cp:revision>
  <dc:subject/>
  <dc:title>请在此处填写作品信息（此页非设计页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