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C749-4AAE-4A82-B259-9E46C1C28C2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B78BD-B185-4E73-AD78-981BB4FAD7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5A62-E0F6-41A0-9D3C-BB49B47099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F4E6-D391-4457-951E-10AFC895EE6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70F9-A071-4281-9DB3-56CE1AAFA29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3A37-06FE-4682-8AD2-537701D5C8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A2ACA-583C-487A-955D-54C22A1B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C4E3C-13DE-47C0-85DA-F59B73FC7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D9A91-D048-4104-96DF-6EF1E810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DED2F-192B-499C-8158-E31FB76D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560EFA-DEE0-4331-B958-68CCD73D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2C9A0-7103-402A-9A30-9BF4A577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75654-7E6E-4A27-B9DB-7EFB6E6D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93FA0-1CE8-4147-B992-C5EEC3BA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18451-B413-4798-B30B-60040FFD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E4D9A-8102-461D-B68F-83195F4BF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B0854-BE5A-4663-980F-E060C046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D0CE6-073A-4EF3-AA5C-36D733BC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C456A-07E2-423F-A8C9-37567101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C1711-2C5C-4CC9-B196-22D922FD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5E558-9CAA-48ED-95AA-C1D20E89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B023A0-0279-4F23-B769-4B282D7B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59D9D-D7AA-4CB5-B118-E23C4D3D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974FB-9FE9-4ADA-9943-A38CF75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66F40-E410-4359-A035-955ABE1A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99737-B49F-4537-9FFE-B9A111596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8F6B1-AE58-47EF-AF22-5B585C70A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3A74CB-B0BB-486E-8928-B1155A807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872978-840E-49FF-9093-C2B3D66A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BBF8C-D895-40FC-B254-F58FC13D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32CCBA-EA06-4A36-94F8-DC01331F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77F5A-5B9B-4E37-A55B-E89F96C2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D1D3F-6535-4891-A8C9-7673DEBE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1CE81-48C4-405A-BF2F-8D755BED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E37E0-AC50-4B89-AFCA-E4BBD6ED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3F650-DC93-41BD-9603-97868281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526-AC97-4449-89F4-B70F525B6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D4DCB-0380-43DE-B6F6-2ED1FD77A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19499-E1B3-4EE7-80AF-5268CB33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CAF835-DEFB-473F-BDB8-88B639F4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3B44B-83DA-44C4-95C0-197C838A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6C754-827D-43EA-803B-3E5121F1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DD00A-1321-462D-8359-AA15D7C2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267F5-9D55-4BD2-9911-4C496916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C0ED3-F1C8-454D-8BF5-5F005B09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F2373-B309-43F2-A741-2DD62873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04946-40D3-4AC9-9747-5EB37C35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B54C-22C2-4BC5-8534-780E092C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887216-8BD7-4E17-99EA-2020B46B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7D5DF-3B8D-48C0-920D-B41AD4B9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057D4-A216-4E0D-B791-1D2DB328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781D5-42D2-4EB1-BB68-85B1A8EB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8DCAC-2B59-4A6E-B2ED-A73D48A4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289B0B-D453-44A4-AD9A-5AB250696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DFC41-B33C-4E4F-BD09-88591D09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4D8E0-F691-401D-B0DB-C4F93E28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B8FEB-31C1-4018-8BE6-437F89C6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38E036-AB89-47DB-84D0-62C66CE4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EB4-6722-4EDA-97F6-A048128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4B93B-03D4-4C91-9E3D-35892548F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A95C8-E103-4D53-8744-C61F5E13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CC8CF0-DA6D-44C8-8089-2699F281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61A0F6-227B-4F60-9087-4FBD98A2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2C7D2-26E3-4519-8B40-763E8866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4FDAB-2406-41EB-B64B-62A510A92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3E8BD-6648-4823-BBF4-03E9EFC5E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7FA042-F3FA-4525-A990-BE68AFA67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0FB1E-F468-4696-995E-D8031C5C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AED8E-2FF8-4AD4-93BF-F5119F1B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A7BF-47BF-41ED-A9B0-C6063C23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4AC287-4708-4E72-B11C-6F7ABF3F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DE9D7B-09ED-40EA-8D53-96D38E54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A48D63-093C-4969-AA35-D434A712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ABAB7-73BC-4B30-A941-E44F9985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62D18-4B84-450A-AB16-F1067085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55748-9E80-4ED7-A986-B150BC08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73DF2-4582-454D-B7E0-4CF883E08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48F0F-6D1E-430F-A43E-31A6EB8F4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6045AB-A77A-4516-A26C-3DB3D3FE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7E237F-42CA-4D12-AEEE-93577464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ED1-7C40-4A61-A5F3-24459EC6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4EDE6-0EB3-48AF-A05B-D0499391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E7FBAF-E7EE-41D7-9BE2-C4696A39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C43D6-6BE4-4513-BB2B-D0700168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6C4A8D-5201-4F29-9C85-7E391F3C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BC82E-0E61-45B7-B916-96D18EA0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C20D82-1C4B-4B45-B94C-4D5FE50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79949B-2FD9-4C2B-A188-74D4777D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EDFF87-F633-4A90-8A01-46230EBD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B040E-0787-419C-877E-B6EF708C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AD4338-3B55-4925-AA08-574C7458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CE7-6B2B-43EC-A045-81939626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94623-289B-4483-8C98-2FE6067C9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914DB1-CC6E-4D3D-9DDC-1AD645578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EB95A5-55A3-4A14-BB09-05F4B846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7865B-1DD7-409B-8A81-BC212C07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7B5CD8-AD5C-4906-BE9F-A54BCC0C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682393-D873-4397-9568-213EA0AA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DE6455-2771-4BDF-A49D-35236581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4A97CE-CC61-4690-9688-B9128C389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ED9D57-B551-460B-A60E-31F36DA0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98F76D-36AD-40ED-A8EE-58EE49CF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6867-A2FE-49EF-AB6D-793E01F0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093C40-B273-4372-800C-0D02807D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087430-AE29-4A00-8285-180F4EB7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A41BD2-6866-458D-B522-9B7CCB6B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5DD-A89E-440E-B08F-6D570F88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6E81-4E75-462B-99DC-E104A186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217-8845-43B1-AC08-BDA7EAE7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E62A-3807-40C4-9C21-DCB7B4EE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0FC8-4D4A-4772-94D7-4E5A8FF9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A9CB-23B9-4908-BA44-B13FD8AE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F765-E851-4ABF-B9BD-80C71BA5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E04D-150C-4B1E-BBBE-98CD7D2B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D153-E32C-4EC7-96D6-74C32C69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F40F-ADDE-49C0-93ED-447228DE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8AEA-DAF7-4501-8F37-51496BC8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0C4A-A8FF-41C2-A977-6CBE336F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D6F18-B03A-4C6E-BF37-13157932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117A-A15D-4D08-A22C-8173CDB5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378E-C638-42B5-9520-BBCD9604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C5FFA-02E0-4A3D-BBCF-948BE459B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9385-E76E-4871-8A2B-FFFF4FC8B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78DB9-4DA7-41CA-BDC8-36F7FE81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13F0-4839-4C3C-94B3-9383B8BA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1D4C1-1B25-4B77-82AC-23D14819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CC23C-1FC2-4F66-ABBA-736FA77F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CC8D6-0467-44D5-9634-19576243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14078-32C0-44AB-B731-731E36B6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68DDF-BF4F-4648-8CE7-8A629F5C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233A2-5AB7-4E82-9AFF-F5A6C0392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56FD7-E6AB-445A-B69C-E07F68E2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D13BE-31CC-4C05-A6E0-810A32F6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CAC5A-F27E-4305-956D-8256CCEB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82A91-7D28-489B-B983-C990B4026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1EEEC-3B11-4613-BF82-C3095B87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A1875-8233-4C15-AF81-9CEE607A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7521-98F9-40B9-BDB5-F6E5F3AA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0D213-5056-40D5-AC6F-FB1745DB3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3DF83-89BE-44BB-ACA5-AAD48AED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AC7B2-E6E0-4688-B2E4-0E1724CA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08F52-376D-4B49-904A-18FADE1A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0A289-6A3C-4965-8508-2898A5C3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BAA6C-ED86-4FFA-82FD-175C8BC6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B229D-B085-47DC-8657-910D0954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8A38B-CEB9-46EF-B827-96A3220F4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097E0-6DAE-4401-ABB6-B26A7136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04AC6-ABBC-4A7F-B17E-89B12EF6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333F-D4FB-45A2-B1D4-85F7FFF6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A5591-6B4C-4425-B425-727DEA92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46804-C436-4E83-9CF3-16291476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D660F-7E95-4FD6-B1A9-BD10FAFD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5D52E-3B18-4A81-BECA-220B2B715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ED350-816B-4E41-BFE3-486A0B6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0469E-DE0E-4A06-9ACB-87B85559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DE54E-207E-44C3-814F-5CCE088E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9C6ED-511C-4266-BED1-01652D06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1E7FB-10FB-4D95-975C-C3E7B4E26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D2A10-844C-4C16-92E1-DAC20D1BD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BCBD7-90CF-4AB5-BE85-5EB3454FE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EB794-6FF5-429D-9A3C-F11A5D43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B317B-0841-4246-83F9-0C857E63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1F2EB-6BD3-4FA7-AA8A-73172C77A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E180-FE08-46F8-B1A3-2E4C0C67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1175D-DFD0-4BBC-AB65-4EDAF31B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96515-ACE6-4C0C-9769-653842542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F65D4-D44C-4642-B885-F18CBB33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8E6E9-5840-49BE-AAB6-B773F5AF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61FAE-BA4C-4D41-90E6-2C5D3521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8374C-0023-419B-9ABD-2234D05F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6DB69-261F-4491-8F2C-D11C84B29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6E2C5-7F12-44EE-8311-C1E564978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B6479-B5FD-4F89-867F-87324C0F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642EC-D39D-4263-85EE-78C1BE39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F5FA2-C811-4608-8F5E-07C616CA11C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473CF-A423-4D47-A1FF-75D9D82D6F1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CB428-0C0D-4120-9A9F-ECDB794C02E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7AC0D-901E-4BC1-AFAC-DDD9A48AC0B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DD99-FEA1-4E02-932C-30EBB85BEE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46AA-F5D4-4D88-B1D4-4C0EE1AEB50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85E3-1D42-49A1-B112-90E3F433206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3C08-3260-427C-8DC8-A9CBC69FCC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81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82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27AE-527C-4C9A-8C68-380D5708648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"/>
          <p:cNvPicPr/>
          <p:nvPr/>
        </p:nvPicPr>
        <p:blipFill>
          <a:blip r:embed="rId2"/>
          <a:stretch/>
        </p:blipFill>
        <p:spPr>
          <a:xfrm>
            <a:off x="0" y="-12600"/>
            <a:ext cx="12192120" cy="690084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" descr=""/>
          <p:cNvPicPr/>
          <p:nvPr/>
        </p:nvPicPr>
        <p:blipFill>
          <a:blip r:embed="rId3"/>
          <a:srcRect l="73006" t="0" r="0" b="53188"/>
          <a:stretch/>
        </p:blipFill>
        <p:spPr>
          <a:xfrm>
            <a:off x="0" y="-905040"/>
            <a:ext cx="2313000" cy="321156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7" descr=""/>
          <p:cNvPicPr/>
          <p:nvPr/>
        </p:nvPicPr>
        <p:blipFill>
          <a:blip r:embed="rId4"/>
          <a:srcRect l="0" t="51264" r="75214" b="14816"/>
          <a:stretch/>
        </p:blipFill>
        <p:spPr>
          <a:xfrm rot="2437800">
            <a:off x="3470040" y="-127080"/>
            <a:ext cx="1095120" cy="12002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10" descr=""/>
          <p:cNvPicPr/>
          <p:nvPr/>
        </p:nvPicPr>
        <p:blipFill>
          <a:blip r:embed="rId5"/>
          <a:srcRect l="40279" t="0" r="27947" b="54523"/>
          <a:stretch/>
        </p:blipFill>
        <p:spPr>
          <a:xfrm rot="1719000">
            <a:off x="9354600" y="4119480"/>
            <a:ext cx="2722680" cy="31194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"/>
          <p:cNvPicPr/>
          <p:nvPr/>
        </p:nvPicPr>
        <p:blipFill>
          <a:blip r:embed="rId6"/>
          <a:srcRect l="36364" t="50817" r="49291" b="29337"/>
          <a:stretch/>
        </p:blipFill>
        <p:spPr>
          <a:xfrm>
            <a:off x="8774280" y="5361120"/>
            <a:ext cx="1230120" cy="1360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"/>
          <p:cNvPicPr/>
          <p:nvPr/>
        </p:nvPicPr>
        <p:blipFill>
          <a:blip r:embed="rId7"/>
          <a:srcRect l="90557" t="53931" r="0" b="33040"/>
          <a:stretch/>
        </p:blipFill>
        <p:spPr>
          <a:xfrm>
            <a:off x="10312560" y="6146640"/>
            <a:ext cx="809640" cy="8956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"/>
          <p:cNvPicPr/>
          <p:nvPr/>
        </p:nvPicPr>
        <p:blipFill>
          <a:blip r:embed="rId8"/>
          <a:srcRect l="55939" t="51712" r="25457" b="2227"/>
          <a:stretch/>
        </p:blipFill>
        <p:spPr>
          <a:xfrm rot="19798800">
            <a:off x="11264760" y="5405040"/>
            <a:ext cx="747720" cy="148428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4" descr=""/>
          <p:cNvPicPr/>
          <p:nvPr/>
        </p:nvPicPr>
        <p:blipFill>
          <a:blip r:embed="rId9"/>
          <a:srcRect l="9685" t="-288" r="70753" b="76447"/>
          <a:stretch/>
        </p:blipFill>
        <p:spPr>
          <a:xfrm>
            <a:off x="173160" y="5678640"/>
            <a:ext cx="1676160" cy="1636560"/>
          </a:xfrm>
          <a:prstGeom prst="rect">
            <a:avLst/>
          </a:prstGeom>
          <a:ln w="0">
            <a:noFill/>
          </a:ln>
        </p:spPr>
      </p:pic>
      <p:pic>
        <p:nvPicPr>
          <p:cNvPr id="130" name="图片 15" descr=""/>
          <p:cNvPicPr/>
          <p:nvPr/>
        </p:nvPicPr>
        <p:blipFill>
          <a:blip r:embed="rId10"/>
          <a:srcRect l="32690" t="81342" r="45264" b="0"/>
          <a:stretch/>
        </p:blipFill>
        <p:spPr>
          <a:xfrm>
            <a:off x="7223040" y="6041880"/>
            <a:ext cx="1263600" cy="854280"/>
          </a:xfrm>
          <a:prstGeom prst="rect">
            <a:avLst/>
          </a:prstGeom>
          <a:ln w="0">
            <a:noFill/>
          </a:ln>
        </p:spPr>
      </p:pic>
      <p:pic>
        <p:nvPicPr>
          <p:cNvPr id="131" name="图片 16" descr=""/>
          <p:cNvPicPr/>
          <p:nvPr/>
        </p:nvPicPr>
        <p:blipFill>
          <a:blip r:embed="rId11"/>
          <a:srcRect l="11224" t="34225" r="76684" b="51853"/>
          <a:stretch/>
        </p:blipFill>
        <p:spPr>
          <a:xfrm>
            <a:off x="2981160" y="6146640"/>
            <a:ext cx="1036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8" descr=""/>
          <p:cNvPicPr/>
          <p:nvPr/>
        </p:nvPicPr>
        <p:blipFill>
          <a:blip r:embed="rId3"/>
          <a:stretch/>
        </p:blipFill>
        <p:spPr>
          <a:xfrm>
            <a:off x="2631960" y="293760"/>
            <a:ext cx="7166160" cy="6275160"/>
          </a:xfrm>
          <a:prstGeom prst="rect">
            <a:avLst/>
          </a:prstGeom>
          <a:ln w="0">
            <a:noFill/>
          </a:ln>
        </p:spPr>
      </p:pic>
      <p:sp>
        <p:nvSpPr>
          <p:cNvPr id="170" name="矩形 9"/>
          <p:cNvSpPr/>
          <p:nvPr/>
        </p:nvSpPr>
        <p:spPr>
          <a:xfrm>
            <a:off x="0" y="2498760"/>
            <a:ext cx="12192120" cy="138276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9D7F-A071-4B7F-BEEC-2123B84536B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F624-2E12-44FD-870B-4483E76C48A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A7AD-10FF-40DD-B5E8-83A5E2B4331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FD7C-C0A4-4BBD-8D4E-F52B99DC0B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0D00-555D-456D-ADDE-21ABCED175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85960" y="2651040"/>
            <a:ext cx="46465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方正剪纸简体"/>
                <a:ea typeface="方正剪纸简体"/>
              </a:rPr>
              <a:t>请添加标题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854600" y="3396960"/>
            <a:ext cx="21096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2d050"/>
                </a:solidFill>
                <a:latin typeface="方正剪纸简体"/>
                <a:ea typeface="方正剪纸简体"/>
              </a:rPr>
              <a:t>请添加作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图片 3" descr=""/>
          <p:cNvPicPr/>
          <p:nvPr/>
        </p:nvPicPr>
        <p:blipFill>
          <a:blip r:embed="rId1"/>
          <a:srcRect l="90557" t="53931" r="0" b="33040"/>
          <a:stretch/>
        </p:blipFill>
        <p:spPr>
          <a:xfrm>
            <a:off x="3586320" y="2541600"/>
            <a:ext cx="809640" cy="893880"/>
          </a:xfrm>
          <a:prstGeom prst="rect">
            <a:avLst/>
          </a:prstGeom>
          <a:ln w="0">
            <a:noFill/>
          </a:ln>
        </p:spPr>
      </p:pic>
      <p:pic>
        <p:nvPicPr>
          <p:cNvPr id="671" name="图片 4" descr=""/>
          <p:cNvPicPr/>
          <p:nvPr/>
        </p:nvPicPr>
        <p:blipFill>
          <a:blip r:embed="rId2"/>
          <a:srcRect l="55939" t="51712" r="25457" b="2227"/>
          <a:stretch/>
        </p:blipFill>
        <p:spPr>
          <a:xfrm rot="3466200">
            <a:off x="7261560" y="2458080"/>
            <a:ext cx="74772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直接连接符 74"/>
          <p:cNvSpPr/>
          <p:nvPr/>
        </p:nvSpPr>
        <p:spPr>
          <a:xfrm flipV="1">
            <a:off x="2152800" y="2420640"/>
            <a:ext cx="8291520" cy="28440"/>
          </a:xfrm>
          <a:prstGeom prst="line">
            <a:avLst/>
          </a:prstGeom>
          <a:ln w="63360">
            <a:solidFill>
              <a:srgbClr val="76717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直接连接符 75"/>
          <p:cNvSpPr/>
          <p:nvPr/>
        </p:nvSpPr>
        <p:spPr>
          <a:xfrm>
            <a:off x="317808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流程图: 准备 76"/>
          <p:cNvSpPr/>
          <p:nvPr/>
        </p:nvSpPr>
        <p:spPr>
          <a:xfrm>
            <a:off x="248292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圆角矩形 77"/>
          <p:cNvSpPr/>
          <p:nvPr/>
        </p:nvSpPr>
        <p:spPr>
          <a:xfrm>
            <a:off x="250812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 Box 39"/>
          <p:cNvSpPr/>
          <p:nvPr/>
        </p:nvSpPr>
        <p:spPr>
          <a:xfrm>
            <a:off x="250812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椭圆 79"/>
          <p:cNvSpPr/>
          <p:nvPr/>
        </p:nvSpPr>
        <p:spPr>
          <a:xfrm>
            <a:off x="3051000" y="2838600"/>
            <a:ext cx="25416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80"/>
          <p:cNvSpPr/>
          <p:nvPr/>
        </p:nvSpPr>
        <p:spPr>
          <a:xfrm>
            <a:off x="46832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流程图: 准备 81"/>
          <p:cNvSpPr/>
          <p:nvPr/>
        </p:nvSpPr>
        <p:spPr>
          <a:xfrm>
            <a:off x="3987720" y="2193840"/>
            <a:ext cx="13924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圆角矩形 82"/>
          <p:cNvSpPr/>
          <p:nvPr/>
        </p:nvSpPr>
        <p:spPr>
          <a:xfrm>
            <a:off x="40132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 Box 39"/>
          <p:cNvSpPr/>
          <p:nvPr/>
        </p:nvSpPr>
        <p:spPr>
          <a:xfrm>
            <a:off x="40132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椭圆 84"/>
          <p:cNvSpPr/>
          <p:nvPr/>
        </p:nvSpPr>
        <p:spPr>
          <a:xfrm>
            <a:off x="4557600" y="2838600"/>
            <a:ext cx="2523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直接连接符 85"/>
          <p:cNvSpPr/>
          <p:nvPr/>
        </p:nvSpPr>
        <p:spPr>
          <a:xfrm>
            <a:off x="61898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流程图: 准备 86"/>
          <p:cNvSpPr/>
          <p:nvPr/>
        </p:nvSpPr>
        <p:spPr>
          <a:xfrm>
            <a:off x="5492880" y="2193840"/>
            <a:ext cx="1392120" cy="463680"/>
          </a:xfrm>
          <a:prstGeom prst="flowChartPreparation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圆角矩形 87"/>
          <p:cNvSpPr/>
          <p:nvPr/>
        </p:nvSpPr>
        <p:spPr>
          <a:xfrm>
            <a:off x="5519880" y="2965320"/>
            <a:ext cx="1339560" cy="2422800"/>
          </a:xfrm>
          <a:custGeom>
            <a:avLst/>
            <a:gdLst>
              <a:gd name="textAreaLeft" fmla="*/ 65160 w 1339560"/>
              <a:gd name="textAreaRight" fmla="*/ 1274400 w 133956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62">
                <a:moveTo>
                  <a:pt x="3600" y="0"/>
                </a:moveTo>
                <a:arcTo wR="3600" hR="3600" stAng="16200000" swAng="-5400000"/>
                <a:lnTo>
                  <a:pt x="0" y="35462"/>
                </a:lnTo>
                <a:arcTo wR="3600" hR="3600" stAng="10800000" swAng="-5400000"/>
                <a:lnTo>
                  <a:pt x="18000" y="39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Text Box 39"/>
          <p:cNvSpPr/>
          <p:nvPr/>
        </p:nvSpPr>
        <p:spPr>
          <a:xfrm>
            <a:off x="5519880" y="3249720"/>
            <a:ext cx="13395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7a76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椭圆 89"/>
          <p:cNvSpPr/>
          <p:nvPr/>
        </p:nvSpPr>
        <p:spPr>
          <a:xfrm>
            <a:off x="6062760" y="2838600"/>
            <a:ext cx="252360" cy="253800"/>
          </a:xfrm>
          <a:prstGeom prst="ellipse">
            <a:avLst/>
          </a:prstGeom>
          <a:solidFill>
            <a:srgbClr val="37a7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直接连接符 90"/>
          <p:cNvSpPr/>
          <p:nvPr/>
        </p:nvSpPr>
        <p:spPr>
          <a:xfrm>
            <a:off x="76946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流程图: 准备 91"/>
          <p:cNvSpPr/>
          <p:nvPr/>
        </p:nvSpPr>
        <p:spPr>
          <a:xfrm>
            <a:off x="6999120" y="2193840"/>
            <a:ext cx="1390680" cy="463680"/>
          </a:xfrm>
          <a:prstGeom prst="flowChartPreparation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圆角矩形 92"/>
          <p:cNvSpPr/>
          <p:nvPr/>
        </p:nvSpPr>
        <p:spPr>
          <a:xfrm>
            <a:off x="70246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Text Box 39"/>
          <p:cNvSpPr/>
          <p:nvPr/>
        </p:nvSpPr>
        <p:spPr>
          <a:xfrm>
            <a:off x="70246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94"/>
          <p:cNvSpPr/>
          <p:nvPr/>
        </p:nvSpPr>
        <p:spPr>
          <a:xfrm>
            <a:off x="7567560" y="2838600"/>
            <a:ext cx="254160" cy="253800"/>
          </a:xfrm>
          <a:prstGeom prst="ellipse">
            <a:avLst/>
          </a:prstGeom>
          <a:solidFill>
            <a:srgbClr val="63a5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直接连接符 95"/>
          <p:cNvSpPr/>
          <p:nvPr/>
        </p:nvSpPr>
        <p:spPr>
          <a:xfrm>
            <a:off x="9199440" y="2657520"/>
            <a:ext cx="0" cy="181080"/>
          </a:xfrm>
          <a:prstGeom prst="line">
            <a:avLst/>
          </a:prstGeom>
          <a:ln w="633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流程图: 准备 96"/>
          <p:cNvSpPr/>
          <p:nvPr/>
        </p:nvSpPr>
        <p:spPr>
          <a:xfrm>
            <a:off x="8504280" y="2193840"/>
            <a:ext cx="1390680" cy="463680"/>
          </a:xfrm>
          <a:prstGeom prst="flowChartPreparation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圆角矩形 97"/>
          <p:cNvSpPr/>
          <p:nvPr/>
        </p:nvSpPr>
        <p:spPr>
          <a:xfrm>
            <a:off x="8529480" y="2965320"/>
            <a:ext cx="1339920" cy="2422800"/>
          </a:xfrm>
          <a:custGeom>
            <a:avLst/>
            <a:gdLst>
              <a:gd name="textAreaLeft" fmla="*/ 65160 w 1339920"/>
              <a:gd name="textAreaRight" fmla="*/ 1274760 w 1339920"/>
              <a:gd name="textAreaTop" fmla="*/ 65160 h 2422800"/>
              <a:gd name="textAreaBottom" fmla="*/ 2357640 h 2422800"/>
            </a:gdLst>
            <a:ahLst/>
            <a:rect l="textAreaLeft" t="textAreaTop" r="textAreaRight" b="textAreaBottom"/>
            <a:pathLst>
              <a:path w="21600" h="39052">
                <a:moveTo>
                  <a:pt x="3600" y="0"/>
                </a:moveTo>
                <a:arcTo wR="3600" hR="3600" stAng="16200000" swAng="-5400000"/>
                <a:lnTo>
                  <a:pt x="0" y="35452"/>
                </a:lnTo>
                <a:arcTo wR="3600" hR="3600" stAng="10800000" swAng="-5400000"/>
                <a:lnTo>
                  <a:pt x="18000" y="390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b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幼圆"/>
                <a:ea typeface="幼圆"/>
              </a:rPr>
              <a:t>请在此处输入您的文字，或者复制您的文字粘贴到此处，并且在粘贴后选择“仅文字”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39"/>
          <p:cNvSpPr/>
          <p:nvPr/>
        </p:nvSpPr>
        <p:spPr>
          <a:xfrm>
            <a:off x="8529480" y="3249720"/>
            <a:ext cx="13399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椭圆 99"/>
          <p:cNvSpPr/>
          <p:nvPr/>
        </p:nvSpPr>
        <p:spPr>
          <a:xfrm>
            <a:off x="9072720" y="2838600"/>
            <a:ext cx="253800" cy="253800"/>
          </a:xfrm>
          <a:prstGeom prst="ellipse">
            <a:avLst/>
          </a:prstGeom>
          <a:solidFill>
            <a:srgbClr val="99cb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32040" y="97740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d05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6"/>
          <p:cNvSpPr/>
          <p:nvPr/>
        </p:nvSpPr>
        <p:spPr>
          <a:xfrm>
            <a:off x="2828880" y="141768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矩形 4"/>
          <p:cNvSpPr/>
          <p:nvPr/>
        </p:nvSpPr>
        <p:spPr>
          <a:xfrm>
            <a:off x="2352600" y="14176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7"/>
          <p:cNvSpPr/>
          <p:nvPr/>
        </p:nvSpPr>
        <p:spPr>
          <a:xfrm>
            <a:off x="2828880" y="19130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6"/>
          <p:cNvSpPr/>
          <p:nvPr/>
        </p:nvSpPr>
        <p:spPr>
          <a:xfrm>
            <a:off x="3371760" y="2519280"/>
            <a:ext cx="205128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4"/>
          <p:cNvSpPr/>
          <p:nvPr/>
        </p:nvSpPr>
        <p:spPr>
          <a:xfrm>
            <a:off x="2895480" y="251928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7"/>
          <p:cNvSpPr/>
          <p:nvPr/>
        </p:nvSpPr>
        <p:spPr>
          <a:xfrm>
            <a:off x="3371760" y="30146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6"/>
          <p:cNvSpPr/>
          <p:nvPr/>
        </p:nvSpPr>
        <p:spPr>
          <a:xfrm>
            <a:off x="3857760" y="3621240"/>
            <a:ext cx="2050920" cy="48708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4"/>
          <p:cNvSpPr/>
          <p:nvPr/>
        </p:nvSpPr>
        <p:spPr>
          <a:xfrm>
            <a:off x="3381480" y="3621240"/>
            <a:ext cx="596880" cy="48708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7"/>
          <p:cNvSpPr/>
          <p:nvPr/>
        </p:nvSpPr>
        <p:spPr>
          <a:xfrm>
            <a:off x="3857760" y="411624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矩形 6"/>
          <p:cNvSpPr/>
          <p:nvPr/>
        </p:nvSpPr>
        <p:spPr>
          <a:xfrm>
            <a:off x="4330800" y="4722840"/>
            <a:ext cx="2050920" cy="4874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输入小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矩形 4"/>
          <p:cNvSpPr/>
          <p:nvPr/>
        </p:nvSpPr>
        <p:spPr>
          <a:xfrm>
            <a:off x="3854520" y="4722840"/>
            <a:ext cx="596880" cy="487440"/>
          </a:xfrm>
          <a:prstGeom prst="pie">
            <a:avLst/>
          </a:prstGeom>
          <a:solidFill>
            <a:srgbClr val="ffca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7"/>
          <p:cNvSpPr/>
          <p:nvPr/>
        </p:nvSpPr>
        <p:spPr>
          <a:xfrm>
            <a:off x="4330800" y="5218200"/>
            <a:ext cx="59245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幼圆"/>
                <a:ea typeface="幼圆"/>
              </a:rPr>
              <a:t>请在此处输入您的文本，请在此处输入您的文本，请在此处输入您的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123920" y="58752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直接连接符 38"/>
          <p:cNvSpPr/>
          <p:nvPr/>
        </p:nvSpPr>
        <p:spPr>
          <a:xfrm flipH="1">
            <a:off x="3254040" y="370188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KSO_GT3.1"/>
          <p:cNvSpPr/>
          <p:nvPr/>
        </p:nvSpPr>
        <p:spPr>
          <a:xfrm>
            <a:off x="3902040" y="4089240"/>
            <a:ext cx="58658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KSO_GT3"/>
          <p:cNvSpPr/>
          <p:nvPr/>
        </p:nvSpPr>
        <p:spPr>
          <a:xfrm>
            <a:off x="3902040" y="378000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KSO_GN3"/>
          <p:cNvSpPr/>
          <p:nvPr/>
        </p:nvSpPr>
        <p:spPr>
          <a:xfrm>
            <a:off x="2495520" y="370188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Arial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直接连接符 42"/>
          <p:cNvSpPr/>
          <p:nvPr/>
        </p:nvSpPr>
        <p:spPr>
          <a:xfrm flipH="1">
            <a:off x="3254040" y="255744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KSO_GT2.1"/>
          <p:cNvSpPr/>
          <p:nvPr/>
        </p:nvSpPr>
        <p:spPr>
          <a:xfrm>
            <a:off x="3902040" y="294336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KSO_GT2"/>
          <p:cNvSpPr/>
          <p:nvPr/>
        </p:nvSpPr>
        <p:spPr>
          <a:xfrm>
            <a:off x="3902040" y="263376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KSO_GN2"/>
          <p:cNvSpPr/>
          <p:nvPr/>
        </p:nvSpPr>
        <p:spPr>
          <a:xfrm>
            <a:off x="2495520" y="255744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直接连接符 46"/>
          <p:cNvSpPr/>
          <p:nvPr/>
        </p:nvSpPr>
        <p:spPr>
          <a:xfrm flipH="1">
            <a:off x="3254040" y="1411200"/>
            <a:ext cx="647640" cy="108108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KSO_GT1.1"/>
          <p:cNvSpPr/>
          <p:nvPr/>
        </p:nvSpPr>
        <p:spPr>
          <a:xfrm>
            <a:off x="3902040" y="1798560"/>
            <a:ext cx="5865840" cy="5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KSO_GT1"/>
          <p:cNvSpPr/>
          <p:nvPr/>
        </p:nvSpPr>
        <p:spPr>
          <a:xfrm>
            <a:off x="3902040" y="1488960"/>
            <a:ext cx="58658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99cb38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KSO_GN1"/>
          <p:cNvSpPr/>
          <p:nvPr/>
        </p:nvSpPr>
        <p:spPr>
          <a:xfrm>
            <a:off x="2495520" y="1411200"/>
            <a:ext cx="954000" cy="9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cb38"/>
                </a:solidFill>
                <a:latin typeface="Arial"/>
                <a:ea typeface="微软雅黑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直接连接符 50"/>
          <p:cNvSpPr/>
          <p:nvPr/>
        </p:nvSpPr>
        <p:spPr>
          <a:xfrm flipH="1">
            <a:off x="3254040" y="4848120"/>
            <a:ext cx="647640" cy="1079640"/>
          </a:xfrm>
          <a:prstGeom prst="line">
            <a:avLst/>
          </a:prstGeom>
          <a:ln w="38160">
            <a:solidFill>
              <a:srgbClr val="7671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KSO_GT3.1"/>
          <p:cNvSpPr/>
          <p:nvPr/>
        </p:nvSpPr>
        <p:spPr>
          <a:xfrm>
            <a:off x="3902040" y="5234040"/>
            <a:ext cx="5865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字，或者复制您的文字粘贴到此处，并且在粘贴后选择“仅文字”。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KSO_GT3"/>
          <p:cNvSpPr/>
          <p:nvPr/>
        </p:nvSpPr>
        <p:spPr>
          <a:xfrm>
            <a:off x="3902040" y="4924440"/>
            <a:ext cx="5865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63a537"/>
                </a:solidFill>
                <a:latin typeface="微软雅黑"/>
                <a:ea typeface="微软雅黑"/>
              </a:rPr>
              <a:t>请在此处输入您的小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KSO_GN3"/>
          <p:cNvSpPr/>
          <p:nvPr/>
        </p:nvSpPr>
        <p:spPr>
          <a:xfrm>
            <a:off x="2495520" y="4848120"/>
            <a:ext cx="9540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3a537"/>
                </a:solidFill>
                <a:latin typeface="Arial"/>
                <a:ea typeface="Arial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879480" y="5763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48235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38"/>
          <p:cNvSpPr/>
          <p:nvPr/>
        </p:nvSpPr>
        <p:spPr>
          <a:xfrm>
            <a:off x="2152800" y="3268800"/>
            <a:ext cx="7886520" cy="1681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57"/>
          <p:cNvSpPr/>
          <p:nvPr/>
        </p:nvSpPr>
        <p:spPr>
          <a:xfrm>
            <a:off x="292428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定置的位置是提高工作效率的先决条件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矩形 2"/>
          <p:cNvSpPr/>
          <p:nvPr/>
        </p:nvSpPr>
        <p:spPr>
          <a:xfrm>
            <a:off x="319572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等腰三角形 37"/>
          <p:cNvSpPr/>
          <p:nvPr/>
        </p:nvSpPr>
        <p:spPr>
          <a:xfrm flipV="1">
            <a:off x="350352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矩形 2"/>
          <p:cNvSpPr/>
          <p:nvPr/>
        </p:nvSpPr>
        <p:spPr>
          <a:xfrm>
            <a:off x="550224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等腰三角形 69"/>
          <p:cNvSpPr/>
          <p:nvPr/>
        </p:nvSpPr>
        <p:spPr>
          <a:xfrm flipV="1">
            <a:off x="5811840" y="3436200"/>
            <a:ext cx="7556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矩形 2"/>
          <p:cNvSpPr/>
          <p:nvPr/>
        </p:nvSpPr>
        <p:spPr>
          <a:xfrm>
            <a:off x="7810560" y="2905200"/>
            <a:ext cx="1363680" cy="363600"/>
          </a:xfrm>
          <a:custGeom>
            <a:avLst/>
            <a:gdLst/>
            <a:ahLst/>
            <a:rect l="l" t="t" r="r" b="b"/>
            <a:pathLst>
              <a:path w="1363811" h="364765">
                <a:moveTo>
                  <a:pt x="352425" y="0"/>
                </a:moveTo>
                <a:lnTo>
                  <a:pt x="1363811" y="3175"/>
                </a:lnTo>
                <a:lnTo>
                  <a:pt x="1363811" y="364765"/>
                </a:lnTo>
                <a:lnTo>
                  <a:pt x="0" y="364765"/>
                </a:lnTo>
                <a:lnTo>
                  <a:pt x="352425" y="0"/>
                </a:lnTo>
                <a:close/>
              </a:path>
            </a:pathLst>
          </a:cu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等腰三角形 74"/>
          <p:cNvSpPr/>
          <p:nvPr/>
        </p:nvSpPr>
        <p:spPr>
          <a:xfrm flipV="1">
            <a:off x="8118360" y="3436200"/>
            <a:ext cx="757440" cy="801720"/>
          </a:xfrm>
          <a:prstGeom prst="triangle">
            <a:avLst>
              <a:gd name="adj" fmla="val 50000"/>
            </a:avLst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任意多边形 78"/>
          <p:cNvSpPr/>
          <p:nvPr/>
        </p:nvSpPr>
        <p:spPr>
          <a:xfrm>
            <a:off x="312588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率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直角三角形 3"/>
          <p:cNvSpPr/>
          <p:nvPr/>
        </p:nvSpPr>
        <p:spPr>
          <a:xfrm flipH="1">
            <a:off x="3522600" y="1917720"/>
            <a:ext cx="102888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任意多边形 79"/>
          <p:cNvSpPr/>
          <p:nvPr/>
        </p:nvSpPr>
        <p:spPr>
          <a:xfrm>
            <a:off x="5429160" y="2727360"/>
            <a:ext cx="167508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持久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任意多边形 80"/>
          <p:cNvSpPr/>
          <p:nvPr/>
        </p:nvSpPr>
        <p:spPr>
          <a:xfrm>
            <a:off x="7732800" y="2727360"/>
            <a:ext cx="1674720" cy="1457280"/>
          </a:xfrm>
          <a:prstGeom prst="pie">
            <a:avLst/>
          </a:prstGeom>
          <a:solidFill>
            <a:srgbClr val="ed65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直角三角形 3"/>
          <p:cNvSpPr/>
          <p:nvPr/>
        </p:nvSpPr>
        <p:spPr>
          <a:xfrm flipH="1">
            <a:off x="5830200" y="1917720"/>
            <a:ext cx="10285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直角三角形 3"/>
          <p:cNvSpPr/>
          <p:nvPr/>
        </p:nvSpPr>
        <p:spPr>
          <a:xfrm flipH="1">
            <a:off x="8137440" y="1917720"/>
            <a:ext cx="1030320" cy="996840"/>
          </a:xfrm>
          <a:prstGeom prst="pie">
            <a:avLst/>
          </a:prstGeom>
          <a:solidFill>
            <a:srgbClr val="ecd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28800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73c1f"/>
                </a:solidFill>
                <a:latin typeface="Calibri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57"/>
          <p:cNvSpPr/>
          <p:nvPr/>
        </p:nvSpPr>
        <p:spPr>
          <a:xfrm>
            <a:off x="5261040" y="4319640"/>
            <a:ext cx="20113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人性化，全球遵守与保持；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57"/>
          <p:cNvSpPr/>
          <p:nvPr/>
        </p:nvSpPr>
        <p:spPr>
          <a:xfrm>
            <a:off x="7597800" y="4319640"/>
            <a:ext cx="20098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幼圆"/>
                <a:ea typeface="幼圆"/>
              </a:rPr>
              <a:t>管理理念适应现场场景，展示让人舒服、感动。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54120" y="96048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6S</a:t>
            </a:r>
            <a:r>
              <a:rPr b="0" lang="zh-CN" sz="4000" spc="-1" strike="noStrike">
                <a:solidFill>
                  <a:srgbClr val="ed655f"/>
                </a:solidFill>
                <a:latin typeface="方正汉真广标简体"/>
                <a:ea typeface="方正汉真广标简体"/>
              </a:rPr>
              <a:t>管理实施原则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标题 5"/>
          <p:cNvSpPr/>
          <p:nvPr/>
        </p:nvSpPr>
        <p:spPr>
          <a:xfrm>
            <a:off x="2771640" y="1360440"/>
            <a:ext cx="592632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方正汉真广标简体"/>
                <a:ea typeface="方正汉真广标简体"/>
              </a:rPr>
              <a:t>请在这里输入您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"/>
          <p:cNvSpPr/>
          <p:nvPr/>
        </p:nvSpPr>
        <p:spPr>
          <a:xfrm>
            <a:off x="2144880" y="2517840"/>
            <a:ext cx="7677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请输入内容 请输入内容 请输入内容 请输入内容 请输入内容 请输入内容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文本框 2"/>
          <p:cNvSpPr/>
          <p:nvPr/>
        </p:nvSpPr>
        <p:spPr>
          <a:xfrm>
            <a:off x="4583160" y="2776680"/>
            <a:ext cx="330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谢谢</a:t>
            </a:r>
            <a:r>
              <a:rPr b="0" lang="en-US" sz="4400" spc="-1" strike="noStrike">
                <a:solidFill>
                  <a:srgbClr val="1f4e79"/>
                </a:solidFill>
                <a:latin typeface="方正剪纸简体"/>
                <a:ea typeface="方正剪纸简体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9" name="图片 3" descr=""/>
          <p:cNvPicPr/>
          <p:nvPr/>
        </p:nvPicPr>
        <p:blipFill>
          <a:blip r:embed="rId1"/>
          <a:srcRect l="36368" t="50816" r="49295" b="29339"/>
          <a:stretch/>
        </p:blipFill>
        <p:spPr>
          <a:xfrm>
            <a:off x="6513480" y="2465280"/>
            <a:ext cx="7923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任意多边形 2"/>
          <p:cNvSpPr/>
          <p:nvPr/>
        </p:nvSpPr>
        <p:spPr>
          <a:xfrm>
            <a:off x="224316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矩形 3"/>
          <p:cNvSpPr/>
          <p:nvPr/>
        </p:nvSpPr>
        <p:spPr>
          <a:xfrm>
            <a:off x="2832120" y="2949480"/>
            <a:ext cx="936000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    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矩形 6"/>
          <p:cNvSpPr/>
          <p:nvPr/>
        </p:nvSpPr>
        <p:spPr>
          <a:xfrm>
            <a:off x="0" y="2182680"/>
            <a:ext cx="931212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直角三角形 5"/>
          <p:cNvSpPr/>
          <p:nvPr/>
        </p:nvSpPr>
        <p:spPr>
          <a:xfrm>
            <a:off x="9312120" y="2178000"/>
            <a:ext cx="85428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矩形 11"/>
          <p:cNvSpPr/>
          <p:nvPr/>
        </p:nvSpPr>
        <p:spPr>
          <a:xfrm>
            <a:off x="2581200" y="3921120"/>
            <a:ext cx="690732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PPT</a:t>
            </a:r>
            <a:r>
              <a:rPr b="0" lang="zh-CN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2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3T06:39:49Z</dcterms:created>
  <dc:creator>Administrator</dc:creator>
  <dc:description/>
  <dc:language>en-US</dc:language>
  <cp:lastModifiedBy>Administrator</cp:lastModifiedBy>
  <dcterms:modified xsi:type="dcterms:W3CDTF">2015-05-22T05:50:12Z</dcterms:modified>
  <cp:revision>10</cp:revision>
  <dc:subject/>
  <dc:title>PowerPoint 演示文稿</dc:title>
</cp:coreProperties>
</file>