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2B96A-C281-4E8F-9CA9-AE771D4B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191CB-EDD2-4192-8D37-A57A21E0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4AC61-5793-49E7-8E1D-7139E728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68D36-B50B-43AA-AB99-5CD7D6DA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FD295-53C4-41CC-8567-0AE2CC37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56416-44F2-4930-B76C-3509D499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BF19E-F307-46D1-9343-46B64492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DE4A2-F752-4478-81F7-41F5E63C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6566A-165E-4C10-8351-3A9D54AD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BA5A2-F6A4-4BB7-A91C-A85BA086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65CDC-74DD-478D-80EC-EDB7BF65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6E1E3-759A-4A3A-B243-40746342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FD08A-3D5B-4FEA-BBBF-770B9DAB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E367D-E587-4B55-9C42-70CC3ED6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11E8A-AF11-46F3-BCC5-6E269A32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490DF-E8DE-4995-A597-EDEAFA25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81AF8-0F4D-4CD7-AF2F-7EF088D8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B8713-2138-41C4-AFD7-3EA6DC75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3DCBD-82B6-4669-A8E3-10889043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180C6-BAB7-42F5-AB3F-645483E7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E83EA-3CF7-49B8-A80B-5947126A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AD0A2-5596-48E6-9E2A-534352E1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DBDA8-3B3B-49BF-872F-45C76556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27275-A7BF-4820-ABB0-AC3296B2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3E2C7-138B-4D08-9842-F50DF240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BA740-CDC6-41C9-8A86-CEB484BE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8A848-CB45-4612-BBE8-A8E200C9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5B7B4-F1B0-4D5C-B095-E9F386DD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6D147-C8E6-4FF1-A0D7-88D748F4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7331E-C7A1-4A01-B431-C0DE9FFC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1D4-2F34-4299-BFFC-EC659C6F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F0C38-E39C-404A-858C-15F86BF3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3FA30-EAA7-4889-A7F0-1E7DD46F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2916F-1F2C-4FD9-987C-868ACF63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D6A2B-B589-40E4-A611-2C436377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CD4C6-8CC2-413A-B0E3-E8951DB1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8C82A-84F8-4475-B6FB-F8F3A3E1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E804A-1DCE-4B50-B3F1-75C5AB93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CE09F-E788-4E76-A395-C6AAFFBD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2A55E-4211-4C23-BB2D-49274A72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5D03D-33CE-415A-8322-8445855B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B08-E9F9-43AA-9D88-004BC7E4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A3AE5-239C-4DF6-9EC2-81378EAD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32BC3-4C30-4BB0-9A48-70BF598E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46D4E-1DC7-410E-8541-2C9A0808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B632A-651D-41DF-AFE5-E0228B9C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F0A6D-4B1A-4D46-9D80-83D61591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4731-2BB4-4806-9DCB-6427F00A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C3C-2B0D-445F-9F78-46655D8D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406-B327-4B42-850F-179A298A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09A-3D22-4C21-BDBC-E0A8D444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726-5224-4532-849F-DA2EB4DF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43C-E105-4366-A62A-4F3DF5CB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C38-3766-488B-B614-F6F2CC4D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434-18DC-40CA-AFD5-114D5F7E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FFB-0421-4F92-A4E2-D27EA587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AD4-A86C-4229-A2EC-06ED2016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2E39-F86C-4079-8FA0-AD422348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9348-69B8-492D-9553-0CCDF7B5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3EE8-0988-4C21-BC13-EDB4B4F5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1698-A278-49F0-A7F4-27A6D178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D618-7636-4D18-8DF7-E26FB91C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EF5A-CE9C-40C0-88A3-94869E62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7EEC-AB52-4D2B-B6C3-93157BF7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5A73-33B6-47ED-9A2E-1961294B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D6DB-07B2-4D6F-9EA4-9CCFA6AE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B8B4-4B29-4B6C-AABE-8C203F26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D60E-5F85-4DD7-9344-C0E78A26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B20C-A499-44BF-83F8-9E2C24ED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6D040-19AB-40E4-AB2A-89444193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AD2B-7061-4B5E-A70D-F40F2672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66ED8-73D9-4FAA-B0BE-A208EA7E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91ECD-F405-400C-9F47-79CF8805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2D1FE-F658-4A8B-A83A-BC1D9E3C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0D9D8-8E10-4550-94E4-0A3C7FB6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205F1-92BD-4EEB-95A9-7AB36A13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87BBE-79EF-4BE7-BA38-7873AA11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4124F-1C69-4766-AED6-F9EFB7C7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C0135-A15B-4441-AF55-1EED62B5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2851D-FA97-45AB-A043-FB87DF0C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BFB3C-0ED4-430C-B66D-0ECEB2D6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BE4B3-023E-455D-81F6-4A1DDCBC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09990-1EBC-4F48-A419-DFCF2468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07A50-23CA-49EE-869D-B577AC98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E634D-12DE-42BD-9CA2-5E1A8F65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F9FF5-E4C2-4339-92DF-BBF2F3EB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7EADC-E062-4E04-82CC-D2269332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566A8-6ECF-4295-933E-1108F074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5C8EB-F724-4439-8ED9-22A26847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44B96-19EC-404F-805E-8299AE55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AB9CC-E801-4DAB-A7FE-E7860552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2B988-93FD-423F-9E29-4384EF54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CFAB3-23AD-4C1D-925C-414379FC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FEA07-960E-4F6C-82C8-76A75D45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000ED-418F-4BBD-AFED-C6DAE87A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ABE1F-01DA-4CCB-8535-C959D314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F52A6-3AC1-4A89-BED4-2A2557B2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1080B-14A3-4952-BF7A-A73A2D95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FF780-9AD7-40CF-9D64-A02A6B36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03356-3776-4991-AE1B-496F5A9E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363B6-25FC-41CB-ADAB-8BC899F0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11F10-6BB7-46AF-AFCB-D1FAFFFF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FDC6C-A708-47A1-89E4-602162D1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80747-AEF9-4D93-A410-70C34128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372E7-275D-4A85-BC76-4171974D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4A2F7-2329-4F7A-9DE6-C4424A6B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CE516-547B-48AD-9E5A-0FFD12E3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F4E83-A6C1-4146-87EE-59785354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A68B3-3F1A-4961-ABB2-61DA9490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D36D3-EB6A-417F-A53B-75902035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6C909-4FFE-4277-882E-BBAA9E03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A0129-A307-44E2-B5E5-E96646AB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EDB4B-E24B-473B-877A-59D1984A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7E0E5-4601-4648-A66B-19E5B73A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8DBA3-5610-4FF3-8B84-ABD18FC3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C8653-F885-4100-80EE-23760F04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5E4DD-C28C-4616-B7A9-B814E80B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FC095-4968-4B0F-AE37-5D23215A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C8AE1-97FB-452B-AA11-48CA7907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D3FCF-886C-4DFA-A67E-7789B229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B8603-93A0-499C-8117-2898FBE9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0CD4C-7DA8-413F-852B-33FA1143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21E05-4BAF-4171-9A33-4DE55F49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10977-2E17-4F16-A4D1-EE25D9D2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306A4-121D-4351-BC43-A7F94F2F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F2D16-8A02-4B2E-9761-0AE4DBBA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3E774-F022-48AF-98F6-CC7B2229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84AFF-1D3E-406E-8ECB-F2650106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8E163-9107-4498-9E26-8521638E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30F97-A187-4EE3-BE99-819914F7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B7893-9DCB-487A-BB91-5C85F924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B79F4-FA7C-41FA-850D-B7C37CF8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9D2D-77E3-476E-B3C6-2E973880F17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9F7A-28AB-4662-A770-68A90CF6229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6229-5FB8-4126-BDB6-62CC754733F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DD51-192D-4437-A933-C01736DBE2C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03E7-F15C-421D-A834-2843C2327FA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9254-B580-4114-A530-EF3F5F93CC6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FCBD-F298-4A4D-A41F-D6CCEA718C9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0D2F-934F-400D-800D-DA031D3DA79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4573-5F1D-4374-A774-98B636EFA34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C73C-7AE1-4D3E-813B-628A5986DCF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25E1-6130-41F9-9824-60D134329EC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theoatmeal.com/comics" TargetMode="External"/><Relationship Id="rId3" Type="http://schemas.openxmlformats.org/officeDocument/2006/relationships/hyperlink" Target="http://www.reddit.com/r/pics/comments/b0jqz/the_10_types_of_crappy_interviewees_the_oatmeal/" TargetMode="Externa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700200" y="1676520"/>
            <a:ext cx="7605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1779480" y="1081080"/>
            <a:ext cx="55850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"/>
          <p:cNvPicPr/>
          <p:nvPr/>
        </p:nvPicPr>
        <p:blipFill>
          <a:blip r:embed="rId1"/>
          <a:srcRect l="4308" t="5275" r="0" b="0"/>
          <a:stretch/>
        </p:blipFill>
        <p:spPr>
          <a:xfrm>
            <a:off x="2270160" y="1138320"/>
            <a:ext cx="46036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2295360" y="2328840"/>
            <a:ext cx="4553280" cy="981000"/>
          </a:xfrm>
          <a:prstGeom prst="rect">
            <a:avLst/>
          </a:prstGeom>
          <a:ln w="0">
            <a:noFill/>
          </a:ln>
        </p:spPr>
      </p:pic>
      <p:sp>
        <p:nvSpPr>
          <p:cNvPr id="623" name="TextBox 3"/>
          <p:cNvSpPr/>
          <p:nvPr/>
        </p:nvSpPr>
        <p:spPr>
          <a:xfrm>
            <a:off x="2969640" y="160020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e3f"/>
                </a:solidFill>
                <a:latin typeface="Georgia"/>
              </a:rPr>
              <a:t>Share this com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4"/>
          <p:cNvSpPr/>
          <p:nvPr/>
        </p:nvSpPr>
        <p:spPr>
          <a:xfrm>
            <a:off x="3434760" y="3886200"/>
            <a:ext cx="20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e3f"/>
                </a:solidFill>
                <a:latin typeface="Georgia"/>
              </a:rPr>
              <a:t>find more comics @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5"/>
          <p:cNvSpPr/>
          <p:nvPr/>
        </p:nvSpPr>
        <p:spPr>
          <a:xfrm>
            <a:off x="3017160" y="4129200"/>
            <a:ext cx="302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6600"/>
                </a:solidFill>
                <a:uFillTx/>
                <a:latin typeface="Georgia"/>
                <a:hlinkClick r:id="rId2"/>
              </a:rPr>
              <a:t>theoatmeal.com/c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2429640" y="290520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hlinkClick r:id="rId3"/>
              </a:rPr>
              <a:t>red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7"/>
          <p:cNvSpPr/>
          <p:nvPr/>
        </p:nvSpPr>
        <p:spPr>
          <a:xfrm>
            <a:off x="3272400" y="290520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alibri"/>
              </a:rPr>
              <a:t>Stu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4213800" y="289728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alibri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9"/>
          <p:cNvSpPr/>
          <p:nvPr/>
        </p:nvSpPr>
        <p:spPr>
          <a:xfrm>
            <a:off x="5183640" y="288432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Calibri"/>
              </a:rPr>
              <a:t>Tw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0"/>
          <p:cNvSpPr/>
          <p:nvPr/>
        </p:nvSpPr>
        <p:spPr>
          <a:xfrm>
            <a:off x="6024240" y="29034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alibri"/>
              </a:rPr>
              <a:t>My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ww.51pptmoban.com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2119320" y="1152360"/>
            <a:ext cx="4905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"/>
          <p:cNvPicPr/>
          <p:nvPr/>
        </p:nvPicPr>
        <p:blipFill>
          <a:blip r:embed="rId1"/>
          <a:srcRect l="0" t="0" r="0" b="4741"/>
          <a:stretch/>
        </p:blipFill>
        <p:spPr>
          <a:xfrm>
            <a:off x="1967040" y="1257480"/>
            <a:ext cx="52099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828800" y="1081080"/>
            <a:ext cx="54864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"/>
          <p:cNvPicPr/>
          <p:nvPr/>
        </p:nvPicPr>
        <p:blipFill>
          <a:blip r:embed="rId1"/>
          <a:srcRect l="4259" t="0" r="0" b="0"/>
          <a:stretch/>
        </p:blipFill>
        <p:spPr>
          <a:xfrm>
            <a:off x="1789200" y="1077840"/>
            <a:ext cx="5486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1785960" y="1143000"/>
            <a:ext cx="55720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785960" y="1076400"/>
            <a:ext cx="55720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rcRect l="0" t="4936" r="0" b="0"/>
          <a:stretch/>
        </p:blipFill>
        <p:spPr>
          <a:xfrm>
            <a:off x="2008080" y="1143000"/>
            <a:ext cx="512928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1"/>
          <a:srcRect l="0" t="3593" r="0" b="0"/>
          <a:stretch/>
        </p:blipFill>
        <p:spPr>
          <a:xfrm>
            <a:off x="1447920" y="1066680"/>
            <a:ext cx="61657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2:04:40Z</dcterms:created>
  <dc:creator>Cameron Scott</dc:creator>
  <dc:description/>
  <dc:language>en-US</dc:language>
  <cp:lastModifiedBy>YANGS2015</cp:lastModifiedBy>
  <dcterms:modified xsi:type="dcterms:W3CDTF">2015-03-05T12:45:2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93A4EAA9143924D9E7AE997567DACBC</vt:lpwstr>
  </property>
</Properties>
</file>