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6204C-D057-4976-8A83-3609B0F32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348A0-F3C0-43DC-8223-45D5ED2EC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96500-D5E8-4EDC-A144-66D0B92EC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91534-982F-4477-8B84-8923F6E8F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97462-4CAC-4D72-BE36-372B5EE03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CCF04-0F39-44D3-871C-8765DF7BA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D061A-0632-419A-BE4F-665D65BC1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ED835-CF5E-4DDA-9F60-8DC756A8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A2ACF-D538-4F41-AD95-AEFC1DA4D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6DA75-B91B-4192-ABC2-F58B9CA4F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80644-2C39-4D94-A1AF-30C42C219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7D90E-BDDC-4796-A535-1D3C5773C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B093F-9448-45ED-8CBE-C3BE64F45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6C08A-DCEB-4866-95E6-8C45D6FE7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F002F-E2BF-495D-8024-E3200A214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458CB-551D-4F13-BF68-5D3E85776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00AD1-D9B4-4994-8CCC-0DE5170B8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030B-6B1A-4462-B010-73C6AE85D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4534-B780-475C-84E5-DEF251A74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B822-76A2-43DC-8E80-F89A4841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4682F-7C53-453A-8C20-66F0CDCAC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0FD5-8891-42EA-98BE-F8C24E081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2C88-6F08-45E1-94A0-90673760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3A0C-0060-4110-B557-E9B92DF4B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8ADE-103E-4031-AA4C-EC79D7BD3E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1842-3797-4235-9604-4FB326FD7C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4267080" y="838080"/>
            <a:ext cx="5029200" cy="60984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 Subtitle</a:t>
            </a:r>
            <a:endParaRPr b="0" lang="en-US" sz="2400" spc="-1" strike="noStrike">
              <a:solidFill>
                <a:srgbClr val="000000"/>
              </a:solidFill>
              <a:latin typeface="Calibri"/>
            </a:endParaRPr>
          </a:p>
        </p:txBody>
      </p:sp>
      <p:sp>
        <p:nvSpPr>
          <p:cNvPr id="83" name="PlaceHolder 2"/>
          <p:cNvSpPr>
            <a:spLocks noGrp="1"/>
          </p:cNvSpPr>
          <p:nvPr>
            <p:ph type="title"/>
          </p:nvPr>
        </p:nvSpPr>
        <p:spPr>
          <a:xfrm>
            <a:off x="4038480" y="228240"/>
            <a:ext cx="54864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esentation Title</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87"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Administrator</cp:lastModifiedBy>
  <dcterms:modified xsi:type="dcterms:W3CDTF">2016-03-25T21:42: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