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97ED-E868-4D9B-B354-BD1C84751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ED4F-7E51-46C8-AA5A-22780B56A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D009-61B5-4234-8ECC-BC321425A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2B50-F224-4884-8C2F-FD8937C5B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DA5E-720F-460F-B473-AAAC059AF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9BD7-4BCC-487C-A35E-7D0945286A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328B-AEAC-465A-980F-DBDDAB20D8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C7EE-ABD9-4958-B9B6-4D9D71A7BD8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8092-3D6A-4CB3-9037-6998840F8D7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4B9E-BBE8-4C62-BE32-C1B1046B5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C6D4-189A-40C8-A948-43F48B5E2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5C43F-71FF-4A7E-A7C6-28481FC03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3B5CDA1-C222-470A-A80C-AE6BACFACB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bg3"/>
          <p:cNvPicPr/>
          <p:nvPr/>
        </p:nvPicPr>
        <p:blipFill>
          <a:blip r:embed="rId2"/>
          <a:stretch/>
        </p:blipFill>
        <p:spPr>
          <a:xfrm>
            <a:off x="-17640" y="-270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bg1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9280" y="5157360"/>
            <a:ext cx="820764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4005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0E53B6B-B498-42BB-B082-45EB027C2FD3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1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bf59b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88418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3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37153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94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d99fd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0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2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03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"/>
          <p:cNvSpPr txBox="1"/>
          <p:nvPr/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内容占位符 3" descr=""/>
          <p:cNvPicPr/>
          <p:nvPr/>
        </p:nvPicPr>
        <p:blipFill>
          <a:blip r:embed="rId1"/>
          <a:stretch/>
        </p:blipFill>
        <p:spPr>
          <a:xfrm>
            <a:off x="-36360" y="0"/>
            <a:ext cx="3781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6200" y="1125360"/>
            <a:ext cx="8207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682560" y="469440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Administrator</cp:lastModifiedBy>
  <dcterms:modified xsi:type="dcterms:W3CDTF">2016-03-25T21:41:37Z</dcterms:modified>
  <cp:revision>27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