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1DC3-6D22-4758-A23F-E3B9BCC1E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192B-DFD7-45C0-95D0-8294F105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0C38-12FB-4E07-8CA5-C5C7D1BBE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16FB-471B-416F-B616-F86FC410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8F87-BFF6-451F-B389-AC9E7A3A7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6D26-A5E9-4AB5-B0BB-2504A185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DC94-BB34-4932-AB01-63181F37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3D33-1E42-4218-8161-50B7F8AF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FEED-4852-4114-AFA7-6E63E9E3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C62B-C69B-49DD-984A-EDACD69F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33A7-81AE-4CF7-9940-7D4460D8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7C41-010C-4437-8D9C-77E69E19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1F4C-2E4C-47D2-A894-83F50705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E630-5F48-401D-A903-5F2BCEF3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5BD3-6151-4411-8D52-BE38ADDC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50AD-B47E-4194-A14B-59107BC55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B9C2-0E61-48B2-827E-AD95E0A9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4FF1-A199-49A8-A08C-450DE820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1890-D879-46D8-A3AC-65F04990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889A-6551-458F-83F9-45082F5F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6B68-8208-43FD-8A1C-F43146DD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AEA8-4F13-4A61-8563-831257D8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D9D8-BDB3-4712-BAD4-5ABBA1D3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1138-6657-4BAF-833F-9ADCD653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5EE8-A06A-44C0-BE03-66504EF782E0}" type="slidenum"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4AC3-16E9-4033-BBF8-5EFBAB9A9E55}" type="slidenum">
              <a:rPr b="0" lang="zh-CN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6553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Impact"/>
                <a:ea typeface="宋体"/>
              </a:rPr>
              <a:t>AGRICULTURE FARMER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Rectangle 14"/>
          <p:cNvSpPr/>
          <p:nvPr/>
        </p:nvSpPr>
        <p:spPr>
          <a:xfrm>
            <a:off x="838080" y="1447920"/>
            <a:ext cx="4724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Impact"/>
                <a:ea typeface="宋体"/>
              </a:rPr>
              <a:t>YOUR SUB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7162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Picture 12" descr="farmer_and_his_wife_hg_clr"/>
          <p:cNvPicPr/>
          <p:nvPr/>
        </p:nvPicPr>
        <p:blipFill>
          <a:blip r:embed="rId1"/>
          <a:stretch/>
        </p:blipFill>
        <p:spPr>
          <a:xfrm>
            <a:off x="6539040" y="3905280"/>
            <a:ext cx="2604960" cy="24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120" y="152280"/>
            <a:ext cx="350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Impact"/>
                <a:ea typeface="宋体"/>
              </a:rPr>
              <a:t>TRANSITIONAL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69339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Picture 10" descr="farmer"/>
          <p:cNvPicPr/>
          <p:nvPr/>
        </p:nvPicPr>
        <p:blipFill>
          <a:blip r:embed="rId2"/>
          <a:stretch/>
        </p:blipFill>
        <p:spPr>
          <a:xfrm>
            <a:off x="6624720" y="4403880"/>
            <a:ext cx="2367000" cy="2073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15:08:34Z</dcterms:created>
  <dc:creator>Billgates</dc:creator>
  <dc:description/>
  <dc:language>en-US</dc:language>
  <cp:lastModifiedBy>nana</cp:lastModifiedBy>
  <dcterms:modified xsi:type="dcterms:W3CDTF">2016-04-13T04:16:24Z</dcterms:modified>
  <cp:revision>5</cp:revision>
  <dc:subject/>
  <dc:title> </dc:title>
</cp:coreProperties>
</file>