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F02-2313-41B8-93FE-AD4991C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E05-3A95-49EF-B12E-853199C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167-DB23-4677-9AE7-A7DFF8E3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251-4FE3-4A4D-97CE-E4EE3454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1417-C09D-4881-8A29-CB1E7F75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F3B8-0EBE-4715-BE8F-ACE86534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8CB-0229-45A1-9BFF-2BC7FC7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B520-D178-46AD-BA61-65087879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59E-71CF-48AF-930C-59EFA74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EE9-BB12-485E-A010-F8D9F55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945-864E-4955-B279-0AACC5A4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C6D-B183-4955-8B43-7481DE19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5907-E977-4880-89A0-6FD57437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AE6A-7307-4DC1-8C86-A2B8A797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7E17-F6C4-4145-A470-85663212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1FEE-29E7-4300-8ACA-7811C8EC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6C11-C1C2-44EF-8ED2-2648F66C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D64-85BA-4AE0-9154-6E4C5B7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F44-01F6-491F-99BD-AF05186E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E22-89A0-4A98-AAAD-C85A7C9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209-02F9-4C46-910F-502D949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A77-1971-45D2-9896-128A698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A99-2F5E-4698-84CC-CE5FD51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754-2A91-4CBA-BCD4-7B5EA9D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6BB-8593-4BCA-A014-A67040092B1F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6892-E6A7-456A-93C7-AC2213A75365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Impact"/>
                <a:ea typeface="宋体"/>
              </a:rPr>
              <a:t>AGRICULTURE FARMER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838080" y="14479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Impact"/>
                <a:ea typeface="宋体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2" descr="farmer_and_his_wife_hg_clr"/>
          <p:cNvPicPr/>
          <p:nvPr/>
        </p:nvPicPr>
        <p:blipFill>
          <a:blip r:embed="rId1"/>
          <a:stretch/>
        </p:blipFill>
        <p:spPr>
          <a:xfrm>
            <a:off x="6539040" y="3905280"/>
            <a:ext cx="26049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" descr="farmer"/>
          <p:cNvPicPr/>
          <p:nvPr/>
        </p:nvPicPr>
        <p:blipFill>
          <a:blip r:embed="rId2"/>
          <a:stretch/>
        </p:blipFill>
        <p:spPr>
          <a:xfrm>
            <a:off x="6624720" y="4403880"/>
            <a:ext cx="23670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8:34Z</dcterms:created>
  <dc:creator>Billgates</dc:creator>
  <dc:description/>
  <dc:language>en-US</dc:language>
  <cp:lastModifiedBy>nana</cp:lastModifiedBy>
  <dcterms:modified xsi:type="dcterms:W3CDTF">2016-04-13T04:16:24Z</dcterms:modified>
  <cp:revision>5</cp:revision>
  <dc:subject/>
  <dc:title> </dc:title>
</cp:coreProperties>
</file>