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4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0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139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138.xml" ContentType="application/vnd.openxmlformats-officedocument.theme+xml"/>
  <Override PartName="/ppt/theme/theme56.xml" ContentType="application/vnd.openxmlformats-officedocument.theme+xml"/>
  <Override PartName="/ppt/theme/theme134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137.xml" ContentType="application/vnd.openxmlformats-officedocument.theme+xml"/>
  <Override PartName="/ppt/theme/theme12.xml" ContentType="application/vnd.openxmlformats-officedocument.theme+xml"/>
  <Override PartName="/ppt/theme/theme80.xml" ContentType="application/vnd.openxmlformats-officedocument.theme+xml"/>
  <Override PartName="/ppt/theme/theme55.xml" ContentType="application/vnd.openxmlformats-officedocument.theme+xml"/>
  <Override PartName="/ppt/theme/theme4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_rels/presentation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</p:sldMasterIdLst>
  <p:sldIdLst>
    <p:sldId id="256" r:id="rId147"/>
    <p:sldId id="257" r:id="rId148"/>
    <p:sldId id="258" r:id="rId149"/>
    <p:sldId id="259" r:id="rId150"/>
    <p:sldId id="260" r:id="rId1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" Target="slides/slide1.xml"/><Relationship Id="rId148" Type="http://schemas.openxmlformats.org/officeDocument/2006/relationships/slide" Target="slides/slide2.xml"/><Relationship Id="rId149" Type="http://schemas.openxmlformats.org/officeDocument/2006/relationships/slide" Target="slides/slide3.xml"/><Relationship Id="rId150" Type="http://schemas.openxmlformats.org/officeDocument/2006/relationships/slide" Target="slides/slide4.xml"/><Relationship Id="rId151" Type="http://schemas.openxmlformats.org/officeDocument/2006/relationships/slide" Target="slides/slide5.xml"/><Relationship Id="rId1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AAE-5064-4BE2-8A05-FB894062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AAD-97A2-4953-A515-CDD4CBB0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883DC-C1FE-40D0-B38F-6420258C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3CFE945-E3B6-4532-AC83-D2267946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2F6F54E-B165-4A4D-8AED-44807564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AB180A7-19A3-4F4B-9EEB-F00F8308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26A4DD2-2EE4-418A-8315-6888F90E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8928E54-93EB-4418-A969-3FB5E29E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33EF3AB-5E49-45F8-B6FD-B1E93BE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9A32C31-665D-4732-8536-C95F75D7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CB43EC7-0534-4ADA-AE89-98EC350E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7DEF3FE-E172-4F25-9D71-5FDCE982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1DBADBD-F270-4AB8-80AA-D5DFD3D2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C4322-1228-4C47-A20A-44C6F8F3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6748726-AAA7-4AA8-8662-8BBE726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123609A-40BB-48C1-BFED-1516ECCC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C242966-FF11-40C7-964B-D03D1F0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0D7603B-D9F9-4119-9CC9-FA312DEF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D52FB38-1919-47FA-ABAA-AAFA3394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3D39F89-DA55-4081-B6E6-418BDCFA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DE9481D-88EB-43FE-994C-4C751F1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9537B2F-B435-44C1-B591-8EB3B8A6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38B3F46-5784-4AD1-9573-3BA57AA7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FAB2EB8-F220-41C5-ACEF-BAC5FB95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2548C-961A-44B3-AC0B-09416111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203B2A6-8E4E-466D-8CCB-4A22A5B4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8CF0805-950A-4CD2-807F-AACC7682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8A13EBC-7D04-475D-B327-95AC9A59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C83F46A-A260-450E-A0BD-37B6F67F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6FA3859-671A-42D4-B448-62620B68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02D9EE2-787E-458D-B972-08CA2EAA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FDA36BB-76AA-4B68-8161-58D518C9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DEEDEB3-B8D5-422A-930B-C0AD0465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FCD67B4-8EBE-4444-A322-489B775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51CF5EE-0F00-4C6C-BFC5-A373F92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B3C09-A986-447D-B81D-8E138D50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5A7CA4B-7036-4103-9010-83D10A7A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F33271A-C489-4D9A-BF2F-7ED7BA88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DAC2103-FAB0-4526-864A-4ED8830D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8980C82-674F-4DEC-AE57-1BCDFBFF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BDC5D7E-D907-43CA-A370-D9420214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E4D7960-276D-42A2-B248-11F5BC30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3747E30-0ADC-4EC4-A624-9716E03B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43F48A3-A17C-4109-8D78-8106D0A0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C2FE8D1-90F4-4DA2-B25B-AF5FC963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9D2FE4D-DC1F-4C4D-9826-90D90A77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03646-95AC-457A-BFA6-D0B46CC1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052F22F-A485-4D38-B5A6-0595A2B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31EAED3-6F11-4849-81B9-D9391D58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5F745E0-C4EF-4AE8-990C-E72D8B04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B4B35CF-9584-4489-AAD7-D6073922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89B5A8A-C056-45BE-AE7F-F83D2DE0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E2FC2E9-613B-425E-A2B7-1A5112A2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1283C66-ABEB-440E-B6E1-E06BCBE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064424E-0087-4C31-AA2C-BE0F81E4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0F74A54-1AA3-4CCB-8297-08B65A3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F7F740D-E2DE-4EEC-B0AC-A072DA81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AFA84-F386-4D94-912D-86542E9D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70CB918-1FB0-455A-A7B1-5CAF1D4C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52803AE-F8E5-4891-A8B0-E0B98D1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1405B9A-3E8A-4156-8055-2A649C1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A023A64-5763-48BB-8B7C-A512593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7DC347D-9663-4D94-A9B5-7C87CCB1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E47CE30-4BE4-4BB7-AA65-471FB72D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A3438C1-02EE-41AA-AD99-39D62D78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04F5DE4-813A-45BE-9CB0-9EE118C1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91324A4-30FD-4D2E-9461-0DBADCEA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FB25ED2-9239-443B-ABBE-62F22917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47BA1-9177-43D0-ABC1-94B23ED9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1B9B14A-EFCB-4E4D-858B-746A0214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C11810A-4F47-461B-9FF9-1C2F145E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3B37245-88B5-434E-AE3F-A30C6B6C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9450D99-FDB8-4385-8147-BC5296B2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0382C48-F855-4D57-B9F4-E3F7183D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893C2E7-3A5F-48C3-A60E-0982E853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3260CBF-DE7D-4F0B-91FE-C9C634D8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2B42608-ED73-44A0-9668-C4D68A52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B7A9D33-DD5B-4CB6-BA30-42893D47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D563007-A43E-4404-B19F-EE4E3FF8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FE6AB-C9F2-492A-8B6E-CD28B02D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F3F5CD1-C5CB-48FF-A8EB-AF2E0824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07758DC-1E3F-4A59-A17B-E816510F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40C7B60-D137-48FA-9944-D5343725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4952702-0EB0-426F-8CE1-0DE35BB1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2A7775C-0B3D-4ABD-8359-B95E8278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F609419-65C9-4EA2-8F55-8004EEE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F73CCB8-8597-4F23-AF1D-6BFCDEC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4C52A08-C38A-473D-89AD-8EC5C2CD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0C2BC2C-3D5F-45D6-B089-E2AA74E8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734FFA0-854E-4B6C-BB89-AC015468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790D8-2E59-4D9C-B9E8-C16331E6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CE4C811-0237-480F-BBFF-D25943F3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6D4D7F3-1C76-44B7-BA14-40EDAD50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1EC7D3A-B9C3-475D-B7FA-A1E814A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2FC2031-15AA-4E87-A795-2AC96A3C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3E12A16-8A5A-4AB6-A292-8829CC0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95DAAF2-01B7-4A24-8134-037E0258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9353B0E-EC8F-46BA-A412-76B6C2F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76B8BF9-A831-4AEB-A5DE-211774AA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AD6E786-9FFE-4539-B537-CA87C6F2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4D86F50-E82C-4D2E-A021-557C5BE0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1F0F1-A5A6-419C-8053-429896E0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509C5D1-648F-4E80-8218-83A48AF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5CCFECD-9BA8-433E-BD98-D649A07C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7D9E58D-0BF5-497F-B5BA-A9FAA04D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01A61C3-72D9-4950-8644-AB51549B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7D6103C-AEBD-4F1F-9672-6466D0BF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471B7B6-2409-450F-8815-68CFDE16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8F4ECD6-50C2-43F2-AE40-49D50912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9AC66E7-1A8E-48AD-A337-851AE1B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AD71050-293C-4613-9E70-EE99CA1C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8251120-7EE5-4259-92C5-73E7207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1D7-A2D9-483C-ACFB-D393B5B6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A8D3F-D071-4B7A-8202-F5839B22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C42FEE6-0FAB-489A-A717-CDCF2C7F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FF2A9F9-2219-40C0-A8DA-26E75BC5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7084BE5-AB76-44ED-B33A-1FE8EDF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1056FB6-1019-44C8-9A75-58A82E69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B2F66E4-B162-4168-84B0-2331133D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39697AE-4791-42D3-8BB1-FC8B4C3F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09D3DDF-BB76-422F-9310-B71F862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CBCD48B-1613-4359-9A4B-4216BA4C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16B692B-1A94-459A-8415-4D9C103F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7A681FF-FD05-4390-AD35-A750AAE6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EF32F-0829-4C27-AAC7-D062E371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397E851-9126-40AD-A9CF-BC223FB0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AF79BD5-74EB-494E-A224-AE38DDDB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78B97AA-8A45-491B-9849-80805D3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7C3AB0A-1949-41C5-8DAB-299E78C9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C511469-1937-48E0-BA9C-FB12CDFD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8E8ACB2-C07D-44CD-9D56-9E51A253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02AA992-0E90-4FDA-B3EE-D912FDE8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272C5EB-8D3C-4D6D-AE1E-901AEDF2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2AECA73-02D1-4A02-A21A-457DAECD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513F0B5-39C8-4DCB-BA9C-02B53AE1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5B4D9-4C54-4641-B032-B3F22352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4B657F7-BC3A-4F52-893F-D93CB62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D4D34C4-A370-4B77-A7D2-642B782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D430EA4-BC75-494A-AC58-3A71C0D4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30B2220-22CC-42A1-8316-CDD966F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9268CC9-681B-4EE0-8AFA-22CA33C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375CA27-5579-47E7-85BC-EE61234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91D3F05-B4B6-43EE-8502-42441962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38909C4-0CD2-45EA-A4BA-D8546BFA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DD24C03-CD6C-4E31-B4D0-8DB3AAFA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341F06E-6B48-4E97-A682-57468D37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96EFC-A8A1-4CB3-8ED5-BB45A825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BAD55B7-6ACC-4124-80C8-558CAF32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B787DA5-3421-4AD5-879A-90260FED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D774F52-1AF8-44F5-B5F5-00273493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2DEEEB6-2292-4717-9258-472564CE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2F2AA2B-A3CD-4D31-A4EE-64848AAF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2773D6F-BBF8-4ED6-800F-82DA309C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24BE0E3-0D50-4790-B2BB-CF826E0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188619D-678F-4470-9F49-12EDE617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B57E53D-548D-4C5B-86C0-4C17C05D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67A9675-AB73-4B17-B844-C1EE6156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9212D-CBD1-4EA2-9685-A2A6624C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1A4BB58-6B6E-4796-A286-D308C474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6B0F7CD-682F-4D54-8CE3-765D997A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F288D600-8B25-4E67-9468-64ECEFAA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FEBC33E-2930-479C-99EA-1BAF7CD6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BA5325C-7415-4DAB-96FA-D730388D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244DDFC-C618-411B-8C18-EE9F5BA0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E2A71C0-08E2-4CA1-8A1A-755BDB4B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90C411B-A6DE-4A30-8852-B09B962B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FAB2A3A5-13CD-4467-800C-339D5DEE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ABB7D8A-95B6-4842-8346-BDCB28E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9D163-D04E-497F-9FFB-786D74F2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96E06D8-1DBA-4807-86E0-0FF693ED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86E92E6-BF15-41E0-B9FB-0F2314C2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B908C49-CA81-4A0E-A746-C4999069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BD6857F-CC0F-4F0F-BE8F-75D3AE39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A98FDB3-DFD9-434A-8DD2-306F1D0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E875320-2BAA-4849-BFF3-7E0E9FA5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2D93F1E-2A74-43E5-9A6B-651CFD36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88BF194-11B1-4189-9F54-3D3741D9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D2017D1-5BCC-44A8-BCB8-72D9962F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0A3DDFD-F067-42A9-A42B-E5D41B6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D5CF3-AD1E-4DBA-9CB4-B43C6E35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3D7DC9D-D042-4AE2-A283-C11F9C8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2D9B251-25DE-4A8A-A948-4BB10E37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F052D36-27E8-4F2B-947A-99C07B9B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858D592-5A74-4B97-80AF-09F40D30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491BF07-7823-43D4-930D-C6BACA8F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D7F4156-3328-4B21-8255-EB42CD0D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0E12C14-8A4E-48E4-8A68-9DDBAC2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C53727F-106C-4777-B638-E0F526BA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B470BAD-E37C-4551-ABBA-2AE2E948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5170F3E-8180-467E-A88B-4C597BAA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9E12E-6A63-4BAA-B5BD-C022279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36F70CC-730C-43D2-A4B9-C9577520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0E911B5-3EFA-46EF-AA74-D45C9996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266187C-FEEF-4C5D-ACC3-97BDB9B5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24314AF-BEE1-471B-9FA1-9CA216A8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78561E9-3771-4449-B4FD-0B3433CD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8B81FB9-CE5E-4AB3-994C-BA63C88E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B95B678-1E4F-4CA1-8355-9E05C9D0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0824681-87F3-46D9-A9FB-3D4FCA42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7BBE0D7-076B-4018-94BD-654F54E0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E8F3104-752E-4621-B243-896636C6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D3860-F457-4CA2-9DD9-3E15283A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04B9AB2-A899-4F46-9C95-7EDFD76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3C0D81E-22C0-4265-8A27-65BD383B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6A663A5-66D6-48AC-8296-CDCBB2FF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8F96D34-F2B3-4E4D-8F18-1AB20BEF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B0E1F0A-0347-453E-8FA7-DDAD55C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1210D1B-D29F-4534-B0D9-8804692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0FF53DC-B559-4954-A178-02830A2A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CC5D035-9774-4B81-AB0A-3BC70280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9AE3C9A-4E91-40F0-9D9D-DA3DA540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BB9BBF7-81CC-4A9A-BBF9-555FB569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8DD2B-5B41-4772-BACA-A6A00941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A087D58-C7B0-494C-9D9C-F3BA032C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D23CE2F-32C5-4577-8941-D5C8664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EDA9E31-A991-43D1-8833-DB404982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DE0A408-B274-408F-9BC2-742E5C40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CA85827-4E17-4997-9F88-2AAE60AE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A841895-B6FF-45E1-B24B-A721D80F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AE50D47-98A9-49BF-A223-5518F8F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A91CEB7-7538-4096-B703-3C6A4BC3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7F79995-D6A7-4FFC-A0C5-E97303CD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214DBEA-372D-4B1D-85DD-38CA92E1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8E2-FC86-45AD-962C-7D367EC7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ADCC6-E231-403C-A2E4-C46DDEEE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69324AE-435B-4393-BC3D-9AA6C358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AD6D797-0413-40E1-AFCB-2A569DAF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26D0197-EC6A-4379-87FC-D46AA82B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D50D53B-240D-40E4-905B-CD768E0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CE07FB9-3ADB-4413-B5BD-481CACD2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7AA261C-7576-46DC-8559-A5A5B139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3962E40-ADE3-4140-B4E7-45DED37F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1C4C127-6929-429E-AE91-2F32D494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B18165B-73B4-4FF6-AE8B-D38124E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54D3EBD-9A2B-4780-BA42-ED84E76E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323B2-E244-465C-8DD3-D4CADACB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AC4A1C5-6F47-4454-B27D-5B469568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5B63E6A-9BD5-4858-A227-DCD1D402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83EFD37-93BF-489D-9BE2-7A91FD1A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F86ADB7-5033-47B5-A786-0D6E342D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118371F-85CB-430A-A729-66C6A33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DE1B8CA-1856-4035-B00F-3FFDFD7A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FB318A5-C3F9-4304-BEE6-FDBFDEBC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344B0C8-66E9-4143-94C7-0B5462E9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B5CF1F4-45F1-4402-AD73-86C9BA2D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BFC83AE-19BC-4D53-BC1D-F62B272D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6E377-4CD0-4EC8-9CDD-6C4A5330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BEF0E0B-B9A2-4B26-9434-AA209F33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4DAD825-684A-4159-92B3-389C5DCA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C2F7C4E-448E-45E0-8FCD-B4C15EDD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469E3B7-7320-47A0-B09C-FCB3C2E2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BB0ECA3-FD22-4DFD-90EA-59730752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FB7BB84-24AE-4D3A-9765-74189FEC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BC434E8-BCCF-486A-8EA3-5EE9B17E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9781AF5-FC23-4653-AA92-AA0C655B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D95CA1E-97D5-444F-AB9A-2D66B1A4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23BE0ED-081C-47C9-93DE-C576A4E8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FA4F0-2D26-4B0C-902C-D9513978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C1114F8-4236-4D1E-BFAC-770E8826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834A667-97CF-45AB-B361-F472E40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2DA89A7-D02E-43B4-ACC3-8EF502D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A8D4EF9-E138-49D9-A62E-0D15ECF6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BFECF24-F543-425F-A44B-26132DD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50AE4A1-9EA7-4FFA-BBFA-2A503936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35690A4-132D-470D-8EC2-3D68B9B0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12A1CFA-3D30-4E3F-8AE0-BCC185C0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E0BB64E-9D9D-4BDE-B31A-A503F283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BA8AD78-9B74-45B4-A2BB-FD4EEAFF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F921A-B952-49B0-B2CC-9799EB64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A614A48-53F2-4B97-AEDF-6DBD0033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E081D5A-08D8-4348-AF3A-583423F5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78E1F4D-58D6-4F3C-81C9-9D6C4991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6305903-9AA2-4BD1-A8A0-3082FA98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3651434-C9AD-477A-A0A3-1478D59D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7BC881D-1A36-4881-8C30-1374505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91BE822-23E2-4F24-8D07-D7E5D18A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73BF218-797C-4F0A-9B0A-5897262F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C1728BC-CF9B-4747-826B-D8FD1B69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1585587-63B3-42CE-9B42-C8A7FB55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BF234-E062-4021-A20F-C32CF2D7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81A1D71-6EFB-4661-AFDD-CAA51469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D60620D-CCFE-4AF1-BC21-CE0EAD34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783A923-912D-4DEB-9977-1861EF81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A1000A3-5BFC-4332-AB32-2E808D41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C2E4022-458C-49A0-8784-AC859C80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C25FD11-075D-41A4-BB94-6C4616A5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1EAB584-B821-4B06-B5F0-B8721F9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126E39A-9894-43DC-8804-058279F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45E5038-1EE6-4136-B0E3-3A3B50F2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1CAD92B-EBA8-4D04-B609-C2E1A83E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007A3-AEF9-48BE-A6F0-AD2376C3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FCA00CE-C04D-4D72-AD02-2D9F3FD2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351C44F-5EFC-44AE-ACC6-40BEDF09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8391B12-5B76-44B7-B508-FD2B047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48865FA-BC0D-4955-BD8F-16E40FDF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3CF7A57-3160-4A9C-848B-B6AB865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CD38990-5272-44F0-89AE-44807402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6247178-2F23-44E2-8DA5-8741980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211B594-B319-4C3A-9D93-E989610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291BA8A-A32F-4C31-AA04-F0E6B1DC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5CF2F09-FED2-4499-BAEE-A2B38DA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E0799-BEB4-4BA6-8426-03FF1F4A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83320DA-D288-4418-AECC-56B0DC27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7C04824-07AD-4B63-AF13-BB70C408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D60D0C0-F279-430B-8FDB-7FC8C59E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89C0AEE-D944-4B75-AEBC-AD1F071A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E85AF21-42E3-450E-B667-26A1250A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EC88B3B-8318-4794-8C01-574D8726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6951B46-5DED-4A71-906D-2BB4D056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F1D443D6-FCB6-4264-B9D5-9A6C8B1C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37EFE73-2C81-44D9-8657-B4732F53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57B6BC5-4A6B-4BC9-8BEC-A399BC52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2F4D0-8B6B-4EFC-B59D-F579AE4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F8647EB0-A094-4AA4-B240-CFE4D606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3FA80E5-61C0-4BE0-9876-B9C2588E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0724A04-9597-4A20-AFC1-DAA30F0C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95C4D7B-CE50-46F5-83B7-05D06935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5FE918F-B33C-4C66-A0B7-1C2C7876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554D147-8651-4B0A-96B4-875F9D79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C85C8BC-43AC-4695-95A9-B6451C88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32227B4-760A-47BC-AAC3-144B80C0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9279515-086F-4AC5-8E3E-1443E279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DA639AA-94D4-407D-8AE9-9B613CB4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52052-18A6-4299-AC99-C861B47D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51254EC-A852-46B5-9FFE-223E613A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D913BEF-27AD-4F32-91F7-9F07039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CE2D21D-5289-43EF-B81F-0013C24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3ABC3D8-E299-4606-97ED-5B7B081C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99D6A34-6001-4EB9-AC27-D8FD6561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131C999-0044-414A-A31C-E8769842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AC2B59A-9A67-41C6-8DE3-74CDE005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6A325A5-9EC8-489A-A884-C33AB68C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5F9F776-653A-4E89-8A41-1914F1C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9D7AC00-A5E5-4AB9-8716-2EAFE73B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E03A-A35E-42CC-A225-09076669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E3102-B997-424E-931C-D82713E9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A443B9D-61AD-486D-921C-D15D7D37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3A9B03C0-9EE1-4589-B59F-16B19D0E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E6056F6-41AD-4663-9BE5-8B7882B0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2A18F032-DAC1-43B1-89D1-A5420EA4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E73DCA4-C8E6-4F8D-B089-51413B4F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DC93249-7FC9-47E4-974A-4EAD9B7F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AE21B60-C4FC-457E-B122-D5D8E55B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3FD31E98-DDE3-4301-A177-DAE8B282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6182A06-7712-4089-BCF6-8371C9D2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E5BC0825-5ADC-4D5E-8A8B-2933FB14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A74EF-4628-4975-AB2B-F7C3617A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F86E699-28A5-4642-842E-470DD0A2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488DEFA-0D77-4221-84D5-CA2EE73A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C096D02-90EB-41C5-8CA9-22305C84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E97F5759-FD3C-4FFC-BD9D-013A48D9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6386E38-E031-422C-9F4B-1D58FA13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FD85B81-DAB2-484B-A5A0-5B6D2074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5C3B23D0-CFE7-4577-ADA2-E95C4C09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71EBEDCC-C294-4F59-99E1-E1F9892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F250E4D-DC93-45E5-A987-9D593FED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0883870-225C-4007-B940-CBEE6BF6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0256C-ECEF-47C8-B4FA-49A79B33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C48BA5B-238F-4FEF-B643-F341CE7E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93CE017-1001-4C54-8BDB-5CB42258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3CFD641-6718-4DB2-8753-9BCB4B08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D51EE65-A84E-4D05-9CA9-00CF512A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FBC37C4-EF50-4ADF-A600-840C82DA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44F167E-4BA5-4DF5-B73D-260D7B5D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F18C103-E4EE-4A6C-A3CF-82D25BCB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24C37BC-B37A-434C-9298-85D4458D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09C8CFA-B7CE-4C3F-9570-1A228D7D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ED1E3D0-975C-42DE-9AEF-D446BB2E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246EB-7F38-4FA8-846B-E070574D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AA08754-FE8E-42F1-B275-F26A8CF1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F382AA5-7E97-4F89-A7B3-324C284B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3518779-0B96-4553-9240-587C4B5B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8FB3144-A563-45C5-9FE2-4DB51EE3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17E2D8D-BB18-4948-8521-C8A8219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83C563A-FA83-46E0-B6C9-77D9006B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542253EB-0CD5-4183-BAAC-63345A5A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9B89589-A8BE-4E0D-A935-C99198F2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7158C16-3FD2-4C58-B9FA-667057F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CD07A57-DBCB-4351-A9A6-47FAA61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D58C6-DD60-45E0-BCB9-B54AD94D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D2191AD2-D35D-48F8-8059-0DD45145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89CCD96-D14D-4E47-A032-92763D2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A4B986D-9C0A-4F23-BF63-546C6DE1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9D01862-3DDE-478A-8925-E0529717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B5B91D5-1F3A-42B5-A83D-67010527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487BB205-6B6B-424D-AD20-167BFEEA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0607681-1DB1-4CFD-A909-15CE332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D2597A71-AD02-4306-9156-ECE2E4D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B1CBE0F-81A3-4E3A-A891-C1D09D71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26A425B-6712-48C7-A182-1CD9B88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8C47C-B3C0-4EFA-91BC-E6982234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7D54EA1-6C65-4965-BDE0-189B02C2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A9E375D-5B0D-4527-B01C-7D6A9A3F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1545A11-07B9-463E-9BA8-4A0501A6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8A7BEAE8-1AC4-4281-8EC8-12CE8893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EDE4A13-327B-4540-8AE4-75C50AB9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F29275D-7378-4066-BE9E-E30F733F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A0BE6CC-B26D-4516-950E-4D7DF123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070E155E-22F6-4CFA-9850-68E49AE5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AD8B6BF-5DB9-4400-AAC3-0C59440E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357931F-2410-4AE9-B46F-0D9BEFB1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BCA23-0C5D-437C-9186-4D613E9A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13C0EF3-3E1B-4082-B484-2404E301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557593B-B00B-449D-A46D-504671E4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42C931A-924F-4052-AFFE-B3E58A47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04B41B9E-3CBE-4E9C-BD35-FC1255C8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7359C9A-8729-4DB9-BEC7-7E98429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27C0035-B842-475B-9FA1-5D80BD63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DE21D20-18FC-4040-8689-E0256ECD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9B067D1-26D1-43A7-82B1-3454C301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41540A1D-F59A-4510-ABA4-2D0F8E01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CDE9501-21BC-4380-8DEF-8D395A4C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4CDCF-274E-4C2D-8B40-8E400503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58559B6-D944-4496-839C-E1B330DA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441DAC4-D10E-4688-B189-4C066A4B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3205C48-443C-4B52-A7B1-37C80B43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09EFABF-DCB4-48D7-B05C-1E69820B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0787488E-73D4-4967-A076-A98B21C7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479FA60-C640-4E4B-B64C-8DB07A4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059C7996-3E27-4054-904B-58413A95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45FDE08-6185-41E9-9FB7-108976FE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04573F0E-41DA-4D58-807E-881E0D6E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F27FFF2-BF8C-4B63-9DA1-0980EBFC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1F3D9-D095-408B-9000-378C616E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40B37AD-3C3D-4BE0-B5CB-54431701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38D74C8-384A-4942-B8E1-0045C2EE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0D530C35-1B93-44CF-9DE5-9760E2E7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6089190-0432-4673-8163-F7FC55D9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B257A7B0-D8AE-4F63-BCBA-9790A98E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6457172E-8F09-4EDC-9B62-9516BF6C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7D57FB9-38C9-454A-BD2D-70B89DC7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4D07311-E73E-444A-8F69-9C11D72E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B259CC2-8CD4-4DCF-8BA9-23D871C5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6B46E597-8864-4B3B-94CA-DA699DF5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1573E-9AA6-4B48-A4FF-7042CBAC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C0D928D-303B-4CAA-A9D0-49344B4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3F0D73E-751D-48FB-8ADF-D5385F84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618CA702-9D1C-4446-8DB5-EA09B699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39D56AFF-0CB2-4573-B203-5DBBAB57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52D749A-B5CB-43C2-8837-D6B69A8E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EF6E23E-C257-4F9E-B73B-DB20EC45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FEC9863-C921-4E4B-8028-0D2D04FD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3925E48E-7B9B-427A-8C09-B362278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48ADDDB-6CD3-44FE-BF24-8844E311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E999C39-CD55-4048-A689-C119A67F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CEB2-925D-4480-BCFF-4161DE64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1F0A3-6F4F-4517-A17F-90AF699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90BAE2A-47DD-4EB4-B34F-C145285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60575B2-3F02-4C09-B61D-9CCBF86D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B25CB91-6EC7-459F-92DB-B786FCCD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00E9765-4C36-4BAE-B464-56955CB5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B8DEE66-D0FA-47AF-BF1A-41E0B99E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F87EBD3-7709-4801-A1C8-8160957A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F503214-0C94-4A2B-989E-764D8E77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39375FA-5737-46DE-B87A-4081839E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8FA19CB-7E14-4524-A2F8-6810241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2EB3A95-AB60-48B8-A6C0-96788026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BCDE0-D599-4E4F-B1C7-589ABB6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6CDEDF5-AC55-45CD-AD11-7C88309C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2A1D6C9-67EF-4110-862F-CBD7765A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ED58EAA-3689-4BDF-BD5E-1CBADE76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D4B6F1E-AE74-4C01-B65E-DB626631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9E9592A-A62E-4294-A9BB-DA6DCA6C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02502FA-0DD6-42A5-914F-77C83B84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C2031D5-956E-4E54-A437-42B7C022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89624CC-4132-4CA5-9917-309162ED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054D2C00-55AA-423F-ACB5-4E65083B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01178C7-C947-4714-B116-7EE72C03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CAB44-85B3-4526-80E6-DA3BF8F7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C74A581-53C4-4429-A0ED-BCCE1A9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F2CB5A5-6951-4484-BDF3-E186BE38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B46FEDE-163E-4D86-92FB-AD25E129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FE4E615-4DB7-47F7-98D2-879EDAA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58B3347-6DEC-48A0-8D39-DF100511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86DE351-F57B-4AD7-A872-BCED45C6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3E71B973-BDCD-400D-9A1C-0737C592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DE2BCA2-EC3C-466F-A787-43E5B2BA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D25435F-38E7-4049-B327-76D65F05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7045F63-2830-4955-8D02-A0156F87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0ED30-8629-478C-A762-C3810E60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A0E4CFA-C395-42E4-97D4-87E79A93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EC35C54-BB4C-4BE7-A00C-D5BA3D81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163BE81-DFEC-492B-9BF0-5098F914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107D4EE-E88A-422B-B915-AC7AA95B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657FCD8-F053-4D35-920E-F386954E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6318003-A41E-42A9-BB20-70F3C4F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C3C5DE2-E3A4-403F-B2CA-CFBFFA2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384DA07-0114-4F05-A4C1-EDB78C89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9DFDCE7-477C-439D-9666-BEFB031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C87C80D-F1AF-4520-A9BD-9CC6A6FC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BC6BB-EF46-4C2C-A8FC-5B9B57F7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B33FD89-767F-4417-9511-70E58569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ED5F6E2-9E28-4A87-9191-08421347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985D99E-16A7-43BA-A43C-D866CBA8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D9DA414-7639-4E96-82ED-6F7AA6AA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4AC72A61-7EBC-411B-8254-73F487D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D67E383-BFBA-4587-9B34-05E53740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AAB8C47-DE33-4BC6-B1F8-64508E75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5D256D5-B4E2-436A-B00F-0FB5FC91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668E9EC-7C22-4567-A255-E6715D05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A5A6119C-6605-483D-8B4C-F186BD5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2C27E-B391-4E94-8614-5000346E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4D561DA-8B10-451A-B7B2-D517E9E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AA3AC2D-124E-4EF3-BA29-B80F24B4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AF767EC7-78DC-4EFF-913A-5CCE528A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D44AA92-28C0-4AEE-84E7-3A9AA202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531A423-2418-47DD-8E75-28D59BB0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2F99AAC-F5A3-4B0B-A3DA-4A16376B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BC2E9B7-BC11-43E8-90DC-F40C5A12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170F66C-0F49-4AE8-B218-8BD61FEA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1E4D003-CB4D-4015-A43A-013D0372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D5E6727-5BC3-4465-8DC6-4B1A16CD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CCC03-0A37-4D3E-92EF-1A5374CD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9206E53-77C6-4C66-B4AE-CE0F4A10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2D98527-378A-4E99-9C3C-64F2355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202E443-8C99-475B-B0DF-A1DD16B1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9B050E5-7986-415C-BF24-72EE28FB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FF7FE07-709C-4082-9EB6-D7C0A57F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D95C835-8255-46E3-95E5-63D30A1C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AECF5E59-C231-4DC7-89D1-181592CF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C210B36-CF5E-4A23-B72D-4F21C3FF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C5A19DFB-F207-4073-BBD4-8FA19F3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093C1C00-3979-48B7-8D42-B48531F5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755FC-07DF-4B79-BC5E-AB3AFE9A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3C22BCD-4FD8-40BC-AF6F-089C7F26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B6CC8A4-E3E9-460C-B0A3-02214FA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659A03A-304A-4EF4-891E-8DF6A4D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2117B9F-0161-4576-8C97-1207B9F1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DE3137E4-013E-400C-B86F-52F84B89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FB86409-2538-40A2-B346-71D5897E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5986A65-7EE5-4FCE-8910-7AA18F1D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5EC5BEB-8D51-4F43-8CD9-E7017328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54E76DD-AE9E-45B1-BCB3-09A66F7F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C30D07B-5CD8-4646-97E9-0F3EF517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0C405-B969-40F9-A0DA-60C215C7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7C9ED6E-B7B8-46BE-BB57-AE3FB761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1753CEF-EAC8-4791-A2C2-9065ADD0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4CD6379-D4AE-4879-ADE2-DED3CED3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4DF9C26F-8CEA-45EE-AC69-6C487EE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07B7D18-E7E2-4CA6-B1F5-80B8E1B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A60A43A-F9D5-4BE5-B74E-4058DAC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7804C69D-32AA-4B8F-8018-094D87F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C5E166AE-7116-401E-A5D8-3100E172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478E56B-5E59-44A3-A088-CF241A4D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2F4B9883-84E5-477B-B747-E6B27A4C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13AB7-DD6B-49F8-88F8-5DA3F0E5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EA092F8-B782-41F6-976E-71356CA8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1802B68-FCB8-4308-9860-B92B62C6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B71F5A9-3D77-442D-A854-C7A179E4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29ECFAAE-76B2-478D-B9FF-63D5F734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CB44373D-01DE-49BA-A663-32FDA90B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AB6EC9D-8178-4807-8794-4633A616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4CA4A5B-B3AA-4E06-AF95-59DA2658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BBF260E-C2B2-437C-A9B8-4E3EAFB0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3635340-CA67-47BC-B128-A76F152A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71B286EF-34A4-4409-8806-D7783E72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EC28-794E-40E6-9B45-6E9C3978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DF1DA-ECCC-4B32-93E8-B3614AE7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D64B88CE-3DDD-480A-B770-C5D56CE5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892321E-9011-47C3-A504-0F7F9E5B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1517EB21-D88E-49C2-A2C4-2F7B045D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47FCA61-7848-4435-9940-E3FD60D1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925535A0-5C6D-443B-9BBF-9EA0644E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0A8138D-C2FF-45AC-8600-AA3E4959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C50FE6C-5135-4D79-A0F4-5FCA21CF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8CEC286-8AF5-4B11-A274-01C03285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6FB70208-3102-4EF5-9D34-1BD23CA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93BA016-1D9A-4660-90F4-C3ECE11F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A8AA5-60F4-48A7-988C-FD398CB5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5324966-01B8-4FB9-B506-43D7FFB8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ECC95E7-1986-403B-B9FC-A7348B87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0276FBE-E876-460E-9F73-49028EB4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14F49E3-F94E-4217-9B6A-3E6E78DD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DDE8FCC-DED5-4FA9-8805-CA9DA12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985137E-2064-4E9E-8197-45842F85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05E7FB1-7631-44CA-99AF-308E8234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D88BF18-7B51-43C7-83A3-46413C9E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70A619C-58C5-4B95-BA1D-474CD166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F48297BD-BEAC-47A7-9668-F45CD6F9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24DB3-8A9D-44FB-BD8E-A443EA4F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352D611-FF6B-4E2C-BBA5-4543D5A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C956C07-1E63-44A5-9B0D-506D71EF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A0101C2-9A6D-4B1D-AE57-4A5313F5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D69980F4-B803-4181-AFAA-6FBD772E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D475C8C-C715-4BD6-88C1-AA5ECF00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9F2FBB82-5AF1-4A16-B35D-DBACC932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F7413BA3-9DA1-43D0-A1E6-DF888104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9CAC3EB-DD22-43AF-B67C-F101CFB4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8FC96006-EE5D-4035-9B49-0C79DAEB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69CBECE-A776-4CB0-9692-65F5CBCB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4F175-29EC-4B8E-8E8B-456352E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3C3485C-F7B1-4125-BBBE-B31E72E2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FDC0D2FB-DB43-4B42-9816-CBD7DB70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7A6ECC1C-7CAB-4875-AA8E-4FE9FC5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3477832-BDD0-43D3-8D80-22D938B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2BE85D1-C268-4450-88F4-B3D55B1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A78C583-DB45-4DC9-9ADB-7E3E6034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FD31B24-371B-4325-BD95-93B19914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6E485D5-2393-4DB3-9C22-2336FACB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F2EC2D21-C05C-49EE-917F-A2148FCA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6EDCA5B-E6AE-4E52-853B-533CF1FB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F42CD-33F7-441C-A204-B1E3081B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F7DAF24-EC4D-4772-B1E3-0D3D1282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D9FC92C-D6FA-46EF-A9BB-2794D59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026330CF-7DA5-4C1C-8E45-F7F61704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556167D-A358-4672-A4EE-1E76FB1C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A126239-8797-48CD-AFD7-D909115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2F8319A-63A1-4B31-A84C-80FFC3B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D75AD5F-64D9-4D1B-8308-228F1A3B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ADA7F54-B56A-4791-B8EA-ED7E6499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049D3883-BCE0-4C76-B694-3E763229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3AD6DB7-C0D5-4CE2-AAF4-A5E065C8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CAA90-5625-4B83-88DE-2E6E15D8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A4EA121-16E7-424E-A39E-C6A503DB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6DFDEFF-4C4D-4BE5-A928-9C56106D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E630840-EDFA-4108-B66F-D3128ED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0B503CF4-FA30-486E-A7CB-8444781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981C76B-DF7A-47D1-B4D0-A2DC3A8C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BA2FC820-F41F-4BDE-B6A0-BE005B01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A37D644-0DF8-40DD-9D4F-CE00ADC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96C878A-C599-441A-B7EC-976FDFF6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08FB7BCF-6A24-41CD-87E7-36036F6A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210CB4A9-E558-4A18-B1AB-AF30BF07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94379-5CE5-4396-ACD2-4C7E7797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FDBE1F6-50C1-4F6D-B786-38E9C7EF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C62CD2F-256D-4768-856B-7BA7C106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C85E7FE-98E7-46E7-963F-9CDCAD22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9115AA8-3596-48C1-9760-4F30CA18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526DF88-2523-48D8-AF7C-CDD5DB7A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893DFBED-EB07-4867-BEA1-757B855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8DA07171-06FD-420E-B678-A067E8BB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1913144-B1BD-42DA-ABF1-C79062E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5521B713-A200-4C8A-A691-EAD7FF14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0449FCF-987D-4AA8-9BD4-617F7E10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0A40B-E152-4357-836A-50F4CC9F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2CDC04A-AB62-4090-95B1-23321549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B6FE976-8C5E-482A-9526-2B1E6ACF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9124C085-2252-43E1-843A-8309A2ED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3321055-841E-4DDF-8AC0-6E5E7DB7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8E6F1BA9-BA4D-430B-97AE-055F0161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0692C032-DC21-4B6F-B9AA-CAA6B273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14F4BD7-9CAF-46BC-956F-F3905CF6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5EA433F-54AC-436F-8742-EDD2A7A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0AF5FE3-854D-425E-ADFF-DE335976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B069D4E7-06B0-4093-97C1-B9ABF48C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5E756-D171-42E8-96FF-0E5A019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BE0CD673-5128-49E1-B929-6DDE420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92E7A9BC-4D5C-4F7E-80D0-8DA448FE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76EB8A9-4FB3-4C2B-BF97-DFC432FB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9A1F95A5-1536-41CA-9069-4CC6BA82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40CAE2C-D343-40EE-8636-D2ED0F56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F61F3E0-F96E-4168-A7F5-F07649F5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095F6BB-C80D-4D2F-B04C-A42670BF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3198D2B3-372E-47B9-AC96-EF5787BB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9A5BFA3-03C8-49DA-A242-0A4ABA7E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6DA1F77-BC48-4672-AAAE-2781F8FA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2CF7E-070E-432C-8A27-3B65F984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01A00F4-33D0-40FB-8B77-02E7BFB1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3AA7AB89-1644-40D3-B0CC-CB54D09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E97BE3A7-4613-4BDF-96E4-A25E1ABF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F48E648-BE62-4CE9-899F-79ED41B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B6DD685F-80FA-4FBE-BAEB-ED04C971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E3E69539-B4F6-4F10-98DF-753D68FE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38088716-E6EF-449E-B489-FEAE2651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A38D18B6-3E37-4239-AE94-EECA7F34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96F1B696-66AF-4562-BE4D-340CD50F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4D23492-8583-42BE-B94C-A0A8022E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E7CD-E58B-42A1-8B5D-F265868D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3C78B-56BB-47AB-8D15-D83B6866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8223597-CE57-4524-A5E5-97C883E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EA07F5A-B902-4464-AC07-5FFCAC79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0FDB1E28-1788-4B64-A62F-D1051CE2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601B43C-FF6B-4C1E-AF39-30F627C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693A873-1A91-47F8-BCBD-94C09255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D5AB777A-36C6-469C-8444-95D71284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CB34A9C-14A3-4721-B864-B322F681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C50A437-68C2-451A-BFEC-32E2AD15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3486527-59F6-495A-A080-C8BB19A2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621F13F-3989-4CC7-B876-3C11E7AD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82855-C154-4228-8498-58E500E8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F0D2489-E2F3-4243-9121-E81142D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730D9F9-FA4F-4E5C-97AA-5FE80C8B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6D7D562-2FC5-4566-8618-923FB2D0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45A22566-AA98-4645-AF48-AD9E5A3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4607CC8-2DAA-4BCA-B15D-9BC1B742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3201BB6-9842-4499-ADA0-A9A1CD99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B79E365-41EE-462B-BD7F-EA4CAFF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338110F-47EA-475D-AAE9-FFFFD1CB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9F53CEDF-8E7D-40AD-A5CD-244CB6BE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4FC1C48-D6C8-42ED-80F4-F0C8AFD4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D6A2E-AF8E-4C05-AD68-9A3E53C1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6FFC590-AB6A-431A-8D4B-0EAECF4C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29E7D55-DB20-435D-A219-661B0F94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339A431-FFC4-4300-9BBC-D8B8C395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47BA9E6-5808-48CD-B363-0E8F486D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41A9CDF7-1ADD-4FD9-A08B-7AE326DF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0923463-4844-4BCD-BAE6-DB7770D3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B104C2B-3CDD-48A5-A04C-0E67C491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5FC7910-1464-4242-8762-57F6BA2A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3EA3E4B2-033B-44EB-99F2-ECDE45C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C39A313A-C21E-4890-B442-9A254B0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947AE-7541-4AB5-A132-80E7B8CC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FA771E95-B3DC-4ED8-BE59-884FA82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C748E50-FD52-44A0-B0F7-A179A8D2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B81C4D2-EA41-47F8-B2EA-74B5BC7D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21A0BD8-EEAE-4F24-8063-5160CD19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07FA7A6B-31E9-4CB2-B499-CD89B42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50303DD-087F-4823-81B4-810CADF5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1130442-3D8C-40A5-A694-94F7D2E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89D0976A-8876-4163-9CDC-6EB15242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0AD5E4D-7FA1-4A00-A2DF-E0AAA8F6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3A0A81A-0408-462A-A326-FCC70487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5A1F1-6E8C-4C8C-82A4-7B18B25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28D6451-2C34-4502-B638-E3C82476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2FC86A2-B6B3-4B4A-A049-A77B8870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56B5ADE-AF2A-41F0-B703-9227FD3F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8CD37E9D-D07B-4575-BDBC-4A3C4D2C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1A5CEFD-C24C-4451-B56F-A244B16F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FF88E7A-23A5-414A-A27F-E74FBB30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80D3E7A-50C7-4C50-A150-64ACA561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E0DFCA6-54ED-4A67-9AF7-103D09FB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9E265AB-C39B-4FDE-98A0-131EDBCF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1194DB88-FD33-4C0E-A675-C1943D95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A5937-146E-4D99-A87C-006EAC2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D8B4DECD-9FB9-4797-BD0C-E7CE50BB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C196F03-166C-4B17-AB0F-15EAD809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FAC6BCB-6489-4E34-9273-A7AC15D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10E52CAF-5108-49AA-ADDE-108DE49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E053D91-BEE2-47B7-8244-F8DE9EAF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6018F9D4-2D50-4FD2-AC03-3A993758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98F0A58-D5E4-4EDC-B61B-19BE505B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F0430E7-B030-493B-8034-A998F1CE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63671EF-D142-4324-A6E4-3AA96FE7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4D41DA9-805F-43BC-8FC0-C69F6BE7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D61BB-6EF5-424C-9271-11C22206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5167647-6C7D-4192-A390-0EBB1C99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41561BE-47F3-41F7-BA8C-7ABBB1A2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CEE68CE-22DA-4CD2-9BA5-46898FEB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1378EAF-C3E4-41D9-BC33-B1A30C0E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7CA1F3F-972A-4008-A6B8-85FCC79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57B24C2-0C52-4204-BB3C-5B9EE950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C5080BA-92F9-46EC-B6CD-89CCF18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A8314C4-C57D-471B-A3D4-D14C675F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E742875A-581C-45F5-A8A5-60F0571B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3225CDB-FDB3-428F-A5BC-4188DCFE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B9B12-3F97-41FA-8845-B425D145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B835823E-4C7B-41EE-A3DC-FD438EFA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2E45959-A38A-4893-99D6-26C2F3B0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07170F7B-BA33-49E7-B462-C989DC12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03CB7005-3C98-479F-9E6B-49411667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FECC456-D15F-4DCC-92C5-D597E5C0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D8E6EAAB-CDAD-4F8D-9AF4-A6B834E9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F8859A4-F4B4-44FB-8581-7E03C436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C4CF249-35DF-499F-BBB7-4400F1B0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2B9CCBBD-721D-4342-B4F9-7DBEF407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690A4C7-22E1-4A34-879B-6C90E336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200F6-E9BB-453E-92F5-C4BE65B4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BFA53820-87ED-4777-8205-A3BFD696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A91C58B-D150-418D-A8AC-830A1744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A734DD9A-3FAA-4468-9C2A-93B017F5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C4249BB-1C9B-43F9-A454-B3ABDD15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6537CAA0-1916-4208-9C95-9C75BE3B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ACA95A7-B269-4A50-8B19-7454BEB7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A738FD1B-2797-43C8-B511-09072EF6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64DFB7F-6816-496C-ADFF-10B2271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F55599E-EAF7-49BC-959F-5B9CB64F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A9A3572-DA88-4862-A806-18991E9E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E8B81-1D7C-4FB7-99CD-2F6E4FC9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D8B6579-E1BA-4455-96C2-0D73F9CE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CD6EBC5-BA6F-43FE-897E-CD283475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C42A7B4-F9BA-401E-BA13-753D26DB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A525AA7-EBF1-474F-91D3-8CB4BE83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4136CF7-8C68-4C63-B82C-B547718B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20500DF-BDDE-4264-B49A-C251533A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1F02CA6-60B4-4D03-88A9-0DAB6921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A772ED4-F053-4614-88C0-D4166ADE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80C76D0-A68D-4882-82BB-BF5B1DFD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D2667E7-9C0E-4B26-A2D4-EFE32CFF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ACCB-E312-47B2-AE23-60C8F5D6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7118D-49A8-41D0-920C-B357C51B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2563500-1568-4AF2-9E16-3CC545F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8E56DC14-0BDC-4DD9-8374-CC0C82F6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C587E7E6-1343-407E-9E3C-5CCACEC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7B49DB6-2F44-4EC0-9DAE-4470C708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CE11EF5D-070D-4795-9660-9F8F653D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80631AE-8066-4FA0-9584-873D64E7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66B7F7C-0914-4457-9853-CB1AAC78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69790E3-F251-4BC6-BE55-E9D3CF88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724325E-1121-4E66-A125-01C5D110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3ECAA2B-D04A-4773-BEAD-A2F13881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984BE-C9C6-4A83-A31D-E42A238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633ACCD-40AE-4710-8BA4-721D8C85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E1E4832-CA0D-4E42-BD18-34F53DD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9589D0C-4CC5-4C1B-9A69-0FC2D961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3206AE3-02AE-4743-A82D-64DFD48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2860AB9-EB6C-4607-ADD6-4E12F244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97C8933-589B-434E-A525-33969F30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1EDADE0-FA6E-4351-A5DE-44273728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61A70BB4-3D3C-4184-A2AB-14C1ECE7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17996F8-DC68-45F8-8848-605751C2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A2CDDF2-D891-48D4-B2D1-380282FC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2428C-E84A-4BD8-8884-98354CDA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FFFEB6D-917E-468A-8D8D-4C0670F8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98F8EAF-1EF6-49E5-9EEB-07F429D2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9BE4114-3A91-4B42-9536-E05FE275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CC417A1-06C0-4200-B76B-24E30377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9C8C974-7F1D-4F4B-A62B-59F60606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E38993C-7501-48B2-B156-F9BEAEF3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0ED39446-F232-4B43-9774-D33E0A2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D035375-2DC7-48CB-9840-A1A618DC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36FF1E7-4F95-429E-AD9D-9E241C9E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0A6965D1-855C-4D44-8D17-08A18A07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B51C8-ADDE-45B1-8FE0-976FD928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0F13C17F-DDA3-4F9E-8733-AA9069C9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164D0F2E-AE2C-4BA9-95FC-2F5EF6BB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A726CE6-2DB3-4FA4-9A8C-29EDAF0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D5FC0B7-0A18-4592-B4F6-CC74D22D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BF7B8D7-DFEA-4D6A-86C4-5C865335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012EBD2C-63D3-42EA-B56A-56ED63A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440F67D8-EA8A-4F91-91CF-BCF25D4F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B3C1168-38B8-47F7-91DE-DB5B60D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7DF0BBF6-6DDA-49C4-9444-AC01084A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505050AF-6BCF-4B3E-BE51-F0A8666C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5E120-D94D-4D9A-8C75-75CEF563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FE416D6-7D7A-437A-9FBB-D3977C0F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EB724-1634-4973-907C-5C2C7B45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19D4B-3478-4D5A-A975-6CA2AA3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09BCB-3A6B-4FC4-8482-9662F9C9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9AD4D-68A3-48AB-AE8B-D5C41C71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C6D9C-948D-4019-9023-22259A21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20FF-B84F-47DD-A09D-9A2539DD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15FFE-C417-4C6E-B19D-3500F7F8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B5ADF-5A95-4101-86CE-F30B4A6A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35841-6052-4373-9CD5-8FC8D9EF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FB318-2120-4643-AE40-818A7A84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78C6C-D648-4F44-BA4E-A17B4D7B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B98FE-AF63-4D14-9DEE-B993066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F9048-7AFD-4FD3-B8DE-C9791DA2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01084-8F90-46CF-8FC3-007850C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0FFB3-01D6-4327-917B-B9113EEC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C33F8-9FF3-4EF7-98D9-947FE4A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B2A4-A32E-4A63-B1CC-0255C3C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5FDD8-537C-4695-91EC-38039E63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3740D-6C50-4FF5-BDCC-F2463931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32B99-0238-4BB6-8967-25A994CD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12BCB-0C10-45A3-9713-BF31159F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F517F-9D0B-469D-B0DA-E0D7DC70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1D9EB-3123-42A4-82B1-FBB09CE2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D199F-3218-40A8-A9BD-DFEA5569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2F61E-B330-47FB-8F3A-BCDC47B2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0DAC3-51BD-46E8-9D52-4208AEA1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E6BA1-2A82-493B-AE49-9056159E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3B2-2F45-41F8-82FD-3E5EDB45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D96E-15D3-4B9F-9F7D-B60CE4C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6C38E-01A6-491C-87CC-A99D52FD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48D86-91A1-4D6D-B70E-F15CD3DF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EB2BD-9CB5-4542-9011-3CC960BB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B720B-6C25-4E16-BC29-BDA880A1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2B069B-F195-4126-98DB-B241862D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0D248F-B05C-4A43-AF38-47BBF3F8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7DB65-A482-4B02-A66E-D9100CA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D9542-DD87-4940-B65B-BC2B5C1E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41403-9F81-48BF-B441-DCB18E81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A5ABD-C7D7-4372-91ED-67DCBDD1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E3D2-136B-4078-8036-8B453B1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75F8D5-53CD-4ED7-8770-487D64C7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AF6D3-9881-4643-BA0D-AA58AE4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AD55B-DF0B-47FF-B0CA-B18305E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7AB05-3847-4315-8FAE-D2E91340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9EA998-853C-4CAF-B130-6CD92AD0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2AD05-E1AF-47A4-A600-51E6A0F0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FED19-FB48-43D6-9FE7-1B350528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286D2-6439-4FB2-B2EF-E1D3B806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6F98C-ABB5-408E-B279-1CA8F9E7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63D0C-8D4A-4BD7-99DA-DDF561F8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8477-4060-46FF-9E79-14FC7BC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23960-1C14-430C-933D-F8DC48A6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7C1E0-EC4C-4171-A4F8-004D2B22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23517-50E5-4DC2-AA19-271EE519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F00798-C32A-41B3-B283-FE23CE4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0657D-DB71-468B-8F2F-D07F8679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5F803-FE53-4953-A7F6-7AFE9C82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BEA88-83C8-4271-9E17-D5DCFA86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404522-5F08-433E-81FF-8C4155C7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D1F07-AB52-42C7-BD89-49CB5C9C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68841-0937-4B8B-8E17-4031925A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E165-7251-4A22-A414-F0C66182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76761B-E2DC-45DC-BE7F-A50CD289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1349E-782E-46E7-A4B9-9C9C9DB1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9D94F-74C2-4ADC-A628-EE570B61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9CE6C-F80C-4CB2-B6ED-95E6139A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DEFA3B-7C33-49F8-B511-0FC20400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CF28C-EAE0-4940-BE74-1A0B4690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214E8-0747-436E-A621-CD3BE70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78507-2332-4D90-A2B4-F35AAAC8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2449F-274F-41EC-9D11-67B800F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EB227-A1DD-4C82-A383-6A51D2FD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590F-F1E5-41A2-AA59-06417160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19661-0E1A-4A77-9315-080570A5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00D4DF-1D67-40C4-AAA7-6B996C32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C21235-2C69-4A7E-BDF8-A6E196A6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52ADA-963A-447E-960A-12CDE9B5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13760-17BF-4896-B695-66775045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44A7ED-22A7-48FA-8893-8C9085FC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A2B69-EAEB-413D-90ED-29A66A71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C9274-B299-49C6-9A58-A492C34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5991C0-5D33-4F6D-B29D-7F5D1BD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82FE67-75F0-44D0-8D80-5D7C620E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E9CF9-06BC-42F9-A31F-C4E4CFF4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2C6C8-B962-4F0C-A3AE-7C0F1B3E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97925-D6A1-457A-97FF-71E52BAA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7E6CDE-8623-452A-92C9-BD17B58E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65524A-9684-4D23-8623-15F5CC80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0E16F1-7212-4316-9E63-4A1F50C2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6D1FD3-1047-4980-856F-AEE99349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3427EF-C58B-4F7B-BEA2-0CB9170D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CD43D-145C-4C4B-8FCD-C4C792F2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73768E-1303-488D-84F8-7A7C089C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1730C2-1522-49B7-9E91-03677989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BF0A-16CB-43F3-9C78-99CFAD25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9FF18-B6A3-42BB-B016-865A19B3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20D7D4-3DEB-4929-9ED8-2FE278F9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1C7639-D5BA-425E-B9D3-BF46AC0D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57DD7C-679C-4E1E-97B8-7EF97CB0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BEBC6C-CCFA-4072-AEA8-2948AA0A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55660B-645D-441B-85D5-94CC2542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62BE39-42E9-45B3-9B78-10048934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0D149D-895E-47A9-BC02-127813D6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41DAF7-F432-4770-B763-29B03450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C56C4D-C402-4C9F-AB68-0D58C037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7C3F-674F-4706-91AA-8B8C7065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8E20C8-F1AF-45FD-B0B1-9A3931C6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059DA5-21C8-45A1-BA47-5D591A8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B5156B-0B75-4C19-BEC6-C47A06F9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70C17C-A59A-49B9-BB78-451D538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7841A4-7896-4F3C-A13B-574FFE16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F7C893-E4C5-43C5-917E-F358E452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29562-B9B2-4079-BE22-F37CF074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92D44-1CF9-4301-B422-07E391F3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ECE1F0-E5AD-4A34-A9E0-EA749D3D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0FE68C-5D43-4EE3-AE48-DD64AA96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D316-9676-4D7B-A1A8-E7E63DE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9C6D82-499E-4F9C-9D35-B963AB59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E02FFE-2D16-417D-921E-D00B6912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D92ED1-3489-429C-B6BD-88CA867C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8BF60C-BB03-4094-91BB-A6B604A0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76C2A-2485-4118-9406-3F818CCB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F01DD5-B7BB-4F4A-8160-FA67E8D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9C5C1C-10B6-45C9-84D2-D1DFC8FE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F806AC-8E94-4290-AB4E-C4A115C2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AA9D60-7671-4DA8-9D75-46B622B6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4BA4B9-AA31-47C2-AECD-919EC266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1170-5976-4522-901A-EA248BB9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25957D-945A-427F-8A8D-B667182C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32CEDE-7F07-424F-9259-DA6B612A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50A927-F700-43E4-89A5-87EE320D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EFB786-403C-4E0D-A330-B5308E65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8DC628-0301-4F35-AE74-30CA7F7D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79CD9A-F257-4637-BCF8-A28A0BE3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3EF703-FBA8-485A-B27B-0BCFAC2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A89919-090F-45AF-9EEC-4FCE0F4F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A0A258-BC95-48A7-9DD8-34CE8D3E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83ED89-6E11-4ADB-8C75-8A47D42E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B2D-98D1-4BB5-9D7B-028B438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EF4B-1B34-4D9A-8704-D892196C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5A54BB-C933-4433-800A-C32856AE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44C0FF-60A5-47CB-AF81-F7CCD16D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79C1BE-E2D9-497C-9996-AA285FA4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57A7DE-AC21-493B-8F52-0694ECC2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8233F7-FDEF-4956-881A-7A0DD6EE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17017D-A7F6-4BCC-941C-F9CD6DAD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B7C69E-9EF1-4F16-9584-B9589933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E66D7B-E616-4C22-B688-2A34892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61217B-713D-4944-BC70-77C029A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93DFA0-4707-4F61-8BE0-8126C68E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B3FC-E659-488C-89C5-0A7A4F6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0B8B3B-5BF6-4600-B27D-BB17D80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F56A8F-2286-4FC0-956B-872F5C31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6AABB7-87D8-4607-8F4A-94FD5DD5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60DD3C-329A-4318-8EE8-08F616BC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5F6C6D-C9BB-4E5B-BB6A-F9EEF8F7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8D64F7-15B6-4595-AF7D-D1DC099C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EF2E6D-7BE1-4027-B351-A14B16CA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6F87AC-0AA1-4B21-B163-619E42E6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3B0FA9-B486-4EF6-96DF-5A4554BD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582AD9-9ACD-4CD9-9663-AAD88B5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5EF1-DD3B-4F29-B612-7FCA1D6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67FDD3-F7AB-434F-B635-85B7ECA3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8AE7AA-5D4D-4B4C-8819-C69C17DD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BB9085-BF69-42AC-B21E-EBA9BF71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5B2B10-11D4-4C54-A5BF-5C3D0038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C497EB-090D-4BA5-8099-465D18C1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FCF0CF-4CF7-406E-8263-A2C942AD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2BA76B-F002-4456-8B49-7035FEF6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6785F2-ED97-4A30-9D85-D9CE496F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5B6E2A-D67F-4B8C-9547-A30C84DD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2C6B2A-3020-457A-99C5-BEB363E2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5EFB-D55B-40C1-AAD5-3F0788B7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9E5156-3108-4B5A-8F67-B1A676DA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D08DDC-D6E3-456B-A172-5344ADE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94768D-7139-4532-AFA7-04D5250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1CEFCA-E2EE-41B4-BFEE-8C53E5FC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E70AFC-FDB7-48CB-81C9-3571DBD8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8CB717-8DB3-4F28-A36D-54F8E2D7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010A95-0DB8-4A9D-AABF-E15C8696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FD5411-A537-4CDE-889F-3C2B33BB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D51586-D73E-4964-99C3-91B838A7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17D6C9-B1E2-4311-ABA8-1E1C3964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8F54-D45E-4DAC-AA89-C8225F5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7A03AA-5B78-495B-9EE9-187EDC1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714C4C-8E5A-4E43-B4ED-8C65CDDB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73CD4E-891E-437F-AA0E-828E1AB2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0186B1-F6A0-479C-B071-5EECDD42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03CD33-D358-4108-B92A-88FBCB1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FB7573-CFA3-4DD2-8C11-0728CA0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9A961F-FDDF-4304-8495-EB8DDC43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E149E7-74EF-4EBE-920C-FE098033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33D2EF-210A-4836-8EAF-18027018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F05D7F-E932-47FF-8700-C0F55BBD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2369-A591-4133-87F3-BBE3D71B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0DA7D7-ABE5-4383-B963-974345F8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439197-2069-4234-935F-42843162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C205D8-1EFE-48C5-8F4C-F8F40044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A07B04-C3BB-4AAA-94D8-3E272568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C55118-D5BB-45E3-8CA3-1593F4A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0947C4-8310-47DC-A64E-6A3F1409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F2EC56-9FA6-4D64-8045-FB1F20F5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4BFB5F-84D8-4F3B-82DC-776075F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CCE47A-FF90-4823-B2D7-479B679A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089AA3-A848-4AF3-9FB9-7A613241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C3144-4B45-4A18-B81F-ACAEA8C9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3ABF8F-202A-4DC2-A562-E3D375B4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3C17D4-346E-4124-88B2-8680BB21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332F35-CB23-4C99-AF73-182A2BED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FCF051-25CF-4CF5-B153-D71CAD4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005488-0F8B-4B7D-9708-7380D248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8D359C-B424-45CF-9733-6E041D49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83A9CD-50A8-4795-8E1C-A40FBC89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D9370A-E6B8-4682-AD76-6E9223D5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5762A2-2E34-49A0-A150-5B05066B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16D9CB-C5DE-49EA-AF20-70BD8A70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132E-0DAB-4393-99EC-9D3D0CDA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731F4C-089D-43A1-A69D-47260A98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A3EB2E-23A4-432F-BC38-9D520BAE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7B82FF-5F34-4A1E-907A-3238BFA4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6B6762-4B02-4D03-921A-74142E2A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63653B-4DF3-4FCB-8B17-93E9033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955925-9F9B-40EE-83E6-82BF0E23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7E556F-AA78-4522-A50F-6AAC5FF5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8BEBDB-9501-4C06-B3A4-E58E0A3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768246-E6CF-4277-BF22-F3F4C1E3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3EB0AF-937E-4545-998C-B2883972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2F44-F857-4C34-B31E-8CE674E9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181021-6724-48A4-95B6-90CA237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733610-7A6B-4A31-905E-C005DADD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785D44-2AF4-45A1-A816-214AACEF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50427D-9599-4F32-B272-2CAFF592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CE4C2B-9AC3-4968-8A7F-C7D86EC0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1CB583-B2DB-4E0D-B9B3-D9C8E8DF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9D2BB9-1C0A-4E6B-BF6F-13992961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EFC993-B453-4366-875C-C5077F7B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C3C3F7-D373-4A1C-906A-FFD75623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540B08-B21F-4AE7-B191-D36117D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57E7-8CBB-4DA2-8D23-70F7A279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CC537A-ECEA-4C03-948E-7AE09BA2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17A295-1416-4D2C-B174-89D0A81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25033B-86F8-4351-85AE-CF8B03A5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EC15AE-F289-4C1C-80A6-229BF124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16915D-042A-4819-A0EB-94D2125C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F7B379-1906-4638-B61D-3325F151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D4C296-9A42-49EC-ADB4-5B869C99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E9DB0F-4A59-4AF1-B0C3-B6E9379F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AE28F8-481A-4390-A8E5-3FB0B788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C3503E-2D56-41C6-A323-1A2CEAE7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48C-7CDA-4321-B028-4F1A1658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89E1-0A93-4C10-972F-FBFAA412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24AEA8-7581-4373-B0BF-1605A43E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A259B4-EE60-4FD8-AEC1-0B0A4921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7DB341-F4A8-4076-AB21-6A13CCB2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13A167-EB8A-435B-B0B7-99ADB0C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8DD3E5-F74B-49A3-9A39-9FABA35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97807D-098F-486B-A5A8-5A6E8DAC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40F28F-9C50-4457-8ECE-D05ECC06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1BD1A6-8398-4CD2-90CF-81768E04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37A345-486C-47B7-840C-3F975DB0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5929D9-0528-4C5C-BA5A-2B8F1C76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3966-6DCD-4869-9C51-84713AE7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47F84C-3C9A-46D3-86E9-8B3056C5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06B94A-BBA7-4367-8308-A39A93B1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0DD4FF-B39D-4B8B-96C6-691E6BB8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9B4CC9-A61D-46C1-BD25-B35FEFB4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7E2A41-9F6E-4AE0-A6AF-55FF14A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D88A58-4324-463A-8291-C6060FB0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7A256C-5433-489C-8DA9-2B72F63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2E7A2E-52C5-4B6B-B012-CAD6948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751916-4075-48D6-8378-466AF5E9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2934BC-B5CD-4DBD-A047-272A889E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989E-E048-47DE-9335-A071FF08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5EC754-541E-4049-B310-8BAB51D6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0A9347-9C4D-48E3-ACAA-3D652EB5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F9CEA6-F49E-42BA-AE24-9DACC344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6421F1-130F-4A91-95CA-1C26AF4B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C35C73-C50A-46EB-B306-AD01D07D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8EBDCB-BA76-4D7F-AD47-5383A5A5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7A423D-F5C2-42D2-A217-B2A5E27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29EAFB-90D0-4DD4-BC0C-9ABC683A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B73E87-E007-4F09-9C37-A072A934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2B97C3-BC20-4B09-847E-0C9FE7E5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3352-B4D7-4893-8658-9CAC1EDF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A5C14C-6E3C-4CE3-9F69-113D4A76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210905-CF4B-4660-9585-EA94281B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C14457-6A2E-401A-B056-0ABFE836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BCED2A-0F03-453B-A3BE-60E33417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CCF266-127E-4958-9655-769896A9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C5C3A1-9F7D-48BB-BAD7-E99D1B7D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CE6A2D-7680-4249-ABA1-5E79904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EF5C21-F6D7-4C21-8BDB-27F71C9B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F65013-21BB-4FB8-B5E7-1F8B29DA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EBD301-2EAA-4C32-9154-0C1359D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79AF9-A055-4483-8EB8-E77356E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C0E358-5939-4379-820F-78542FCB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001EB4-1C8A-480D-BCF8-4CE4452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A21682-BDF8-4D5A-9882-6EBF96B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BF9F48-99B1-41BD-B209-432194D0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7A3ED0-0696-4B62-BFA0-DE8FE15F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DB34CB-C9CC-478F-9B43-53815BBB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1D5234-6FB9-4F40-83BF-22857E03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C4A33E8-D75F-47FC-A89E-388C8345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00A512-187F-475C-8ACD-0EBE88D9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C32B63-2D6D-4C34-AA25-E8E8F2A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BC7F-C7F6-4643-AFEC-83861AB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B2A565-A8B5-420B-AC1F-8A03F231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15D8B1-661B-4B1C-9D5E-F976EE1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7C88AE-A0EA-4B0E-B227-FCAF721F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22C3FC-3ADB-46DA-B9DD-58E116AF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DE160A5-6675-465C-A162-D6959838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8AA3EE-1841-477E-83AF-A6786EEB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17F51C-86A8-439F-9914-43DDB67A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2A913A-17FF-492D-87BD-EF06D9F0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4B977B-5B84-46B1-BCCB-E6A2E75E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6728C6-6244-4C09-8522-5223C447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D9AEA-A7FA-43CA-89AF-92219BCD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6435A6-31EA-4C4D-BC75-38F21AA4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3B7BF2-513C-411B-A477-84945F86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B53C7B-77DC-45EF-BFCF-E0B36D99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3D26F5-BC7C-41C7-A96F-185A37EC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8271E4-F5DE-4294-8646-4452E1A2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E83209-A878-4353-AEBD-79807722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3A03F1-AFFE-40F4-A815-64F70D41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4925CA-EB2C-4E54-AF74-266F8FE9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5C023A1-169C-4C3E-9E3C-890F31A4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B6177E-C060-4535-9E31-2F31333A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6121-6414-4DDB-8502-EEFA5B9F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ABFDCF-D882-4E90-A929-FB0CF333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592C34-9A80-4FCD-AADE-667C5290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2841A8-DDD3-42FF-B014-35CCEF9E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1A4288B-3800-4842-A15F-E443F385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A6AE1E-982C-49F8-BEA7-02327BB0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33F17F-489F-4D07-AE80-D4A59C3B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B0331E4-819F-4AF9-953D-B2835A3C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D06C0F-BCD9-4592-9FF4-72DB3372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376279-3A98-40B5-8856-DCF1C6E4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D36A01-F720-474B-9224-9EBB072E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1E31-ED86-4FFB-9F5B-7AC01FA6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788799-6F23-44BD-B330-70C9490B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72B9EC-668E-41CB-9C5D-60134ECD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54E226-85DF-4A0A-95A1-6160BF33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2AFE41-2F4C-48C9-B4AC-2AFEA638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7FF384-5697-494D-9403-B4BDECF4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94CAC3-FA43-484E-8C18-AD78AF98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AF26C5-BEE6-49D5-90BA-34090104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3B753E-F74A-4818-931E-43C5C406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3E132D-C868-4CC2-9DEE-D009947D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10C1D9-CEC0-416D-87E8-B49473A2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0103-FEB5-4497-A1D9-325186BD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D8775E-587D-4D9A-895C-DC496BB5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8C88B8-6C8C-4471-B666-B2591352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9B42CB-4B8D-410E-ADA6-C4489B55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CD57E9C-AABF-4310-8627-6A900913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CD9DDB-18D7-4D70-9E3E-FADDBC0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36B3AF-E2BF-4F82-A249-5B95B637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8CAA91-B853-48BE-8A7E-6FAE0B2A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E421CF-11FF-4DB1-A20F-D29D83F7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B1DA8E-EC0A-4595-9EED-E822BF67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3890FD-966C-44EB-B1C9-C6C2B5D4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D74-7397-48CF-9202-73460CDD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694A9-7F7B-4198-B174-B26636B3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797ED1-47FA-44AF-B593-2FC20AD0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436F8E8-1999-4ED9-B291-1C09008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83B4CE-6654-4207-953B-946E4206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03BE064-DCC4-4BE3-B646-7414F8B9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F23075-67FD-4A5F-8967-50A20616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F0A6B5-DAB5-4FBE-9527-CBB2DBC3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734C812-99F1-490E-8F7E-DF4DE577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ADB60F-FAD2-4C0D-B8F0-3DF1A43C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5963AC-24FD-451D-8469-631D7F58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FF8B2AF-171C-4AB3-816A-791260B5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9802-748E-434E-9D1C-201E787F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95323CD-5021-421D-B0C8-24714D6C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BEA09B-1166-43BD-8AB3-E734C66A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4F6BB1B-4804-434F-A07E-32FA21ED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6D4E0F-CB20-4AE2-9AC3-4A1474B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C04299-84AD-499D-B4E0-6BC4336E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1AB101-D435-4E69-823F-7FA1D828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40E006-30F8-4ED8-B3EB-B6E3A5CE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C06D08A-0208-41D7-8D0E-1CCB467B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1E273A1-262C-47BC-83D8-C37CA2CE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5F0368-E1FC-4FA9-A020-36980F2B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2EDC-AB79-457F-A9B8-BAFA4F82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429086-8712-468A-9938-CD6519F7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EE0BBD-9B5E-4016-B0B6-E2F46EA3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C74CBCF-7FAE-448D-98A0-6B9A636F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7C8A26-D3A0-48C4-9C27-4418C0E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1681D1-C966-4296-8728-E0D6ABD3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EB842A-A058-473F-AEDB-67C4076E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B834CD-94DE-4383-8CF5-EE97086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95AE86-5F98-47CA-A912-037C6AA0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4BDD428-F857-465D-8B69-4D36F6B5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14B0369-04BD-45C1-B5F4-40AE2DB4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AF75-FE55-4826-8337-809C627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42FAA5-25D2-49A5-A457-D8FA1B24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76DD11-66ED-44CB-81E5-90BB0F76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6915BB-9BE7-48A7-98A8-AEBD5E3B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838AE0-5913-44A2-B8C1-FB9985C9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6153F5C-EDDE-4CCE-B49A-C1612A5E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62EF0C-8429-4624-A610-B88CC5E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4C2FEB-A278-4EF1-9134-610994F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43CAEA-27BE-4336-ABEF-4ABB177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D188A0-5FE5-4440-A059-5357D1CD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C81F86-3341-4DA9-97E0-26D4E558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BF2A4-AFFA-4698-8618-75862771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4931D97-29D5-4B88-80AA-E262E9D2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CD8C7A-57FD-4CF8-927E-08F439A5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FEF3E0-64C2-465E-93F2-BFF73C1C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7C27F8-294F-4703-9A93-8BE0E714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B3ADFA5-3E47-4A2D-9D1D-97947004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148719-DC91-44AA-855E-BF94D470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A528713-E686-41CB-A352-4EC1446C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7B243A-6AF1-4789-B6F5-E5CDEFAE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124DEF1-8B81-4891-9C20-E50609A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DA21592-2394-42A9-8559-44D7FCE2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6243-84F6-48F4-B135-B73A6156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0EBDFF-2506-4FBB-B604-523DD79C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1CFA1D9-C19E-4192-9BC1-D7BF3B0F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5ABB57A-FF3C-4FC2-9E65-62955F72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E65785-BD6D-4EC1-9B83-647EE59B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09683E-9CF0-4652-9A20-1E026DCB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239F13-5B7E-45D3-BEBC-F275B461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1FB8C4E-A547-4B8F-8981-D3B95978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30C3363-B3C0-4460-8CB0-BC44B7DC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66007C-B9DB-4105-8745-8E46742D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153105-C95F-4C05-BFCB-079D2122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F8DA-2984-4723-95F4-8584454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1A8FE4F-8018-47EE-9B0E-5AE956C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196162-6B11-42AE-9585-0E6A853B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D7AF554-89AB-453A-891C-0EA9F66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B030465-7D64-43E7-8961-1975EF6D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DF37143-9990-47DB-856C-D15BA269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53BCAE-A6AD-4F73-895D-3077776F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6F51560-0418-4006-9EFB-340D9CE8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024C4E-E57B-4806-AB02-510A558F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820D1D-8651-4A7D-8025-E9842E2E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337714-9AB4-4F8A-9B40-49F2A37E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FEFE-F6EF-4B0E-B04C-75BB8A5E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6DCA0EE-DC4F-4FEA-AC45-9F5E801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3679D0A-16A5-418E-AA42-0A125BD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3426F4A-37F8-447A-A5D7-9E79EA3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85F151E-3115-4D8F-B876-798A923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311F1EA-9E77-4E3D-8067-681861E7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64226E-B5C4-4E83-8930-C2EE89CF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99E992-2B04-40FC-BD44-EAC8462C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B2AD12-EB4C-4A0A-B43C-D067C714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CF37BC-15FA-468B-AACA-121B6837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82E1E21-7DFC-4BA9-BF13-58CA8E8D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184B-E9F2-4A08-81CF-8CE9DD34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C113CB-F683-4E1A-8991-5701DA3A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13D5935-C7BF-47A9-B2C1-32C89BF6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ACE3D15-641B-4F6D-8CB2-B1DA1F1B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6BB754-E5C5-43BE-823D-477B86EA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F9D10A5-5A5C-40D4-A346-8B363EA6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0ABE7F7-606D-4704-AC52-4699046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573413-5252-470B-8D5B-EB2FDE8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20DDEB-D5B9-4FFE-975B-A117D81F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C563D1-BE37-4261-AE56-480D5DF7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D40A919-194F-43B7-9E70-AB732E82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74CE-0088-4D63-9513-E7BE2830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E830F4A-CE1A-495C-A18C-DB37DD4A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A36418-4DB4-4931-A8BA-A987A9D6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B30CC6-3F1F-4697-B1D6-846D56EB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7914F8-6AF4-4A5A-900F-C2C43FA6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027E0C9-80C6-4106-AA52-D4B00466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BB34079-833D-4D16-8243-1BDA39C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94B84B-621C-4077-8738-C9185333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F70FAAD-1019-4453-B108-2139D8F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355E2D-B5CE-4090-8E21-5062C85B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24C6AF4-C247-4F9A-8BA2-0EC9FC52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35E-7B06-497F-8115-E6D43BEB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880E-7CCA-4C87-A37B-B870D943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4F4635D-571C-41B8-9E06-0AE43BE5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2177F86-497C-4EF4-9535-86251355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A880099-2AEF-4492-8431-0E37C78B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1DB9065-3520-4741-960B-8CBDEBA2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A5B98D-0A03-46AC-9CDA-7BBE788A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D266E5B-DF69-4F06-9428-466D040C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9DFB2E9-1B96-43E1-A23E-795A760C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5C093C0-9298-4D1A-A35C-DAB39C0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09C0F5C-3EB3-4E70-8ED0-F54662D5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BDF9868-91F9-4997-8B05-43AF37A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B0E1-DCC7-4DFB-8F02-CA81A458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A4B7862-FE55-417B-BCBD-BF412C28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9C55E5E-D171-40FA-A85A-E758F8F7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146BC53-D43D-4BC9-8624-B1F979FD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7C52B96-1802-4E8A-BCA8-D1F44A44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8A5D776-4A24-4283-B9F3-E8E2CCC4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5BD96F-7397-45CB-AE2E-686A000A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C2866B4-B891-4ADF-990F-33C01232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DDA383-F18C-4200-B2B7-39D3E956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50DC297-682D-4272-A6EE-0BCEB206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5D0C79-F94A-4A3E-905F-2E43F353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64EB-9EE4-4E0B-B772-5301D236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307DA6-1B89-4E8A-A026-00B8FAB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6DA6A11-B61E-489C-AF7B-4CE5CE2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50E96D7-8696-4AD7-97F1-3282615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16B5F7A-58B4-4A1D-B11F-43E1B5C4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5594FC2-AB49-49A6-936F-608E1FA8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DBE2532-BA55-4EF6-80C8-1B57D751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7790E6-5744-440A-BD58-A2127FDC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73689C9-5B03-4888-82E1-90DD70EA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6A3488-E908-4152-88A5-D307C57A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EB06F09-DD34-4A01-84A0-20ED5CC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EF550-0C28-4154-84FB-303E539C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8CB7DF-7377-4EB9-AEEC-7DDE1977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E7BA176-3A3C-4610-BA90-94FCC59F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08A68B1-5035-44B4-9555-7A316F5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6508076-BFE9-4E18-9CBD-2BD93AA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2DC369F-A295-48E1-9756-F5A6D4E9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05148E-B6E4-4FBA-B6B1-E9760740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678BE55-6D58-4657-A7C8-4EE3BE55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8C5363-3A6C-4CAA-B307-39398A5C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CEFC91-86EC-45C7-873B-48D9F10B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C0AF16-E4A7-47B7-98F9-FE913F0A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2C8BB-EA2E-4FE3-A40F-98A367E9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A029863-DFD9-492A-AD08-86A95E3E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5A35E61-8B95-4C49-84D5-8038CA1B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B1E3D90-A1FF-48DE-9EDE-1A96FB1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BCCECEB-007C-4F2E-9233-DFC03BD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38A97BD-8D83-4226-B663-F76E2BBB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DD33319-2625-4CDA-9451-F1DF603F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2DA4C51-771E-411A-9F40-4BF50687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169972D-09D3-4CF1-8726-199D3A3C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01A4EE1-ADB2-454B-B185-A59BEDDD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77B04A-3E0E-4605-9212-162918E5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3D41-C641-4C2D-BFCD-570A2E6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FC70E5A-467E-43E0-A1F7-8041C0EE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E697444-23EC-4934-922A-54EE76C9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09FDD80-8E88-47A2-8D5E-E909704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4D7513-0D12-42E3-B21A-E920B39F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7F11C12-15B1-4BA8-A0EA-D1E94DE9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59EAABE-5A5F-4ECD-BA3D-92CFF31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AD1A513-3493-44BF-AB5A-3A44276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DD14DDD-937E-4E25-A2C4-0BFA2FB3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4C60E08-D227-4393-AED7-98BF0B1D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B8FFF2E-E02D-4C63-830A-82D2D0CB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FA305-E872-4CCF-9702-0DA63CB3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D32D99-78D9-4615-80D2-3EB65335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69F4B0B-2819-4BC8-8639-21FF0453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58A6EAC-1C70-45D6-B21B-8112389D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79BA765-838F-485F-9496-7BE38ECA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8E12FD-9F12-4263-8839-C6D5BA64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FFFD2E2-528F-403B-80D2-DBBA6416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6E38E4-A4F1-4B24-B5D6-80E8866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645376D-422A-4248-A442-DFE1EF10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29C667C-40D2-41C8-B858-7C82DF3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6379EF3-8B3F-4E1F-A688-26E0D44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3DCBE-3E2B-4BE1-97BF-F641E996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BC05573-422F-4A47-8920-F4447819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125703F-F36D-46E4-98D8-DA23B775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CC6DED8-313D-473A-BA28-43D2B5EF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9A2EB99-A5D1-4A98-9923-DCFDE0BD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4CC1888-586E-4502-9150-2EB9280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8A1B04F-8926-4D99-8224-688339F5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B0792ED-47B6-4F21-A6F6-040F3039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0C1F8CC-333F-4326-8A55-1F57FC19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CDCF4AD-0C5E-4F69-9DF8-0161755F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160D72D-6E0F-47E3-9337-26B6089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ADAEB-305C-456B-87D0-E402559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C25617D-1557-447E-9AEA-D9323C92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6B005CD-1EC7-4BA5-8483-7C6AECAD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BF04CED-3C58-4B99-A853-D337EC83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3966DCC-B81F-45C9-A795-0B7F7770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7E712CC-6EA1-42D2-A8A5-B7ABC459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439385A-DBAB-408C-9D2E-FB861F0C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BE977EA-86C1-45DD-A3CA-E516CB64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FEE4348-A81D-40E2-842B-26697162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79F589-4E8B-4400-84E6-BEAD4E74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13D8A98-CB26-4E61-81FB-EC13BA72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8663F-16C3-45A2-ACBC-A138CB9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33822C2-75FE-4527-BC70-1C90F85D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5AD2BF8-9344-4C8F-82D4-B9F94DB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B12111-0844-4C9A-A945-F59CCD3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5A4B481-1111-4BB3-8A7D-BBB6F40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3A3FF0-E707-4FB9-A5BD-E8972938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59AA1BE-0F7A-4B03-B525-76920CC6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90324F0-F039-4143-B0E8-9CA7343D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A6BACA6-3BC0-4B2D-9043-5E8FA1B8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71F1ECA-6937-4573-8534-10BE5C55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82AEFF8-B424-4EFE-9358-B3100AAE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B6A-5E1F-491B-A517-A79F7286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75E5-C25E-4550-9525-39103DE8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97D9BE3-C21A-4E0B-9FA6-8D33F479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578E1DE-AD64-419B-976F-331A4A6C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DDA7E67-7BBA-4D5E-9E74-641E62B9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506D69C-F968-403A-9B1D-EC6964D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4DEFC4-37F1-40C3-8F61-4DB3BCB1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9E3C587-55FD-4D10-9AB6-92E88B6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6225DF4-3091-4EC8-95F4-8C71AAD2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A34B472-5E4A-458A-8E63-1020FD5E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B9A6B98-C4CE-4115-9728-1597E387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2895AE8-3B2C-4727-A410-AAF79986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EF648-ADB2-4E0B-BC5E-4250A104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8B78EE4-1D91-473F-809A-DA3FCA9D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A453CBA-EB62-46E7-A639-F458E3BE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A9B5B62-AA04-42B5-8129-4BF82475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2633A21-9AEE-4379-AE1E-00522DD4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59EE3A0-143B-4347-9B8B-EDFBEE87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E935625-5F13-456D-939D-0A17C4E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2939079-9B93-4678-B25B-BC118C58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5E76D66-128D-41F8-87EE-132858A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2010521-D5DE-4F07-B985-7A24EF2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624FAFE-5CD7-4E9E-8CCC-2F80A0D3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15B27-F67B-4C52-B8A9-B93581D3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123A3A7-111F-4B32-BAA5-DE40EB84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010C2A6-61EA-4737-986A-95B88D00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11C8FAF-A77D-4C1C-B9B5-E553AB1D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DE521B0-A055-459B-8660-616A58E3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D96ACD6-487D-4C64-ADD1-E0C4E890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B3E3863-B468-4767-B589-30013952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9F90B0A-C864-4555-9CF0-782705B8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C2B778C-11C9-4C8E-85FF-CD97247B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BAF55C8-EC3F-4FB4-803C-EFC9AC9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82D1A4D-7761-435D-9862-015D3A10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2A758-C259-42C8-BE83-7F8089E9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6835FF4-285E-4A95-85D8-C4F92C1A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72A113B-3C3F-4C2B-81C2-75A01AE2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6E261A4-07A5-457F-A5D9-5C00CD11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3E5818A-9EE3-49F4-BDF6-E591B181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3EA2ADA-9651-4DE9-8EEF-BA1B41F2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DB1109A-D988-4489-ABAE-74A50651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B7EC99E-D864-4C0E-B887-0CC93642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9B92241-51CC-4E99-A9D9-E952623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D6FA013-04A8-4AFC-A511-891FD5E8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8E5B37D-E4AC-486A-ABD7-784810D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47B4E-58CE-462B-8AEF-5B029881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BF2461F-8AC0-4E43-AEB0-76DFA6EC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BF11E7A-4A66-4AA4-A3B2-80B0324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7D6B09-63D1-4C19-A8AA-A3FA1B53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0D726BD-7B7D-4A2A-B5DD-FA080592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E198011-7283-4691-9C2E-BEFC70D3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B74991C-953B-4B1C-801D-CE23AE33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578BD4E-518F-4F87-B5D1-F7C2D259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BB28C68-DC05-4667-B931-01A0D0D9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7441115-5BDA-4C8C-BAEC-EC4D481C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75B4163-1281-420C-9DBC-331C52DB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DFFB8-072C-49EC-8A97-83F32F99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7614875-24F9-4B76-91AB-9D54565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D8723B2-DF1C-4ED7-8A84-CA48186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FB08BF3-C864-46D3-AB18-829AEF9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3BC6CD0-AEDB-49E0-AC77-CEA2DD97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62A04BB-89E4-419E-923D-EC235DA5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7CAB15F-41F4-401A-A5EB-D1DD68DA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43E1A67-4AB7-4943-8D7B-B1F3B48F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3CBA49D-7207-40CB-9CF2-24EF1427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5449F81-4E5E-4E55-A366-0A8EA64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566E758-564E-4E8C-AB4F-00D0294D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98D2A-2FF2-4CBD-B1B4-AF34E7F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6FC3E96-D9BF-47D9-AB52-80D2DA89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CE59993-0991-49CB-9BE7-266C53F0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5A2045F-FBC8-4BFB-87C8-0A9972EA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926BA5A-702D-4A6E-932E-F58B1A6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2070159-38C0-47FC-AC38-73409C7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35FA43F-A4B7-4F14-89A3-4FA00F3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F7DBAE8-B3F9-47A2-B002-83F14084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09B8160-9D7C-4048-9B3A-660CF766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BBD058D-D07A-47AF-AFFB-32469A85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1CBFA3A-04BD-4E31-BA37-BE68B029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44227-16F8-4F89-A482-B53F97EE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9DAE716-6438-40F6-A8DE-13A20C99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64936EB-50B0-41AA-BB55-CFC85350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BBC1090-EF90-48CC-8685-AAC5E987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272EED3-FA74-4ACB-A000-B927B572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606E7CC-79ED-440A-AB49-8FB9F0C8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AC3A644-DCF3-4BEE-B4DD-BB9AD657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CAC4BD8-D0C4-48F4-9449-DA45D2B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AD46BB4-59A5-4C79-B943-7B74BF95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9DBF76C-605F-4B8B-A1CB-4D104622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672CCAC-41FB-44B1-BEDB-78E5F83E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F0868-4232-47AB-A915-B56E7085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5012D89-3C5E-4224-9C12-894314E1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8686770-5334-4E89-8017-22B73F4A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4BA6030-7BE0-46AB-A62C-4ABC2121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447A3D7-2743-4615-9E98-BD79439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34B2728-56A7-4273-9FD0-2346A74C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33FB4DE-FB0E-4163-9059-36122A8E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09D48F0-21A8-4491-995D-FB0A01FB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8307F00-038F-4197-8D25-DAFCD9E2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422D859-2F84-4B09-96F3-62AFF88C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7C0FF49-3BA7-4CD9-B258-7969BD34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7085B-E226-4DCB-8598-12D0950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BB3CC9E-60E6-49F6-BEE2-C94C4472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FE09475-3C9E-40D2-AD87-E20F76F1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E107ABD-E20B-4FA4-AFE4-AAFC8D9A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17E2F3E-22C7-4B7C-A4EA-312ADB19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166C088-6F83-4D3A-BA27-A8A4B06F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C3C8AC7-D681-493F-950B-FAD6FF0F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94A425C-09A7-4526-8AAF-439463BA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9D2B31F-5349-46EC-8A72-EA15DAB1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822B91A-A47E-4597-B6A4-3BA3388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E55AF66-FF6C-40FC-ABF9-881B2EFC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630-0955-4FED-B9E3-1C37355A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8254C-4499-4F1F-9652-1BE0533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647DAE5-2603-4FA3-A0D1-2C03EAC4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994B810-5DE9-4E48-B9F3-90D7D2E5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98835BA-D842-4E91-84AB-7AD7EB57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CE345F6-320D-4466-B453-7D70FDDD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AE9F4C2-B562-4310-B2CE-E639CCA8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0E01A2C-01DE-4785-9163-5FE3BBB3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71E9541-FB4A-4D54-AF18-DFA7E556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FA4E657-621C-4840-B720-9AA7F2BF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6D97469-158E-40C7-B5CF-50F52F3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E88FACB-EBE4-4743-BDAC-9CEC67A1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31D5-C045-45A7-A924-6CAEE359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41C8C42-531D-4FAB-AF52-FCD4496A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21172ED-314C-4FE1-8F6A-737BA56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72BBFC8-84A2-41D9-82A5-9B07A8E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019A18A-0A42-46ED-AC12-76F3593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60F9C1E-EB42-408E-B9DD-D8DF2BE6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9F8D22C-2474-4235-B8C6-469F721E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E0C2888-028F-4809-A370-BF96F5B7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9A4DBF0-66F1-4B12-A740-B624AAEA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2EBCC24-1E76-4BBD-9025-92C33D48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A19BF8A-86AF-4A07-A0F2-C916F0D1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4D58-B8B5-4D20-BE00-7B507650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2B79E2C-8E18-4EED-8B00-CA9F5209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AA109CC-BF92-475B-A88D-0140969D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6D3A18F-68F3-4E8B-B24F-198DEE07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8009DE9-FEC8-4343-A7A2-02EC518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AE31735-B123-4E18-81D8-FDBD947C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90F6739-6F4C-4E62-8C87-983C5DE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484DEE4-8A47-453D-BAA3-4747F6C3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FCF4C00-E33C-4F8E-B406-229E4C41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B5CD9D7-1784-4B04-944E-F4CF4B5E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01869A4-5816-4957-8CD2-AE11E47F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206AC-B353-46C9-8CFC-FBBC4059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0E109F0-301A-4088-9920-1B8FBABB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B0FE8F2-3D52-4E7A-9961-7655095A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3B69D14-DE54-4E0E-99F3-14F95F3D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E587952-F5CB-4633-8F63-5D7AA714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7D89714-9160-4B4A-B5CD-35D6A71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9BD69BD-B42F-40F6-8324-4053CA2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1E8B0BD-09EA-4A0F-9140-0FE03D38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80CBC77-F829-4656-AEEF-56153379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22E20B9-F0EF-48FC-82BF-E82DD5F1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B60DB18-DF0A-480D-8E15-6980D947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76E50-D39B-4794-8509-8EE58BD7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A1E5C81-AE21-4A07-B8EB-621E1E14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2FE057C-3902-4225-9DB6-AEB46AF7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7B5F259-B781-4E9A-B53C-B155B1CA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E0F7475-13C6-485D-ACF8-CED53510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4A8A097-8D5F-4079-81C4-5F17AB5A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14EDFD0-BEA7-40D1-8309-7D151AF4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40D8EEF-275D-4E72-9536-1EFADF65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60FF225-8B8B-4D52-8A24-2563680B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59B1CAF-6D06-4F45-BDE9-0E3C81A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8EE9E03-5B48-4B92-9CE1-CDA5454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05F97-8EB5-4586-B2A5-D6FBB7FE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2C9DE6D-14C0-4220-9FAC-AE744B90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6F76D7C-4719-4BE7-9EAB-9DBB8C09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D4E2CFC-77BC-4813-964B-47F6351C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028B156-456D-48F2-97F3-FED901F4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573D475-8337-4CCB-9140-534A6730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4A63CFF-6880-450F-A1DD-E330FEF4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2F1E12E-9C10-4D49-A872-4EC762FF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08D3F50-D2F1-43DC-8101-48EE753A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7B6E484-06CC-44AC-AF30-00A1BEE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9D75E42-A0B7-4677-B4ED-CC9401D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58BC4-D544-418A-BDCE-94A18B7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8277933-ABD9-4E3F-9106-3685CE90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6E479CC-1D0E-4BAC-881E-452AAFE1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70B5274-7BDF-4CA4-8132-00489EEE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A9A34D2-BBE8-460D-92BA-63317F1C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6FB9B61-AAE0-4770-B3A1-2940C7BF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25B89A3-E227-400C-865B-00B1E2CB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B64728E-5D9B-4B0C-9B4B-A6C622C5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1587607-6F84-4514-80D9-5AB3D104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CB4149A-D96A-4406-A612-00FD9B3B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10D06F5-1D82-4B41-817D-B7E3A5AE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73219-35EE-42D8-BF17-2606C476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CE428E8-F2A3-487F-9CA1-A5D4FFEC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4571785-C4D5-4632-94AE-52519048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694B1AB-4172-4F32-9809-5B6D3920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C03D8DA-E380-40B5-97C9-0B4D923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058A83C-6D45-4DD4-9F69-7372799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55E360-AA27-4A17-9ACD-9ECF800C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8E9ADDA-5158-4981-8EF0-0A9D12C2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9A5FB29-CC22-45D2-91E8-431856AD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EA211CB-46AC-4F35-BCF2-809E9B2D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08B5529-1A34-4787-AD8A-598070F5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542FE-6B6C-46FE-97EF-C6189747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A1D7A5A-AAC8-4D6B-B6A6-87A818D2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2FE4452-66BA-4CCF-85F5-10AFFEBB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5054FF3-02CB-47E4-9AA8-B8BE066B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39F5486-5B6E-43BD-A1A8-51121FA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22DF88F-169B-44E9-B1A7-2DAF79D5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4140200-6837-4241-90F6-D9C5185E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B9D0274-7ACC-4BED-AC40-54D829E3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CACFFBE-8AF4-4F22-B537-1F40EBBA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8774174-3766-47E0-BB4E-65C502B0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9F2801E-7578-4C78-AC47-6A4BC662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7C742-87BF-4467-AEC9-897D84F7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6062F08-E68D-4A1E-B2CE-0AA2DB88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F61825E-44F9-4399-855B-2A7A69FE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199B348-67E7-4FAB-BDB0-0701CA02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17F6465-9880-4633-A3C0-7D420471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F5BAB41-F5F9-4DD2-807D-AF77544A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9D65ACF-4884-4D15-9DB4-6D12F064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0B82631-06CD-4447-9763-19F4193F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0746139-D777-4C31-992F-CA12662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FA260F5-8DEE-4243-A0D3-CA2B3EA3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25C91F1-0D2A-427A-AFA4-C29A7030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08E-BE98-4927-A4A1-B6305D9D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941EC-FB30-4B5B-BAE6-9DB8D2C8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FCEB664-DB3C-4F74-A6BA-A6B5B457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1DB4106-9B88-4FE2-904B-E3D6314F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5E02BA5-3AC2-4EAC-B004-6BFF15DA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8156D51-4886-43EE-B635-645DC1C1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1473E0A-1380-49AD-97AF-A0CEB75E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3719D1C-F96D-4289-84F9-71604DE0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BB23AB5-0F46-41A8-8518-5AB454BA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0AB8535-597A-4CF4-9680-3610D373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8E4F863-1C1C-4CE4-AA98-E58749F1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4C33A05-39F3-4724-837D-9F7334A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6B968-38EE-4543-946F-647867C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0A47619-D4EC-4DA0-AADD-86CABB67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82C20EB-E34A-4F4B-AF7E-43543CF0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BDF9A8C-0063-4147-87B9-9F14C332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A5F3721-DB94-442B-BD03-52C77D6E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ECBEC05-00F1-4CEF-B8FA-D9C7D321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2FB2D13-6549-4434-8172-3A481687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281FCF9-4BDE-4D85-905E-15513B09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1564CE2-4A51-4017-9B50-298DCCF3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4DFA537-E1F5-49A0-B563-B7BFB61E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FE6FCE6-F6EC-4DB5-86F5-D4D73991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81352-8AD1-4E48-B090-77101DED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A2CB2BD-1C24-4842-A13D-1A6319A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CB5ED45-9DA7-4801-A101-BB72CB09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8FF1CFA-5B56-48E8-9F31-FCA19141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A13BD6B-E221-4715-B6BB-9ABFC65E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2EC83A3-081D-486C-8864-D9556A00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9E9D193-C8F4-47CE-95C1-5549F366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677D2E5-BBA8-427C-A45A-0573A4A6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ED7F2B8-56FF-49DE-8EEA-189F9209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F093F11-96E7-4C55-BB4E-D2080E2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EBDFA64-D1B4-42CC-BC9F-9AAD87E0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B57EF-4C7D-4B3E-B31E-559FA3D4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CD6769D-5F7D-49CE-A639-78565007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0C774E6-5FEF-4190-A86E-FC2FCB51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F52A73E-8F49-43C0-BE47-3CE5ADD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F3CD6CF-9C1D-4301-BA96-934F3C20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C61CA07-7634-4D61-BB51-01CD4FC7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1570920-91FA-443E-9774-EB772855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7F09004-1B81-4427-B2F8-B47EBC2A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31F08AF-C5D3-4019-9FEF-520FCF49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4F60725-66BA-48E6-B0B6-58836BAB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16375F9-F118-41AD-BE6F-369C8341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5C7DA-02CF-4151-B724-5B5C0564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8091E6D-6C7C-4C09-9B94-1DA23104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EAFD53A-7453-45BF-8226-ED02D393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F1233A5-BC44-441C-8CBA-F67CF558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ED55DDB-BC91-424B-BEBB-15B60A0A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23787A1-C3A2-4AF2-B9B1-A808E288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A3211F0-44DB-4425-BFEE-336C48C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561CDA1-5FEF-402E-A76F-297897BF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F3BE8D4-C441-4DC2-8D12-765089A5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73D4240-AC15-43BD-8E89-918C3487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5CB9AEF-5D86-4C73-AEAF-ADCA39C9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4868F-8E33-4AFE-88D1-D2EC06CF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54D2B76-BB64-4E1E-B216-6057BF66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B238996-DFE7-44AA-8F35-E5269F4F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660586C-6B20-4D99-B736-C5413B42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7E1E69B-EBFC-40F6-AF63-4DF10953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2ABFBF7-BF9E-4071-8F8B-E54FA908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172206C-332C-4A47-87CB-DDF0F5E2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B2E2C39-005B-4078-9574-F1BF3D8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8D5782F-03A5-4C5F-893C-6048897D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CEC5DBC-7386-4CBB-8708-0930F7D5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59F60D3-078D-464F-BA51-7A70A719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1BCE4-7841-450D-A04E-0AAD2109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8C2A574-0D35-4F20-9015-BDE22F7F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6039DF7-BC72-42B8-BBFD-DBA94FC6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F425562-DC82-4255-B281-DACCB89F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60116FF-E737-4AF0-8D7D-2DED4D34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2883EF4-E70B-4406-A98D-CA8A0FFD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D5F28AC-5D2F-4900-A62E-7446F8CA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2EF8D5F-3294-49D9-84F5-8B4084BE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FF46E95-3385-4FC4-97F3-6D0C6B0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7446DB6-54B8-4894-9151-D744312A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2781267-6C00-4BA0-B681-6BA1FDA8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C524B-5D32-4703-8762-5F04841A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6684821-408A-4CE2-8F8E-E7366C53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10D06AE-BD5D-421E-A019-68FFBCC8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E255726-C150-41E2-B5C3-492A3624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C1416A6-F015-4ED7-A41D-14D59762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522838C-A44B-473A-A48F-01D98F6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53CC319-24E4-4195-9394-E43FFCD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67F1355-A3EA-415E-97EE-3AC90C3C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5CB6F0B-DB85-433C-9566-EB75272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1850D78-62EE-4A55-A562-1BECB7FB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0EDBB36-5313-4DF4-9BF7-B210BCC3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9D3F9-371F-440C-8F80-175D5A3B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3BDE3D1-2854-4E60-BEA9-11BCDE40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40A7109-D594-4934-BCD8-A988247B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CD09C9F-EA13-47D9-A42A-32B35E7C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8204769-F422-416A-96FE-C79D4FA6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6A57BE8-8627-467C-A18A-2C1AA213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AB576C2-6309-47D0-BD79-B95FEC9C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B2D81AA-4A52-4773-B336-E974F2A9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517C66F-8CB4-4F71-8CE0-6CD5FD1A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0966976-F50E-46FC-8D81-650F0348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A36C9BD-B2EF-4383-992D-96FF2AD4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EB501-72A9-4FFB-A19C-18073EBA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5895337-22C4-416B-B3BA-4A37348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ED299DE-8799-4A67-A7F0-D0A1F04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490F611-9B26-483C-8975-8AC2D971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26BC2DD-8831-4052-8904-C96A753C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3FD07AA-A4D8-472D-937E-AD08D17F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473B996-52A4-457D-8E2D-FB6B5CE6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5895CFF-8BDE-49BE-88C8-C774B95F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904B503-34D1-4EF4-8B4E-7919A874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186D35B-AE3D-41BF-A0FD-EED3D561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31B4289-7BE1-4E0D-A793-DB5F0778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4531-9CA2-48BA-AB68-BEE376E9D96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28B0-9217-47F9-ABC5-70B581569B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A37D-95FC-4232-9426-9B97F784B7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964F-EDBE-43B0-A7F1-49DD337521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9AB9-78D2-4383-B430-3616F96661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D859-9268-43CD-BFF0-CE06E34A92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EE5D-9F32-415A-85CF-577BA6CFB0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EB87-AF37-45FE-AA44-6D57A17841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08F2-6468-40A4-88D9-4A196E1DF7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148A-5A64-4243-897A-09547835AE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4DCE-0B9B-4008-91D0-D2A77067CC8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617F-C2BD-4046-97D2-13C0C0FDFA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588E-BC6B-4535-8AB2-5FE8EEA67F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D7DA-C079-40B9-A7EC-67938DFC82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ACC-DFCB-4F51-B382-429014ECEFF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15D-4755-4DFE-ACAE-00791AE98E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6036-D9A7-407F-B6ED-69BA321B372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841-A638-4C42-BE10-D8C0AB603A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BFF0-1C87-43C9-AFDD-0D16579810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84A0-0ADF-4363-BD5B-EB3DD4E212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51FA-B6A8-42BE-B88E-8CBBD99E813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4042-DAF9-4931-AA7F-10FBD5A585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4FB4-7E32-4EB1-A525-0E88D85535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290D-CD63-4C23-B3A4-B599E039D4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8018-2C86-4D35-8B92-8CCCBC47F58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1C7B-CA44-4EC8-8481-C243456735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348A-292A-449D-84C3-F0755BA6A6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095C-99CB-462F-A343-C63F67F5FD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ECE9-31F9-4BC8-9722-5C4929A123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391-4FA6-43D2-986C-99F1B05FD6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1A81-90AF-41FA-B896-AD1E37CD1D8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E8F8-4D05-48CA-8EED-0CB586698E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577E-0F5D-433B-BAB9-53385092DB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22DB-FD17-4EFA-9D58-6A4911906C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F7E3-ABD2-4E68-87BB-1540751F20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37BE-B079-4072-B9FF-0892656EB5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0FE0-36A6-49AA-8D89-654527FA29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21B8-36D4-433E-97EF-9D235E5256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D442-4091-40AD-8D03-BEC5CC8EAA4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73E-53E2-4FBB-84AD-A035DCB21E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6397-99E5-4807-BD23-0281D6957D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01AB-F518-471C-B71E-D742A5A12B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456B-3846-4BF4-97F2-28D97FDF90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6195-6A51-4891-82F7-451B73D7C2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B83E-B7DD-464E-8CCC-5D6B84B412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1067-4ABC-42E3-880C-4BF335F853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26DC-2ED4-4932-9FF5-774A6274FA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1820-4B09-4EBB-B596-E4DFBAAD13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75C9-BB02-414B-B369-4B2044DDAB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F64C-DCAB-4FEF-AEE4-BDC9D2B814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CE5F-1D4F-4674-B2EC-40B4DFF62C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B8A-18CD-4F9B-B604-ED94295361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5D61-BC1A-4D22-8DC5-8FFA1DD101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28B1-2AAE-48B0-BE1F-E01DCB4F7B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970D-EDB1-4B5A-8D3C-A77A31268A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A7BC-F967-4439-B115-E541CFF581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1698-7FF2-4D15-8AF9-0A98BD57B9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0FB8-FFE1-4B35-8ABC-3A59C38DFB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6F01-983F-4004-9BE9-8C299B11D8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43FE-7785-40F4-ACEF-6243089B0C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E146-DE3E-4B9F-A1AF-05F1B35678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17C9-BD25-44C4-B685-AB5C628B49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568-B2CB-42F7-B577-B0A5B026A02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BFE-89BF-4A86-87AC-65F4528B73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8406-94D6-4692-A689-666A96D3B6A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E8EE-B1FF-4755-8305-84168754B0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784B-9BCB-4C3A-95E4-93ECD3C342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8A21-F003-4AA3-8F2A-9F89553AAD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3E22-6E48-46E5-AE55-01DD4C73A0F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9BB8-9351-4701-89D0-F12265BDF5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B7DE-6D3B-4ECD-B57F-DCC0AB7F4A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3B4D-4DA2-4CF3-A9EE-FB8B232DA2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8131-A49E-4AE2-A28C-056522E4E0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517F-E875-4872-BAD6-2269564791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3763-94BD-4AD8-861B-0BAB6C049D3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B7A7-FE7B-44EA-99AA-BAD3A1D0DA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C4D7-A846-4860-8FF1-C686B3C648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F0D0-FEC6-4097-8AC3-E113E29DDA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F3A2-52A7-43BF-B715-907D95AF6B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28F3-1F7E-46C0-87E8-CE72009C72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FD4C-5F55-4C64-A7CC-B7D2F5BAD24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E07C-9374-41B2-AB6D-F2E89746B2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04D4-7F21-43E9-9A25-7AAB49D7319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63FC-09FB-432A-8AFB-EAE3BC11C8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D776-63D6-4C8A-A386-32891FCAC87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81D8-8115-4370-B0A2-8C495A6058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0E72-6D30-484E-B24E-BE5EB3F9D72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2C95-BC56-4F48-A7EA-8A654C4AF4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C78A-E913-4DAB-B6E6-8E620D0E2A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AF0C-1164-45E2-9ADF-FAD853DF60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0F66-8A05-4877-B7C2-11A6956518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540F-6640-4A8D-824A-DCA816DAF2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D089-C107-4C5E-A242-2FE58FF91BF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2856-44A0-43C1-89B2-80029A1A61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65C7-F114-4C6B-BC25-59F8072D7F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70B1-D0B1-428F-8C54-F6E0FFB720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851B-E447-4E77-AF7A-B000093F58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515F-C80E-4175-9AFF-BCEEABE625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F475-8333-47A7-84AE-329440E8AFB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7BB2-11DF-4E60-BF94-86ADA45445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DF86-253A-463A-ADA5-363AA16F71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3EF2-329A-4DC6-A2E0-D6E11BFB6F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E2E4-90E1-49EA-AD51-254ED067BA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047-D08E-4F8C-98F7-B6D7CC0D33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A43-DA23-4B83-B37B-3499892B04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E3E2-D4C6-4D50-A043-AB9F584188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40C2-D342-44D1-8F6F-0CB899A67B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6B28-E539-4DB8-B8F3-4C485D0793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26AB-C275-4A94-B031-B71E23B445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54D3-FA80-4E93-96CE-1766BD0EFD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9381-22D2-41C2-9DC6-D4CC4EBDBE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A600-95D8-4DBD-9A13-A0C1C2D476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FC53-B01F-4C28-9685-CF08EB3985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E952-36C8-4F9C-B749-E2C8CD9BA2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C74F-CFFA-4466-8720-96709DF1609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429F-D427-41B0-B101-79F1A67AF3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0AD5-1BF0-47AE-AE43-E25F2D87F2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3752-57FD-4434-83AA-60E266DD5A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F09-5032-475F-ABA7-3EA00A7639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B34D-28FE-423F-A565-323E66C090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DE6D-FA9F-4A8F-BCC0-4E0991807D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2278-74D5-4B27-9083-41D66E2E89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3A74-3250-4340-85D6-E8B93947D4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A1A4-70B8-46C0-8404-DF582E2AFD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3664-F828-4DFC-95F9-E6DA4363CA9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4D5E-C7F8-43EA-AF46-C7AE3A866E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E276-4A4A-466E-8C46-AC9475BA17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4CCA-7363-4BE7-8ADD-A45A3C94EF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2ADC-9C12-4B8E-A112-3231C8FC6D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3D04-5BFF-4048-A29A-F217AEAF7B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44D0-530C-42C5-BA8B-C63EB3A20E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7A2F-BB1F-45DB-94AF-BE9A587A17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916-A4C0-4013-BFAD-1C3765F70DD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6922-5788-4A38-8F95-843451C5C8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665E-9E3C-4F5D-B834-550F3705AF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C213-CD1A-4FC5-9E26-27D8A66D22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BC0C-86D5-42D9-9928-CDAC1AFA03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50A-9EED-4921-B069-22859F56C5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6D9C-7062-4D43-8195-0ABD34956AE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74F0-C566-43FE-9452-C4F72ECD6E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1C1-60F2-4C88-930B-0D4312F1A8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0F81-CF92-428E-85DD-9263BA7F8A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8744-42B4-45EB-A258-9B663C09624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3D12-6642-4823-83E3-11A1CE0C31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5D7E-1C8E-4A50-A98D-1B072FB9010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715-0EF1-454D-B21F-3D87BB57F0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869-CFF8-4314-B232-A8D5C16CDB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A64A-724A-4423-9007-1C5DDB3F4B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E2E1-062D-4CFC-9950-44C4C2D38E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3B95-DE82-4052-8F25-14595100F1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1390-4638-475C-B243-B62C8B2D3D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6C37-9313-4B1F-BDDB-E7F5040AC5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4312-38F1-457A-AE3F-DE1E768006B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EC31-14C9-4F2E-9799-7981352DBD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D48B-5586-4DB7-B168-9892406983C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9AE2-AEE1-438B-9D19-4D8D8F1713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49D8-5389-4097-AF03-CB90B8DCFE5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A0E2-B345-4D9E-AF9D-AB49F67BB7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2646-DE90-401C-BD35-6056211768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3607-9679-429A-89AA-5E3FB224B3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B1C3-26DE-4415-AF11-70F773BD6BB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06E7-5BFA-46FA-9462-2BBA306337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5304-6E43-49CF-B7B8-1CA8CA7343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E48-0751-4128-AFB0-AA03017F52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A91C-C8E1-4A15-B9FF-A2A5836DAB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E259-010D-4AF1-8FB3-23B7A8D097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AEAB-271D-4273-8DC6-4FECA6BF25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81F7-688E-4B49-B244-D92B33F870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9791-FE25-4884-BFC1-BAB27A6FAC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D282-459B-46C5-A954-2029211EAFF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9EC2-550D-4BFC-97C7-BA978A4066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8E29-69BD-4346-B928-D934DB834B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C214-5533-494C-B06F-0D003C0651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DA79-3E3B-4978-9A41-52A49E9348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C4FA-01E7-4806-B1F6-D1C7C963451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67D5-54E8-439F-8A01-E6B16CAA13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13A7-E953-40D2-B1CB-7501354C14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521B-BBB4-4D48-B18A-6B2D83EC16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C086-2B4A-4DD1-A124-AACD112D79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07E9-6E8C-4B46-BF41-B33536A425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9BD1-D933-4350-B431-542E1BD988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0AB6-A194-44B5-AC8F-0155C53AC6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9DD7-BBBA-40AC-80CA-17D43080857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1C7F-7F12-4224-9F65-20AF106E9B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A8BF-1247-46E4-BCB0-E22073A4DC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13C-6517-4D43-8F5D-AC1BCFE9A7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820C-7D44-4787-B066-C5D140CA65B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2111-E604-4713-AD10-DCDD6AB5C5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5B8D-0F4A-40B9-B768-BE07E44A01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A68A-EE0B-4970-9D3B-8CF95F0C6E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E0FB-399B-4E51-8079-D18C8A6ACE9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35DC-4B87-4E81-94C2-63EB314A8F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A96E-EA42-41FC-9D4B-72685203BD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C43-6363-46E2-9CD9-3B262DA36E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54F1-E82E-475A-88A1-A8807D7269F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509-1F52-46DC-B722-06C592C0B5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50C2-ECEC-4F20-9523-86AA31184A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2C0E-B77D-4235-96AD-BFDC798C81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42E9-0E7A-4B57-9D45-32F7BC1B327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7CAA-1649-4605-BCB9-6366119E80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229D-B3A5-4FB8-B3D5-8ADB1E2BD6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46FA-9F52-4988-9DD4-B0809C9286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437B-54A1-45CA-8CD7-311C79FE48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AE6E-2E35-415A-A19C-4B9EEB9C64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3953-7DB3-46A4-9BBD-882D119A1F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910C-4128-47DC-A533-F9AF13DB6B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930-ACF3-4E28-A398-557373ABA5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1550-5BE7-4500-9ADD-79F7E033DD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83E-5C6D-4502-8135-31A38F4C02B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EEB6-8C86-4216-8208-3C04F21BD4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B142-C53E-48E9-8605-948E9EFB5C1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6950-55A5-4E3B-90F2-592EE82848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9931-D8B7-4F8A-A6B3-BF9300BF76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B1F9-B1D7-4D40-B1E4-738FFB0F35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9317-071E-42B8-99F4-8439B81EAB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08C4-F04D-4C10-9773-5EC283A5B6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CD4F-D2BC-44C9-A171-DEA76D490B5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6CE-DC90-470A-8E7F-5C07705930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C26E-6A9E-4A3B-B231-EF122703AD8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C4A6-66FE-41A6-84A4-19D3A5244C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797A-D33F-48AD-9FA4-047A3FD445A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3CBE-CAEA-435F-9486-23670075B7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185B-7AC0-4479-A3B4-DE3016562C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DB4F-ADE6-4C2A-B5CE-F69A60703B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0DD8-9381-4DCD-8A7C-0F2F27C657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ABDF-991D-46F6-BFFE-DFDE50F74D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5234-BF81-4AC0-BB23-341975CB3A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883D-D13B-4398-B7BE-8C8CDBB575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9D2-1D1A-42AC-B13F-6EDD794ACC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F244-99CF-4D55-9341-3DC70B28DA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EBF9-1C1A-4898-99B8-271CB7E066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F60D-51CA-4A4F-A1A3-2534028964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1CB7-DF5D-4F81-971D-D88453FC45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195D-70F7-486A-86B8-8C34B3C776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8773-A112-4B59-AF6D-44EC3E4D6D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3A6C-3700-42E7-BEA4-43AC1A59A6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15CF-E7C9-41C2-96C7-6B0767B434A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D0D8-9598-4019-9C48-F316F57491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376F-298B-4809-9B6C-5A7970BDB2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FAA-F564-4671-949D-DC1B67ED1B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31D1-FEDA-46DE-89B0-94EAE5F5D7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4258-AF3A-42E7-B358-6F1796154D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2C7-EA5A-471D-9588-738D67E5263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F074-13BD-494A-AC75-35EAEBEE53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5C6D-D7A4-440D-A338-ADB49A6E78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4F26-B4A4-404E-9212-0FD84ACA82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3F50-25D5-4254-B649-C086C5D7A7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3EA-26CD-4231-A99B-A0C7EAF5E4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D6F2-BECC-489D-9B74-AADCBAF4CA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9953-46E1-47A9-BFF7-E33C31BB1C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41F6-88B1-4F3B-A1C0-083B73EDD61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E5D0-9389-44B9-B3EF-58D04C12E0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F907-3EBA-42BB-B302-0236BE0090F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6CA-4AF6-4BA2-AD14-D8F41EC197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FF9A-3766-4DF6-9CF9-C0198A8191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1ADF-A73E-401F-97BE-664161AE79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4B44-CC26-4B0E-A5F3-FD07E9A4B8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352E-0F58-451C-8855-A7E6D443FA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7BC0-678C-4EE1-979C-FBE1A5A1E1F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B899-1ACB-4DC2-9A68-A639D64B9C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215D-2AD1-4A4C-81F6-3607013804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612-5A4F-4436-A1CA-1B7D959DE8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C739-7C49-42D8-A27C-A30F6CB10BF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8642-317D-4313-922D-5C6221C4E7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DE7-CDCE-438D-BFC3-8255431872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BEC6-DE8B-4A2F-892B-BE430517E8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D4A5-86DB-472E-A94C-3E50342959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25AD-47D8-4CBF-AE7D-3702166AAC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52ED-2427-4354-9CA1-341B82C1C0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B9A5-6060-4AE3-8ADE-035AE18746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3E91-5D95-40EC-9DDA-28490237FC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EF79-83EA-405F-AD32-66EFB66306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29D0-6584-4417-A97D-85417AC9D3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DC2-3C39-460F-8119-CB4BB7884C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DED7-298C-4AE3-BAE5-9C91B014C3C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2BF-1F1E-4A3A-8BF8-9657507FEE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AF0D-0223-41F0-9B14-96AB36660E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D88E-56DC-4ECA-AB1B-1CC07A5913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3B28-639E-4C73-8A05-67B6E2D1C3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E435-D36B-47DF-A2D1-A2DB277A32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2080-9F5E-4E5A-981E-40D8D048D2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4D01-C8BD-4CAF-BAFA-17C42D6D53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984D-8713-4D62-AA71-D851977EEB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057D-0EEC-4E41-9C3F-0FFA58B6B9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492-AA40-46BC-B681-0A49F045FDE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D1E2-42AF-4D40-85F9-B703235619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74F3-2E03-4606-8651-14DD455C5F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55EA-098D-42E7-91A6-78F9AFDFBF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C7F0-6D3A-461A-9596-9477970154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0193-4705-40D4-8C85-32EA04344D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矩形 7"/>
          <p:cNvSpPr/>
          <p:nvPr/>
        </p:nvSpPr>
        <p:spPr>
          <a:xfrm>
            <a:off x="-6480" y="4311720"/>
            <a:ext cx="9150480" cy="254628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7" name="Group 4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948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Group 6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5950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1" name="Group 8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5952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277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3" name="Picture 2" descr=""/>
          <p:cNvPicPr/>
          <p:nvPr/>
        </p:nvPicPr>
        <p:blipFill>
          <a:blip r:embed="rId1"/>
          <a:stretch/>
        </p:blipFill>
        <p:spPr>
          <a:xfrm>
            <a:off x="-158760" y="1049400"/>
            <a:ext cx="4154400" cy="2546280"/>
          </a:xfrm>
          <a:prstGeom prst="rect">
            <a:avLst/>
          </a:prstGeom>
          <a:ln w="0">
            <a:noFill/>
          </a:ln>
        </p:spPr>
      </p:pic>
      <p:sp>
        <p:nvSpPr>
          <p:cNvPr id="5954" name="矩形 14"/>
          <p:cNvSpPr/>
          <p:nvPr/>
        </p:nvSpPr>
        <p:spPr>
          <a:xfrm>
            <a:off x="2892600" y="266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矩形 14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矩形 12"/>
          <p:cNvSpPr/>
          <p:nvPr/>
        </p:nvSpPr>
        <p:spPr>
          <a:xfrm>
            <a:off x="-6480" y="0"/>
            <a:ext cx="9150480" cy="43117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7" name="Group 4"/>
          <p:cNvGrpSpPr/>
          <p:nvPr/>
        </p:nvGrpSpPr>
        <p:grpSpPr>
          <a:xfrm>
            <a:off x="1285920" y="1165320"/>
            <a:ext cx="6353280" cy="3259080"/>
            <a:chOff x="1285920" y="1165320"/>
            <a:chExt cx="6353280" cy="3259080"/>
          </a:xfrm>
        </p:grpSpPr>
        <p:sp>
          <p:nvSpPr>
            <p:cNvPr id="5958" name="圆角矩形 9"/>
            <p:cNvSpPr/>
            <p:nvPr/>
          </p:nvSpPr>
          <p:spPr>
            <a:xfrm>
              <a:off x="1285920" y="1165320"/>
              <a:ext cx="6353280" cy="3259080"/>
            </a:xfrm>
            <a:prstGeom prst="roundRect">
              <a:avLst>
                <a:gd name="adj" fmla="val 9806"/>
              </a:avLst>
            </a:pr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9" name="直接连接符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0" name="Picture 2" descr=""/>
          <p:cNvPicPr/>
          <p:nvPr/>
        </p:nvPicPr>
        <p:blipFill>
          <a:blip r:embed="rId1"/>
          <a:stretch/>
        </p:blipFill>
        <p:spPr>
          <a:xfrm>
            <a:off x="7238880" y="470700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1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矩形 13"/>
          <p:cNvSpPr/>
          <p:nvPr/>
        </p:nvSpPr>
        <p:spPr>
          <a:xfrm>
            <a:off x="-6480" y="3598920"/>
            <a:ext cx="915048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3" name="Group 4"/>
          <p:cNvGrpSpPr/>
          <p:nvPr/>
        </p:nvGrpSpPr>
        <p:grpSpPr>
          <a:xfrm>
            <a:off x="1906560" y="1822320"/>
            <a:ext cx="4892760" cy="3259440"/>
            <a:chOff x="1906560" y="1822320"/>
            <a:chExt cx="4892760" cy="3259440"/>
          </a:xfrm>
        </p:grpSpPr>
        <p:sp>
          <p:nvSpPr>
            <p:cNvPr id="5964" name="圆角矩形 9"/>
            <p:cNvSpPr/>
            <p:nvPr/>
          </p:nvSpPr>
          <p:spPr>
            <a:xfrm>
              <a:off x="1906560" y="1822320"/>
              <a:ext cx="4892760" cy="3259440"/>
            </a:xfrm>
            <a:prstGeom prst="roundRect">
              <a:avLst>
                <a:gd name="adj" fmla="val 9806"/>
              </a:avLst>
            </a:pr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5" name="Picture 8" descr="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2774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7" name="Group 3"/>
          <p:cNvGrpSpPr/>
          <p:nvPr/>
        </p:nvGrpSpPr>
        <p:grpSpPr>
          <a:xfrm>
            <a:off x="2344680" y="1676520"/>
            <a:ext cx="4125960" cy="3259080"/>
            <a:chOff x="2344680" y="1676520"/>
            <a:chExt cx="4125960" cy="3259080"/>
          </a:xfrm>
        </p:grpSpPr>
        <p:sp>
          <p:nvSpPr>
            <p:cNvPr id="5968" name="圆角矩形 10"/>
            <p:cNvSpPr/>
            <p:nvPr/>
          </p:nvSpPr>
          <p:spPr>
            <a:xfrm>
              <a:off x="2344680" y="1676520"/>
              <a:ext cx="4125960" cy="3259080"/>
            </a:xfrm>
            <a:prstGeom prst="roundRect">
              <a:avLst>
                <a:gd name="adj" fmla="val 9806"/>
              </a:avLst>
            </a:pr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9" name="Picture 2" descr=""/>
          <p:cNvPicPr/>
          <p:nvPr/>
        </p:nvPicPr>
        <p:blipFill>
          <a:blip r:embed="rId1"/>
          <a:stretch/>
        </p:blipFill>
        <p:spPr>
          <a:xfrm>
            <a:off x="7210440" y="492444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5970" name="Picture 2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AEA-BC07-4BCB-BA55-49D82242C3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ff2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3" name="矩形 7"/>
          <p:cNvSpPr/>
          <p:nvPr/>
        </p:nvSpPr>
        <p:spPr>
          <a:xfrm>
            <a:off x="-6480" y="3598920"/>
            <a:ext cx="9150480" cy="3259080"/>
          </a:xfrm>
          <a:prstGeom prst="rect">
            <a:avLst/>
          </a:prstGeom>
          <a:solidFill>
            <a:srgbClr val="019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4" name="Group 5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975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Group 7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5977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8" name="Group 9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5979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0" name="矩形 1"/>
          <p:cNvSpPr/>
          <p:nvPr/>
        </p:nvSpPr>
        <p:spPr>
          <a:xfrm>
            <a:off x="3871800" y="2649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1" name="Picture 2" descr=""/>
          <p:cNvPicPr/>
          <p:nvPr/>
        </p:nvPicPr>
        <p:blipFill>
          <a:blip r:embed="rId1"/>
          <a:srcRect l="0" t="0" r="-2021" b="0"/>
          <a:stretch/>
        </p:blipFill>
        <p:spPr>
          <a:xfrm>
            <a:off x="2646360" y="720720"/>
            <a:ext cx="4157640" cy="1916280"/>
          </a:xfrm>
          <a:prstGeom prst="rect">
            <a:avLst/>
          </a:prstGeom>
          <a:ln w="0">
            <a:noFill/>
          </a:ln>
        </p:spPr>
      </p:pic>
      <p:sp>
        <p:nvSpPr>
          <p:cNvPr id="5982" name="矩形 12"/>
          <p:cNvSpPr/>
          <p:nvPr/>
        </p:nvSpPr>
        <p:spPr>
          <a:xfrm>
            <a:off x="326088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12:00Z</dcterms:created>
  <dc:creator>Windows 用户</dc:creator>
  <dc:description/>
  <dc:language>en-US</dc:language>
  <cp:lastModifiedBy>nana</cp:lastModifiedBy>
  <cp:lastPrinted>1899-12-30T00:00:00Z</cp:lastPrinted>
  <dcterms:modified xsi:type="dcterms:W3CDTF">2016-03-05T12:44:4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