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7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100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9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2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1.xml" ContentType="application/vnd.openxmlformats-officedocument.theme+xml"/>
  <Override PartName="/ppt/theme/theme143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3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144.xml" ContentType="application/vnd.openxmlformats-officedocument.theme+xml"/>
  <Override PartName="/ppt/theme/theme7.xml" ContentType="application/vnd.openxmlformats-officedocument.theme+xml"/>
  <Override PartName="/ppt/theme/theme4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145.xml" ContentType="application/vnd.openxmlformats-officedocument.theme+xml"/>
  <Override PartName="/ppt/theme/theme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0.xml" ContentType="application/vnd.openxmlformats-officedocument.theme+xml"/>
  <Override PartName="/ppt/theme/theme59.xml" ContentType="application/vnd.openxmlformats-officedocument.theme+xml"/>
  <Override PartName="/ppt/theme/theme132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0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46.xml" ContentType="application/vnd.openxmlformats-officedocument.theme+xml"/>
  <Override PartName="/ppt/theme/theme139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138.xml" ContentType="application/vnd.openxmlformats-officedocument.theme+xml"/>
  <Override PartName="/ppt/theme/theme56.xml" ContentType="application/vnd.openxmlformats-officedocument.theme+xml"/>
  <Override PartName="/ppt/theme/theme134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54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137.xml" ContentType="application/vnd.openxmlformats-officedocument.theme+xml"/>
  <Override PartName="/ppt/theme/theme12.xml" ContentType="application/vnd.openxmlformats-officedocument.theme+xml"/>
  <Override PartName="/ppt/theme/theme80.xml" ContentType="application/vnd.openxmlformats-officedocument.theme+xml"/>
  <Override PartName="/ppt/theme/theme55.xml" ContentType="application/vnd.openxmlformats-officedocument.theme+xml"/>
  <Override PartName="/ppt/theme/theme41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theme/theme28.xml" ContentType="application/vnd.openxmlformats-officedocument.theme+xml"/>
  <Override PartName="/ppt/theme/theme96.xml" ContentType="application/vnd.openxmlformats-officedocument.theme+xml"/>
  <Override PartName="/ppt/theme/theme101.xml" ContentType="application/vnd.openxmlformats-officedocument.theme+xml"/>
  <Override PartName="/ppt/theme/theme29.xml" ContentType="application/vnd.openxmlformats-officedocument.theme+xml"/>
  <Override PartName="/ppt/theme/theme97.xml" ContentType="application/vnd.openxmlformats-officedocument.theme+xml"/>
  <Override PartName="/ppt/theme/theme102.xml" ContentType="application/vnd.openxmlformats-officedocument.theme+xml"/>
  <Override PartName="/ppt/theme/theme98.xml" ContentType="application/vnd.openxmlformats-officedocument.theme+xml"/>
  <Override PartName="/ppt/theme/theme103.xml" ContentType="application/vnd.openxmlformats-officedocument.theme+xml"/>
  <Override PartName="/ppt/theme/theme99.xml" ContentType="application/vnd.openxmlformats-officedocument.theme+xml"/>
  <Override PartName="/ppt/theme/theme104.xml" ContentType="application/vnd.openxmlformats-officedocument.theme+xml"/>
  <Override PartName="/ppt/theme/theme105.xml" ContentType="application/vnd.openxmlformats-officedocument.theme+xml"/>
  <Override PartName="/ppt/theme/theme106.xml" ContentType="application/vnd.openxmlformats-officedocument.theme+xml"/>
  <Override PartName="/ppt/_rels/presentation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96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</p:sldMasterIdLst>
  <p:sldIdLst>
    <p:sldId id="256" r:id="rId147"/>
    <p:sldId id="257" r:id="rId148"/>
    <p:sldId id="258" r:id="rId149"/>
    <p:sldId id="259" r:id="rId150"/>
    <p:sldId id="260" r:id="rId1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" Target="slides/slide1.xml"/><Relationship Id="rId148" Type="http://schemas.openxmlformats.org/officeDocument/2006/relationships/slide" Target="slides/slide2.xml"/><Relationship Id="rId149" Type="http://schemas.openxmlformats.org/officeDocument/2006/relationships/slide" Target="slides/slide3.xml"/><Relationship Id="rId150" Type="http://schemas.openxmlformats.org/officeDocument/2006/relationships/slide" Target="slides/slide4.xml"/><Relationship Id="rId151" Type="http://schemas.openxmlformats.org/officeDocument/2006/relationships/slide" Target="slides/slide5.xml"/><Relationship Id="rId1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BEE8-E138-4BC5-9877-C5A5FB8E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C8BE-1AEA-4303-AD8F-12FA0235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890B6-E4CA-4D03-8A75-C656E60C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70D00B8-2277-484A-8AFE-AA28F90E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194FF23-C9D9-462D-B44B-C4DF31AB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4D1BEC8-AA99-433D-A185-36DF70E1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51AD788-20E4-490A-9B1E-AE5E3386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B519DDD-FDC9-44E0-81FF-CB0A894C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047A542-5A71-47AC-AE36-F1EBAF71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E37E583-56BF-443B-A4E0-8177BA88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654C8AF-157A-4706-9522-726B066A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8824746-EBD7-4B55-969E-2659E59F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0C27F41-C28F-4425-87F4-5794DF93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C7981-A4C4-43FC-84C3-5DB1D63A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92A0658-9AFA-4CDF-86A0-5329C31C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1895B25-8D76-413F-B396-F0F36985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B95B87F-39E8-4339-9CF9-E2197269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97E0A2E-DC72-4398-A9A3-89F98FF6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A157BFF-5A0B-4572-BE8B-7102AF4C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96D5A66-7988-48C8-B4DF-528DEB26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26C2CC6-1794-439C-B23C-BA698178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33E44AD-A790-4C69-9946-CCFE9088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26E93D5-541C-4B2D-83B5-D99AFE12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BA3F11C-A090-4267-9FE0-3A5C4AB4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AE98C-9BB6-443D-896C-C211B26F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05B4811-1D40-497F-A5DD-BABFE54C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D28DC04-1B77-4371-BF00-412077DD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B084725-198C-4EDE-AA52-796E26DA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12979CD-BC3D-443B-B6DB-6B3AE4B0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09E450C-89F4-4EFF-BDE3-11070764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93CDBE7-90DE-4B95-9F6F-B156AD2D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4F9479F-4ED8-4396-AE8B-0CAB2F83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BF227A8-2748-49D1-BE26-6A0B5985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13B4C0D-5A52-4CDF-A17B-2D9E6022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CB693D8-7E65-4D1D-B78A-5CFF5689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DF590-6173-4328-8FC5-D761D022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40E173C-C10D-425E-AE9B-912C9B50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62B4C29-81AE-4335-8F21-5AD9351E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942A2EC-04B7-41CF-9E5A-07075B9A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A89D02B-4058-4B3E-BF5E-D1F25F3F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9495E3F8-45EE-43FE-BCA8-CBDBF704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D6401542-0288-4A59-BC88-D374CE3C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A0A084AA-6349-4A67-B9A6-E21A2E6E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47A508C-24E3-49E8-9C0A-AF358673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1B24814D-7A84-44FB-94B9-554D55A2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1906DEFA-F324-498A-A699-CDABE68F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D9F73-D4D2-435D-98F6-9E03BDDA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090C5DD3-7057-45FA-82FC-90DBDCF1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9B22B9B3-B4B5-43E5-AD81-DBFA1902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00A3EB6D-8180-4627-AB07-63DAA41F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3AC60AE3-F85D-4B89-8EEF-C6181497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82093CEF-B55A-4EE4-AF95-50FD15CA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484BEA0B-0FB7-4B08-974F-4E125557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4F7D1193-75DA-4A8C-85DD-FA2A4172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F62BD3FB-A48E-4757-B9E4-30DEBF4B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B591B6E-A080-4077-879B-DDA6B36B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08B056D2-2858-49CE-A4CC-301EF857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D8EFE-2CBB-4385-BC76-6F61A0B2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84ADB881-18B4-4289-AFE7-46DAD02A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43B4FD2-A04B-4C28-A18D-83C1FECB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2035B0C6-6C01-4B1B-A645-ACA4CDE3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9F89C813-4535-421F-BBC4-72514548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F0454113-7EAA-4A78-BF4D-AD381E19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8307A375-48EE-40C7-BC5C-FE148623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5512AB8B-4FD0-42D8-9CA4-1A8E062D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93E41B99-B5EE-481E-8EE5-EBB36D89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8133B1DE-0236-42CF-B49C-AEEE0352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0C4E986D-AEDD-493D-AECA-F3BB90D9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ABFF6-34A3-47D1-979E-5491C171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B2299B5A-C72A-4DF5-B348-6FDA5857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BEF0F3F1-4ED7-4C50-AAF7-2FFD2B1C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7E52C098-343C-4030-95C9-681A643B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602F128-405E-4863-9964-82DEB3C0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9D8F3A75-DAA2-4BB1-82D4-D01F4B8B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3E9832DC-C3FD-4F50-B7A3-073667A7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D3555C34-05C6-4165-A43D-AD7899C2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92FE43A4-18B5-4F33-AD0C-B2B8A46B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84A7B459-6E49-44E7-B125-74807570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3259958D-ABB7-49BF-B1D3-C0AFAA4C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E8027-2059-467F-AAC1-EE41F448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35915772-7F19-46B4-8E6A-11645E14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9733BB33-E329-4144-8517-6A8C75C5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794F49A-B0CD-4D54-AD88-47308F50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A8D7194-A0A0-4445-8838-DE3C1802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5DF8DCDC-E68E-4254-97BC-4A937ACF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D66AB6AA-7156-40E8-96D9-AD77E129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D81045FB-47EC-4187-AE68-C2F42042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CE6F0A9E-978F-4AA0-9490-16C837E2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94F1A5B9-CA99-410D-9F58-892D737D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B45C0C66-A769-43BB-86A9-32DAE61B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65506-251F-4C3F-B53C-F74203A8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3880D9B0-B6F0-450B-BA24-10341466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CFC880E3-554A-47A6-9B78-8DA330CA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95B09AB0-8F51-4899-9B80-F6073B6B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52011C58-D238-463C-8983-94B83C2D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51310686-2C1C-4201-9BE3-45A4C98A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6050377D-CCF3-4A4E-A3F3-A567CF9D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A8CA9F47-9D82-441D-A3FD-5871E19D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CE05C5E5-CED5-4308-9C2F-7183F02D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FF2258AC-AC10-434D-BE80-FBFB4C9C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F6E710CF-3F22-49E8-A60F-02D520EB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72B8B-2408-4128-A0F8-397BD44B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7F7565C7-32E4-42AD-B97C-53A25066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F7D3F33F-3CFF-4D38-B66B-7A901617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77A3C20A-8F17-4270-AEFB-D4111CD3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4A9BA8F7-AA7F-4E7A-AD64-A2702EED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078C8F62-CFFA-4B88-BA0E-C4260962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937D2BF7-10D7-4640-9A66-9F45AEE3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DF07A31C-35D0-4AD9-8110-53332E44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B0156154-5069-44D0-ABB0-A3AA4FDB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A0146024-6FB5-4BA9-8DC5-88A41111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8B5051F1-00E1-40C8-9A9D-C8074C6B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475-2AF0-442C-89CE-E039ADC0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69900-2DC2-469B-88B8-C905A35C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FABA54B0-8D23-43C8-BC07-F3EEED62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E79E0A2-EED3-47DB-97C6-C8A27BCF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BD9DAA4A-A21D-4192-ADAB-C207BA80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9E8CB787-1C3C-4F59-8D14-ABE7B45D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EA9A8B6F-829C-4C57-9241-56E1E5DD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3ECAE79-CCBE-4882-B0B9-9F9F865E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4EE333CD-2E79-4DE0-B05E-D80ABE17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157C40C0-B56F-4B23-BD09-EBB2D45F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8B7A531C-4620-4412-B879-859B66F9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1752125F-185A-4460-AE29-A67D8537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EADA1-663D-435A-B053-A91109E9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87A2ABD6-E49A-4ED0-A00B-B7F81198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A53E44C3-D3D5-4D6D-B671-EDFEE273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1FB4592F-436B-4DC8-B492-8890CF9A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EEB50845-A7BB-4F87-AF5B-1A25A16A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A4850BB-809C-4198-9CF0-514A0664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D13A97CE-2236-4657-9458-7B7E2D87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D27E700C-8B92-44A9-BDD1-39632CD1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EB47D7EA-0502-4215-882A-61080F63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8A7D434D-0329-494F-958A-5E39C425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555DB0FB-56B6-4D0B-99EE-8278B7B1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9EEA1-9E90-4B3B-9F99-4864C4CD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E6CB9D78-6794-477C-B824-DFBBC1A5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980FBDD1-122D-405C-B3CD-3A8A88E9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D9DF9F57-BE47-48FC-89E9-DE0A3A77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9652750C-8658-4E21-8442-CDFED3D6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B82E5741-9D22-4C09-8BB0-A9345A2A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0DA4037F-9D7D-46F3-A9A7-1B937A98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D08F2109-C0CD-4714-BB3B-295390AF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13272300-0573-46E1-AFC7-A41CA871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878E68C8-62D2-40B1-A4F6-46978E88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27A42B1D-5A85-4FD3-A191-E5334268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54918-656C-4889-A82D-D77F8A14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FD5988A8-92D4-4EE5-B30A-DF5DADC0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73CDBF61-3AE4-45E3-B38E-B235D8EC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924B5328-BB23-4E2F-B872-B5FA1CA0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9FEE508C-7D77-4BF7-931F-03B0A4BA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C07311A4-B946-4BBB-8318-826EB536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BC8AF5FA-FCD2-407A-8AEF-3790D8B3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1AF26689-D5D1-432F-B19B-E7288B34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2E8FA373-76D8-4EB9-94F7-F9A1B5C2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F67AD6F7-7C24-4ED6-8179-561CA3EC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806EC954-CAEC-498F-BEAC-AAD5859B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D2EEE-90EF-45D2-A0AA-30CD7D68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0898CA66-E5C0-4954-89F6-F31B136B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9291BEF6-7EBF-4166-91A4-8AAA640C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03932FE5-3EDE-4521-8977-88FB0DD2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9BA7A60-400E-4252-A958-DA3051CF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71D71C69-E1AC-48D2-B803-31F2371D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6CDF7AD8-0073-448D-A887-F382A76F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0049788B-77C2-4DA5-AB51-01205B9B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901EDC5F-7272-4319-9D73-2622656B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2B813D40-00E4-4C84-B04A-20697FA5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2B78107D-6B18-45FD-9825-A3C3F62B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FBF27-D88A-49F3-AD6F-53DBD069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40876A9D-4F07-4266-82F1-C687814B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72E9D3F3-8EE7-4ECD-89FE-FBFCD4B3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E28EDB10-D4AD-4F4F-B4F6-67977EF5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40AB4CD3-6790-40D0-9230-6DDA2851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7F6F134A-6282-4494-844B-56E8BB42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90D35DD0-D968-447B-9C67-5C901ED5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8DE635E-90E9-41FA-B41F-BE1B87D7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9526E4BC-58B5-44D7-9941-5B082473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AD1E57E2-CA4C-45A3-B531-0BF9B828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A7997961-F54C-4B2F-A2C1-78D34A35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002C5-95F4-4739-872E-300706B2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CEAE2476-2393-494E-92A7-7139DD6C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E24AA50D-341B-4006-AEE3-E3F7CD70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E8DD9D96-42CF-4FF8-AC43-D921272A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AB4EF978-AE55-40FA-8073-1E5EB81C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964E04ED-A3B1-41CE-9B3F-3F72E833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AC5D779E-8DF5-481F-998C-C5208A9B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9B7E35FB-CF26-4847-93E2-5CB8F39A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9C9CBDF1-B22B-4716-B0DA-417E1CAE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73C0F0EC-373F-4990-A1DE-4EADC444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02AD276C-477C-44B0-8E72-794467CC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B1452-27C8-47DE-9620-C958AC78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C4F2DE9F-B51B-485A-AAC1-EA2FDC38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B88416EF-0E3F-4823-82A6-54B31CF7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20062915-0761-4A37-AAD0-3C8BDB28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63DDEA0C-20F3-4E51-B8C6-EC974B97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14969AE8-7F9B-49EB-8D92-4B6CA08D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D18E4DD3-DA4A-4F04-8EB7-2BCD75A8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68FF97BD-D510-4822-AFD2-462A4FCA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1691D975-05A2-4B33-8C24-921750F6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1F3C70FE-B2B5-4763-84EB-E6BDED33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1082E304-0A98-4E46-A972-3416A986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9139F-2A37-49B9-9BF7-AA47EC4A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AB6B55B4-B052-447D-8C47-05E34778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07BD5817-EF56-42FC-9458-7815C963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727BB8A4-4DE2-4157-A131-CEBE971C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E9737F1D-47D8-4B0F-BA19-10B839EC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369398AD-147D-47DA-8517-46357009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3786734F-6FF6-4AE2-9A20-74CA927D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49D50242-B053-437B-872A-90E671DB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FAAAAA16-B125-4207-A373-2B076BC5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738426A9-430A-4B78-9727-AE493E8C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E208A38E-D800-43DA-83A1-E20C59E4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47F5B-48CD-42D1-A680-4FDD203D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CA3DC19D-3521-4FB4-AC31-0586EE6E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F059DEB3-E8C7-4730-8E86-DC343143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8523CA47-D10F-40A9-B9CF-D1BE8E5D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99A07B8B-FFFE-4411-AFC0-B5B67E4C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A6FD4862-B837-4225-BE39-9810280B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9168E4A0-EB11-4D1C-9284-BB62EB12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A3589871-5C8C-493B-9DEB-E13B1CB8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E7163887-54EC-4A38-8B5A-7368C7BA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ADFA29CC-EFF4-424B-AFC7-9F9EC3B8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FCA0983E-81E5-4AB9-BDC1-7E6235FA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F13-6DF2-4734-93C2-0587C16C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4D280-30FD-4E04-9BF5-EBB1C936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91C81E79-FDD2-4D30-B875-C972557A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CE58041D-195B-41F7-8B0B-08AE23EC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C57DD346-662C-4541-8262-9411FCCF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55C7E945-54FF-4A56-A4E9-FF0D7DA1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BD86AD44-11F5-4FA5-8BB2-D4B8B549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3328B9ED-1851-413E-87C4-0661A941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BD5A95A-2B7A-4F5E-8EC8-12B9F4C5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F917F8D5-9B2F-48EB-BAA3-E70F3510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D30B3611-A67F-4798-A959-1C08485B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9F0D03A9-DBA8-4377-9794-141213DB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B2D8F-FDB3-44BD-A96B-8187E4E1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DB0477F9-6AAF-420A-88CF-12E2B5F2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046AA60F-C736-49DD-9D2C-87BADB08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FBDEF032-9385-4D2B-8A70-6D576C9A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DE680C1E-FD2B-4ECC-9DD9-9FD74852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FE3C2D11-14C0-40F5-B60D-065910FD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C2D68710-096C-478D-99FC-C926E8D5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C33042F2-708A-471E-8F5E-40613A60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DD02FA90-917D-49E2-804B-5D72F3C3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E6070A52-CA33-434D-BB7A-C6C874BC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B83ED853-9256-43D6-9FEF-2EB951FA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1B7E5-7415-4C63-8B4D-08842933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AA316AEE-D347-4683-AEF5-30D5CC2D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17E58232-A5A3-4322-9238-9A124882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AB2C532B-D7D0-421C-8121-49060EA8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ED654EAD-03D7-41E2-9705-486A26BA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A8659E0B-E095-481D-A730-4D7ABADF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F04B917-BC44-4C37-B5DD-59EAED31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DC24C4EA-D026-4B63-904E-B12765D8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6A5D777E-9774-4052-81C0-BED57EF4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495712F1-CADD-4F60-81B3-E9C1D9FF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F1BBA537-F5BE-4451-AAF7-2C61ADB3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29EBA-8784-4BE6-812A-9D1F7907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D8325CD-C3CC-46BE-B57D-99EE612A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72EA3B1F-974A-4C8A-A6BC-901CED64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D893C52-C7AF-4774-9999-0A2AD9F8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AC5069C-05BB-4F31-9058-03A78365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B7188AC6-8CBC-450E-B176-769EBDEF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9BE064BA-AA5B-437C-8095-94FE591D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E6499BA2-A0C2-4E6C-8AB6-1CBD8FBC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B2475B93-3F4F-4807-94A6-DC9FAD1A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373ECC2D-67BC-41EB-B7DA-1D964215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D03CA64-09BC-4776-9B82-86DB7089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9360B-2DAC-4236-878A-76C054D8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13D5EA0E-B340-4F93-83F4-AA5702EB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18B7D6EA-35CA-4D56-A759-0E4FA1E7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40C7F4E1-E385-41B2-9FE1-4AA96AFE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8B8CC060-8F74-4BF7-B19A-09872A43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5A3FF5A6-0DE2-446F-805A-FBEF6A46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395CEF37-9BBD-44F6-95BD-8B72AB11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D63AB660-6BA6-4DAB-8AE6-8F0B29AA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9EDCF8E1-8363-414A-9788-E682FFD9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9AA87D46-46FE-4F7F-A62A-6ECC82A5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74AB34E3-F09D-419D-8A34-C3EF0F5A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7BD25-8B95-4C09-9FFF-B1D309E2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FC619327-2B89-45B2-A244-D1755C68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C0132EC9-8599-4324-AA42-AEEAF76F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6257B38-F82F-4C7E-9572-672A5180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D1BFDBAE-C349-4E96-BC9D-E704C22B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B7CA3069-8F6F-4761-ABCE-00D1234A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50D1B629-DBB5-4002-A070-6BC95A4E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C0CEF05A-B956-4CAF-8B0C-06BDE896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F9D06E11-7396-4802-A589-968CD555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4AA1D6B1-8C18-47FE-9933-54CB1849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669A6BC-E674-4559-BF23-2457F858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B4C64-EFE3-412F-82D7-6F18D498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AC8334A1-0594-47A7-AF26-E2B65784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AA468C22-97BB-4EF2-88D2-161DF0FB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3138C731-F4F3-439E-B52B-1D4B8494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A454D594-1FEB-4342-9B5F-48C70645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24C9EC4C-D460-41BE-9196-702A99D9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E68B0DE3-9EF1-4C3C-A2C3-1484F598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AD12946B-5F46-4DA0-9DAF-3F255FF6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D7A2B17F-E046-47BF-B89D-AA1BF159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3943602C-3DD2-4CF3-8E6E-0BC77A15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88310860-ADD8-4FE5-9EAD-B7E8AA68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9627B-0633-47CB-BDD0-975CD2C8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9746E0CE-9DBE-4F38-981E-2C7B07FD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266A8769-7591-417F-8AF4-67B08B9F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ACBDAA6D-993C-41D7-92E6-EA3FFE50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62F236C9-D1BB-4B02-8CF8-2F3EA097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119D069A-F5A9-408B-B72B-F4F901F5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117D1C01-3059-40CD-AAD1-B1C58989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02F38818-CE9D-4BAE-9364-0283827E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DBB0CE7D-801A-4F91-8FFF-C616AF30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1D404292-3ADF-447D-B2CC-402F2005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0F2AF68B-A12A-4749-B41C-FEB39FF3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743E5-41A5-4C76-8B9B-FB2A2486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664B1E89-3957-4F96-854E-2BE02D89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E40FA194-D45C-443F-87BD-CC8E69C6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246D2619-4DCE-4B54-A6BE-2CB42E8E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081CE3A4-7AF5-4139-B7DF-8EC10BB7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CD4061DA-D311-44DE-BC0D-1AEBF580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CC7EA9E5-B7F9-46F8-BA77-94426E1E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A3CCD223-839D-4E60-8D61-7F7030A8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A82F7413-D95E-42AF-8DC8-DED6AFFA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0D347DEC-A134-4054-9717-EEF44BD7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CFFF6571-2EF1-48CA-A260-2FB1F85B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7C86A-0F7A-4B56-BA9E-BF88EA7D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CFBD5819-DBB1-419B-85BF-87B1368E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3A467580-5F80-4BAE-87CA-10C3E83A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F87B1BBE-CFB9-4DD3-9490-4B2E811A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DED33E17-613F-42FA-9EE6-804EA041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76AD9DE1-ADC7-49A0-92B5-294908C3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9E9A6E13-9774-4698-BC85-7023B416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A83C8C0D-4BCB-4173-8C33-7C2C6624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B285BCD9-A2D8-4463-AC11-37C70988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C3CF4AFF-8082-4DA8-8BB9-52A0E56E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ED4658C9-F906-4F08-945A-EB86E621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86A0-B590-4B37-8F6D-EB2DDD64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58C95-E707-4E9D-AA6A-F1DA98CB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A7AADA59-4691-40D2-8006-67F56553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36CDC17E-4B69-44EB-B356-7CF23A15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FA0E8BA5-2A9F-4974-980C-092D9573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9691D9BB-C5B9-40E2-8F8A-42A0536F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0A0F5B5E-4EC7-49EA-B51F-CD97DFE2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DE2BC0B9-FB90-4E3B-9A49-8C5735A8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894776D0-A2B0-403C-95A4-B6283510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93EC50BA-980D-4576-A75D-372B9C04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779B733A-21B7-4D9A-A338-2209CF58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7D97E1C9-4F76-4798-8917-5C03F73C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213AC-FD73-4FEC-ACAE-681EB849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F6C1FE9F-A952-44BC-866A-1ED6F173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227E6099-ECF5-4085-A6D6-2356A139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F34C4574-252E-4B76-B8EF-C1B1C92C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A10C44B2-0347-40F7-B915-CF200CCF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22A20DEB-512A-4B8B-AF77-1E87E8D3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56117F13-EDE7-48FB-9836-358254C4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F7B1BC7F-68F7-4385-99D2-2B3D8595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B8A44C61-C258-448A-8DF7-D55762F3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CB28252E-341F-40CE-9A9F-F27BD8DD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1763762D-9F17-4E51-AADE-7EB7E0C3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12193-77A5-418D-9FB2-59781B9A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84312608-28BF-4B18-8860-F070279B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B5DE8606-454D-4B26-8349-DF70841C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2328C43A-B590-415F-AC03-853CC13D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5DB974A2-AFB4-4D9D-B495-1560DDD8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6D3E0680-0075-46D8-9255-2E94DB87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6CE4FCB8-2FAA-46AF-A06D-A98C8399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E539F2D8-AB44-4F51-BA39-E9EBEF4E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773EB7C6-7455-4C35-8213-9F16A285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6077E3F8-7731-47BA-911C-90B8BD8E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0DC7D4D5-8EC7-4726-818A-8B978985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3811D-679E-44C5-8D82-9A2642C5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38EE6984-65EC-4335-991F-3EFBCC9C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85149E18-6D5D-4D6F-AEEB-2FA64165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D8594F36-3E3A-4152-B95B-1F437C58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A7471F5D-5299-422D-BD93-A22AB7EA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C47CB2B6-D3F4-45CC-A681-22B5AF02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73D3BC18-422C-4D9A-A558-062F9693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B699A4FB-9817-4CE7-AA1C-65CFF329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F1749F11-B9E0-41C7-8596-5F3721E5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44848C67-B738-4050-BB2C-CC6DDD10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0FEA66D8-69BC-40B1-BDC9-4E2BC411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BD805-331A-40B7-A377-CE0954A7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21B5D8E9-4C9C-432E-A32B-57226E3F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705FA45B-40A3-4875-B067-15CE8FC2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FA1AA773-A3ED-4F32-8709-37F5FAA7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6BBAD8B4-DFA1-4D85-91B4-81D59266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40263D12-19D1-496F-AB6C-86F96B60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991EF22E-A914-418D-812A-165F94E8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25330B4B-4726-47E0-BCE7-11E1B7F5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85181C1A-578C-4934-97F7-CEB0B5D7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927422CF-F83E-4B0C-8E34-7DCF33E8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62E95EA2-E582-4005-B2C8-2EA8649C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101A2-89CE-4DF7-A84E-A7329AF4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27D0E3AF-1A1F-4118-BFB5-508DB9E1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C627A3AC-120D-4536-B1F7-DD16732B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ADD10964-D195-45C6-94F5-65AD3D65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33EE2D0A-A15D-4A61-A506-66AFA841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97946139-6FAE-4E40-A27F-960100A6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F9E987D6-5636-4BE4-AF8A-2FE0F056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B1FD9F16-83EF-432F-9384-FA8DB3B5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D0A1236C-1C56-44A2-ADF6-D64CB6D8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D97ED218-EB99-417D-B209-584FFE03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B204F0DB-91FE-444F-8025-20467A32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4A65E-E7BC-48DD-ADCD-7F86CD5F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A877AEFD-9C68-4268-BB90-761264E1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7C02A9DE-82D2-4ED4-BC1A-A35711FC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2FE0DA85-1251-4821-911F-55C320C1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187A89BD-73E1-484D-86C2-58DFB3CF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7A005F4A-5BC0-47A9-A386-C62763DE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72D96130-9186-48EB-B91F-AC5BE283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1CF0440B-C7AA-4556-80D1-532AD224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1C91D063-CBB5-4BF4-889C-5CE77A86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11864720-9870-4A90-9864-26A6F405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30057958-A4DD-4704-8023-204970E3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F79DC-1736-4DDD-81DC-1FA5809C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5B16BC11-B2C8-46C0-AB5C-058D58D7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761DD4A6-29B7-48CE-950B-975014EF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F06C8711-28EB-428A-BA88-C1673B3B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5BD6FC50-DAC3-4DAB-AEF2-8A756E00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30FE6716-05E0-4014-AE3C-B68AF220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C917853E-0A8C-4019-B953-8668084C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D746722F-BA11-45A6-AE9D-9BD5C707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BD192A7E-73A0-4FD9-BBDB-820B31B6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48CD9F42-D9DD-4FE0-9BA4-AE5D4F6A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79E2CE5C-FFF2-4BD5-BAA8-FC7721E0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AEE61-771C-45D1-9BD3-37707F6D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B09B5FC6-B8FA-4762-A3D1-6D36428D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CB9391EE-A983-4433-92F6-BCDB7313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A6690EF9-BE59-414D-A5E0-A425FF77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B3E11A7F-0A7E-44E3-87BB-8BF2C119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774217A4-ABF6-4D0B-858D-365ED2D0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5EA6D31E-1EBD-4EB4-92A9-74B16D37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ADDE9F30-DF58-4CB1-95A4-92D6C531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E5498FC3-B4A3-4B6E-A96E-49B20DA5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9E367EA0-D534-4140-AF44-DC8F5F03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9F23D0D7-3D58-46BA-957C-6BF4D94C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310B3-709A-4D34-8399-419C51FF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1DDC71B6-8D39-4446-ADA8-CFB6D1FB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35A4BD7F-E04C-4729-9C2E-C634EE31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3AB35A5F-EA09-440B-9FA7-A908354F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13525459-97A0-4138-855B-729C10E1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51F1CE1C-4A19-416D-A25A-DC91FC27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FA2333DD-C4CF-4551-AB9C-96BF1E9A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361CAA78-4B8C-479C-A6E8-20060FF2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CE835279-4856-494B-A9AA-6BAC532D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266E7DAD-9D7A-4B90-8543-191B67C8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68C6738C-6122-4F0F-8647-D4DD16B1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4F02-8BAA-4F66-B0A6-C23D787F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0956C-E942-4B8F-B17E-950816A3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15785999-911D-4E3B-A39B-2D46B813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8F4F6553-16B1-4060-8DFC-AD7DB930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2B84ACF0-F81E-49D8-A810-0D6E65FF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9C1F9920-7FB4-4AEC-9687-6E39103F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ADE158C6-CE1C-47A0-BB28-889F135E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FC44DCD1-0FD9-4A4A-88F1-0FADA9E6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C20D0AB2-3E82-4124-B387-0BBEE82B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8BA06506-399B-4B23-98C0-779B88C0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6DEFB293-26B1-4D58-9347-7D64E10E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5998A5F1-4A40-4379-9296-7BFD413B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E9825-1E5C-4242-8EF4-1B7BA58D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61F37818-11D3-4F40-A4D6-31DA49DD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03B58A87-8EF1-415D-A5F1-861CF3F6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C2CD9961-7600-4484-A761-323623C0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FD99F824-C3E6-4202-B9AA-45610727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DDB7903B-48A8-471F-A568-01FE91C5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B4C2D975-D0F0-4312-8800-1E6B7F89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210C246C-CC1F-4737-8169-3A402453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EC63EE0B-3D8F-407F-AC83-A0D9171C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1927D06C-81C5-44E3-A195-60D53348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E7D95B61-9DB7-433A-B997-A737256B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42023-CD75-4673-AD0E-CFA23333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8DAFBC2D-E8DC-4A84-9746-97E4EF24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59B4F23F-E2F2-447F-95FB-69B86357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25FC4C79-DC01-42AF-AEE0-48895A99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9504A6C5-A0D7-43D3-8F63-B686C925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CBB65FC4-EF86-455B-BEAD-B3FC6DD5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29A29E0B-58ED-4E77-9ACA-B35A2EDF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2BBE3CF6-E00C-4D3B-8010-BD34779E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0511B7FE-D1C3-4BB7-9937-A508FE72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51254770-A326-4147-949E-39C40656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8F56D2D7-EA40-4C33-8796-B204E5D4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C9BBD-CC9E-4FBA-A5D4-28063B90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03EA35DD-55B8-4099-9333-989C582F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9980DF92-AD05-4187-AC5B-5D513E93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0AEA42AB-43DA-451D-960B-2A89A7C1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2993D68D-AB4D-455B-A08E-12C7E1A9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138B1B4A-0A68-48AB-99D1-BF4CE9F1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83F1DEDC-4F34-4D58-90E5-6DFA1A48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5C5D1B6F-60E8-4F03-91A5-49295463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268B5AA4-9214-43FF-BCB2-79E11ADF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02EDA76B-6EC0-4927-90D2-02E0BB0E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39EC3CEB-2FE3-4291-9DB0-17784F5B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1BF4D-DB4C-40F2-BD32-72BBC737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2371328C-1E1A-4225-8733-F0A73429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D6A824C7-8733-4187-B683-60E7E32C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BA4281BE-8A4C-4B3E-BE06-84F0AB15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DE83587F-CE4B-432A-9287-C3103EB7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7576D5E4-2C0F-41B5-B355-BCB72612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58AAA9DB-12A2-48E6-99F0-94BED42D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F099FD60-0553-4B52-9C73-2836C0ED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2DF6FEBD-37FA-41A4-9032-EF62AFF5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92CCB4A9-EF12-444E-8966-114BDEF0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2D86FB63-832C-44AB-85A4-4AF53C36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4630B-B287-406B-ACEF-5CA0B751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05BCBD17-73E7-4771-A614-D6D9959C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E6434295-6B3C-4398-9884-13C766D1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28FA418D-BB03-422C-B1A2-25722A53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AFFBA3AA-9F4B-4C18-9DE3-D7F6B89F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67D822B5-C664-4B68-AE18-E34D69F5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A8B1F5AE-DBB6-43DB-BDC0-7DEAF03D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2AC6C1BE-CF79-496A-8C0E-4E82FC46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121BABFD-E5CB-4710-A36B-730E5BAD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6F7AFA92-F654-4144-9981-2712ECC2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F54205DC-63FD-4245-8957-08E72F48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028B4-D7E6-4BBB-BE73-782C0CF0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BD8A8CA9-CD44-485D-8FF2-3E6A8989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3DD767DE-CDEB-421A-B26E-70409207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5D7C32B7-557C-453A-A008-962AC9DF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5C24237C-1520-49FD-AEE3-01042D32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4EE6679B-CE42-4EAD-9CD3-6BB8C3E8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666BCA0B-2B99-4782-B4D1-F11D85E5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234B9DF4-8426-48C4-A920-927499F0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70190049-756A-4BFD-883A-0BCE7479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3259C219-34A0-4642-997B-CDDB6DA6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CBAF8C5F-CE37-4DFD-921D-39B0C827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8B7A82-5DF1-41CF-845E-06607C30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7F632718-835E-473E-9376-5D73F466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4E3CB48E-6143-4D9F-BA87-1F667EF1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08F86873-5B47-46BE-BAAB-83E20BB9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5B3F35B7-3468-42E6-BFDD-931C320E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32F246B8-BA17-433E-B91B-B45C879D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335106D9-19CC-454B-A34E-A9D2A20F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69440774-97D3-47E9-A48E-955DAB2B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DFA62541-82C5-4D8A-961E-7C6E1524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3D0907B8-406A-4A8B-881A-9C427080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AE4702DC-C04D-44F0-80CB-CFACD4A0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0A1AA-B8BF-425F-BB76-28485CD9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5A232580-DB0B-42EB-A488-21992CA1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EC9BB2A4-D8BA-433C-B0A3-5C46E369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548FFA81-0B9A-4AAF-9E25-F7DF42B3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0CEED23D-C631-436B-94BB-64718247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E94C7BCD-A71B-4E6D-AB34-2428FF2C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CD08EFD2-F413-4095-A996-64EABCFA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8E1C5FED-6766-4816-BF20-348F84B2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F2372593-0A40-4287-8C90-760A259B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624B9B6F-A7E1-413D-BF0E-0A41F9B6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1C026759-0B6B-44C2-9F2C-703CA6BD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A6F635-97C7-4D47-AD9E-65F4143E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4D44BA7C-8679-4F9C-8ED6-FA238CB9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83D15A4B-CC50-4815-A1DB-8AA23F02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D64DE4FF-0F6C-4CAB-A7C8-D18BB727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6CFA4629-DC77-44CB-B4FB-6F97BD91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9C754F1F-D1F4-4C75-972E-072AFFEE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E3F25BFD-6B44-4228-92C2-43674D16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AFB95FA4-0D3F-44A7-9BFE-00949F77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002AFB44-9CA9-4E36-8879-B87FDC52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6D1FB44C-123E-4516-8D6E-E4E27A87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C115CE4E-A261-4F1B-BCD9-4E83A75D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EC3C-5AC2-48BE-B4B1-016B18F4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A3142-F122-483B-A394-102F3676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E27BF81C-DE67-4D2B-B444-2D6B272C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A7C5B73D-9877-4949-BD7B-547C40F7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F887DD37-9A31-490A-B1FF-F9E72611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20550330-0EFC-4C81-9138-87BF8852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1BDFB8D6-55CD-4681-A627-5C2AEAB3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946F61E7-5214-47EF-A765-6858CEA8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2167863D-82CB-480D-877D-423D0C61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4926A9A8-E74D-43A0-ABDE-08F5E158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EC11DCA8-7F43-470A-89F4-370D1A1E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EA3FC3AB-3238-47FC-8622-30412181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C5F4F-25EB-4F35-87C7-642BAA8E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A65F911C-6F4B-44C7-973C-55687F7F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257F3DBE-E3F4-42A6-815D-A31770CC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BA2EEB77-14E5-4A7E-B060-009F7386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892A8A0F-2666-4DA4-B11C-E3C2BCE8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C053D22A-21A8-428E-8539-3D9A2791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EDA9DBAA-6355-4B3B-A42A-E4F40CAD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161C7341-B767-461D-B2E3-69FA7F58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4D82507F-749C-48AA-8F3C-E8C3EBF4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6F807D87-B666-4DA5-A358-CD26C38A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8D4988C0-A622-4497-86BE-0E619217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D733F3-3478-45AF-9ADC-9AD4966B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AF4C0D60-49CA-4C4B-A936-8D308253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F53A164E-EDB2-4CB5-BCFE-4B1C9428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DDAE4700-DE9B-4386-A866-6A6B0718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EE360AA2-462C-436C-AFAF-1467C9F5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4D1D61DC-D4D0-4810-AB09-091F7582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4CE5D1DA-ABD8-4334-AA8D-1C4AADD8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58C4981D-69A7-44F2-95E6-D2C8E0F5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074A1E57-5FC3-4D35-BAEA-32D27A5A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1C912775-A3F6-4FE3-9A97-A1776A34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45400FB7-5630-42BE-B983-FA8D82A6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94AAE-3CD6-466A-BFE6-6EA9CF2F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45078F0C-3566-4176-A4F7-3AD54230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69D53C49-C586-4A54-B325-D29A562C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5388F2F5-3214-42AC-93C5-2E8E50BF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F63BD6FB-5D64-4F68-BA19-C47BBDC6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C357ABDE-EF53-4EAF-979F-1E235266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6B2A057E-39E1-4A2B-BA91-1B49FBED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65614D22-12A2-4FDB-84EA-68E023BB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9BBA0568-D14A-4B96-B216-6EBE86D6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69313663-E429-4241-88DC-3521FC82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D97C94D7-F6B2-4E46-8A31-84FC8FD0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8B2AA-1A32-4615-A4AB-E3F2DBEC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1DFF7F29-0ACF-4737-B425-6E431C51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3F55D89D-AFC4-49C6-BD7A-A5B976AA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10CE357A-BDC9-478A-B044-EF28137F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A9747BBE-E473-4D30-B7F9-B8603EE9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1BFCF64D-E312-4FCB-B435-1984FB3C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2E814B7E-B03D-4F73-BC11-39953FA4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11CBEFF1-0258-4EF1-AAA3-4D7D213F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EB3D1A46-03BF-4D02-B801-D0640D24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C6FB455D-3D01-4D03-AC00-7CDCCBA9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71E1AFD2-4F23-41CB-958D-C088B3EE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7D391-753F-4D6E-82CA-CDC1EC0C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C02984B2-2A83-4CFF-92C6-A5082EEF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B565CEA1-1699-4FAD-8A38-4D7FF3A0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77F12CA9-D4F7-423C-BC8F-E80C0F7F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E391408F-AE62-4924-9962-66F98ACE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1B3DBD71-78B8-4667-81DB-2D3FADD7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EB3EEFAD-4FED-45F8-A126-6CF6B019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CC409468-5F70-4FEE-AF00-6E1FDDC3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36CD82D9-0BAB-4CBA-B18A-679DF0E1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73F37311-7E04-450D-AB6B-BB2D8941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B68B4B74-62A4-4120-83E3-DD5A7035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DCA2EB-F024-4757-B47A-85E769D7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F36109B6-CEDB-4878-B091-A82FEF94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BC33D1E6-070A-42C1-AC3C-6AEBF7B6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C14EC443-B209-4E69-811C-8689C9DC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7845E0AF-61E2-4086-A998-C60B34A3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E2D3CBD3-45D7-465E-8818-1019D9F0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3FE2615D-80D4-4234-96FD-AD3B21C1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48F70290-2F6F-4B46-B60A-20D67287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342A0951-EBF4-4167-A2B3-CFE7E70C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67CE9D3C-0449-4650-88CF-04E75A43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7337FF49-6EC7-430F-88B6-369E4BCD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15D33B-2542-40A7-A6C8-250FC2E6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BDA293E7-8926-4CE6-818B-2E3E78D4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9E63AC26-38AD-414A-912A-7D83C700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482A4FB2-BBC0-4529-8621-EDAF568F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99DEB529-9115-45FA-B900-10C74C79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79D5F933-9224-48A5-9EB1-5A15A15F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C9BBBECD-C39C-4E72-BD37-85108F00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540FD765-96BE-4036-825A-953E5BA6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DB23F0E6-5C64-4013-9CBD-C4B77770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7DA5547D-85EB-4E6A-898B-1D262A38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14D992BA-F144-4BA5-AFC2-E285A87A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48C68-4152-457B-AD00-FF0EF47D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CAE464A9-AE72-4F92-8136-20B225AD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68A2588F-3865-4CAE-8096-AB575201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2327CB02-AF11-4CB7-B799-640BFE78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5FA8551D-EAA9-44EF-A6AF-E0710DF1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E37EAF35-01CD-42EA-9D52-FD4913DA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C10A36EB-DEE9-4CF3-A2B8-A4F3B625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F7BC176D-BB73-48E1-867D-E52ED26A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708954AF-FB47-4AF1-A887-CB73E6E1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A64FF11B-0C54-4EE4-8CDD-9BB0FB92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7E9B65D3-A8D9-4A51-969C-6C0B54E1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CD1B57-4BB0-4390-82DA-9F50552B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21E9F9E0-52C4-420B-A1C4-7B947677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D11BD62C-B657-4590-9963-FE5F2D31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A7F1B1FA-4D34-4A45-A8E6-3A5B6971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8987F533-384C-4091-A968-A98EDEEC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1D8F1BFA-8E60-4EFD-BCC3-7307C06F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B5995451-C10F-4C1E-98C8-4F55096A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9803596E-5D6D-4F38-AA30-D096C881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FB25AFF5-E22C-46F6-8035-08983FC1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43AD6F63-DB51-4AC3-A5D0-D792D951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2FA399FE-3195-4A24-A4FC-2A331160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C280-9024-485D-81E8-ADA114FC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626619-791D-45EC-AFD5-1ECD20ED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9F905363-A9DD-48E3-8823-FFF547C8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EDEFDB57-5EDA-44A6-813E-6ACB5681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756DD675-84FD-4B34-96B0-F2C4FAB8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6D303CC7-DD18-4EC4-B756-7523EB7F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C47A93D4-70FC-46B1-8FED-AFA815C5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9BEB31D0-3B31-41B5-A1F3-DCF7694A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CACF37EA-A1FA-4BB8-BFAD-98594C78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D895C6C1-B68B-4EA5-B97A-7E027779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0041BACC-003C-4BE9-8708-7B0766E8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67504B6F-2C4E-494B-B14E-22D2BD4A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0D8E49-2944-4CC0-BBDE-813DFF28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A3A18F44-AD49-4B57-8753-ECB38966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B9EF26DF-5F35-4A9C-AC96-9BF2FE14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530EB181-CEC4-44C5-8D2C-4C633879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184C058D-2801-4B73-80F0-68F57D56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B31CB1EE-6D77-4599-BCE3-2AEF76B3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6B50BE5F-C43E-49C9-BD90-B2A43876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EB5243BD-9A11-424D-AEDD-B05E1F70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DCF02A1E-88A4-40CA-9630-3DC4501C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7B0EB6A4-E2C8-44E5-9419-9BF1F26C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36C31334-FB07-401C-852A-D24B1C1A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A1F67-4A9B-4B7F-986C-77577C09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F7A98B75-B1AB-4EE5-8DEA-9FD911E0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677DC1F2-6AC1-4A53-AC1D-A1C17555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2A88D31A-7C9B-4CC7-898E-584EAD65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3934A28B-189E-4304-B89E-79DB04C1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1C9900C1-901C-4EC5-9091-261474AE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956DF924-6076-49C4-AEAB-CF56E350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095C8466-CE1F-4D88-9A2B-ED66CC20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1F49625F-3E82-4AB9-BAB0-33156F91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F67058A4-8BC6-489F-BD7F-B40D2068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6B1D9A6C-16B3-49B2-8EBD-A6891E85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DBD4CB-E4D7-422C-A14A-F83691BC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AAF7CE1F-DEA5-4FDE-9FB9-7A265108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6C687AD3-EC94-41B6-BD4D-3F4A9232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BD13D38B-22EA-40BE-AFFA-979C0B07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20B154AC-4019-495E-9E31-DAA34AE5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4396A9E2-581F-45C0-A50D-03F0E571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BA537C08-7588-4064-A7F6-821D3CE6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F52DC641-AF9E-45A8-8C01-4ABFFD1C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2E8BE565-F71A-4322-A689-0748BBAB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BD573654-DC72-4398-A48C-63FA2976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6B5C2192-60A7-4E9F-A305-496C47B2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ADE932-5A85-4043-A05F-B54B3626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AB157B94-E772-4483-83AF-2A1DE75B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D94B09BF-55D5-4B47-8320-42C5552D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2353D6FD-4D58-48A5-8BDE-4EDC18B9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AA24B7C4-9EB7-4DC0-B4FF-ADDD2FDE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457C2F28-B420-4808-9358-BB7C8B9A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F9E4859E-4E3E-42A1-ADA4-399BA2F8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AD409DC2-B175-4269-8C08-52C96D28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9F33AEE1-A87F-45FB-80A1-0CBD6448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66FD4656-9CB0-48CD-935C-7FC6505F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6C9DFC65-9460-4229-9E27-C5A6468E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B71715-0738-4563-A1C0-ABB22591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3E8224F2-CD3A-4DFF-93D1-7D0C2AB5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89B910E5-BA23-411D-8003-52F77122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DFF62EB0-3093-44EA-9333-2D9276BA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9DBE08B4-59BC-471E-8067-7E941B91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75BD200D-7903-4EBB-8DEB-A70B393C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E287CC85-DDE5-40A8-AC1A-935FFFF8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2635CE38-7503-4BFE-B235-4AA5CB71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593064E6-71DC-41F3-ACF0-F198DE2A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0BB3DD70-E435-4FB6-AED0-E3AB7C41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5F7A3058-ACEC-4549-B04B-655B9189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82933F-7740-41F1-9E5A-E6DA3F15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030685A4-88D4-4313-AB1E-B9CA7028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6CE344AD-62E9-4CD5-A1FF-FFA6AF5F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77A9D647-A265-4FAC-8F4E-D54C65CD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392A5ED0-C5F4-4AE5-8D28-407B7580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72983327-706C-408E-99EF-A4A9D2BA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F42313C4-6B57-46C0-B6D2-78001048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15185A5F-AE22-456E-9FD6-F991EBBC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3FEE1E08-87AB-4585-8516-11438C4F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552A976F-9C61-4D2B-AAB3-08F1ACAE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CBCACE00-839B-4ED3-B627-B646E181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6A0E1B-4E00-43D1-9AA3-A7F1A5BF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58B14DD2-599C-4C3C-941E-8B5DCD1D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938984B9-C08E-422C-BE7A-D75B33B5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3D9F18DD-83B8-4E7A-9C74-CEB3F72D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3BE59B9B-1B51-4B9F-9A0F-D0D70142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E8EE0FFF-2558-413F-A728-A18E326D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A3E07BE0-F61D-4819-87CD-3A22B090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72DED858-1DBD-4551-8A74-C08E6881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134A3812-5144-4174-A67E-56F5FEA3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E778CBB2-91F6-4A0B-9637-FD591C36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A295D8A5-94C0-4FAE-872E-FBA83D7E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CBDDE-9467-4990-B975-5727A281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28F6D199-D204-4E17-A2DD-8C72184A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C3CE0B46-AFE3-42A8-B0B2-C996B3FE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E8206131-793D-4288-AD66-025FE6E6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3F6F3B70-6048-4DFA-A06E-497B58ED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93AAD3A2-3070-4B1C-BA18-0B6A4532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AC7CB1E2-4FCB-4236-950B-B5B1D373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DD2875E5-E804-4CC7-8DFA-1485C907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5201684D-C901-4890-8ED8-11DD60D2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DFF3D9CD-A0DA-48E2-BC85-DF80F405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C0C6033C-8B7A-4332-9C3A-8500EDAF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237E8F-BE74-42E3-B18B-3F8D9D3A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E0820646-FA09-48AC-90D7-55ED9E9D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68B4D8F9-906A-45BC-877D-1A7C43B8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BD697A8C-49CD-4CD0-8BB7-DB3B429F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42ED4930-C250-4E75-B5C0-CB608A05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C95A08A9-6C7D-4A98-BCFA-DC721A36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DEF16D2D-AEB7-48B2-9FE3-32618B6B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6DB59318-952E-428C-B00C-4AA3012E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09138323-9C85-4D20-8E38-FF4F0A1F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35F3D0E4-DD16-49BD-A8D0-1F831F61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FD8DC40B-579B-46E5-8E4D-C143B503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B800-67FF-4837-8C79-F4341630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8B4D5E-EAC4-4BA9-8737-370D5591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9D88A10C-BD8E-4813-974A-D602EED7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6B79A8CE-84F1-47B6-AE3D-B987FAD4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4DC299B1-4132-4FE5-972E-1CDDB62E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426C90CF-EDFE-497B-B7CF-E69305E0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20B734BD-E314-4963-832E-6B400C97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E8885F0F-3C0C-4EA8-B413-3151A7FF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FD0E574A-7A99-4DBF-B986-7B12CB62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09F95388-9DB7-4B62-9D31-39B7E513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6A7BA795-58AF-4163-AF7F-728712D9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021157FC-A4DB-4D82-92FE-600A688B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308912-C2EA-499A-A306-0E715C62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3501BADB-B78E-4FD7-BD2C-CE638E95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88FD3B5F-F58B-47DE-B966-9A83604D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7484B3E7-DDAD-4D27-937B-440B0FFA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197E38B6-2AF5-4D5A-ADED-B7975D32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782D9E64-FFBF-4CD0-BF7D-7DA58696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227E64ED-7C86-42DD-9879-64530BDA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5E035FDB-5343-47D6-87FD-04E4BDDE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7CA3FBF1-4F32-4026-BE0A-2FEA15CB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B7A7E169-B5DC-4E64-B94B-E6BE2B57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5E7D97EA-05E2-49FC-8CBC-7953DB92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F2907-2B3F-48A5-8F53-942C5ADE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2BD734D3-7419-4C05-BCF5-55B86EAF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D30D7A91-E900-499D-A44A-90C0CDC9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E51F7304-DA39-460E-90CC-850061CD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98FB4887-D6D6-4F2A-B7B9-AA8A10C1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678436DD-05AE-41FC-8A4D-FF4B42DC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5EEEC039-A12C-40B2-8213-52B4E73C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9B5A9505-834B-4820-B634-1C97F957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A8CE9FBB-8219-46AC-8F2D-40397911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CF7C7EC3-BA67-4D5B-B971-52815E20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4D424E6F-F11A-495B-93AB-CFBD1347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4326AE-9391-41F0-83B3-B3D7708D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0A223EDB-F18D-4297-96D4-D8E31199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73540287-B7AE-4FD5-A94E-E91A9349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DACEE653-8C98-40F7-8D90-B7E18318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96428767-099E-4828-BFA2-A1E8BE2F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E267A88F-4C34-4B79-810F-54CBAF6B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7E31C72B-4A62-42EB-A580-66C1EC01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5154744C-0AC1-4CD5-884D-A1059892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9FCD4C6A-B43F-4F5D-ABD9-AF58EF05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CD502E98-C9D9-483E-8592-2C87DB79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CBD7B452-EBE2-4BE2-B6EB-3ADEF2B8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2E8F6D-7B9B-466E-9C05-B1C7ABC0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8E911ACB-41C1-44ED-8845-1EBEF001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731C9D-3687-47D4-910E-60880424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AB5453-35C3-415D-AAA6-5B5D7CA6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DE0FA1-33CE-4CB1-90D1-F167F73F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B0FB26-9316-4F80-9A23-A7F84E44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BA1DDE-4CC1-4971-9113-AD22805D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8A4A-DD12-4686-B6C3-36DD1BC9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BD34E5-F117-45AA-BDE9-1EB8B3F2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CF7BBA-B2A3-4A3B-959D-9520C3F3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D1CC76-1078-4B91-B94D-59E8A805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00EF98-68BD-4F48-A878-F4D06CFB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B60D5C-07CC-4E90-92C3-D394049F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75770E-84D9-44BC-822B-5B43590F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65914F-75C3-4CB9-B56A-9DA93FB1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0B87E-3B9C-4D97-8543-F4832EA9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050365-91F3-472B-9F92-DFCAC6ED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C152A2-33E9-47C4-9DD2-6B904701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33BA-6960-481A-97A6-B7E4DE05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D9F46B-6AB4-4472-AF55-30B3FCD6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9BFFC8-5A74-44DE-9C94-F0563274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811036-E364-4149-BC7E-1FDC66C8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8E2D47-829B-47CD-93E0-C9D369BA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4A6B1D-135C-499A-AC68-F100AB3C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8EFA28-613A-4C2B-8E5A-352F1C13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2E1460-390B-4150-A67A-079352CE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51FBB4-072B-4C9C-B13E-68158DCF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9EAFE7-9B48-45E6-9272-89CF90C4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575DB3-3077-454E-A981-79F2E3ED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C35-8FA1-43BA-9147-00B06C09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6D87-8E6C-4654-B7AC-71ACE5C6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E5D5C3-AC15-4E0B-9AE2-28CE5AFF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5CA806-E0F2-4268-96EC-B0C964F6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7B86E4-E89F-4EE4-9415-08BEA543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C7C3CC-D38D-42CA-A204-1A161F3B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765F8B-E03A-4FAC-80C8-B543B026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369DE2-FAC7-493F-A1F4-42760BBC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2C1C84-5682-4C12-A621-1D6C2586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4E5B72-C1C3-4E26-BD1F-6AC5EBE6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263DEA-2F34-429D-B52A-28FE44EE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567EF6-D5AF-46E8-A448-4DD0A18E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A208-564B-413A-AC3B-94BD1EE1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9CA212-905D-40E2-A4B9-038A3EEF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6009EC-8E9E-4491-8E18-53CDB554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EB5C30-E596-42DD-95AE-58BD0D5D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51A708-EC0B-43BA-90C8-EC40784F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9C6353-5AB4-4035-82F3-CA9C6EFE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3260FB-2705-4A0F-9645-46E41F3E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373CAC-4F82-471B-A40E-560D6305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72AA14-7773-4CBD-9DDE-FE1D4D67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8558E2-1946-43A9-B78E-D10142CD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A531FC-EDBC-4372-8860-7AF4F497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D7F8-42D8-4B06-9BAE-88C31E9E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F1FAB1-B52C-4456-AD6A-38A31BD2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2AE8F8-95DF-488F-A634-7A6E90C7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EC525C-58D4-4AFE-99FA-BB91F0B3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5A03DF-3E10-4DFC-BBE1-EA88DED2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19B409-F748-4D05-8C8E-FC98AB3E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2A784A-C117-4FA9-B6A9-5CD759B4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829A73-8211-4A0F-BC9C-8492FEB0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6B2090-C4F4-46B8-A6D3-23025A22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EBB371-F328-4B93-8760-9A30E5B5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89899C-716B-446E-8BB9-55D2E115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33F5-FA3F-4868-B496-5F3339B7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705AD2-2D59-4AF4-A9C1-1FAE4BCF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849FCB-11FF-4FAD-991D-445E0B19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E439A3-F792-4C38-881E-C6089AA6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F1A68F-772A-49C8-8C52-3F42F0E8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A4AFF3-4D23-4D0D-9FD1-60BBE5CC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E452C7-EDF1-4953-998C-4DC2F148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65F042-A111-4329-8B26-6FD5E2DA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019611-80B1-4CA1-9E8A-84460211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28E7D7-B2C9-4424-81CE-71E480B7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816CF8-241E-46E6-B14F-DD598384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B6BF-4424-4476-A3E0-4B0CEBD0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BB6F00-25AE-422D-8E7C-78B200CF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95C20F-964F-4B3D-9C42-0F39305C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E7A1D9-8D99-4CE0-88F4-497900AA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CDC0F2-99FC-4A7F-82CC-27A7092A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E39067-B124-476A-9303-F013773F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210FEC-5C6A-4402-8BED-DCB1E146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CD8153-4685-4854-A8B2-ADC52DB9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6112F8-D0BE-408F-9A3B-89380366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78A03E-856A-4D59-B1D8-78F771BB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A31E72-D6E3-4BE6-B577-544427AD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C4616-EC06-4517-8AA9-BA5CA307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DD8855-F629-4595-9B20-04BFD440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0B92CF-666F-4AC5-9316-E747D438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84B45D-9D79-4943-AC78-B1B8D885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309D19-568C-4152-AED4-03F5C7B1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11D279-A7D5-4CF2-8C9F-63C1B399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25C977-BA7F-41FB-AA6C-68434D6D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E4C867-D10D-4E5C-8D1D-7ACD871D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C2BE04-B203-4B77-90BB-74A7FE99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BDA5F1-C062-415F-B570-9E6BAE53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3C7674-963A-4381-BA19-14D80AC3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3F0CC-10B2-436D-97B3-1EC800F4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0E7B07-95BC-42D5-B463-0DB3040A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412CF3-2345-441F-A7B8-DDD94E07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D3CA98-121C-43E0-946C-FD15F459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B0CBDC-EE39-4797-AFDA-FFFC8A2E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0534EE-2A1A-4ABA-9051-5F6D4E08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016EEB-D68F-4D37-92ED-CACF5F5C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7F1E1C-63BD-419D-8E86-087CF6CB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64D69A-BAE7-4D3F-964B-8B028E39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6BAE78-1948-4E91-83DE-E2620AA7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11F93C-1263-469C-B3B3-E787A311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0BEBE-F173-411A-89EF-089D1D92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095FFA-19C9-47CE-847D-F756A32F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333789-8BD6-4109-93B7-8C51EDB1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9E3117-8180-477E-9AB9-32F04C5F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120C82-0200-46B7-92EC-2DDB02F9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DE63DF-1FE3-44D3-83BE-D0CC84CB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AD1E0C-CEE9-4723-84AD-89867E70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F91718-6EAE-410F-A8AB-648D1FCB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6D87FD-BBFB-4951-BE15-44541DF7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CBF8A8-63C5-4A8F-B85E-B5F41992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318C49-7738-4148-AA31-E0DBBDEE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3F717-7204-44B3-9B02-61D9D376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7819B5-F50A-42CE-8752-5B9879C1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C39950-0F2A-4C90-9083-60AE4407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836EB7-3888-4E4F-A470-F7BCA306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6A956D-D79D-4B4D-93D4-1A95BD40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74F34B-B965-4A46-BAAE-EF0DDAB8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6D960E-738F-4C1E-826F-4FBA7EFA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6FC73C-5B41-4718-BAD8-29E21846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393159-0099-4AA6-BE55-5AE1F231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154EEA-1E9D-4B2C-AD42-EA11747F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C6B67F-4707-445A-9387-B2BCD792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D0EAD-F0EA-4767-8B41-F1253273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103FBB-A6DB-4316-82AF-5668AEDF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ECCB86-F8E4-4081-B81C-7646A67E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D927A1-90DC-4458-9713-FA7B069D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07CBE3-5470-4A86-9FA9-C22357E8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FB5374-AF2F-49C4-85CA-17EA8B68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268CE9-F060-4734-A016-ED7A8E5E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2AFEFA-F03B-4DC2-AE8A-4767E0B6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1954AA-2EAF-4F9D-97E3-B96500A7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686912-712C-439E-A6B5-5E8053E9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D20416-0A24-4D62-9FDD-3110449D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4C56-662F-4B5D-81BB-FA98371A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94B5D-1413-468A-9034-C5998163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8217F8-375C-42D1-902E-E764F0A8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A7847D-3CBB-4528-B001-68B9CC24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D0C93F-1C65-465D-9228-FDE2CF5E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1EC540-2153-4A23-9C57-709C335A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4FE6F9-03D3-4AC2-B269-A871EFD6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536B5D-9CD6-49A4-B4C9-E62317E5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CDB459-720A-494A-9C62-0A1BE6E3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D2C5C5-4AAB-426E-A221-C3082A02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FA2A0D-0048-48B3-BB2D-059FCC02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28925C-8D1A-4F49-8248-B9259B84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68FD8-6947-42FC-9159-76D4C9C3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8E662F-0BF4-4E82-809C-390D5F5E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AA2453-336A-446B-988D-71BCE92F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0843BF-B008-45BA-9FD9-E6281E47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B71A03-1E92-4659-83EA-7844D944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3812A1-6265-495F-9FFF-7907E9A1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3F9D80-4B03-4A49-9C07-CE857811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D3A3C0-604D-48CC-A286-2B156212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F3297F-A92F-42D0-988B-54B01307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6D8EC6-706A-4A42-8EC9-07D0BACB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72555B-B9AC-4087-A69E-7515FDB8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6A75B-2CC6-42C5-9957-D5B1B1FA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5D15A1-5553-434F-A657-FF105641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7F31CB-8A4B-4190-A5CF-F468D3F8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6F3487-E76A-4D59-877B-EB48EB5F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77176F-A7DF-437A-910C-178B8AB4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34E455-DE4B-4E38-AE1A-3EAEEBC0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75198F-4799-467D-97C5-04590EF7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ACE757-1A65-4205-9AF8-D0FD3151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578D01-A505-412B-98FB-0575BB11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C7F266-B3BD-4CE0-AC42-F8152DD8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7292C0-E210-4BAC-892D-B855AF21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BE98E-E0BB-4EB4-B528-E78A155A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68E765-CCCD-4BB5-9741-A9D83258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F43AD4-814F-443D-9F5E-FC2A2159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9A0F8E-B115-4979-B071-2ABFACD7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CBDA56-B185-4F4F-9418-40960C3C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C12D65-1344-4DFD-B308-625A71D6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B672B8-7FA2-4371-8BDD-F6E86CEA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F6C296-7598-4B9E-8820-D5B2147A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06AC40-D6D7-4BD8-8949-3DF11F51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06DD2B-8454-4233-9EA5-AB16372B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162123-0A4E-48B9-BB16-E6D8E4AA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71C1F-845F-4AE8-8CEA-6A162322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50CC56-802C-4D31-9DC8-8F13BCE7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15840C-1F17-4E48-A95B-9B35835F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E22B8F-0DD4-48C0-94F1-E4CD019E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66CB08-89BC-437A-BF5C-01D98809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B273D8-5892-4782-806C-7B583FC7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EBEE2F-C25D-4C1E-8B67-717DEBC9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D63AA8-DDC3-4E18-BC60-AF10243C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6B5357-3C34-41A4-992E-2F1107D7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27CD18-6C65-4790-AA8E-984DEA0B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C41B63-6C72-430A-A9EA-0663FEF0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C33B0-D779-4A8D-974B-BBEE3012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182D9A-564E-4DCE-96D6-256183BB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1951E8-4EDF-4127-B089-F40DED3C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C16C2A-F7DB-4F2B-A361-905D8F9A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6791C3-C998-4E94-8392-9521D468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342794-B7E7-4EE5-8501-3448BB21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95F39A-81C0-4933-B5A3-F1490B38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C12C5E-DD17-4C53-9C7C-30CF695F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38B580-86A2-47CA-9C76-3B9C010A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973CE1-BAF7-4285-B3E9-3DB009BD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71491C-9ABE-4C95-A255-2B3D4981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2613D-49A2-49F6-8EAA-5B20B91B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F80ADB-A760-4712-992F-373F379D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767BB3-F067-458E-AE39-03D9BC4D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FAFCCC-F1D4-44F4-9DD6-D6DE9109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684737-8FEC-4020-9F41-CBB909C3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E84B54-2F71-4AE3-AE82-6A610455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D436D3B-A3AE-4240-8B31-CCE7CE2F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D59A73-277F-450A-A41E-673CC9DF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0B387B-D6A2-45F6-A7AD-6CBC892D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233A62-64B0-46CC-B263-77F114F3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7B9471-8F72-4565-86D9-ACC6748B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03F35-D000-43A4-B060-F291D566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0C9843-D53F-4174-83FC-CBB5DBD5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134574-7F9F-4252-93E2-415E853B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5F7C5F-001C-4398-93D0-C66D748C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3FE998-DAFB-449E-9181-807D97AB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78B99F-3A50-40F3-B471-0545F698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AACB6C-9DC2-4EAA-A88E-6E4B9570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C79CCCF-4205-4193-B85D-BEB94AAE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8636B6-0B44-4C18-8A9A-581F4ED9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646858-101B-4874-8EE7-367737CF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02B87B-7558-4DB9-BAE2-CDB7C20D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1D99C-BBC3-4630-A132-BC686B61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824859-60F8-4204-9C36-B317FBF5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C212CA-A6FF-4585-A69D-2BD0DCFD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1336325-2E20-419F-8547-3C3B35DB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0AB6C4-F13D-403A-BDFB-44D2FF23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78AA59-AE93-4C96-AAB4-46CC8E3C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6F8A387-28BE-4DDA-B089-73835B40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8AAD63-F46D-46A0-ADB5-0ADF5351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017C88-EE0C-4C32-BD4D-B9FAFFDE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E1C311-6BC6-450B-B9F8-23BA347C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9A8530-E0C2-48C8-8D59-383B2F05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32175-92F9-423C-9FEF-56B7D3F8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698F73-DE7A-4E09-AD2E-5397DD4C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CB41E37-3424-4B63-B724-E583AE24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1B70A4-A078-49A5-8461-2C833D81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9000C3-BDAD-48F1-A8DC-1FE4E94E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046598-EC7F-4D93-AE1B-B8B68722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D33977-9357-4103-B08B-10B1CE0A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1CF4F7D-F076-403E-9AA4-D5FE3217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9442CEF-4B4A-4FD0-BC5B-62299DF0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6907F75-810A-4151-A29C-AF466C9A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5CF7EE-653D-4A74-817B-DCC9BC90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A40-3D99-4726-8069-83361B60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CB3E3-CB03-477A-BFC8-9B59828B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36F542-3560-4364-9CCA-0D37C8D1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FF5B5C-6AF5-4FE6-9056-E65A54BA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AA7363-1B97-44DC-8EAE-4F94BA66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A655A5-2663-47BF-8C6A-EC59CB29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8458AF-40C5-4ABE-A6B4-65A162AD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C5C6B5-FC44-40AD-ABB7-76D57613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DD5604-43F1-487A-A99D-7C1236A4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6A5A76-A0BF-4BE2-8BBA-17024151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EF6BC56-510D-44E6-8677-EB98DED9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93FAB2-D94B-4FFB-8CCD-0444884A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CCF30-B0B0-4A18-87F8-0E0BAC4A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4CEDFF4-1ABE-433C-88B7-86C2D69D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E817D1-993B-4AD2-A90C-B8368663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59C01E1-1DB0-4D08-A41D-28D194EC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68D952-1658-4534-8646-CB506AF1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ED6921-56DA-49A8-A76E-C6098C31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ADCAD7C-1349-4133-9560-178C113A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DB5896-2364-413C-81A9-C6075A8F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9E4B476-6A14-4190-B7B5-EA136FE0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BC4AEF6-6C51-40CE-A239-8355FAAB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2EE845F-6DDC-49AD-977D-B0BAAFE1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7520D-3B50-49B0-9C7C-41FBD786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40F6246-AD6C-45AA-9BE2-7ED70D7C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340BE7-D7BF-4013-B9E7-76ED4E2E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74EBE2E-DD57-4396-88ED-710CB2E9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C01FAE-568A-47C5-AC57-78663878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5F33ED-59F5-4845-878B-EC03295C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654A7E0-EACF-4484-BD08-7F6EFB85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06D506-215F-452D-99CA-99D1D949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71FE61-6F72-412B-B2FB-A82C1B3E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0FA024-2F2E-434F-BE0D-A47062D6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878F553-6BF6-46AB-B252-A185101C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90FB0-0830-4A87-894A-9522DF8D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F186D71-9E6D-457B-B5A6-EAA0DF9C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02934A1-D9B5-4A68-B77F-ADAA02A2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230D96A-629E-4E35-89A1-77335AED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6162EFB-5A5A-469A-8A57-4BE84C8C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21DFCEC-3569-4F55-A5D9-3362C5CF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0097096-C32C-4659-BDC2-2695EA41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CA3A40-672C-4B31-B836-D1EC54EE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7710BEC-3E8F-4E38-ADD2-00275D20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D40961F-9CC3-46C4-8751-721BCDF3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8488352-31A9-474E-A1FB-BCECC1C6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E6C42-4298-4247-A00A-E3FF6F2D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E9C886E-A616-4867-9CEE-A2CB180B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7D63B2F-43E7-4CD9-9F57-CECA291A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E81C4B0-BBF8-42B2-9AAD-D3F59646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A6F7B48-A0E4-4DA1-9F2A-919833DB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1161F15-031F-4F66-A22F-47231337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177D151-8309-4FCB-929B-5B51A7FA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936D8D0-C16E-4F72-AA3A-BE777BB8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1E941CE-9194-4D35-A69D-2978F429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B31BD01-418D-473B-84D5-726635CE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79B58A0-3D4C-4CF9-9780-9FE18A9D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413C0-03B6-4799-8124-12AB0545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6B45400-1777-4A15-979F-2B6F6EF1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540DCF2-87AF-45CE-84F6-0D93EA2F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B0CF636-441A-4E81-805F-4AF34D89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6D82B4C-36B0-48E3-996B-BF7417ED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9480F3E-7D21-49AD-AF9E-E7954D2E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2A1BDED-E72F-4F5A-9480-9402150E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04546DF-4A27-4E19-8A3B-1047AA3D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0961853-9740-4353-A278-1D579CC9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84A26CB-6494-455C-9FA3-0B22DA02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E83AA72-F2D5-49AB-8523-3704182E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689D7-781E-492F-9DAB-95032703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F65FDD8-3D49-4C57-B160-E39D67B6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8777595-4E00-41F2-8B9E-7A6D23DF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35BE6D1-FC99-4654-8A1F-70B08D7F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122BD18-5D02-414C-A63D-55E325B7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F188FF1-9BAD-43B6-9A95-B2E661A1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A804A7F-DA1B-48B7-AF49-12839936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B81B3AD-CBF7-496D-B60A-E4E3E94F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0F2D667-DCB8-43AC-BEBB-817BBAED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5665EDA-C3E8-4D0E-8D04-AF34D314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36E0FBE-5F43-4DB8-B9AB-50D9EA1F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E4D65-427F-44F1-A75F-31F15496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831ABF3-27F2-42D7-8C5C-E7F3E0CB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4D70028-7AB0-4246-B631-864BD5C0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49FD523-BAEE-435A-B4AA-D95D091A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40E17AF-37D2-473B-9051-1AB505AA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D5E27DD-2C5C-4C04-A3FC-B64A33A6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ABE08E0-858C-4803-9387-CEA3E870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D8B0CB3-4446-4155-A1C7-DEE81CA8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E6289A7-74FE-4D23-84A0-2DB29CF4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C77097A-BB55-4D97-969B-EE59E91C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D42D95C-EEE1-434C-9111-6D1DF00F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F5514-6D5A-4D71-81C6-5C94BE4F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88111B7-1FF1-4ED6-8E9A-E91B31E7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AC62E9D-3974-43F1-B158-3FFA43B7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411443D-353B-4FC5-83CF-BCFDC216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DEAB3A6-E437-430B-863B-CF0E4FC9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238FABF-8FAF-40AF-9BA9-9BA88EBF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528D4F8-17EC-487C-B088-5B2F11B4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0E236A1-4D96-4CF4-BCA4-E28E4CCE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9BB9ED3-DE89-4601-AFA8-EDE533A7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3A76154-FAB8-4B37-AD1A-611455E8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2692228-CFA0-47FF-8AFC-ADD6E60F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04E93-EBC2-4C5F-AAAB-003691AB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3D5E35E-24ED-4DED-9E63-0605B4DA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C2CB9D3-D701-47A0-A4D7-43F18F7A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E8A1CBE-5BF3-47CA-8440-0B3555A5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6D255C5-30CE-47A4-AFEB-E3C4E23A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D836562-41A5-436C-82E6-49BC8E84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7DCC6DA-1ABE-4C2D-878B-E02C1FED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2F7D49F-5D59-4CB6-A2C5-D67FE128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70D3444-53A0-49BF-A8B8-871E27E1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ABA4EE6-BC61-4211-B1A9-0B7BAFD8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ABF0E36-EBCF-4961-966A-04E1329C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0ACB-1AA8-4FD7-A8E5-117259DE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1A9AF-D6E7-4FBB-85DA-2283C847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7AA163C-E1E3-4A48-9960-ACB34065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AFD626E-0E4F-416B-B1A1-BBD1E77A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7E98692-FB80-4EB0-AEE2-05DFD880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2144D1A-6231-404A-962B-F3F9A354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C54A61D-78D5-4B10-973A-2D52CC38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0B37367-74EA-4D0C-AF83-90AA9AE5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FFD0CC6-C31F-40B7-BEAA-1DC7C451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C0DDCEF-8546-4524-908B-A022BA70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E5A28A1-BCB7-44FF-970D-C507B8E2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77CCFC3-9FFD-4759-855D-5D5767C7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D528A-6CBE-452F-A75B-9F022AA2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D3442DA-6E90-4519-87B5-53C37EB7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E5F1FF3-3D57-4B1C-8CDF-7CB32B2A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BDA7474-5AE8-4BA8-A7B1-5B49EB6A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5FA16DD-871E-4126-B335-893CAB74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AF9ADE2-07CA-43BC-83B1-E1775FFE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4DDE302-3B54-4E9B-A073-57711720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6F15B56-DF2F-4672-981E-5A38400D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8F0B259-BD1E-4ECE-956D-01416A99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5C5D58C-5C25-4101-A190-683DBA76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B11DF72-AA5C-43A7-9D36-F136A72B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12DBA-260C-4FDA-BEAA-208F23A1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1184324-7338-4CA5-B251-DB262437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01E331D-8417-4C30-A5CA-29318F64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A48385A-461E-48EF-B551-982FA16B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1FA7D74-CF87-4EE5-B6E0-8B7DF6E2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6842D18-B0CB-41CD-BB38-047FF635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9FCA508-87A0-45CE-A38C-19714A90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03C4E48-0F9E-489A-B9FB-8A83ABF7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7BE217D-954E-4486-94A4-A58FDC39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FD532CA-30BA-44AC-9717-8E0A1DD8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73AAADE-50ED-422C-9888-B7306FB2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19488-A7DF-46F3-947F-FF224B6A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1A51F7F-0687-4E02-B625-EB26FFD2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13FA9C5-3765-40F7-B681-EFEDEE4A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519D883-9F4F-4693-8661-BB3303C3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11F3329-0937-46D9-9158-65E602A7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3106F70-D4F3-40EF-BBDF-965A59C4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D122EDE-7EE0-4B73-BF97-F4A1265C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6849037-54F5-487C-9B0F-1E204185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8FAF8EC-A7F3-423A-8D06-89C1BBC1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613B29E-EB1B-4B40-86C3-D7C312E0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8A5320B-7537-4833-A18E-7984630E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92996-FD1E-49B9-932C-2BAA31F4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B6BA70C-ADD1-4D95-8BEC-86F9C884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FF298E6-2CC9-453A-B9EE-2D90455D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74D3F1F-8A86-40BC-ABD6-97C114E8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2F69B78-418F-41FC-BB47-6385DD45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BE4134-0581-4207-82C8-87DAB6C2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0CF20C8-7B5B-4A42-B145-549A509E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BCECE3F-FF30-4789-9488-13EEBAFA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E31C436-9A41-4CD1-9E22-67EE8CB4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8D6B22C-A7F6-486B-A00C-1AA16639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AF68996-AF55-42EB-B091-30E7371B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17351-36EB-4A1F-B779-8C87801E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37BCC6E-E86A-4F94-9070-6BEA0085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2F8ACB0-8452-4CF1-8B0B-FB854654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6D551D6-5EC4-4AA7-B849-1F03EE51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A700222-A015-4798-9788-361ECD7C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5DD981B-3BDA-43CE-865E-4AC0CE2A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C755800-5CD2-44BC-AA21-BD4EDDA3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C28677F-9DD2-426E-86B2-52738EBA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BF2F2F2-15AA-4DD5-AA64-AF56FC97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4475658-89F9-4DE1-AAE1-2E0A5E40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5AD0DFE-2AF6-4C99-AC64-DDBBE789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5FB8B-2CF1-4C70-8BD6-F3A4E10B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F84DA40-0629-489B-84EF-4DB67204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E478FD6-833E-4CBE-A840-BEC9250B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F8BE9A1-0BBA-4598-A494-CC3DB153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D73C7C7-0AB7-42E1-A69C-DE2C12B7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7BC3810-BE00-46D2-B74B-B5DE3047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1F304A8-E039-4664-B615-A8793892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C0BB593-1E9F-4776-864F-7C0E3AD6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9F43542-7A24-41B4-ACD4-A2BDB3F5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EC884EF-DF3A-4A81-9A75-A2113C92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8B53483-DDF1-4086-812C-A3C4868C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F023F-32BE-4EA7-BF1F-6548EA6C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48C1EFB-AD5F-4E6A-A2FE-C6F9769A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764D884-1146-4062-B40D-1CED1A58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A20F70F-5FB4-428F-BCD8-03F98B04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C093033-AB37-4695-A7A7-A343DB56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F6F8A22-F21B-4F37-9CB6-8F8AF209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2C5516A-1050-40AC-AC06-276A0629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FDD6528-2D55-44E3-A4EF-ECC241A3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3AFB77B-8567-4424-9980-5981E31B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E0CF0DF-9DCB-425D-B8E2-8E440D17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FE7B344-CD18-492E-AA9F-34F7C413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D5A70-6A2E-423D-AC11-0A92D06A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B894F00-6E98-43FD-9E1E-4D54541A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5BB9FB8-4B24-4BFD-B253-C51E2A08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E6FB127-BD39-4E60-9B49-4325F443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27222E1-0287-4D04-B7F4-A74D972C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AF5A708-31E2-427F-8C31-0EA5DECC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4F18001-E24D-4907-9858-5A17A58F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35FED61-28B7-41B2-82FB-173D06B5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EF6F3A2-5AB3-4833-8AAC-096EFDD1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71657AB-81D3-4F63-845C-7C8998AA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73FE96E-88E9-49D6-8A29-9BDB3FDD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4ADDA-EC85-4814-9C9A-A4CC88B0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A12A70C-1D2E-4A1C-BEA6-8134D1FA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EA0A392-1BFA-413A-A36C-06EF36C2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17C1381-D514-44BA-9D59-66971033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59D0255-E35C-4836-B79C-55D60D2F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9E71F91-8C59-4725-8FC0-900AD5D9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E43CFCE-F2E7-41FD-8923-495DD8CA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D1C3BC4-8DB9-41B1-ADF2-E16B81CD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8D331D8-16AD-4153-965B-DC901A31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B7C491B-FCEF-40CE-9BC6-B93DE672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CD82750-0630-4F43-A734-CE6F3A6D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906-7DD0-40B2-9E50-8E196ED7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3BC07-2BF5-4379-9B0C-8CA5E8DC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5F834F0-5C8C-4E20-ADEB-FD03EFA2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8021437-2E3C-4E3C-A179-6DEA8B2E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439E9C0-4BDC-4994-B147-34177416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FF4CDA0-75BD-4801-B30A-7A5CFEEF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74F47C1-2BFC-4BA9-A19A-BAC5873F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9CB3924-4BFE-4A99-9A9D-10A01BFE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DC86FC7-B154-4BBE-AF4D-BC590AD3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6ACCB91-DFEC-4EFA-821A-879F9EBD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BEF1409-0090-4162-ACF0-717AEA6E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E9E4909-B446-4AF2-ABB3-67C447D0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AAE8B-1860-4B2E-A8A6-9EAF87D2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F22AB2B-0CAC-453E-923C-7D6F5806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2FDD87A-4644-4F5C-8491-86143B84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D3349E9-6177-4019-9573-2CF8FF96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DC08A5A-9D23-4B57-A637-41CF0E4C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342AEF4-DDE5-458D-88F1-F1DF6BED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12A61B2-538D-4889-8765-4A9BF274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241AE8E-4EF9-4048-989E-1A433956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18042E7-E736-4DF3-9AFE-2BE29CD1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1EDDBDF-5DED-4059-A66F-E6F79DAB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B2B8528-E428-49BF-8141-CEE9C285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95474-4689-4767-A2A2-90FCD703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B8B4462-CC13-49AD-BF46-497BBCF0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23F9111-0D3E-467E-9A44-BB691490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28870DE-6D86-4160-B1F9-4451D9E7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A68EA42-C35C-44E0-A86C-0CA58265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8F136EE-27E5-478C-818E-39163AE0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CF7BCF5-9491-4802-A45B-3970BB37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9A87240-178C-48E9-8456-C77553A6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AC559A6-A3CD-4609-B6D7-4E207A49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E2EB556-522B-434F-BE8C-39E836E4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74B8E5D-5679-4DF2-B3B1-C023D0C3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A0EEC-2FD9-437C-B973-0C0CA1FF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11ED049-640C-4190-89F1-320B7C82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3073DCC-7C1B-4A96-A158-FC881DD5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FCD4ECF-CE20-48B1-B705-0A2539A5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D7B4734-F88E-44DF-B5FB-E68F4E9A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57C24A6-13D9-4C88-8DB6-B0708EC7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ACE0B11-5557-435F-8FBE-CA6895BC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62FD814-6B3A-469D-B735-4A3CCE0A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CBC5189-2492-43B5-8798-4D710DF8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418FDD2-FA57-4C98-B94D-0337BF91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CA29ECC-09B3-4E7F-BFDC-CF65D8D1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8C46B-AE90-41D0-9309-B37B2E7B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D4D1D61-4A99-472A-B9A9-3E3649E7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A063DB7-68D3-4AE9-8FA5-86623228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94CD03A-EA68-48F7-809B-FEEB66A9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BBD8CEC-9A0D-4DC2-B562-ED263B11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A6B4820-FDA8-4576-A850-BF1E15EA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5CDA152-880C-45F4-B7A6-D9EFF12D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8A05FF1-5F9E-4607-A803-1C11438B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283A6B5-D837-484D-88D7-51CABD68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63C5082-0DDD-4B3D-82C7-F095DC50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79309FD-8B31-4429-899B-DE09EB1F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FE640-523F-43B9-9453-C80BA55E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C399716-8D04-4A5F-8D67-2D3AF506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9E51458-C119-48DF-884B-AB3DF490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FFCAFC6-982A-4000-ACCF-5D22EB8A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D1BC24A-87CD-4DCE-9FA3-E65E4C37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1C70381-F4AB-4021-B0E4-C8521EFB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8F9EF30-EA66-45DC-9686-ADDAEB62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4B2D78C-6CFC-476A-B2FF-C4EB3C5B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7DD3E75-D440-4346-B5A5-D26838E6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3B7CAEC-22C8-4F01-B61B-6CCB41B5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8169117-20CA-451A-B4CF-76ED17B7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FB66F-5845-4D01-9DCC-45AF95D4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C5E3A61-DF83-42C4-B842-0589D555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2B46F41-0DA4-48FC-BE14-1BD9BD78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142DA07-0FE4-47AA-91E9-9ACA07FC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EDFD514-2C81-47D4-996A-1950AAE9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CF80B90-9A00-43F6-9AF0-F5DBC346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B63B8F3-6F36-445B-9771-518053A9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82FE2F9-326F-400F-A3B1-39412FA0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7AECD4F-A7B7-4D52-88A4-45641DE0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0B7A704-302B-44EC-9063-2331F780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DC66956-794F-49C3-A824-6048B922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3ACED-366B-4F2C-BF51-A70EED0D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523D4C0-3D43-473E-B093-018B252C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5B6568C-7D53-4F6E-AF9A-3291D104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980D3D7-1FEC-4312-9277-2E27698F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840BBFD-BD21-4101-9779-23A0C494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3953637-CE40-4DFD-8710-81A63787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99B4737-BA00-432F-B96E-BD774818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480E3E8-374B-4F04-92E9-C7D43AC8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61320B7-FA9C-41A4-9BBE-56223CDE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4814488-6E8E-412D-BE3A-D9E3CDEC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11444DD-8129-4240-98D4-3B6B0280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E9A2B-2936-46AF-9FFE-626E69F1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EB0A01E-1D9B-49E1-A4E4-36143014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D69C70E-22A4-4197-89F6-E341ECAE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47FC9AA-6A02-4128-8EAB-CCDFDD39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80B8CC3-0DD5-430E-9230-E27452BC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55227B8-6E82-4779-A56C-D49361AF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BC0F734-BB06-4630-9343-1F2BB431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302B127-FD80-486F-99CD-917BDD30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0DA6E7F-8F40-4B96-ADFF-D7925870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F707A63-D5AE-45D3-AC8F-C3AC3A65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BA95620-5CC6-474F-8B12-F5892349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E7966-79C3-4371-A288-D2DDC838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A3684D1-7AFD-4E24-9865-EB5B7840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E823436-467B-4925-8097-EC10B0A0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BDBDEA7-A7FC-420D-AC9F-421E66E7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6D2845B-5336-4870-BE67-EBD03EAB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291DB36-239A-4DD4-989F-41899EE6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57F892C-D591-4DF1-8BC4-98874D64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40CDFC0-9A80-4505-ACDF-B241023C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89F8F1D-77FC-4D9C-8687-8DAAA505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62E5963-EA3C-4BF0-82BD-5720E2D5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6F367D8-82B0-4683-A7C2-C3F26BF8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E71-0D04-447B-A8C7-ECF725CE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6D18F-3F30-4168-BD50-E8B88AD0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2C3CB18-F9AD-489C-9002-92ECB97A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B8135FB-6047-4D8E-83D6-C5E98771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12BC690-E201-49F7-BCC2-6EB5DE77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84D5440-F363-4521-9F52-103A496C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6BD10D0-5C2A-4148-86E6-A844A788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4DED533-4B0D-4844-9B11-8A564A1E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521F4A9-963E-4F2B-8A5C-4A65C4B2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49D7B19-AD8F-4514-ACFF-BD0488EF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D55A9F0-710F-479E-9590-B61428E6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0BEC744-B59E-4B01-BDBB-0B49FFF0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6A31C-E596-45F9-AA51-E3A6BF88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FA99D24-2B94-4221-8CDC-767087BB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5832B35-8696-46F3-B4E3-D4F811CB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E6C9A28-A011-4DFC-823D-37854CE8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5C921FE-07AA-4053-ADEE-E1D5134A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AA27386-8326-4AD2-A786-53808738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DA3B0AD-2294-49F3-A3F5-F79F3439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6567B15-09DF-4480-B4E7-BB8C14D8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981A3AC-7CAA-4581-9F79-FC778321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2345BE3-0DBD-41E8-97C4-2F877A95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74A48F5-9D5B-4E41-B40C-4B35FCCA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7930C-FDD3-4B80-A351-79180AFF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A837CD7-5655-48C7-BEEC-ABD6ADB3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97E0BA1-A01E-4585-B3FF-D4E0C902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471BD0F-2DB8-457A-B459-2C0BC697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1047A84-3C96-4608-8434-4ADDCBC1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F9BE367-36CA-4A63-BB2E-13B5B73D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6791C63-0CB8-4F08-81DF-2AF0EFAC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1019E1D-5836-407F-8196-496013C1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D5E9301-2E8B-456A-ABBE-70124B6A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5C44661-E05B-480B-B3A2-2862FA27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CF2B75D-A717-4762-A16E-AD09BA93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32384-BB0A-495B-AF81-423BF0EB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46308E4-6BD3-419C-9E49-140CB459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AFF8E98-C450-46A0-BF66-C0A3191E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49E48A6-B13A-43F8-A8B4-A054D77E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644A721-F038-4569-A8CA-A98277C9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B1C9C18-66CB-4138-877B-018FA776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E24EBE7-F4D3-4EDA-B64D-5EC4DA66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068087A-244D-463B-89E0-555F3436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C5FD941-FF85-479C-A0AE-4C55F37C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366BB09-98F2-452F-AC9F-F594E373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C68CF26-D6DA-4402-8676-7EDFCCF2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33A8E-9538-417C-8770-4E72B99B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3F67C50-62F8-4B42-8C62-4B9B9642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901128F-64F3-411C-B773-E2C4F916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CEC458A-28EA-4E50-9566-CA5BED5B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CC61DCA-9175-40E3-94C5-3253D4E9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272D1E4-62A2-4FAE-BA8F-0E8B3983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3738334-BEFF-4C9E-A9A0-E8C8FF82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89E84E5-4282-47FE-A623-F278553E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3E41AD1-E6B9-4053-8CBE-A910E450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251BE0C-EB76-4F45-A98A-71EDC029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FAECC0E-4310-47BF-807A-ED0CB58C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F290C-9FC4-49F8-AF47-20DE4A7B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A631F28-FF5F-458C-AE54-ED7D18B0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7958643-776A-4D77-A900-C41BFBF3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FB1FB41-9D45-4A8B-8D75-1F23C3F4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62B991D-BB63-451D-A294-FD34A058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8EECF23-C2C0-42BD-975A-6B420299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5A2414C-63D4-41D9-B5B7-08AA087C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873320D-332A-444D-873F-2BC012A2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67F915E-41D2-4A66-9772-C2E4367D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2355E3A-29EF-4472-9B97-CE6858AD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698E88A-064C-4DFD-AFA0-579AF0DA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3391C-ED20-403C-A549-345534B0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9474191-44AB-42DA-9135-F6792158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33FCDFB-C3C6-4621-A594-5CA84B94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75D0016-BDE9-4F17-9A5C-888ACA1C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7F20427-64B9-4086-A6B5-267AB1B9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AB99A23-DA1D-43F8-B067-5DD481C4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EA0C57B-CB87-4739-BBD8-4DFA9AD6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3A881E0-6A0F-45A3-8C5E-84487A5E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D8841A4-2363-4B60-B907-68F6C32A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84D4A51-6EB2-40A1-90DC-97428F9C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1990C95-FD9C-4E5A-B2A5-F46F5BC3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E0743-2CBE-4A14-9C33-5A87C531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9742486-9319-4D3D-91EB-B667F94C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E42B878-7E67-4D5A-ADC4-7AE2E675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03C9CE0-BBC2-4A30-AE76-E16B00BF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8DB4F2E-23D8-4843-932B-5F3B5224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81335EC-1A29-4BB4-A5D4-3D480901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F747F04-6F81-48EB-863B-AF6A16E1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6E47A91-8927-451F-B61E-CFA8DFD3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90FF5CA-26CB-4D12-A34A-65945685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CB8B94A-45A7-4133-914A-8852940F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478F665-135B-4C4A-9960-B7130EB4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ECF88-DD4C-4429-87C6-74DD7362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EF25F31-9DFF-446C-B551-1A7F04BE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B2B7368-BA71-478D-A320-7B23DE07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25EB269-40F2-4717-8EBF-A3CBA292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1580125-1183-4E06-A168-63D35743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D678BBB-4F19-448A-8A2B-A19B1681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DCB5E3E-999C-414C-9FE3-174D782D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5003F02-ACF0-4ADA-9016-A0F56835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D5618BA-5FA7-456C-A049-B3C4DDB5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6BFA0E0-F4C4-4A74-B31C-E00F9552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58D4F7D-C35F-4DE0-9FB0-7D3B4A65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A9E11-1DC9-4097-9E31-03523FA2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196602B-3AA0-4E40-A624-B4F6B9D7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757A9A4-1872-45E4-BD7F-1C918706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BAD617C-18A7-4DEE-AC64-B5B04AE6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64485B9-B819-48E4-8551-B3B48C0E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09C4F1E-5939-40DF-8A1D-E836D5B5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55F7A20-33B3-45EE-9183-6880C2CA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E292A68-30CC-48D0-A94C-452BA679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D2CB3AC-89AD-4279-882C-0E8EAD98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68B29BC-9348-4602-8D76-AB0C3ACE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FDE75C0-C5A8-42A6-96D6-BCA70BBB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E7A-FF1A-4010-90E0-19A78517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B449D-1F86-44A2-BE4B-8C89566F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9EEF75F-28A6-4F54-BF15-1EC1C516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9C548D4-495C-4DCA-8191-87E35E25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FC3A378-010E-422E-B8D4-46569E6D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F109F3B-B8E4-45EA-9859-05F40167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D8A3BBD-0755-4371-A300-28D75177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2330788-E6B9-4AC1-B6E0-62B41A1D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31E6283-6C70-42D6-BDEB-1AA68193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F59F8C8-E550-4B72-AF5F-83745B09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28E8F09-6A88-4B14-9AC2-902A2C12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C9672F2-AA89-4B6F-933F-9A655082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FD54E-BBBD-46BD-AF66-256F5431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2549204-2EDA-491F-A70B-989D4D4E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23B4AAD-CE0F-4C6D-B024-FEE06707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A897558-F58C-4553-9BF3-F8336D67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E8070A6-B365-41BD-9D8C-A783E2AA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86DCEAB-71D0-4C6A-9E52-E6D59575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5393589-2049-40BB-9E26-B3FB28DE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D1E3D96-8381-4277-8730-76F9897F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F8B5157-5337-4655-9844-DA7FCB21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F25A77E-25AA-4263-AAC8-4D350779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19B7471-79CA-4A01-8193-CCF31B5A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CF024-1376-4C14-966D-48261DA4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98F93E9-1747-4183-A378-802B5909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1DE9F27-A739-4B4A-A91B-CEE24104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8CDBAB9-29EE-45B2-B4A7-56FF12A5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53736BF-58B6-45B5-A38A-D31DB24E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597CAB0-6FD5-4DAB-B036-93108D6F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B5934E3-64A2-4B0B-9780-0A5C0602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ED07844-A19E-47F4-8405-B233C687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48303FE-79F0-4BF5-BDC1-1C77B142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D89DBC0-01D1-4091-B0BF-557F0A6D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0B21F9D-13BF-466C-B545-4074AF64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9B9E7-BB17-44F1-838F-AD9B1865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61462E5-16BF-465B-9057-7963F1D3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455C885-86FB-4030-88CC-7F968A48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6C34B92-F8A8-4352-92B7-9EF66240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C65453C-4E0A-494F-931C-68773EF0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9DA3BBE-967F-4146-9EB4-5A9C005B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3147969-2B82-4E44-AC28-51A310D1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43727E8-022B-423E-9F3E-55190732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BFD15A3-72CF-47E7-9764-02E1F2AD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C5DAABD-B2D1-400F-BCCE-53D308A6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D700908-98AE-4847-AC1E-560E3FC6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A8BCF-438A-4674-801F-BE2E7659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C1CCB49-8B48-4D28-9748-CBE3F3FA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A0BD41A-73E5-4501-85A2-1D539089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5027FBB-CF6E-4337-AF49-C8E49DE5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BB94767-30E0-4B6F-8D2E-9AC0DB05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A4B60D3-8DFE-46F3-92DD-4AB886EC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BEDD8DD-DD7D-451C-86A3-5A0F777D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816B273-4638-4368-A2F5-16D8E742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478C1CF-A9E1-4922-89BD-627A79A5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7A65BE8-8490-4389-8E2B-EB37DAAE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D7F76CD-D838-4521-805F-56F14B85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298DC-2677-4C3D-A735-8BB0B34A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5C9F1C9-8BCC-49B9-9FFD-90B82756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6D9830F-D790-4859-AF5F-EB8FADBD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800B17A-1C67-4A25-AD07-5C3A435B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C9610E7-3793-4EA7-901A-51E84920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415F25A-518A-44C1-BDB4-DCDA15B6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D73C584-7388-4970-A6E7-F6815D1B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49D68B1-0543-4C66-B0D4-093598B9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78D2E7F-FBF3-49BF-8E34-278BD937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FB419B5-6194-47AA-86E8-7BF0019C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8BC92B2-314B-4916-B059-9CCEFCB2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F0F3B-FE72-4FE7-AB98-0BF1F638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1642CC3-D5BD-42DB-A66A-8B7EEF4D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821DC69-BA17-4B52-9BC3-243931D2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712DE6B-91E2-4B32-B7DF-DC798278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DB25F63-397E-49CF-9643-15483A94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6CF62E7-B4FD-4B75-AA8D-469A1FFC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60B9CD2-FCE7-4B7C-8BF1-50BE5503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A8336F5-C21D-4A38-BE90-275BBBBA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0E83C9A-AFA2-4983-83C9-C583601B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1F26238-D1B7-4522-A417-F6ACB1E6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8828BD0-8D2C-48E2-8BD9-919529EB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54A7E-2AB4-42DB-8405-09862C94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523999C-E131-40DB-9862-093EB5E8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CE5AAEF-11B2-4FAB-A7E4-71137012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8143456-7FFD-41B8-B501-0A189445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5B1F4B5-B96E-4377-B3CA-60AFF10A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A250F46-C0C2-45EC-B4C4-39E45A76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62D50FE-0D27-49F8-94B6-F8CCCECA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C7C86A8-0B88-4B17-AC05-7005F8D2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7A5CCF5-A9B7-4004-A9DB-DC36849A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5B615E4-C768-4463-BF53-4CF47222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E39448F-B657-4D8E-AE21-CBC69B21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88C8D-33A0-4F55-BB27-66E08DDD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651F044-9A53-44CA-9706-B529522E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B2ECD0E-0349-47F3-8384-1831E66D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BD02AE2-E55B-4CE7-87FC-2C5B7C0C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440D97E-3665-4E1D-9279-E3FA5BCD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4C4465E-DC1C-449C-ADCC-55FB0709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5424832-F783-42F6-949E-268CF131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7F1D1C7-7DEC-49F1-B71F-C6E25607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9609214-81FA-4BE9-80A2-E2FB5C1B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79073CA-0523-4005-B251-A91B51F7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BF1BB9E-1D51-496A-B694-A715E507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BA4E5-D11F-46EF-B32E-D1BC3BCD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8363171-8D9E-42F9-981A-FA0E8767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3228A2B-1FAD-47F1-9BC6-58022FD6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D3B40BC-072E-4E26-AD45-B653F946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EC4EB04-5926-4707-8B07-26DC2981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AA02735-A8F5-48A0-809E-AE397BAB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FC3C2F5-D8FA-4E41-B9D7-3ECA4E12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ED33617-E881-4979-AC28-7D5124AF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D566536-4215-45C5-A0D8-4818D46C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E4E4D58-A2C7-4414-B44B-2C832BEA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29B68AE-D0B6-4DBE-ADCA-5234C170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72E-AF78-4243-8F1A-E21AE513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E5105-6643-4718-8C8A-CA4084F3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56DC877-588A-4B16-9FA5-1BBEFFE2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8445FF9-9A02-41B3-B044-E5F52437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B156C28-1B47-4E3E-B609-276F934C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B433FDD-FDDF-4B1E-9CD8-8E6591FA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28C22D7-1342-4EEB-801C-972C7F32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46D222C-3FA0-4BC5-8934-5F1C1B45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6576A73-0F81-4885-B588-D11EC073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B3233E4-1BD5-4BA6-B6B4-C13D499D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ECBD0A2-70AF-45CF-8D97-D75A74C6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BE7908D-9A61-4523-9DB7-235F333B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8A07D-8010-40C2-ACF6-DADA5C59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891B0C6-12F3-48D2-BAE9-C1F0D47A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9FD5E02-A131-43F9-A974-259CC6FF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6F7E5A4-6670-428D-9B98-0C067F40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28A57D5-D5CD-4355-9F8E-78BB582A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6D0EA4B-81FE-474D-9E43-F8314B04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05FAC32-31A7-4410-A309-E2FA9DFE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CE7EAC8-3356-4DC3-B0BD-443CEBEE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C745E3E-C11B-43B6-845E-E2A4D2F6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9968759-8C19-4BE5-AA22-D8CE8A9A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5069AC4-5BCE-4AD0-B59A-500921F7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5A665-BBC5-4B69-983D-0E7CA8BC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0B75DFF-1905-47AB-B15D-7717537D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F007E90-D9DC-4814-8EF8-E2432C31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F803C6C-4980-43A7-B478-1777E210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F1A3C6B-8C22-4D41-B691-7CEBF312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AB9C066-C3BC-4425-958A-E335C5B6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593319B-75EE-461F-93E8-57407880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1CE9E95-29B4-4E77-9E60-EF1B8375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504A03C-78FB-4E10-9973-A6995C8A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6CD3D30-8569-4B63-8504-68F5B696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71B936C-7D4D-41CE-959F-C6D142DC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80B1E-E736-4F55-9360-5D310771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41CC2C1-5D6A-4F45-84A4-65DE0F44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3513BE4-5A6A-43F5-81D9-E57074BC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00FDF55-8F60-4263-9F9E-484CC594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A05430C-8478-472B-B1D3-E91BBB0C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1EA570B-C0C2-41CD-BDA3-58546A38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076C03C-DD78-4859-A2E1-3D6E4D39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836F3BF-3A25-430B-A1ED-70658817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492EF3F-F27D-411D-84C2-BDD9C181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1BC74B7-4A9F-4D3F-8AE4-069251DB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28D0160-9A14-4EA2-ACD1-8D337F6D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EA155-A4D3-480A-8507-763DED3A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9565DEE-5882-4324-A99C-5F001636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DC2CD56-0CA5-4F66-B17D-80F03DA5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AA64203-BCBB-4E3B-BC17-CD2380DF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39623E1-61CE-48F9-AD36-FFA0BE95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0FFBB75-92AD-4842-B983-CEB10A92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BA658FF-4C6A-4706-9906-B2E7CA3F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9303AE3-06E8-43C9-A349-FBF0A44B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7260982-C30F-4109-A993-86214688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B49796B-87BB-41E9-B30F-AD54C803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AAED606-B32E-456E-B143-86368D97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22971-6A6D-45B3-99EB-B81C60FD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BA6FB5B-1913-46BC-9EDD-CAE5A3CE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3EA12B6-96A2-4696-9E2D-BEFD8D20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554DF1B-9D1E-4127-92DC-5A543D81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6F288F3-D2C9-4F24-9E04-7052ED37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7D31C75-2572-4C6A-8224-7FFED2AB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08FD4BB-5AB4-4F73-95A0-FCB9DD7A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4F07EF9-57E7-4C96-8E63-3E63AF59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9B338CF-1008-40C0-8999-5DA308C9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4D022A3-CAD0-4C4A-9A22-97DBC79F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702E1FA-4B14-496E-BBB6-3C1ED019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6845D-FC40-4C68-82BF-C081182E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1E719FB-E349-4933-9DEE-FF881A3E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F74C162-A778-4862-B1AD-B0D2F67C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12D62F1-1A6F-49AC-85DC-3A2EBA18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98C098A-7FE3-4726-A3E3-C0643D60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A82C895-5E7D-4595-8D29-9F2BBB3D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F6A28BC-925A-4759-AB0E-6549DBC3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67AA677-8186-4115-B8D5-8408A02A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C7E1436-4530-4861-A35B-A3984F57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A0092BA-7EC2-4D29-A54C-435EEDAA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D3456B9-84C2-4B81-85F8-8588036B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FA89F-C837-4CFB-99A1-930E8C68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BBCB151-835D-4537-97FC-CD6BE0C0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08FB5D8-C768-4BE5-B9AB-10DBC1C4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D074C10-BA0E-4FC9-B04C-52467E2B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87950BD-4F59-41CF-B2C2-488F1611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0A8950E-6D18-417B-BFD6-65E3DB49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453616B-DA3B-4754-8BEE-136AEFD3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8B2BCB3-830E-4784-8742-D63EFAC5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5302E6B-7C00-4341-872E-F59711C0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404EFFF-CA11-4912-A1D1-FD78EC49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1352357-32C8-47FA-BAA1-E9812E9C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9C26D-3C79-4C64-9487-B6BD6A72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A4AF0D3-4554-4886-88FB-BE955265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33208E5-AE35-4951-AB8A-E5FD1329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C071F10-BAEA-4536-9151-04E66DD5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BD0ED11-7B14-47FE-8E37-690D5B83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4F8D4E5-1876-4017-801B-2553FD76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D1F4681-0FD5-403E-A431-3CC426DE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DB0D159-8FF4-48BA-B66B-0243B073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DD7A220-BAAD-49F1-AA5C-B663F465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64DED22-EFBA-48FF-8E1A-84C36D75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AD9899E-5B05-4DBE-9A0D-E9B3D61C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1F5BF-4E6E-4E26-AAE8-5877D92E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D984DAF-8D50-4495-A605-B2ED297D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5F00D7C-BEFA-46C5-8952-CFBBCBEA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6E8AA28-7D3B-47AB-9539-79276667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DBB66C9-7630-4E9A-A243-028C0392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602A9D2-578B-4A84-9A17-8BAADA72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EA0B948-6D12-4D63-888B-65D69BEA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4AB02A1-65AB-4CDE-9E98-990A2199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F6EBA16-7404-4502-BD64-047255FA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9C1EC92-04AF-41AA-B677-7B433CC3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F9B2A85-AD7C-47DC-A361-1D9A3EB1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slideLayout" Target="../slideLayouts/slideLayout1609.xml"/><Relationship Id="rId3" Type="http://schemas.openxmlformats.org/officeDocument/2006/relationships/slideLayout" Target="../slideLayouts/slideLayout1610.xml"/><Relationship Id="rId4" Type="http://schemas.openxmlformats.org/officeDocument/2006/relationships/slideLayout" Target="../slideLayouts/slideLayout1611.xml"/><Relationship Id="rId5" Type="http://schemas.openxmlformats.org/officeDocument/2006/relationships/slideLayout" Target="../slideLayouts/slideLayout1612.xml"/><Relationship Id="rId6" Type="http://schemas.openxmlformats.org/officeDocument/2006/relationships/slideLayout" Target="../slideLayouts/slideLayout1613.xml"/><Relationship Id="rId7" Type="http://schemas.openxmlformats.org/officeDocument/2006/relationships/slideLayout" Target="../slideLayouts/slideLayout1614.xml"/><Relationship Id="rId8" Type="http://schemas.openxmlformats.org/officeDocument/2006/relationships/slideLayout" Target="../slideLayouts/slideLayout1615.xml"/><Relationship Id="rId9" Type="http://schemas.openxmlformats.org/officeDocument/2006/relationships/slideLayout" Target="../slideLayouts/slideLayout1616.xml"/><Relationship Id="rId10" Type="http://schemas.openxmlformats.org/officeDocument/2006/relationships/slideLayout" Target="../slideLayouts/slideLayout1617.xml"/><Relationship Id="rId11" Type="http://schemas.openxmlformats.org/officeDocument/2006/relationships/slideLayout" Target="../slideLayouts/slideLayout1618.xml"/><Relationship Id="rId12" Type="http://schemas.openxmlformats.org/officeDocument/2006/relationships/slideLayout" Target="../slideLayouts/slideLayout1619.xml"/><Relationship Id="rId13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slideLayout" Target="../slideLayouts/slideLayout1621.xml"/><Relationship Id="rId3" Type="http://schemas.openxmlformats.org/officeDocument/2006/relationships/slideLayout" Target="../slideLayouts/slideLayout1622.xml"/><Relationship Id="rId4" Type="http://schemas.openxmlformats.org/officeDocument/2006/relationships/slideLayout" Target="../slideLayouts/slideLayout1623.xml"/><Relationship Id="rId5" Type="http://schemas.openxmlformats.org/officeDocument/2006/relationships/slideLayout" Target="../slideLayouts/slideLayout1624.xml"/><Relationship Id="rId6" Type="http://schemas.openxmlformats.org/officeDocument/2006/relationships/slideLayout" Target="../slideLayouts/slideLayout1625.xml"/><Relationship Id="rId7" Type="http://schemas.openxmlformats.org/officeDocument/2006/relationships/slideLayout" Target="../slideLayouts/slideLayout1626.xml"/><Relationship Id="rId8" Type="http://schemas.openxmlformats.org/officeDocument/2006/relationships/slideLayout" Target="../slideLayouts/slideLayout1627.xml"/><Relationship Id="rId9" Type="http://schemas.openxmlformats.org/officeDocument/2006/relationships/slideLayout" Target="../slideLayouts/slideLayout1628.xml"/><Relationship Id="rId10" Type="http://schemas.openxmlformats.org/officeDocument/2006/relationships/slideLayout" Target="../slideLayouts/slideLayout1629.xml"/><Relationship Id="rId11" Type="http://schemas.openxmlformats.org/officeDocument/2006/relationships/slideLayout" Target="../slideLayouts/slideLayout1630.xml"/><Relationship Id="rId12" Type="http://schemas.openxmlformats.org/officeDocument/2006/relationships/slideLayout" Target="../slideLayouts/slideLayout1631.xml"/><Relationship Id="rId13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slideLayout" Target="../slideLayouts/slideLayout1633.xml"/><Relationship Id="rId3" Type="http://schemas.openxmlformats.org/officeDocument/2006/relationships/slideLayout" Target="../slideLayouts/slideLayout1634.xml"/><Relationship Id="rId4" Type="http://schemas.openxmlformats.org/officeDocument/2006/relationships/slideLayout" Target="../slideLayouts/slideLayout1635.xml"/><Relationship Id="rId5" Type="http://schemas.openxmlformats.org/officeDocument/2006/relationships/slideLayout" Target="../slideLayouts/slideLayout1636.xml"/><Relationship Id="rId6" Type="http://schemas.openxmlformats.org/officeDocument/2006/relationships/slideLayout" Target="../slideLayouts/slideLayout1637.xml"/><Relationship Id="rId7" Type="http://schemas.openxmlformats.org/officeDocument/2006/relationships/slideLayout" Target="../slideLayouts/slideLayout1638.xml"/><Relationship Id="rId8" Type="http://schemas.openxmlformats.org/officeDocument/2006/relationships/slideLayout" Target="../slideLayouts/slideLayout1639.xml"/><Relationship Id="rId9" Type="http://schemas.openxmlformats.org/officeDocument/2006/relationships/slideLayout" Target="../slideLayouts/slideLayout1640.xml"/><Relationship Id="rId10" Type="http://schemas.openxmlformats.org/officeDocument/2006/relationships/slideLayout" Target="../slideLayouts/slideLayout1641.xml"/><Relationship Id="rId11" Type="http://schemas.openxmlformats.org/officeDocument/2006/relationships/slideLayout" Target="../slideLayouts/slideLayout1642.xml"/><Relationship Id="rId12" Type="http://schemas.openxmlformats.org/officeDocument/2006/relationships/slideLayout" Target="../slideLayouts/slideLayout1643.xml"/><Relationship Id="rId13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slideLayout" Target="../slideLayouts/slideLayout1645.xml"/><Relationship Id="rId3" Type="http://schemas.openxmlformats.org/officeDocument/2006/relationships/slideLayout" Target="../slideLayouts/slideLayout1646.xml"/><Relationship Id="rId4" Type="http://schemas.openxmlformats.org/officeDocument/2006/relationships/slideLayout" Target="../slideLayouts/slideLayout1647.xml"/><Relationship Id="rId5" Type="http://schemas.openxmlformats.org/officeDocument/2006/relationships/slideLayout" Target="../slideLayouts/slideLayout1648.xml"/><Relationship Id="rId6" Type="http://schemas.openxmlformats.org/officeDocument/2006/relationships/slideLayout" Target="../slideLayouts/slideLayout1649.xml"/><Relationship Id="rId7" Type="http://schemas.openxmlformats.org/officeDocument/2006/relationships/slideLayout" Target="../slideLayouts/slideLayout1650.xml"/><Relationship Id="rId8" Type="http://schemas.openxmlformats.org/officeDocument/2006/relationships/slideLayout" Target="../slideLayouts/slideLayout1651.xml"/><Relationship Id="rId9" Type="http://schemas.openxmlformats.org/officeDocument/2006/relationships/slideLayout" Target="../slideLayouts/slideLayout1652.xml"/><Relationship Id="rId10" Type="http://schemas.openxmlformats.org/officeDocument/2006/relationships/slideLayout" Target="../slideLayouts/slideLayout1653.xml"/><Relationship Id="rId11" Type="http://schemas.openxmlformats.org/officeDocument/2006/relationships/slideLayout" Target="../slideLayouts/slideLayout1654.xml"/><Relationship Id="rId12" Type="http://schemas.openxmlformats.org/officeDocument/2006/relationships/slideLayout" Target="../slideLayouts/slideLayout1655.xml"/><Relationship Id="rId13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slideLayout" Target="../slideLayouts/slideLayout1657.xml"/><Relationship Id="rId3" Type="http://schemas.openxmlformats.org/officeDocument/2006/relationships/slideLayout" Target="../slideLayouts/slideLayout1658.xml"/><Relationship Id="rId4" Type="http://schemas.openxmlformats.org/officeDocument/2006/relationships/slideLayout" Target="../slideLayouts/slideLayout1659.xml"/><Relationship Id="rId5" Type="http://schemas.openxmlformats.org/officeDocument/2006/relationships/slideLayout" Target="../slideLayouts/slideLayout1660.xml"/><Relationship Id="rId6" Type="http://schemas.openxmlformats.org/officeDocument/2006/relationships/slideLayout" Target="../slideLayouts/slideLayout1661.xml"/><Relationship Id="rId7" Type="http://schemas.openxmlformats.org/officeDocument/2006/relationships/slideLayout" Target="../slideLayouts/slideLayout1662.xml"/><Relationship Id="rId8" Type="http://schemas.openxmlformats.org/officeDocument/2006/relationships/slideLayout" Target="../slideLayouts/slideLayout1663.xml"/><Relationship Id="rId9" Type="http://schemas.openxmlformats.org/officeDocument/2006/relationships/slideLayout" Target="../slideLayouts/slideLayout1664.xml"/><Relationship Id="rId10" Type="http://schemas.openxmlformats.org/officeDocument/2006/relationships/slideLayout" Target="../slideLayouts/slideLayout1665.xml"/><Relationship Id="rId11" Type="http://schemas.openxmlformats.org/officeDocument/2006/relationships/slideLayout" Target="../slideLayouts/slideLayout1666.xml"/><Relationship Id="rId12" Type="http://schemas.openxmlformats.org/officeDocument/2006/relationships/slideLayout" Target="../slideLayouts/slideLayout1667.xml"/><Relationship Id="rId13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slideLayout" Target="../slideLayouts/slideLayout1669.xml"/><Relationship Id="rId3" Type="http://schemas.openxmlformats.org/officeDocument/2006/relationships/slideLayout" Target="../slideLayouts/slideLayout1670.xml"/><Relationship Id="rId4" Type="http://schemas.openxmlformats.org/officeDocument/2006/relationships/slideLayout" Target="../slideLayouts/slideLayout1671.xml"/><Relationship Id="rId5" Type="http://schemas.openxmlformats.org/officeDocument/2006/relationships/slideLayout" Target="../slideLayouts/slideLayout1672.xml"/><Relationship Id="rId6" Type="http://schemas.openxmlformats.org/officeDocument/2006/relationships/slideLayout" Target="../slideLayouts/slideLayout1673.xml"/><Relationship Id="rId7" Type="http://schemas.openxmlformats.org/officeDocument/2006/relationships/slideLayout" Target="../slideLayouts/slideLayout1674.xml"/><Relationship Id="rId8" Type="http://schemas.openxmlformats.org/officeDocument/2006/relationships/slideLayout" Target="../slideLayouts/slideLayout1675.xml"/><Relationship Id="rId9" Type="http://schemas.openxmlformats.org/officeDocument/2006/relationships/slideLayout" Target="../slideLayouts/slideLayout1676.xml"/><Relationship Id="rId10" Type="http://schemas.openxmlformats.org/officeDocument/2006/relationships/slideLayout" Target="../slideLayouts/slideLayout1677.xml"/><Relationship Id="rId11" Type="http://schemas.openxmlformats.org/officeDocument/2006/relationships/slideLayout" Target="../slideLayouts/slideLayout1678.xml"/><Relationship Id="rId12" Type="http://schemas.openxmlformats.org/officeDocument/2006/relationships/slideLayout" Target="../slideLayouts/slideLayout1679.xml"/><Relationship Id="rId13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slideLayout" Target="../slideLayouts/slideLayout1681.xml"/><Relationship Id="rId3" Type="http://schemas.openxmlformats.org/officeDocument/2006/relationships/slideLayout" Target="../slideLayouts/slideLayout1682.xml"/><Relationship Id="rId4" Type="http://schemas.openxmlformats.org/officeDocument/2006/relationships/slideLayout" Target="../slideLayouts/slideLayout1683.xml"/><Relationship Id="rId5" Type="http://schemas.openxmlformats.org/officeDocument/2006/relationships/slideLayout" Target="../slideLayouts/slideLayout1684.xml"/><Relationship Id="rId6" Type="http://schemas.openxmlformats.org/officeDocument/2006/relationships/slideLayout" Target="../slideLayouts/slideLayout1685.xml"/><Relationship Id="rId7" Type="http://schemas.openxmlformats.org/officeDocument/2006/relationships/slideLayout" Target="../slideLayouts/slideLayout1686.xml"/><Relationship Id="rId8" Type="http://schemas.openxmlformats.org/officeDocument/2006/relationships/slideLayout" Target="../slideLayouts/slideLayout1687.xml"/><Relationship Id="rId9" Type="http://schemas.openxmlformats.org/officeDocument/2006/relationships/slideLayout" Target="../slideLayouts/slideLayout1688.xml"/><Relationship Id="rId10" Type="http://schemas.openxmlformats.org/officeDocument/2006/relationships/slideLayout" Target="../slideLayouts/slideLayout1689.xml"/><Relationship Id="rId11" Type="http://schemas.openxmlformats.org/officeDocument/2006/relationships/slideLayout" Target="../slideLayouts/slideLayout1690.xml"/><Relationship Id="rId12" Type="http://schemas.openxmlformats.org/officeDocument/2006/relationships/slideLayout" Target="../slideLayouts/slideLayout1691.xml"/><Relationship Id="rId13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slideLayout" Target="../slideLayouts/slideLayout1693.xml"/><Relationship Id="rId3" Type="http://schemas.openxmlformats.org/officeDocument/2006/relationships/slideLayout" Target="../slideLayouts/slideLayout1694.xml"/><Relationship Id="rId4" Type="http://schemas.openxmlformats.org/officeDocument/2006/relationships/slideLayout" Target="../slideLayouts/slideLayout1695.xml"/><Relationship Id="rId5" Type="http://schemas.openxmlformats.org/officeDocument/2006/relationships/slideLayout" Target="../slideLayouts/slideLayout1696.xml"/><Relationship Id="rId6" Type="http://schemas.openxmlformats.org/officeDocument/2006/relationships/slideLayout" Target="../slideLayouts/slideLayout1697.xml"/><Relationship Id="rId7" Type="http://schemas.openxmlformats.org/officeDocument/2006/relationships/slideLayout" Target="../slideLayouts/slideLayout1698.xml"/><Relationship Id="rId8" Type="http://schemas.openxmlformats.org/officeDocument/2006/relationships/slideLayout" Target="../slideLayouts/slideLayout1699.xml"/><Relationship Id="rId9" Type="http://schemas.openxmlformats.org/officeDocument/2006/relationships/slideLayout" Target="../slideLayouts/slideLayout1700.xml"/><Relationship Id="rId10" Type="http://schemas.openxmlformats.org/officeDocument/2006/relationships/slideLayout" Target="../slideLayouts/slideLayout1701.xml"/><Relationship Id="rId11" Type="http://schemas.openxmlformats.org/officeDocument/2006/relationships/slideLayout" Target="../slideLayouts/slideLayout1702.xml"/><Relationship Id="rId12" Type="http://schemas.openxmlformats.org/officeDocument/2006/relationships/slideLayout" Target="../slideLayouts/slideLayout1703.xml"/><Relationship Id="rId13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slideLayout" Target="../slideLayouts/slideLayout1705.xml"/><Relationship Id="rId3" Type="http://schemas.openxmlformats.org/officeDocument/2006/relationships/slideLayout" Target="../slideLayouts/slideLayout1706.xml"/><Relationship Id="rId4" Type="http://schemas.openxmlformats.org/officeDocument/2006/relationships/slideLayout" Target="../slideLayouts/slideLayout1707.xml"/><Relationship Id="rId5" Type="http://schemas.openxmlformats.org/officeDocument/2006/relationships/slideLayout" Target="../slideLayouts/slideLayout1708.xml"/><Relationship Id="rId6" Type="http://schemas.openxmlformats.org/officeDocument/2006/relationships/slideLayout" Target="../slideLayouts/slideLayout1709.xml"/><Relationship Id="rId7" Type="http://schemas.openxmlformats.org/officeDocument/2006/relationships/slideLayout" Target="../slideLayouts/slideLayout1710.xml"/><Relationship Id="rId8" Type="http://schemas.openxmlformats.org/officeDocument/2006/relationships/slideLayout" Target="../slideLayouts/slideLayout1711.xml"/><Relationship Id="rId9" Type="http://schemas.openxmlformats.org/officeDocument/2006/relationships/slideLayout" Target="../slideLayouts/slideLayout1712.xml"/><Relationship Id="rId10" Type="http://schemas.openxmlformats.org/officeDocument/2006/relationships/slideLayout" Target="../slideLayouts/slideLayout1713.xml"/><Relationship Id="rId11" Type="http://schemas.openxmlformats.org/officeDocument/2006/relationships/slideLayout" Target="../slideLayouts/slideLayout1714.xml"/><Relationship Id="rId12" Type="http://schemas.openxmlformats.org/officeDocument/2006/relationships/slideLayout" Target="../slideLayouts/slideLayout1715.xml"/><Relationship Id="rId13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slideLayout" Target="../slideLayouts/slideLayout1717.xml"/><Relationship Id="rId3" Type="http://schemas.openxmlformats.org/officeDocument/2006/relationships/slideLayout" Target="../slideLayouts/slideLayout1718.xml"/><Relationship Id="rId4" Type="http://schemas.openxmlformats.org/officeDocument/2006/relationships/slideLayout" Target="../slideLayouts/slideLayout1719.xml"/><Relationship Id="rId5" Type="http://schemas.openxmlformats.org/officeDocument/2006/relationships/slideLayout" Target="../slideLayouts/slideLayout1720.xml"/><Relationship Id="rId6" Type="http://schemas.openxmlformats.org/officeDocument/2006/relationships/slideLayout" Target="../slideLayouts/slideLayout1721.xml"/><Relationship Id="rId7" Type="http://schemas.openxmlformats.org/officeDocument/2006/relationships/slideLayout" Target="../slideLayouts/slideLayout1722.xml"/><Relationship Id="rId8" Type="http://schemas.openxmlformats.org/officeDocument/2006/relationships/slideLayout" Target="../slideLayouts/slideLayout1723.xml"/><Relationship Id="rId9" Type="http://schemas.openxmlformats.org/officeDocument/2006/relationships/slideLayout" Target="../slideLayouts/slideLayout1724.xml"/><Relationship Id="rId10" Type="http://schemas.openxmlformats.org/officeDocument/2006/relationships/slideLayout" Target="../slideLayouts/slideLayout1725.xml"/><Relationship Id="rId11" Type="http://schemas.openxmlformats.org/officeDocument/2006/relationships/slideLayout" Target="../slideLayouts/slideLayout1726.xml"/><Relationship Id="rId12" Type="http://schemas.openxmlformats.org/officeDocument/2006/relationships/slideLayout" Target="../slideLayouts/slideLayout1727.xml"/><Relationship Id="rId13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slideLayout" Target="../slideLayouts/slideLayout1729.xml"/><Relationship Id="rId3" Type="http://schemas.openxmlformats.org/officeDocument/2006/relationships/slideLayout" Target="../slideLayouts/slideLayout1730.xml"/><Relationship Id="rId4" Type="http://schemas.openxmlformats.org/officeDocument/2006/relationships/slideLayout" Target="../slideLayouts/slideLayout1731.xml"/><Relationship Id="rId5" Type="http://schemas.openxmlformats.org/officeDocument/2006/relationships/slideLayout" Target="../slideLayouts/slideLayout1732.xml"/><Relationship Id="rId6" Type="http://schemas.openxmlformats.org/officeDocument/2006/relationships/slideLayout" Target="../slideLayouts/slideLayout1733.xml"/><Relationship Id="rId7" Type="http://schemas.openxmlformats.org/officeDocument/2006/relationships/slideLayout" Target="../slideLayouts/slideLayout1734.xml"/><Relationship Id="rId8" Type="http://schemas.openxmlformats.org/officeDocument/2006/relationships/slideLayout" Target="../slideLayouts/slideLayout1735.xml"/><Relationship Id="rId9" Type="http://schemas.openxmlformats.org/officeDocument/2006/relationships/slideLayout" Target="../slideLayouts/slideLayout1736.xml"/><Relationship Id="rId10" Type="http://schemas.openxmlformats.org/officeDocument/2006/relationships/slideLayout" Target="../slideLayouts/slideLayout1737.xml"/><Relationship Id="rId11" Type="http://schemas.openxmlformats.org/officeDocument/2006/relationships/slideLayout" Target="../slideLayouts/slideLayout1738.xml"/><Relationship Id="rId12" Type="http://schemas.openxmlformats.org/officeDocument/2006/relationships/slideLayout" Target="../slideLayouts/slideLayout1739.xml"/><Relationship Id="rId13" Type="http://schemas.openxmlformats.org/officeDocument/2006/relationships/slideLayout" Target="../slideLayouts/slideLayout1740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3266-71C8-49B4-B39A-B3637A72A8E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634A-B0F9-4275-B67D-E2F6F6E964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853C-6962-49E8-A457-B2C1426FAEA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B81C-FDD4-4278-9806-6E3B93424F9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 type="dt" idx="2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7B8C-6C6F-447D-B064-94984772E46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PlaceHolder 4"/>
          <p:cNvSpPr>
            <a:spLocks noGrp="1"/>
          </p:cNvSpPr>
          <p:nvPr>
            <p:ph type="ftr" idx="2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PlaceHolder 5"/>
          <p:cNvSpPr>
            <a:spLocks noGrp="1"/>
          </p:cNvSpPr>
          <p:nvPr>
            <p:ph type="sldNum" idx="3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CCDC-2084-4F51-81FB-6B70BF87E0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 type="dt" idx="3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139C-C05C-406D-8282-76926198CEC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PlaceHolder 4"/>
          <p:cNvSpPr>
            <a:spLocks noGrp="1"/>
          </p:cNvSpPr>
          <p:nvPr>
            <p:ph type="ftr" idx="3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PlaceHolder 5"/>
          <p:cNvSpPr>
            <a:spLocks noGrp="1"/>
          </p:cNvSpPr>
          <p:nvPr>
            <p:ph type="sldNum" idx="3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A1F8-17ED-43F3-95BF-7AE8A03A824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3" name="PlaceHolder 3"/>
          <p:cNvSpPr>
            <a:spLocks noGrp="1"/>
          </p:cNvSpPr>
          <p:nvPr>
            <p:ph type="dt" idx="3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77FE-A40C-435A-8242-0B3122B895D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PlaceHolder 4"/>
          <p:cNvSpPr>
            <a:spLocks noGrp="1"/>
          </p:cNvSpPr>
          <p:nvPr>
            <p:ph type="ftr" idx="3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PlaceHolder 5"/>
          <p:cNvSpPr>
            <a:spLocks noGrp="1"/>
          </p:cNvSpPr>
          <p:nvPr>
            <p:ph type="sldNum" idx="30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2EFD-4B78-4198-BA0E-8E79F158D06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4" name="PlaceHolder 3"/>
          <p:cNvSpPr>
            <a:spLocks noGrp="1"/>
          </p:cNvSpPr>
          <p:nvPr>
            <p:ph type="dt" idx="3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0676-F29F-479D-B9AE-21D19DC3364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PlaceHolder 4"/>
          <p:cNvSpPr>
            <a:spLocks noGrp="1"/>
          </p:cNvSpPr>
          <p:nvPr>
            <p:ph type="ftr" idx="3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PlaceHolder 5"/>
          <p:cNvSpPr>
            <a:spLocks noGrp="1"/>
          </p:cNvSpPr>
          <p:nvPr>
            <p:ph type="sldNum" idx="30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8F69-A795-4120-AA90-E98D945CC3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5" name="PlaceHolder 3"/>
          <p:cNvSpPr>
            <a:spLocks noGrp="1"/>
          </p:cNvSpPr>
          <p:nvPr>
            <p:ph type="dt" idx="3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5BC4-520F-4FFC-BB92-5A69531DDFE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PlaceHolder 4"/>
          <p:cNvSpPr>
            <a:spLocks noGrp="1"/>
          </p:cNvSpPr>
          <p:nvPr>
            <p:ph type="ftr" idx="3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PlaceHolder 5"/>
          <p:cNvSpPr>
            <a:spLocks noGrp="1"/>
          </p:cNvSpPr>
          <p:nvPr>
            <p:ph type="sldNum" idx="3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8F54-1787-4F25-973F-A516D94F3AF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 type="dt" idx="3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29DD-6006-44C2-9EDD-7307CA2743C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PlaceHolder 4"/>
          <p:cNvSpPr>
            <a:spLocks noGrp="1"/>
          </p:cNvSpPr>
          <p:nvPr>
            <p:ph type="ftr" idx="3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PlaceHolder 5"/>
          <p:cNvSpPr>
            <a:spLocks noGrp="1"/>
          </p:cNvSpPr>
          <p:nvPr>
            <p:ph type="sldNum" idx="3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1B8B-40E0-4271-A03D-1F74189FAB8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 type="dt" idx="3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E544-E25A-4982-B59A-B58097E94A2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 type="ftr" idx="3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PlaceHolder 5"/>
          <p:cNvSpPr>
            <a:spLocks noGrp="1"/>
          </p:cNvSpPr>
          <p:nvPr>
            <p:ph type="sldNum" idx="3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4089-DED8-40C4-B65C-F96D8F857D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 type="dt" idx="3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ED31-5D11-4B13-B3A7-5DC4A4DD2B3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PlaceHolder 4"/>
          <p:cNvSpPr>
            <a:spLocks noGrp="1"/>
          </p:cNvSpPr>
          <p:nvPr>
            <p:ph type="ftr" idx="3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PlaceHolder 5"/>
          <p:cNvSpPr>
            <a:spLocks noGrp="1"/>
          </p:cNvSpPr>
          <p:nvPr>
            <p:ph type="sldNum" idx="3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9413-D5D8-47B9-897A-4BD19BB7C2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PlaceHolder 3"/>
          <p:cNvSpPr>
            <a:spLocks noGrp="1"/>
          </p:cNvSpPr>
          <p:nvPr>
            <p:ph type="dt" idx="3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2B57-836B-4356-ABAF-3D6C76FA4EA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PlaceHolder 4"/>
          <p:cNvSpPr>
            <a:spLocks noGrp="1"/>
          </p:cNvSpPr>
          <p:nvPr>
            <p:ph type="ftr" idx="3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PlaceHolder 5"/>
          <p:cNvSpPr>
            <a:spLocks noGrp="1"/>
          </p:cNvSpPr>
          <p:nvPr>
            <p:ph type="sldNum" idx="3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8F81-94A4-4537-9168-6DFA9D38F44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 type="dt" idx="3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993D-D11D-4F01-8696-583C678B721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PlaceHolder 4"/>
          <p:cNvSpPr>
            <a:spLocks noGrp="1"/>
          </p:cNvSpPr>
          <p:nvPr>
            <p:ph type="ftr" idx="3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PlaceHolder 5"/>
          <p:cNvSpPr>
            <a:spLocks noGrp="1"/>
          </p:cNvSpPr>
          <p:nvPr>
            <p:ph type="sldNum" idx="3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D074-EB7F-4AD6-9D03-507FAD43B76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DBD1-B9C7-4CAB-A473-749BBB19440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2C36-14E9-4399-8067-5FAC81D8C77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1" name="PlaceHolder 3"/>
          <p:cNvSpPr>
            <a:spLocks noGrp="1"/>
          </p:cNvSpPr>
          <p:nvPr>
            <p:ph type="dt" idx="3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A0F8-220D-466B-84B8-9328CFDF2DB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PlaceHolder 4"/>
          <p:cNvSpPr>
            <a:spLocks noGrp="1"/>
          </p:cNvSpPr>
          <p:nvPr>
            <p:ph type="ftr" idx="3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PlaceHolder 5"/>
          <p:cNvSpPr>
            <a:spLocks noGrp="1"/>
          </p:cNvSpPr>
          <p:nvPr>
            <p:ph type="sldNum" idx="3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DFE1-96D2-4595-93D9-90E0CE77D39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 type="dt" idx="3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14D2-04FB-4A18-A15A-2FF8FD1186C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PlaceHolder 4"/>
          <p:cNvSpPr>
            <a:spLocks noGrp="1"/>
          </p:cNvSpPr>
          <p:nvPr>
            <p:ph type="ftr" idx="3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PlaceHolder 5"/>
          <p:cNvSpPr>
            <a:spLocks noGrp="1"/>
          </p:cNvSpPr>
          <p:nvPr>
            <p:ph type="sldNum" idx="3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A14E-2B25-4C19-BA1F-B430CD2257C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3" name="PlaceHolder 3"/>
          <p:cNvSpPr>
            <a:spLocks noGrp="1"/>
          </p:cNvSpPr>
          <p:nvPr>
            <p:ph type="dt" idx="3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FDAC-BC10-48D0-87A5-F76E2594FF4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PlaceHolder 4"/>
          <p:cNvSpPr>
            <a:spLocks noGrp="1"/>
          </p:cNvSpPr>
          <p:nvPr>
            <p:ph type="ftr" idx="3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PlaceHolder 5"/>
          <p:cNvSpPr>
            <a:spLocks noGrp="1"/>
          </p:cNvSpPr>
          <p:nvPr>
            <p:ph type="sldNum" idx="3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0F76-ABF4-4B8B-A05F-1862BC42F9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4" name="PlaceHolder 3"/>
          <p:cNvSpPr>
            <a:spLocks noGrp="1"/>
          </p:cNvSpPr>
          <p:nvPr>
            <p:ph type="dt" idx="3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33BA-0F37-4461-8CC5-D51A906DE8F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PlaceHolder 4"/>
          <p:cNvSpPr>
            <a:spLocks noGrp="1"/>
          </p:cNvSpPr>
          <p:nvPr>
            <p:ph type="ftr" idx="3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PlaceHolder 5"/>
          <p:cNvSpPr>
            <a:spLocks noGrp="1"/>
          </p:cNvSpPr>
          <p:nvPr>
            <p:ph type="sldNum" idx="3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ECE9-F629-480D-BAE2-5A4759700D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 type="dt" idx="3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B005-84E0-4296-B7E7-870ECFD4508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PlaceHolder 4"/>
          <p:cNvSpPr>
            <a:spLocks noGrp="1"/>
          </p:cNvSpPr>
          <p:nvPr>
            <p:ph type="ftr" idx="3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PlaceHolder 5"/>
          <p:cNvSpPr>
            <a:spLocks noGrp="1"/>
          </p:cNvSpPr>
          <p:nvPr>
            <p:ph type="sldNum" idx="3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E6FA-2FED-4581-8E71-A6870B3117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6" name="PlaceHolder 3"/>
          <p:cNvSpPr>
            <a:spLocks noGrp="1"/>
          </p:cNvSpPr>
          <p:nvPr>
            <p:ph type="dt" idx="3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2A4D-1223-4A10-9F93-D0B4AC2D04D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PlaceHolder 4"/>
          <p:cNvSpPr>
            <a:spLocks noGrp="1"/>
          </p:cNvSpPr>
          <p:nvPr>
            <p:ph type="ftr" idx="3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PlaceHolder 5"/>
          <p:cNvSpPr>
            <a:spLocks noGrp="1"/>
          </p:cNvSpPr>
          <p:nvPr>
            <p:ph type="sldNum" idx="3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7939-E3C2-455B-8F63-F610FD4333C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7" name="PlaceHolder 3"/>
          <p:cNvSpPr>
            <a:spLocks noGrp="1"/>
          </p:cNvSpPr>
          <p:nvPr>
            <p:ph type="dt" idx="3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2586-FDC7-4157-AB13-653EBCDDF80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PlaceHolder 4"/>
          <p:cNvSpPr>
            <a:spLocks noGrp="1"/>
          </p:cNvSpPr>
          <p:nvPr>
            <p:ph type="ftr" idx="3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PlaceHolder 5"/>
          <p:cNvSpPr>
            <a:spLocks noGrp="1"/>
          </p:cNvSpPr>
          <p:nvPr>
            <p:ph type="sldNum" idx="3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8B03-E67A-4E97-8C1D-3507934F24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8" name="PlaceHolder 3"/>
          <p:cNvSpPr>
            <a:spLocks noGrp="1"/>
          </p:cNvSpPr>
          <p:nvPr>
            <p:ph type="dt" idx="3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F786-6205-4F5B-8727-8E4B466BFB7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PlaceHolder 4"/>
          <p:cNvSpPr>
            <a:spLocks noGrp="1"/>
          </p:cNvSpPr>
          <p:nvPr>
            <p:ph type="ftr" idx="3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PlaceHolder 5"/>
          <p:cNvSpPr>
            <a:spLocks noGrp="1"/>
          </p:cNvSpPr>
          <p:nvPr>
            <p:ph type="sldNum" idx="3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116A-10FF-4E62-B251-2169327D649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9" name="PlaceHolder 3"/>
          <p:cNvSpPr>
            <a:spLocks noGrp="1"/>
          </p:cNvSpPr>
          <p:nvPr>
            <p:ph type="dt" idx="3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451E-7738-4D56-BD20-E8856CCAD03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0" name="PlaceHolder 4"/>
          <p:cNvSpPr>
            <a:spLocks noGrp="1"/>
          </p:cNvSpPr>
          <p:nvPr>
            <p:ph type="ftr" idx="3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PlaceHolder 5"/>
          <p:cNvSpPr>
            <a:spLocks noGrp="1"/>
          </p:cNvSpPr>
          <p:nvPr>
            <p:ph type="sldNum" idx="3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EA8B-6233-4E0F-86F2-68BB6484B2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0" name="PlaceHolder 3"/>
          <p:cNvSpPr>
            <a:spLocks noGrp="1"/>
          </p:cNvSpPr>
          <p:nvPr>
            <p:ph type="dt" idx="3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69E9-EE70-49F5-9AD3-3360249EACF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PlaceHolder 4"/>
          <p:cNvSpPr>
            <a:spLocks noGrp="1"/>
          </p:cNvSpPr>
          <p:nvPr>
            <p:ph type="ftr" idx="3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PlaceHolder 5"/>
          <p:cNvSpPr>
            <a:spLocks noGrp="1"/>
          </p:cNvSpPr>
          <p:nvPr>
            <p:ph type="sldNum" idx="3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2CFF-A6C4-415D-928F-F459198EFEF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0615-5E8F-433F-B529-AB233F6C212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CD5E-926D-49E5-9206-F98081F1FE0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 type="dt" idx="3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7A45-9FC6-48CF-90A2-7DC358C0D44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 type="ftr" idx="3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PlaceHolder 5"/>
          <p:cNvSpPr>
            <a:spLocks noGrp="1"/>
          </p:cNvSpPr>
          <p:nvPr>
            <p:ph type="sldNum" idx="3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DE03-BD4E-438A-9B5D-1F332E41295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 type="dt" idx="3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1F5D-0B5E-47B4-91A0-FBFFE60A9F1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PlaceHolder 4"/>
          <p:cNvSpPr>
            <a:spLocks noGrp="1"/>
          </p:cNvSpPr>
          <p:nvPr>
            <p:ph type="ftr" idx="3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PlaceHolder 5"/>
          <p:cNvSpPr>
            <a:spLocks noGrp="1"/>
          </p:cNvSpPr>
          <p:nvPr>
            <p:ph type="sldNum" idx="3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370C-7B05-4F6E-9B4D-76ED4315825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3" name="PlaceHolder 3"/>
          <p:cNvSpPr>
            <a:spLocks noGrp="1"/>
          </p:cNvSpPr>
          <p:nvPr>
            <p:ph type="dt" idx="3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1F5C-5DFB-42B4-A22F-F1A605984DF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PlaceHolder 4"/>
          <p:cNvSpPr>
            <a:spLocks noGrp="1"/>
          </p:cNvSpPr>
          <p:nvPr>
            <p:ph type="ftr" idx="3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PlaceHolder 5"/>
          <p:cNvSpPr>
            <a:spLocks noGrp="1"/>
          </p:cNvSpPr>
          <p:nvPr>
            <p:ph type="sldNum" idx="3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D48B-0DBA-452F-9ED3-AA17AF4E6CF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4" name="PlaceHolder 3"/>
          <p:cNvSpPr>
            <a:spLocks noGrp="1"/>
          </p:cNvSpPr>
          <p:nvPr>
            <p:ph type="dt" idx="3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04E1-F71B-4AFF-9101-C42D4EE0EDE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PlaceHolder 4"/>
          <p:cNvSpPr>
            <a:spLocks noGrp="1"/>
          </p:cNvSpPr>
          <p:nvPr>
            <p:ph type="ftr" idx="3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PlaceHolder 5"/>
          <p:cNvSpPr>
            <a:spLocks noGrp="1"/>
          </p:cNvSpPr>
          <p:nvPr>
            <p:ph type="sldNum" idx="3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B12C-74AB-4C33-8128-6B37003AA2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5" name="PlaceHolder 3"/>
          <p:cNvSpPr>
            <a:spLocks noGrp="1"/>
          </p:cNvSpPr>
          <p:nvPr>
            <p:ph type="dt" idx="3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E059-56BC-4CA5-85D9-908976BE649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PlaceHolder 4"/>
          <p:cNvSpPr>
            <a:spLocks noGrp="1"/>
          </p:cNvSpPr>
          <p:nvPr>
            <p:ph type="ftr" idx="3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PlaceHolder 5"/>
          <p:cNvSpPr>
            <a:spLocks noGrp="1"/>
          </p:cNvSpPr>
          <p:nvPr>
            <p:ph type="sldNum" idx="3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7408-7E76-4B4F-BF1F-9B8C502769A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6" name="PlaceHolder 3"/>
          <p:cNvSpPr>
            <a:spLocks noGrp="1"/>
          </p:cNvSpPr>
          <p:nvPr>
            <p:ph type="dt" idx="3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1ABA-7F5C-479D-9857-ECD0910F77D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PlaceHolder 4"/>
          <p:cNvSpPr>
            <a:spLocks noGrp="1"/>
          </p:cNvSpPr>
          <p:nvPr>
            <p:ph type="ftr" idx="3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PlaceHolder 5"/>
          <p:cNvSpPr>
            <a:spLocks noGrp="1"/>
          </p:cNvSpPr>
          <p:nvPr>
            <p:ph type="sldNum" idx="3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3C7E-635B-42E1-B21A-9445659ACD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7" name="PlaceHolder 3"/>
          <p:cNvSpPr>
            <a:spLocks noGrp="1"/>
          </p:cNvSpPr>
          <p:nvPr>
            <p:ph type="dt" idx="3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F877-08D6-480B-915F-9595F3E69C8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PlaceHolder 4"/>
          <p:cNvSpPr>
            <a:spLocks noGrp="1"/>
          </p:cNvSpPr>
          <p:nvPr>
            <p:ph type="ftr" idx="3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PlaceHolder 5"/>
          <p:cNvSpPr>
            <a:spLocks noGrp="1"/>
          </p:cNvSpPr>
          <p:nvPr>
            <p:ph type="sldNum" idx="3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54DF-BDA8-42B3-B824-0CD646F144F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8" name="PlaceHolder 3"/>
          <p:cNvSpPr>
            <a:spLocks noGrp="1"/>
          </p:cNvSpPr>
          <p:nvPr>
            <p:ph type="dt" idx="3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74D0-F3C3-4514-995D-F3F4FD27909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PlaceHolder 4"/>
          <p:cNvSpPr>
            <a:spLocks noGrp="1"/>
          </p:cNvSpPr>
          <p:nvPr>
            <p:ph type="ftr" idx="3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0" name="PlaceHolder 5"/>
          <p:cNvSpPr>
            <a:spLocks noGrp="1"/>
          </p:cNvSpPr>
          <p:nvPr>
            <p:ph type="sldNum" idx="3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36B3-E4F8-4C72-8F10-345D3D92D5D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9" name="PlaceHolder 3"/>
          <p:cNvSpPr>
            <a:spLocks noGrp="1"/>
          </p:cNvSpPr>
          <p:nvPr>
            <p:ph type="dt" idx="3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1905-D3F1-4205-9320-DE62A46A47B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PlaceHolder 4"/>
          <p:cNvSpPr>
            <a:spLocks noGrp="1"/>
          </p:cNvSpPr>
          <p:nvPr>
            <p:ph type="ftr" idx="3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PlaceHolder 5"/>
          <p:cNvSpPr>
            <a:spLocks noGrp="1"/>
          </p:cNvSpPr>
          <p:nvPr>
            <p:ph type="sldNum" idx="3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5BC1-D722-4685-9744-0A413A70B80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0" name="PlaceHolder 3"/>
          <p:cNvSpPr>
            <a:spLocks noGrp="1"/>
          </p:cNvSpPr>
          <p:nvPr>
            <p:ph type="dt" idx="3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BC49-7750-4567-BB78-3713AB4C4AD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PlaceHolder 4"/>
          <p:cNvSpPr>
            <a:spLocks noGrp="1"/>
          </p:cNvSpPr>
          <p:nvPr>
            <p:ph type="ftr" idx="3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2" name="PlaceHolder 5"/>
          <p:cNvSpPr>
            <a:spLocks noGrp="1"/>
          </p:cNvSpPr>
          <p:nvPr>
            <p:ph type="sldNum" idx="3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7A7B-0CB4-4465-856A-BBA511CA6BB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3EF4-098F-4238-9168-0D64271E77E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EB93-B63F-4A97-BD65-BD45AC31B2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1" name="PlaceHolder 3"/>
          <p:cNvSpPr>
            <a:spLocks noGrp="1"/>
          </p:cNvSpPr>
          <p:nvPr>
            <p:ph type="dt" idx="3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A787-6A68-4C0E-B6A2-656E945F64C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PlaceHolder 4"/>
          <p:cNvSpPr>
            <a:spLocks noGrp="1"/>
          </p:cNvSpPr>
          <p:nvPr>
            <p:ph type="ftr" idx="3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PlaceHolder 5"/>
          <p:cNvSpPr>
            <a:spLocks noGrp="1"/>
          </p:cNvSpPr>
          <p:nvPr>
            <p:ph type="sldNum" idx="3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2251-36C6-42A6-8C6D-32B26831EE0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2" name="PlaceHolder 3"/>
          <p:cNvSpPr>
            <a:spLocks noGrp="1"/>
          </p:cNvSpPr>
          <p:nvPr>
            <p:ph type="dt" idx="3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8C91-4292-43F8-A2DB-43EAB0922E2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PlaceHolder 4"/>
          <p:cNvSpPr>
            <a:spLocks noGrp="1"/>
          </p:cNvSpPr>
          <p:nvPr>
            <p:ph type="ftr" idx="3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PlaceHolder 5"/>
          <p:cNvSpPr>
            <a:spLocks noGrp="1"/>
          </p:cNvSpPr>
          <p:nvPr>
            <p:ph type="sldNum" idx="3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2925-8C88-4BF1-9A21-6C7761B0944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3" name="PlaceHolder 3"/>
          <p:cNvSpPr>
            <a:spLocks noGrp="1"/>
          </p:cNvSpPr>
          <p:nvPr>
            <p:ph type="dt" idx="3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68F6-EC2E-4D67-9906-CDCEA8333C4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PlaceHolder 4"/>
          <p:cNvSpPr>
            <a:spLocks noGrp="1"/>
          </p:cNvSpPr>
          <p:nvPr>
            <p:ph type="ftr" idx="3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PlaceHolder 5"/>
          <p:cNvSpPr>
            <a:spLocks noGrp="1"/>
          </p:cNvSpPr>
          <p:nvPr>
            <p:ph type="sldNum" idx="3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F57C-0BD1-465E-BC91-F8A6289D74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4" name="PlaceHolder 3"/>
          <p:cNvSpPr>
            <a:spLocks noGrp="1"/>
          </p:cNvSpPr>
          <p:nvPr>
            <p:ph type="dt" idx="3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BC6F-2E6B-4E6B-A1B4-E25E3882FE1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PlaceHolder 4"/>
          <p:cNvSpPr>
            <a:spLocks noGrp="1"/>
          </p:cNvSpPr>
          <p:nvPr>
            <p:ph type="ftr" idx="3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PlaceHolder 5"/>
          <p:cNvSpPr>
            <a:spLocks noGrp="1"/>
          </p:cNvSpPr>
          <p:nvPr>
            <p:ph type="sldNum" idx="3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75BE-AF95-445A-BEBA-0DC69F98BEE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5" name="PlaceHolder 3"/>
          <p:cNvSpPr>
            <a:spLocks noGrp="1"/>
          </p:cNvSpPr>
          <p:nvPr>
            <p:ph type="dt" idx="4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3D5F-A670-4F5C-BC4F-EA6A983BCD0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PlaceHolder 4"/>
          <p:cNvSpPr>
            <a:spLocks noGrp="1"/>
          </p:cNvSpPr>
          <p:nvPr>
            <p:ph type="ftr" idx="4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7" name="PlaceHolder 5"/>
          <p:cNvSpPr>
            <a:spLocks noGrp="1"/>
          </p:cNvSpPr>
          <p:nvPr>
            <p:ph type="sldNum" idx="4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5C84-5403-4914-BF91-273A0512B2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6" name="PlaceHolder 3"/>
          <p:cNvSpPr>
            <a:spLocks noGrp="1"/>
          </p:cNvSpPr>
          <p:nvPr>
            <p:ph type="dt" idx="4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7162-6F8C-4C0C-8ACE-17377A35D2C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PlaceHolder 4"/>
          <p:cNvSpPr>
            <a:spLocks noGrp="1"/>
          </p:cNvSpPr>
          <p:nvPr>
            <p:ph type="ftr" idx="4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PlaceHolder 5"/>
          <p:cNvSpPr>
            <a:spLocks noGrp="1"/>
          </p:cNvSpPr>
          <p:nvPr>
            <p:ph type="sldNum" idx="4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D8A9-E175-4FFF-8486-8A8E4B928AD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2"/>
    <p:sldLayoutId id="2147485392" r:id="rId3"/>
    <p:sldLayoutId id="2147485393" r:id="rId4"/>
    <p:sldLayoutId id="2147485394" r:id="rId5"/>
    <p:sldLayoutId id="2147485395" r:id="rId6"/>
    <p:sldLayoutId id="2147485396" r:id="rId7"/>
    <p:sldLayoutId id="2147485397" r:id="rId8"/>
    <p:sldLayoutId id="2147485398" r:id="rId9"/>
    <p:sldLayoutId id="2147485399" r:id="rId10"/>
    <p:sldLayoutId id="2147485400" r:id="rId11"/>
    <p:sldLayoutId id="2147485401" r:id="rId12"/>
    <p:sldLayoutId id="2147485402" r:id="rId13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7" name="PlaceHolder 3"/>
          <p:cNvSpPr>
            <a:spLocks noGrp="1"/>
          </p:cNvSpPr>
          <p:nvPr>
            <p:ph type="dt" idx="4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D61B-66F9-4424-A20B-F03E5A0B7DB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PlaceHolder 4"/>
          <p:cNvSpPr>
            <a:spLocks noGrp="1"/>
          </p:cNvSpPr>
          <p:nvPr>
            <p:ph type="ftr" idx="4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9" name="PlaceHolder 5"/>
          <p:cNvSpPr>
            <a:spLocks noGrp="1"/>
          </p:cNvSpPr>
          <p:nvPr>
            <p:ph type="sldNum" idx="4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41B9-EAAA-4231-A0C8-6F7F9495A4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2"/>
    <p:sldLayoutId id="2147485405" r:id="rId3"/>
    <p:sldLayoutId id="2147485406" r:id="rId4"/>
    <p:sldLayoutId id="2147485407" r:id="rId5"/>
    <p:sldLayoutId id="2147485408" r:id="rId6"/>
    <p:sldLayoutId id="2147485409" r:id="rId7"/>
    <p:sldLayoutId id="2147485410" r:id="rId8"/>
    <p:sldLayoutId id="2147485411" r:id="rId9"/>
    <p:sldLayoutId id="2147485412" r:id="rId10"/>
    <p:sldLayoutId id="2147485413" r:id="rId11"/>
    <p:sldLayoutId id="2147485414" r:id="rId12"/>
    <p:sldLayoutId id="2147485415" r:id="rId13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8" name="PlaceHolder 3"/>
          <p:cNvSpPr>
            <a:spLocks noGrp="1"/>
          </p:cNvSpPr>
          <p:nvPr>
            <p:ph type="dt" idx="4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346B-D3FC-4F1D-9B4E-F81EDBF66F2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PlaceHolder 4"/>
          <p:cNvSpPr>
            <a:spLocks noGrp="1"/>
          </p:cNvSpPr>
          <p:nvPr>
            <p:ph type="ftr" idx="4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PlaceHolder 5"/>
          <p:cNvSpPr>
            <a:spLocks noGrp="1"/>
          </p:cNvSpPr>
          <p:nvPr>
            <p:ph type="sldNum" idx="4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B5CA-4D1E-40BF-81D5-B9B3073E12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2"/>
    <p:sldLayoutId id="2147485418" r:id="rId3"/>
    <p:sldLayoutId id="2147485419" r:id="rId4"/>
    <p:sldLayoutId id="2147485420" r:id="rId5"/>
    <p:sldLayoutId id="2147485421" r:id="rId6"/>
    <p:sldLayoutId id="2147485422" r:id="rId7"/>
    <p:sldLayoutId id="2147485423" r:id="rId8"/>
    <p:sldLayoutId id="2147485424" r:id="rId9"/>
    <p:sldLayoutId id="2147485425" r:id="rId10"/>
    <p:sldLayoutId id="2147485426" r:id="rId11"/>
    <p:sldLayoutId id="2147485427" r:id="rId12"/>
    <p:sldLayoutId id="2147485428" r:id="rId13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9" name="PlaceHolder 3"/>
          <p:cNvSpPr>
            <a:spLocks noGrp="1"/>
          </p:cNvSpPr>
          <p:nvPr>
            <p:ph type="dt" idx="4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7F26-3015-4165-8305-CC85F5FA92C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PlaceHolder 4"/>
          <p:cNvSpPr>
            <a:spLocks noGrp="1"/>
          </p:cNvSpPr>
          <p:nvPr>
            <p:ph type="ftr" idx="4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PlaceHolder 5"/>
          <p:cNvSpPr>
            <a:spLocks noGrp="1"/>
          </p:cNvSpPr>
          <p:nvPr>
            <p:ph type="sldNum" idx="4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CDDF-E177-4D33-96FA-77D878AEFDF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2"/>
    <p:sldLayoutId id="2147485431" r:id="rId3"/>
    <p:sldLayoutId id="2147485432" r:id="rId4"/>
    <p:sldLayoutId id="2147485433" r:id="rId5"/>
    <p:sldLayoutId id="2147485434" r:id="rId6"/>
    <p:sldLayoutId id="2147485435" r:id="rId7"/>
    <p:sldLayoutId id="2147485436" r:id="rId8"/>
    <p:sldLayoutId id="2147485437" r:id="rId9"/>
    <p:sldLayoutId id="2147485438" r:id="rId10"/>
    <p:sldLayoutId id="2147485439" r:id="rId11"/>
    <p:sldLayoutId id="2147485440" r:id="rId12"/>
    <p:sldLayoutId id="2147485441" r:id="rId13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0" name="PlaceHolder 3"/>
          <p:cNvSpPr>
            <a:spLocks noGrp="1"/>
          </p:cNvSpPr>
          <p:nvPr>
            <p:ph type="dt" idx="4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331E-DB67-4AE2-AC1B-62BF716A748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PlaceHolder 4"/>
          <p:cNvSpPr>
            <a:spLocks noGrp="1"/>
          </p:cNvSpPr>
          <p:nvPr>
            <p:ph type="ftr" idx="4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2" name="PlaceHolder 5"/>
          <p:cNvSpPr>
            <a:spLocks noGrp="1"/>
          </p:cNvSpPr>
          <p:nvPr>
            <p:ph type="sldNum" idx="4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D3F0-AE40-441E-89CE-04502EEEB66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2"/>
    <p:sldLayoutId id="2147485444" r:id="rId3"/>
    <p:sldLayoutId id="2147485445" r:id="rId4"/>
    <p:sldLayoutId id="2147485446" r:id="rId5"/>
    <p:sldLayoutId id="2147485447" r:id="rId6"/>
    <p:sldLayoutId id="2147485448" r:id="rId7"/>
    <p:sldLayoutId id="2147485449" r:id="rId8"/>
    <p:sldLayoutId id="2147485450" r:id="rId9"/>
    <p:sldLayoutId id="2147485451" r:id="rId10"/>
    <p:sldLayoutId id="2147485452" r:id="rId11"/>
    <p:sldLayoutId id="2147485453" r:id="rId12"/>
    <p:sldLayoutId id="2147485454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8C06-D42B-432D-8E88-7A8F9A1A2E1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09FD-265C-44D5-B3D3-DF4C0970549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1" name="PlaceHolder 3"/>
          <p:cNvSpPr>
            <a:spLocks noGrp="1"/>
          </p:cNvSpPr>
          <p:nvPr>
            <p:ph type="dt" idx="4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F4DF-AC51-4A81-BF2B-E4767CF0272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PlaceHolder 4"/>
          <p:cNvSpPr>
            <a:spLocks noGrp="1"/>
          </p:cNvSpPr>
          <p:nvPr>
            <p:ph type="ftr" idx="4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PlaceHolder 5"/>
          <p:cNvSpPr>
            <a:spLocks noGrp="1"/>
          </p:cNvSpPr>
          <p:nvPr>
            <p:ph type="sldNum" idx="4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E8BD-FD4D-416C-BB38-63B01356F3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2"/>
    <p:sldLayoutId id="2147485457" r:id="rId3"/>
    <p:sldLayoutId id="2147485458" r:id="rId4"/>
    <p:sldLayoutId id="2147485459" r:id="rId5"/>
    <p:sldLayoutId id="2147485460" r:id="rId6"/>
    <p:sldLayoutId id="2147485461" r:id="rId7"/>
    <p:sldLayoutId id="2147485462" r:id="rId8"/>
    <p:sldLayoutId id="2147485463" r:id="rId9"/>
    <p:sldLayoutId id="2147485464" r:id="rId10"/>
    <p:sldLayoutId id="2147485465" r:id="rId11"/>
    <p:sldLayoutId id="2147485466" r:id="rId12"/>
    <p:sldLayoutId id="2147485467" r:id="rId13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2" name="PlaceHolder 3"/>
          <p:cNvSpPr>
            <a:spLocks noGrp="1"/>
          </p:cNvSpPr>
          <p:nvPr>
            <p:ph type="dt" idx="4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75A9-FDEF-4303-96C9-2FD34A3189A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PlaceHolder 4"/>
          <p:cNvSpPr>
            <a:spLocks noGrp="1"/>
          </p:cNvSpPr>
          <p:nvPr>
            <p:ph type="ftr" idx="4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PlaceHolder 5"/>
          <p:cNvSpPr>
            <a:spLocks noGrp="1"/>
          </p:cNvSpPr>
          <p:nvPr>
            <p:ph type="sldNum" idx="4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0749-11E3-4BF6-8B2E-04F5C9B97FF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2"/>
    <p:sldLayoutId id="2147485470" r:id="rId3"/>
    <p:sldLayoutId id="2147485471" r:id="rId4"/>
    <p:sldLayoutId id="2147485472" r:id="rId5"/>
    <p:sldLayoutId id="2147485473" r:id="rId6"/>
    <p:sldLayoutId id="2147485474" r:id="rId7"/>
    <p:sldLayoutId id="2147485475" r:id="rId8"/>
    <p:sldLayoutId id="2147485476" r:id="rId9"/>
    <p:sldLayoutId id="2147485477" r:id="rId10"/>
    <p:sldLayoutId id="2147485478" r:id="rId11"/>
    <p:sldLayoutId id="2147485479" r:id="rId12"/>
    <p:sldLayoutId id="2147485480" r:id="rId13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3" name="PlaceHolder 3"/>
          <p:cNvSpPr>
            <a:spLocks noGrp="1"/>
          </p:cNvSpPr>
          <p:nvPr>
            <p:ph type="dt" idx="4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4F13-37CE-4930-9531-887CFA4CEA3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PlaceHolder 4"/>
          <p:cNvSpPr>
            <a:spLocks noGrp="1"/>
          </p:cNvSpPr>
          <p:nvPr>
            <p:ph type="ftr" idx="4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5" name="PlaceHolder 5"/>
          <p:cNvSpPr>
            <a:spLocks noGrp="1"/>
          </p:cNvSpPr>
          <p:nvPr>
            <p:ph type="sldNum" idx="4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A982-DA47-4F6D-B6FD-5E8F9809843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2"/>
    <p:sldLayoutId id="2147485483" r:id="rId3"/>
    <p:sldLayoutId id="2147485484" r:id="rId4"/>
    <p:sldLayoutId id="2147485485" r:id="rId5"/>
    <p:sldLayoutId id="2147485486" r:id="rId6"/>
    <p:sldLayoutId id="2147485487" r:id="rId7"/>
    <p:sldLayoutId id="2147485488" r:id="rId8"/>
    <p:sldLayoutId id="2147485489" r:id="rId9"/>
    <p:sldLayoutId id="2147485490" r:id="rId10"/>
    <p:sldLayoutId id="2147485491" r:id="rId11"/>
    <p:sldLayoutId id="2147485492" r:id="rId12"/>
    <p:sldLayoutId id="2147485493" r:id="rId13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4" name="PlaceHolder 3"/>
          <p:cNvSpPr>
            <a:spLocks noGrp="1"/>
          </p:cNvSpPr>
          <p:nvPr>
            <p:ph type="dt" idx="4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FC7F-37EB-4127-8125-A00D7DD69B2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PlaceHolder 4"/>
          <p:cNvSpPr>
            <a:spLocks noGrp="1"/>
          </p:cNvSpPr>
          <p:nvPr>
            <p:ph type="ftr" idx="4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PlaceHolder 5"/>
          <p:cNvSpPr>
            <a:spLocks noGrp="1"/>
          </p:cNvSpPr>
          <p:nvPr>
            <p:ph type="sldNum" idx="4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56E9-7A8D-4099-A6E0-3FA57098920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2"/>
    <p:sldLayoutId id="2147485496" r:id="rId3"/>
    <p:sldLayoutId id="2147485497" r:id="rId4"/>
    <p:sldLayoutId id="2147485498" r:id="rId5"/>
    <p:sldLayoutId id="2147485499" r:id="rId6"/>
    <p:sldLayoutId id="2147485500" r:id="rId7"/>
    <p:sldLayoutId id="2147485501" r:id="rId8"/>
    <p:sldLayoutId id="2147485502" r:id="rId9"/>
    <p:sldLayoutId id="2147485503" r:id="rId10"/>
    <p:sldLayoutId id="2147485504" r:id="rId11"/>
    <p:sldLayoutId id="2147485505" r:id="rId12"/>
    <p:sldLayoutId id="2147485506" r:id="rId13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5" name="PlaceHolder 3"/>
          <p:cNvSpPr>
            <a:spLocks noGrp="1"/>
          </p:cNvSpPr>
          <p:nvPr>
            <p:ph type="dt" idx="4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92A9-54EE-419F-BDAB-6E497F13EF6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PlaceHolder 4"/>
          <p:cNvSpPr>
            <a:spLocks noGrp="1"/>
          </p:cNvSpPr>
          <p:nvPr>
            <p:ph type="ftr" idx="4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7" name="PlaceHolder 5"/>
          <p:cNvSpPr>
            <a:spLocks noGrp="1"/>
          </p:cNvSpPr>
          <p:nvPr>
            <p:ph type="sldNum" idx="4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E546-D762-4463-AEF0-DE129BC5F0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2"/>
    <p:sldLayoutId id="2147485509" r:id="rId3"/>
    <p:sldLayoutId id="2147485510" r:id="rId4"/>
    <p:sldLayoutId id="2147485511" r:id="rId5"/>
    <p:sldLayoutId id="2147485512" r:id="rId6"/>
    <p:sldLayoutId id="2147485513" r:id="rId7"/>
    <p:sldLayoutId id="2147485514" r:id="rId8"/>
    <p:sldLayoutId id="2147485515" r:id="rId9"/>
    <p:sldLayoutId id="2147485516" r:id="rId10"/>
    <p:sldLayoutId id="2147485517" r:id="rId11"/>
    <p:sldLayoutId id="2147485518" r:id="rId12"/>
    <p:sldLayoutId id="2147485519" r:id="rId13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6" name="PlaceHolder 3"/>
          <p:cNvSpPr>
            <a:spLocks noGrp="1"/>
          </p:cNvSpPr>
          <p:nvPr>
            <p:ph type="dt" idx="4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94B3-D5EE-4680-AC69-04A1C1F0C9D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PlaceHolder 4"/>
          <p:cNvSpPr>
            <a:spLocks noGrp="1"/>
          </p:cNvSpPr>
          <p:nvPr>
            <p:ph type="ftr" idx="4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8" name="PlaceHolder 5"/>
          <p:cNvSpPr>
            <a:spLocks noGrp="1"/>
          </p:cNvSpPr>
          <p:nvPr>
            <p:ph type="sldNum" idx="4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C557-B26C-4FA7-AA05-BC765A5705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2"/>
    <p:sldLayoutId id="2147485522" r:id="rId3"/>
    <p:sldLayoutId id="2147485523" r:id="rId4"/>
    <p:sldLayoutId id="2147485524" r:id="rId5"/>
    <p:sldLayoutId id="2147485525" r:id="rId6"/>
    <p:sldLayoutId id="2147485526" r:id="rId7"/>
    <p:sldLayoutId id="2147485527" r:id="rId8"/>
    <p:sldLayoutId id="2147485528" r:id="rId9"/>
    <p:sldLayoutId id="2147485529" r:id="rId10"/>
    <p:sldLayoutId id="2147485530" r:id="rId11"/>
    <p:sldLayoutId id="2147485531" r:id="rId12"/>
    <p:sldLayoutId id="2147485532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D6ED-04CD-46C4-86A9-C8777562A44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501A-1974-4D79-832B-D60BBDCC3AA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802F-A22D-45A4-9835-EBA93440DE4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4704-340D-4D8B-9C66-FC5340F260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8884-AAED-43AF-9183-CA82BE023C1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70BC-0F13-46C8-843C-C167AB6590F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EFD8-6021-4BE7-8563-2986B1302D1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8BFE-6FF4-49B8-B8DD-05A0DA3531C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69D7-8786-4A58-B564-A83D0BC8DCC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4CCD-3040-48FF-A9D9-3D54A6ABD3B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7B62-5084-4B30-B5D8-7C7D6266C47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AF8E-5D9C-4999-A96F-B55CC502E28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2A59-4164-41A4-BAD6-E623B3269FC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FDB4-A2E8-4D79-84F3-7376E8A922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0EF9-EB32-4C81-8E76-2A636CBF90E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7608-A88E-4BD3-B88C-25F8BFA8FB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EFD7-4674-484D-A193-1366E4F3AAA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4BF7-B65C-4906-824B-7D3AEAC2156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751D-ACD7-4952-ABFF-35965FE9CE2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9B90-E3EE-41B7-9386-BCB9AC7467C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4C26-48AF-45F9-A0C6-8CA02053DBC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A16F-3528-4A1B-AC98-4ABD9F8677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298B-4AA0-41FB-A15F-DC75C0160B5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1B6E-843F-42F4-9126-57C080B89F7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A787-5133-4AA6-A5DB-B623D4A9E15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4627-670D-42BF-AA5D-888788FB48E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14AA-5B4D-4FA7-9A8F-0D71AC13D92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BBA6-F5ED-4BFC-829B-A030A5C97A0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B501-C0EE-4EA6-B281-1B1B4D8D781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829A-CFFE-4F48-BD64-54A24BDD0B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E46C-9995-462D-8E1E-2789D70FF1A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542C-1DCB-4F03-A293-EA8F150691C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6AE0-A295-43FC-B081-3AC15E7A454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1823-793B-44A9-BFC2-0D3FD045F7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0865-D05B-4218-A1F5-9C0B5D88725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C5A4-A384-4C5F-90C5-AD8B0CCF3A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21D0-2EAB-4852-A1F5-997C931B883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044F-911D-4D84-8C4E-13E0C96EA1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C738-0E41-466F-B10D-1B74801EFEA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3C93-C21A-43D5-AE68-A0A6B3BBF76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7CFD-4B72-4B0B-993A-5805E121F72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230D-E68B-49C8-A19C-C4333181A30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6461-C803-4D82-9091-0927165C404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6601-209E-44C6-B86E-E77517E912B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1FBB-AC5E-4C7B-9066-23A76D29A47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2A2D-7EE2-4753-86DA-F7A0C1163F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4D8D-225A-4B43-8ABF-573A00AE1E6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005E-DAAD-4927-A709-F0ECFFA178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335F-7A47-4AA2-AF13-BFC4D6BFD3E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6F9E-161A-4B6B-B297-57B1CD4D67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1080-0393-48EC-9767-AA1E85346C0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C0ED-9AE6-4B38-BD68-D609BB1A6FA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3C0F-F508-4213-8859-D329225BF89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96E8-7EA0-4040-84AC-2D9998B0B8B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0C4A-3AE6-4537-843A-7AADF452B65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EC35-9FE9-40FD-9AE4-54B687C74A9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6BE6-B679-4FFC-819C-ED182BE3FE5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3CBE-2237-4E20-AB33-E8C39BEA3D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6527-B29E-48E3-A935-21963434856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2B6F-DF1B-4B3A-9AAA-D261D079DA8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6A1D-242B-4C1E-B8C1-2D761969568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4886-2BEB-4B2E-A30B-E698A34ACB4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4867-7E3A-41FC-B211-6CE6E1146B2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1130-CE34-4DF4-9830-953B320072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A634-D9D6-4EC8-9384-2990884B75F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1F92-47E9-44D6-A640-20B36F79726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3C7E-FD3E-4803-96D8-E1D2E0F8FEE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7962-CA8D-4F57-BB89-98F76B7CB66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45B4-D7AD-4E52-BF97-7813ABDFE62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B3A8-8740-4683-8D64-E37B74798A8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EA57-1737-4F7B-8073-E7E536BF38F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C7C9-5EA4-4926-B1F5-C9B800D9F8B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F94D-6297-411F-B7AA-C51A49E0A71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7300-2573-4343-9BC3-6BC2FF51FF4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AAC4-3DF5-4B72-B742-9E9AB4ADB97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B629-D2D0-4D98-8823-39336BF57BD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66B3-5057-4553-93FA-2E03CC6E7F9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F6ED-AC0A-433B-AB14-8236423029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7213-8C6E-4148-B950-4F39A038440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2929-BE31-4AAB-8366-C1EC0A0BCC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1D00-31B3-48A5-8160-5B38CBDF3DC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5B0E-7170-4682-B6B0-DB342AA160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9FDE-9C02-4923-B246-3AA9F6E7483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2C76-8D62-4990-8481-5EC7281229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776F-FC93-4DB9-9628-572ED85F282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F49D-43ED-4BD3-A25A-2EDECB6721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671A-6112-48F9-AD76-01B1591B962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6DD1-7F81-49A0-99EC-B138636BAB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028A-3B96-490E-B6D0-BEFC403209F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3D40-56A7-4AB6-ADF8-1D9E32F5C7B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9D39-989A-4587-874F-0875FFAC1FB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7245-4106-4F05-B3AF-1FB564D7350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4E12-D810-4D53-B9C0-B5EB61B7EC8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61CA-B370-4C8D-8A6A-AD91125F39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A3C7-343C-4AD2-B649-8DD566E6781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C907-9334-4F65-938E-6C810DA21F5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1AC5-B3BE-4268-9BCC-E527E054953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3441-729B-488E-8C8E-382FD49B22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9888-CC13-425D-B6D7-060A5BA4349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6420-F375-4BA5-8AED-9DCBFD42B78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3C29-BA5C-44E9-BB66-793B53403E1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8AD3-96EB-445E-B1DA-67E153DC2A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1E23-7677-4286-BCA8-EE10F3AE827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7647-40E7-41E5-93BA-09A4EC8B08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81A3-9773-42D0-99F8-836AA68C1C0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1686-439C-402B-8200-25ABFC3F82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1298-8029-4D4C-ACB2-23C33D80097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024A-BC7F-413A-8271-B5186F0985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9D2E-D7D2-4CEB-BBC3-C0A3CA7FE0A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0D99-6797-4F98-8D45-66FC2959588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BD56-5628-4D7F-AB4F-9F16D9C2681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9D95-5235-44E2-81B8-96612BC657E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231B-DF9C-4BAF-BB27-5FA658DE8FD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F452-B456-47F6-A4AD-C8EDA3CC9E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D547-DE8A-458E-A8FF-E7462E1BFBF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E702-C012-4490-A483-A5D29E8B1D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77C5-58EC-46DE-A45A-B91D73A926B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7B22-3FE1-4335-A88C-AA0CE4C7FC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A5E2-2ED1-4E31-84BE-8935B36FC14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7FD6-E0EA-45DA-A0CD-D26317BDCB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9198-B989-4D46-92EE-F60209F651D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6F26-EEB5-43FD-A384-49F9B56D03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4C3A-4F55-42B2-A27D-E1D9E1266B0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AA53-C706-4623-8845-69B4FE3AE08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A8F1-6067-4645-92FA-4D8D6D0DEA4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A96A-5AAB-4DE5-A8E2-2F54D180078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B9B1-18F2-49F1-A00D-FB5ED2FE97C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4C3C-985F-49A9-BA36-016777EE0EA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61A2-C377-431D-9DB5-0F4DB318310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C113-8930-4333-9549-D39DCD9198A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C010-3EBD-454D-BD2A-D2A9156BCAF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30D9-6AF0-495F-99D9-BE45012EB6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8CFB-6DA8-419A-B7C2-4689C675629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E83E-C232-4FFB-B58C-B3327C9B11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7BEB-64F8-4BE7-9750-D889F423678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0CE5-4672-48B4-82BB-5512F6F23AA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E82B-8953-446E-9403-98B69C082F7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739C-D057-4DD0-9A05-CCCFE72CE9C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0612-9F87-4479-B79A-0EE6FBCA90C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F128-93DA-4C3E-BA60-3AACC5A49E6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4146-C2A9-46C1-B5BB-8C3DC9F56FE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4474-651B-4BF3-A8DF-FB5A655A54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67D3-43F0-4A9D-9D2A-FE17A98D2D4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1897-8A67-48F0-9D24-8AD54026F7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1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F188-45F0-4FD9-8D5F-72D44AF1C39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8997-8F78-49D1-A5F2-55A8528EA66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C69D-F0AA-4AAA-A32E-CCC3BD540D8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122B-609F-4007-B2F5-06DE53503B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4E6E-2E03-4221-86CC-17D9740F7F4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32AD-41A8-4423-A7E2-46D9D395EA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7FA8-23FF-4C11-8EE2-61C7ADA0ECD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DA4B-8AEF-408D-B133-6E103292969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7A55-A943-450F-B210-127BFA8DADF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D405-640B-46E4-BBF3-2539BA2C76F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37FC-129D-4025-AC62-FF565EF9CCA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AA6E-54D2-4B11-BBEC-D53C9FE2CEB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5B6F-5505-4C85-A70E-97790894874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0BE1-2F6E-4613-B7CC-53CC90370D0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 type="dt" idx="2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45E4-32BE-48CC-AFB2-DE5B695D85D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PlaceHolder 4"/>
          <p:cNvSpPr>
            <a:spLocks noGrp="1"/>
          </p:cNvSpPr>
          <p:nvPr>
            <p:ph type="ftr" idx="26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5"/>
          <p:cNvSpPr>
            <a:spLocks noGrp="1"/>
          </p:cNvSpPr>
          <p:nvPr>
            <p:ph type="sldNum" idx="2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0270-B301-4E72-9DCB-99761AF484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 type="dt" idx="2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52C2-6A37-4AC4-A8FB-36D17B15E2B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4"/>
          <p:cNvSpPr>
            <a:spLocks noGrp="1"/>
          </p:cNvSpPr>
          <p:nvPr>
            <p:ph type="ftr" idx="26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PlaceHolder 5"/>
          <p:cNvSpPr>
            <a:spLocks noGrp="1"/>
          </p:cNvSpPr>
          <p:nvPr>
            <p:ph type="sldNum" idx="26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E5C9-460F-4D40-AA6E-560ECE3AFD5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 type="dt" idx="2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7418-FEE0-47C0-AC90-914B4951F3E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 type="ftr" idx="2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PlaceHolder 5"/>
          <p:cNvSpPr>
            <a:spLocks noGrp="1"/>
          </p:cNvSpPr>
          <p:nvPr>
            <p:ph type="sldNum" idx="2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973A-49F6-49E1-936A-96FAC75AC7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0248-0F10-4362-829C-D56C90DDA27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9F53-EBC8-487D-8958-231539CC940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 type="dt" idx="2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0589-20AF-4138-80CD-5EEC90016F4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 type="ftr" idx="2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5"/>
          <p:cNvSpPr>
            <a:spLocks noGrp="1"/>
          </p:cNvSpPr>
          <p:nvPr>
            <p:ph type="sldNum" idx="2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ABAB-DB02-4280-B0A8-9FD79E9057E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 type="dt" idx="2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6474-463B-4B68-A34A-CE85B546BDA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PlaceHolder 4"/>
          <p:cNvSpPr>
            <a:spLocks noGrp="1"/>
          </p:cNvSpPr>
          <p:nvPr>
            <p:ph type="ftr" idx="2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PlaceHolder 5"/>
          <p:cNvSpPr>
            <a:spLocks noGrp="1"/>
          </p:cNvSpPr>
          <p:nvPr>
            <p:ph type="sldNum" idx="2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61D0-4457-4570-9558-0F02B8CE10D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 type="dt" idx="2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E0B0-BDD0-4A4E-9DA3-CCBCD2D3B26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 type="ftr" idx="2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PlaceHolder 5"/>
          <p:cNvSpPr>
            <a:spLocks noGrp="1"/>
          </p:cNvSpPr>
          <p:nvPr>
            <p:ph type="sldNum" idx="2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C995-0467-412B-A7C7-509F7D386D0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 type="dt" idx="27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9D1A-D4FC-4EEA-9E94-26F0E16BCFD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 type="ftr" idx="27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 type="sldNum" idx="27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9E1F-DDAD-4121-AAC9-6AE9B4D962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 type="dt" idx="2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BDB9-76BC-4D18-9711-84DC4773657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PlaceHolder 4"/>
          <p:cNvSpPr>
            <a:spLocks noGrp="1"/>
          </p:cNvSpPr>
          <p:nvPr>
            <p:ph type="ftr" idx="2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PlaceHolder 5"/>
          <p:cNvSpPr>
            <a:spLocks noGrp="1"/>
          </p:cNvSpPr>
          <p:nvPr>
            <p:ph type="sldNum" idx="28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C6F0-F128-46B5-A93C-F0AE8284F7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 type="dt" idx="2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B910-FC6E-44D0-B31A-CF9403F1A9B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 type="ftr" idx="2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PlaceHolder 5"/>
          <p:cNvSpPr>
            <a:spLocks noGrp="1"/>
          </p:cNvSpPr>
          <p:nvPr>
            <p:ph type="sldNum" idx="28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0652-DBBE-4B55-9EB6-571B5074905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 type="dt" idx="2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B688-67F9-41FD-9ACA-B9BF0C875BF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PlaceHolder 4"/>
          <p:cNvSpPr>
            <a:spLocks noGrp="1"/>
          </p:cNvSpPr>
          <p:nvPr>
            <p:ph type="ftr" idx="2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PlaceHolder 5"/>
          <p:cNvSpPr>
            <a:spLocks noGrp="1"/>
          </p:cNvSpPr>
          <p:nvPr>
            <p:ph type="sldNum" idx="28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38EF-FAD2-4BEA-94C6-7BEF4906F3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 type="dt" idx="28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FE8E-2C20-4FD3-BDC1-F2572968D65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PlaceHolder 4"/>
          <p:cNvSpPr>
            <a:spLocks noGrp="1"/>
          </p:cNvSpPr>
          <p:nvPr>
            <p:ph type="ftr" idx="29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PlaceHolder 5"/>
          <p:cNvSpPr>
            <a:spLocks noGrp="1"/>
          </p:cNvSpPr>
          <p:nvPr>
            <p:ph type="sldNum" idx="2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E860-1B8A-46E9-982D-76BCDD5E7A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 type="dt" idx="2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B3E0-2204-4C81-854F-68B664BA0E4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PlaceHolder 4"/>
          <p:cNvSpPr>
            <a:spLocks noGrp="1"/>
          </p:cNvSpPr>
          <p:nvPr>
            <p:ph type="ftr" idx="2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PlaceHolder 5"/>
          <p:cNvSpPr>
            <a:spLocks noGrp="1"/>
          </p:cNvSpPr>
          <p:nvPr>
            <p:ph type="sldNum" idx="29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EC1E-DEAE-4E68-AA9B-E7135F2930A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 type="dt" idx="2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EA2B-14D9-4986-827E-7119235C19E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PlaceHolder 4"/>
          <p:cNvSpPr>
            <a:spLocks noGrp="1"/>
          </p:cNvSpPr>
          <p:nvPr>
            <p:ph type="ftr" idx="2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PlaceHolder 5"/>
          <p:cNvSpPr>
            <a:spLocks noGrp="1"/>
          </p:cNvSpPr>
          <p:nvPr>
            <p:ph type="sldNum" idx="29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A840-AC1C-4D74-9226-C6C2538FE5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6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5" name="矩形 6"/>
          <p:cNvSpPr/>
          <p:nvPr/>
        </p:nvSpPr>
        <p:spPr>
          <a:xfrm>
            <a:off x="0" y="0"/>
            <a:ext cx="9153360" cy="3598920"/>
          </a:xfrm>
          <a:prstGeom prst="rect">
            <a:avLst/>
          </a:prstGeom>
          <a:solidFill>
            <a:srgbClr val="fdd6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6" name="矩形 7"/>
          <p:cNvSpPr/>
          <p:nvPr/>
        </p:nvSpPr>
        <p:spPr>
          <a:xfrm>
            <a:off x="-6480" y="4311720"/>
            <a:ext cx="9150480" cy="2546280"/>
          </a:xfrm>
          <a:prstGeom prst="rect">
            <a:avLst/>
          </a:prstGeom>
          <a:solidFill>
            <a:srgbClr val="aac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7" name="Group 4"/>
          <p:cNvGrpSpPr/>
          <p:nvPr/>
        </p:nvGrpSpPr>
        <p:grpSpPr>
          <a:xfrm>
            <a:off x="3419640" y="3598920"/>
            <a:ext cx="2304720" cy="3259080"/>
            <a:chOff x="3419640" y="3598920"/>
            <a:chExt cx="2304720" cy="3259080"/>
          </a:xfrm>
        </p:grpSpPr>
        <p:sp>
          <p:nvSpPr>
            <p:cNvPr id="5948" name="圆角矩形 4"/>
            <p:cNvSpPr/>
            <p:nvPr/>
          </p:nvSpPr>
          <p:spPr>
            <a:xfrm>
              <a:off x="3419640" y="3598920"/>
              <a:ext cx="2304720" cy="3259080"/>
            </a:xfrm>
            <a:custGeom>
              <a:avLst/>
              <a:gdLst>
                <a:gd name="textAreaLeft" fmla="*/ 65880 w 2304720"/>
                <a:gd name="textAreaRight" fmla="*/ 2238840 w 230472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43">
                  <a:moveTo>
                    <a:pt x="2118" y="0"/>
                  </a:moveTo>
                  <a:arcTo wR="2118" hR="2118" stAng="16200000" swAng="-5400000"/>
                  <a:lnTo>
                    <a:pt x="0" y="28425"/>
                  </a:lnTo>
                  <a:arcTo wR="2118" hR="2118" stAng="10800000" swAng="-5400000"/>
                  <a:lnTo>
                    <a:pt x="19482" y="30543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019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9" name="Group 6"/>
          <p:cNvGrpSpPr/>
          <p:nvPr/>
        </p:nvGrpSpPr>
        <p:grpSpPr>
          <a:xfrm>
            <a:off x="5894280" y="3598920"/>
            <a:ext cx="2305080" cy="3259080"/>
            <a:chOff x="5894280" y="3598920"/>
            <a:chExt cx="2305080" cy="3259080"/>
          </a:xfrm>
        </p:grpSpPr>
        <p:sp>
          <p:nvSpPr>
            <p:cNvPr id="5950" name="圆角矩形 5"/>
            <p:cNvSpPr/>
            <p:nvPr/>
          </p:nvSpPr>
          <p:spPr>
            <a:xfrm>
              <a:off x="589428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fff2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1" name="Group 8"/>
          <p:cNvGrpSpPr/>
          <p:nvPr/>
        </p:nvGrpSpPr>
        <p:grpSpPr>
          <a:xfrm>
            <a:off x="944640" y="3598920"/>
            <a:ext cx="2305080" cy="3259080"/>
            <a:chOff x="944640" y="3598920"/>
            <a:chExt cx="2305080" cy="3259080"/>
          </a:xfrm>
        </p:grpSpPr>
        <p:sp>
          <p:nvSpPr>
            <p:cNvPr id="5952" name="圆角矩形 13"/>
            <p:cNvSpPr/>
            <p:nvPr/>
          </p:nvSpPr>
          <p:spPr>
            <a:xfrm>
              <a:off x="94464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277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53" name="Picture 2" descr=""/>
          <p:cNvPicPr/>
          <p:nvPr/>
        </p:nvPicPr>
        <p:blipFill>
          <a:blip r:embed="rId1"/>
          <a:stretch/>
        </p:blipFill>
        <p:spPr>
          <a:xfrm>
            <a:off x="-158760" y="1049400"/>
            <a:ext cx="4154400" cy="2546280"/>
          </a:xfrm>
          <a:prstGeom prst="rect">
            <a:avLst/>
          </a:prstGeom>
          <a:ln w="0">
            <a:noFill/>
          </a:ln>
        </p:spPr>
      </p:pic>
      <p:sp>
        <p:nvSpPr>
          <p:cNvPr id="5954" name="矩形 14"/>
          <p:cNvSpPr/>
          <p:nvPr/>
        </p:nvSpPr>
        <p:spPr>
          <a:xfrm>
            <a:off x="2892600" y="2662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5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9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5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5" name="矩形 14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6" name="矩形 12"/>
          <p:cNvSpPr/>
          <p:nvPr/>
        </p:nvSpPr>
        <p:spPr>
          <a:xfrm>
            <a:off x="-6480" y="0"/>
            <a:ext cx="9150480" cy="4311720"/>
          </a:xfrm>
          <a:prstGeom prst="rect">
            <a:avLst/>
          </a:prstGeom>
          <a:solidFill>
            <a:srgbClr val="fdd6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7" name="Group 4"/>
          <p:cNvGrpSpPr/>
          <p:nvPr/>
        </p:nvGrpSpPr>
        <p:grpSpPr>
          <a:xfrm>
            <a:off x="1285920" y="1165320"/>
            <a:ext cx="6353280" cy="3259080"/>
            <a:chOff x="1285920" y="1165320"/>
            <a:chExt cx="6353280" cy="3259080"/>
          </a:xfrm>
        </p:grpSpPr>
        <p:sp>
          <p:nvSpPr>
            <p:cNvPr id="5958" name="圆角矩形 9"/>
            <p:cNvSpPr/>
            <p:nvPr/>
          </p:nvSpPr>
          <p:spPr>
            <a:xfrm>
              <a:off x="1285920" y="1165320"/>
              <a:ext cx="6353280" cy="3259080"/>
            </a:xfrm>
            <a:prstGeom prst="roundRect">
              <a:avLst>
                <a:gd name="adj" fmla="val 9806"/>
              </a:avLst>
            </a:prstGeom>
            <a:solidFill>
              <a:srgbClr val="019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9" name="直接连接符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0" name="Picture 2" descr=""/>
          <p:cNvPicPr/>
          <p:nvPr/>
        </p:nvPicPr>
        <p:blipFill>
          <a:blip r:embed="rId1"/>
          <a:stretch/>
        </p:blipFill>
        <p:spPr>
          <a:xfrm>
            <a:off x="7238880" y="470700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1" name="矩形 12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aac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2" name="矩形 13"/>
          <p:cNvSpPr/>
          <p:nvPr/>
        </p:nvSpPr>
        <p:spPr>
          <a:xfrm>
            <a:off x="-6480" y="3598920"/>
            <a:ext cx="915048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3" name="Group 4"/>
          <p:cNvGrpSpPr/>
          <p:nvPr/>
        </p:nvGrpSpPr>
        <p:grpSpPr>
          <a:xfrm>
            <a:off x="1906560" y="1822320"/>
            <a:ext cx="4892760" cy="3259440"/>
            <a:chOff x="1906560" y="1822320"/>
            <a:chExt cx="4892760" cy="3259440"/>
          </a:xfrm>
        </p:grpSpPr>
        <p:sp>
          <p:nvSpPr>
            <p:cNvPr id="5964" name="圆角矩形 9"/>
            <p:cNvSpPr/>
            <p:nvPr/>
          </p:nvSpPr>
          <p:spPr>
            <a:xfrm>
              <a:off x="1906560" y="1822320"/>
              <a:ext cx="4892760" cy="3259440"/>
            </a:xfrm>
            <a:prstGeom prst="roundRect">
              <a:avLst>
                <a:gd name="adj" fmla="val 9806"/>
              </a:avLst>
            </a:prstGeom>
            <a:solidFill>
              <a:srgbClr val="fff2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65" name="Picture 8" descr=""/>
          <p:cNvPicPr/>
          <p:nvPr/>
        </p:nvPicPr>
        <p:blipFill>
          <a:blip r:embed="rId1"/>
          <a:stretch/>
        </p:blipFill>
        <p:spPr>
          <a:xfrm>
            <a:off x="7199280" y="491328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5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9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5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9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6" name="矩形 12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2774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7" name="Group 3"/>
          <p:cNvGrpSpPr/>
          <p:nvPr/>
        </p:nvGrpSpPr>
        <p:grpSpPr>
          <a:xfrm>
            <a:off x="2344680" y="1676520"/>
            <a:ext cx="4125960" cy="3259080"/>
            <a:chOff x="2344680" y="1676520"/>
            <a:chExt cx="4125960" cy="3259080"/>
          </a:xfrm>
        </p:grpSpPr>
        <p:sp>
          <p:nvSpPr>
            <p:cNvPr id="5968" name="圆角矩形 10"/>
            <p:cNvSpPr/>
            <p:nvPr/>
          </p:nvSpPr>
          <p:spPr>
            <a:xfrm>
              <a:off x="2344680" y="1676520"/>
              <a:ext cx="4125960" cy="3259080"/>
            </a:xfrm>
            <a:prstGeom prst="roundRect">
              <a:avLst>
                <a:gd name="adj" fmla="val 9806"/>
              </a:avLst>
            </a:pr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69" name="Picture 2" descr=""/>
          <p:cNvPicPr/>
          <p:nvPr/>
        </p:nvPicPr>
        <p:blipFill>
          <a:blip r:embed="rId1"/>
          <a:stretch/>
        </p:blipFill>
        <p:spPr>
          <a:xfrm>
            <a:off x="7210440" y="4924440"/>
            <a:ext cx="1933560" cy="1933560"/>
          </a:xfrm>
          <a:prstGeom prst="rect">
            <a:avLst/>
          </a:prstGeom>
          <a:ln w="0">
            <a:noFill/>
          </a:ln>
        </p:spPr>
      </p:pic>
      <p:pic>
        <p:nvPicPr>
          <p:cNvPr id="5970" name="Picture 2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5613-434A-492D-BA25-A09C579631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2" name="矩形 6"/>
          <p:cNvSpPr/>
          <p:nvPr/>
        </p:nvSpPr>
        <p:spPr>
          <a:xfrm>
            <a:off x="0" y="0"/>
            <a:ext cx="9153360" cy="3598920"/>
          </a:xfrm>
          <a:prstGeom prst="rect">
            <a:avLst/>
          </a:prstGeom>
          <a:solidFill>
            <a:srgbClr val="fff2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3" name="矩形 7"/>
          <p:cNvSpPr/>
          <p:nvPr/>
        </p:nvSpPr>
        <p:spPr>
          <a:xfrm>
            <a:off x="-6480" y="3598920"/>
            <a:ext cx="9150480" cy="3259080"/>
          </a:xfrm>
          <a:prstGeom prst="rect">
            <a:avLst/>
          </a:prstGeom>
          <a:solidFill>
            <a:srgbClr val="019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4" name="Group 5"/>
          <p:cNvGrpSpPr/>
          <p:nvPr/>
        </p:nvGrpSpPr>
        <p:grpSpPr>
          <a:xfrm>
            <a:off x="3419640" y="3598920"/>
            <a:ext cx="2304720" cy="3259080"/>
            <a:chOff x="3419640" y="3598920"/>
            <a:chExt cx="2304720" cy="3259080"/>
          </a:xfrm>
        </p:grpSpPr>
        <p:sp>
          <p:nvSpPr>
            <p:cNvPr id="5975" name="圆角矩形 4"/>
            <p:cNvSpPr/>
            <p:nvPr/>
          </p:nvSpPr>
          <p:spPr>
            <a:xfrm>
              <a:off x="3419640" y="3598920"/>
              <a:ext cx="2304720" cy="3259080"/>
            </a:xfrm>
            <a:custGeom>
              <a:avLst/>
              <a:gdLst>
                <a:gd name="textAreaLeft" fmla="*/ 65880 w 2304720"/>
                <a:gd name="textAreaRight" fmla="*/ 2238840 w 230472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43">
                  <a:moveTo>
                    <a:pt x="2118" y="0"/>
                  </a:moveTo>
                  <a:arcTo wR="2118" hR="2118" stAng="16200000" swAng="-5400000"/>
                  <a:lnTo>
                    <a:pt x="0" y="28425"/>
                  </a:lnTo>
                  <a:arcTo wR="2118" hR="2118" stAng="10800000" swAng="-5400000"/>
                  <a:lnTo>
                    <a:pt x="19482" y="30543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6" name="Group 7"/>
          <p:cNvGrpSpPr/>
          <p:nvPr/>
        </p:nvGrpSpPr>
        <p:grpSpPr>
          <a:xfrm>
            <a:off x="5894280" y="3598920"/>
            <a:ext cx="2305080" cy="3259080"/>
            <a:chOff x="5894280" y="3598920"/>
            <a:chExt cx="2305080" cy="3259080"/>
          </a:xfrm>
        </p:grpSpPr>
        <p:sp>
          <p:nvSpPr>
            <p:cNvPr id="5977" name="圆角矩形 5"/>
            <p:cNvSpPr/>
            <p:nvPr/>
          </p:nvSpPr>
          <p:spPr>
            <a:xfrm>
              <a:off x="589428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8" name="Group 9"/>
          <p:cNvGrpSpPr/>
          <p:nvPr/>
        </p:nvGrpSpPr>
        <p:grpSpPr>
          <a:xfrm>
            <a:off x="944640" y="3598920"/>
            <a:ext cx="2305080" cy="3259080"/>
            <a:chOff x="944640" y="3598920"/>
            <a:chExt cx="2305080" cy="3259080"/>
          </a:xfrm>
        </p:grpSpPr>
        <p:sp>
          <p:nvSpPr>
            <p:cNvPr id="5979" name="圆角矩形 13"/>
            <p:cNvSpPr/>
            <p:nvPr/>
          </p:nvSpPr>
          <p:spPr>
            <a:xfrm>
              <a:off x="94464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0" name="矩形 1"/>
          <p:cNvSpPr/>
          <p:nvPr/>
        </p:nvSpPr>
        <p:spPr>
          <a:xfrm>
            <a:off x="3871800" y="2649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谢谢大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1" name="Picture 2" descr=""/>
          <p:cNvPicPr/>
          <p:nvPr/>
        </p:nvPicPr>
        <p:blipFill>
          <a:blip r:embed="rId1"/>
          <a:srcRect l="0" t="0" r="-2021" b="0"/>
          <a:stretch/>
        </p:blipFill>
        <p:spPr>
          <a:xfrm>
            <a:off x="2646360" y="720720"/>
            <a:ext cx="4157640" cy="1916280"/>
          </a:xfrm>
          <a:prstGeom prst="rect">
            <a:avLst/>
          </a:prstGeom>
          <a:ln w="0">
            <a:noFill/>
          </a:ln>
        </p:spPr>
      </p:pic>
      <p:sp>
        <p:nvSpPr>
          <p:cNvPr id="5982" name="矩形 12"/>
          <p:cNvSpPr/>
          <p:nvPr/>
        </p:nvSpPr>
        <p:spPr>
          <a:xfrm>
            <a:off x="3260880" y="324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5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5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9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3:12:00Z</dcterms:created>
  <dc:creator>Windows 用户</dc:creator>
  <dc:description/>
  <dc:language>en-US</dc:language>
  <cp:lastModifiedBy>nana</cp:lastModifiedBy>
  <cp:lastPrinted>1899-12-30T00:00:00Z</cp:lastPrinted>
  <dcterms:modified xsi:type="dcterms:W3CDTF">2016-03-05T12:44:45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