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C01F-8061-472D-B1BA-836384E9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BBC4-CD84-49B8-B062-C1337FC0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278-A9BB-4E3C-BB52-4C6BA94A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80E-76BB-434F-A126-C0F5FF79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F87-D5D5-4826-8EF4-9CFA9E9A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FDBC-A72B-4C6D-A623-EA6B9D7C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7F01-26AD-4004-B0CD-276DD892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8BE-0C8D-45F5-97CF-3C79449C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D91-495F-42AC-9878-1B108053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AE43-C87A-45A1-A35B-2D07F0D6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C367-9F17-4AF0-B531-76A25DF8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124-8689-4444-9EE3-3B4F0D8C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917B-1C07-4295-BB1D-8C5BB0FA45B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9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4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TextBox 27"/>
          <p:cNvSpPr/>
          <p:nvPr/>
        </p:nvSpPr>
        <p:spPr>
          <a:xfrm rot="746400">
            <a:off x="8569440" y="2311560"/>
            <a:ext cx="297180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家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lenovo\Desktop\大妞1.png"/>
          <p:cNvPicPr/>
          <p:nvPr/>
        </p:nvPicPr>
        <p:blipFill>
          <a:blip r:embed="rId2"/>
          <a:srcRect l="0" t="0" r="29722" b="0"/>
          <a:stretch/>
        </p:blipFill>
        <p:spPr>
          <a:xfrm>
            <a:off x="-63360" y="0"/>
            <a:ext cx="6627600" cy="631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05160" y="2417400"/>
            <a:ext cx="3733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梦</a:t>
            </a:r>
            <a:r>
              <a:rPr b="0" lang="ja-JP" sz="12400" spc="-1" strike="noStrike">
                <a:solidFill>
                  <a:srgbClr val="960000"/>
                </a:solidFill>
                <a:latin typeface="方正艺黑简体"/>
                <a:ea typeface="方正艺黑简体"/>
              </a:rPr>
              <a:t>の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29"/>
          <p:cNvGrpSpPr/>
          <p:nvPr/>
        </p:nvGrpSpPr>
        <p:grpSpPr>
          <a:xfrm>
            <a:off x="4660200" y="-140040"/>
            <a:ext cx="8839800" cy="3179160"/>
            <a:chOff x="4660200" y="-140040"/>
            <a:chExt cx="8839800" cy="3179160"/>
          </a:xfrm>
        </p:grpSpPr>
        <p:pic>
          <p:nvPicPr>
            <p:cNvPr id="53" name="Picture 6" descr="C:\Users\lenovo\Desktop\M2.gif"/>
            <p:cNvPicPr/>
            <p:nvPr/>
          </p:nvPicPr>
          <p:blipFill>
            <a:blip r:embed="rId3"/>
            <a:srcRect l="0" t="0" r="38096" b="0"/>
            <a:stretch/>
          </p:blipFill>
          <p:spPr>
            <a:xfrm rot="537000">
              <a:off x="4846680" y="114120"/>
              <a:ext cx="34801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4"/>
            <p:cNvSpPr/>
            <p:nvPr/>
          </p:nvSpPr>
          <p:spPr>
            <a:xfrm>
              <a:off x="6782040" y="1319760"/>
              <a:ext cx="67179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960000"/>
                  </a:solidFill>
                  <a:latin typeface="Kozuka Mincho Pro B"/>
                  <a:ea typeface="Kozuka Mincho Pro B"/>
                </a:rPr>
                <a:t>mèng</a:t>
              </a:r>
              <a:endParaRPr b="0" lang="en-US" sz="3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4" descr="G:\DURING\坐着大妞.png"/>
          <p:cNvPicPr/>
          <p:nvPr/>
        </p:nvPicPr>
        <p:blipFill>
          <a:blip r:embed="rId4"/>
          <a:stretch/>
        </p:blipFill>
        <p:spPr>
          <a:xfrm>
            <a:off x="3165480" y="541440"/>
            <a:ext cx="186372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lenovo\Desktop\M1.gif"/>
          <p:cNvPicPr/>
          <p:nvPr/>
        </p:nvPicPr>
        <p:blipFill>
          <a:blip r:embed="rId5"/>
          <a:srcRect l="36587" t="0" r="34144" b="0"/>
          <a:stretch/>
        </p:blipFill>
        <p:spPr>
          <a:xfrm>
            <a:off x="10058400" y="1263600"/>
            <a:ext cx="182880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C:\Users\lenovo\Desktop\牧羊.png"/>
          <p:cNvPicPr/>
          <p:nvPr/>
        </p:nvPicPr>
        <p:blipFill>
          <a:blip r:embed="rId6"/>
          <a:stretch/>
        </p:blipFill>
        <p:spPr>
          <a:xfrm>
            <a:off x="8839080" y="4873680"/>
            <a:ext cx="1716120" cy="1528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lenovo\Desktop\推.gif"/>
          <p:cNvPicPr/>
          <p:nvPr/>
        </p:nvPicPr>
        <p:blipFill>
          <a:blip r:embed="rId7"/>
          <a:stretch/>
        </p:blipFill>
        <p:spPr>
          <a:xfrm>
            <a:off x="9067680" y="3139920"/>
            <a:ext cx="176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825640"/>
            <a:ext cx="4419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目录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5257800" y="184140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G:\DURING\坐着大妞.png"/>
          <p:cNvPicPr/>
          <p:nvPr/>
        </p:nvPicPr>
        <p:blipFill>
          <a:blip r:embed="rId2"/>
          <a:stretch/>
        </p:blipFill>
        <p:spPr>
          <a:xfrm>
            <a:off x="762120" y="442800"/>
            <a:ext cx="1981080" cy="352908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6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5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直接连接符 18"/>
          <p:cNvSpPr/>
          <p:nvPr/>
        </p:nvSpPr>
        <p:spPr>
          <a:xfrm>
            <a:off x="5029200" y="1335240"/>
            <a:ext cx="0" cy="3681360"/>
          </a:xfrm>
          <a:prstGeom prst="line">
            <a:avLst/>
          </a:prstGeom>
          <a:ln w="28440">
            <a:solidFill>
              <a:srgbClr val="2a15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5257800" y="2562120"/>
            <a:ext cx="6400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我们的故事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踏上征途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努力拼搏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再别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7240" y="249048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壹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26"/>
          <p:cNvGrpSpPr/>
          <p:nvPr/>
        </p:nvGrpSpPr>
        <p:grpSpPr>
          <a:xfrm>
            <a:off x="7113600" y="1984320"/>
            <a:ext cx="2639880" cy="2600280"/>
            <a:chOff x="7113600" y="1984320"/>
            <a:chExt cx="2639880" cy="2600280"/>
          </a:xfrm>
        </p:grpSpPr>
        <p:sp>
          <p:nvSpPr>
            <p:cNvPr id="74" name="直接连接符 17"/>
            <p:cNvSpPr/>
            <p:nvPr/>
          </p:nvSpPr>
          <p:spPr>
            <a:xfrm>
              <a:off x="731520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" name="Picture 5" descr="C:\Users\lenovo\Desktop\M1.gif"/>
            <p:cNvPicPr/>
            <p:nvPr/>
          </p:nvPicPr>
          <p:blipFill>
            <a:blip r:embed="rId2"/>
            <a:srcRect l="36585" t="27784" r="30253" b="11108"/>
            <a:stretch/>
          </p:blipFill>
          <p:spPr>
            <a:xfrm>
              <a:off x="7113600" y="2273040"/>
              <a:ext cx="2639880" cy="23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组合 21"/>
          <p:cNvGrpSpPr/>
          <p:nvPr/>
        </p:nvGrpSpPr>
        <p:grpSpPr>
          <a:xfrm>
            <a:off x="2514600" y="1984320"/>
            <a:ext cx="2743200" cy="2600280"/>
            <a:chOff x="2514600" y="1984320"/>
            <a:chExt cx="2743200" cy="2600280"/>
          </a:xfrm>
        </p:grpSpPr>
        <p:sp>
          <p:nvSpPr>
            <p:cNvPr id="77" name="直接连接符 18"/>
            <p:cNvSpPr/>
            <p:nvPr/>
          </p:nvSpPr>
          <p:spPr>
            <a:xfrm>
              <a:off x="472464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8" name="Picture 6" descr="C:\Users\lenovo\Desktop\M2.gif"/>
            <p:cNvPicPr/>
            <p:nvPr/>
          </p:nvPicPr>
          <p:blipFill>
            <a:blip r:embed="rId3"/>
            <a:srcRect l="6399" t="19655" r="58133" b="15481"/>
            <a:stretch/>
          </p:blipFill>
          <p:spPr>
            <a:xfrm>
              <a:off x="2514600" y="1984320"/>
              <a:ext cx="2743200" cy="23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extBox 27"/>
          <p:cNvSpPr/>
          <p:nvPr/>
        </p:nvSpPr>
        <p:spPr>
          <a:xfrm>
            <a:off x="5181480" y="4511520"/>
            <a:ext cx="18288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16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81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6400800" y="-169704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31"/>
          <p:cNvGrpSpPr/>
          <p:nvPr/>
        </p:nvGrpSpPr>
        <p:grpSpPr>
          <a:xfrm>
            <a:off x="1143000" y="2057400"/>
            <a:ext cx="10071000" cy="3873600"/>
            <a:chOff x="1143000" y="2057400"/>
            <a:chExt cx="10071000" cy="3873600"/>
          </a:xfrm>
        </p:grpSpPr>
        <p:sp>
          <p:nvSpPr>
            <p:cNvPr id="90" name="TextBox 29"/>
            <p:cNvSpPr/>
            <p:nvPr/>
          </p:nvSpPr>
          <p:spPr>
            <a:xfrm>
              <a:off x="1143000" y="2057400"/>
              <a:ext cx="10058040" cy="1739880"/>
            </a:xfrm>
            <a:prstGeom prst="rect">
              <a:avLst/>
            </a:prstGeom>
            <a:noFill/>
            <a:ln w="936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1500"/>
                  </a:solidFill>
                  <a:latin typeface="Calibri"/>
                </a:rPr>
                <a:t>         </a:t>
              </a:r>
              <a:r>
                <a:rPr b="0" lang="zh-CN" sz="1500" spc="-1" strike="noStrike">
                  <a:solidFill>
                    <a:srgbClr val="2a1500"/>
                  </a:solidFill>
                  <a:latin typeface="Calibri"/>
                </a:rPr>
                <a:t>清晨第一束阳光洒在美丽的地球上，虽然还不够明亮但我能感受到它的能量。坚定自己的信仰，只为共同的梦想！起到有双翅膀 能助我们飞翔。无论多大风多大的浪，前进的方向永远不会迷茫；狂风暴雨再怎么顽强都无法阻挡我们的梦想！有过狼狈的模样，讨厌那种看不起的眼光。昂起头挺胸向前，这是我们的梦想。穿上华丽的衣装，璀璨的灯光站在舞台中央，释放出那撼动身心的力量。看似丑陋的仙人掌，花开却散发着芬香。虽然仅一天可赏，但却难把它的香味遗忘。坚定自己的信仰，只为共同的梦想</a:t>
              </a: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1143000" y="2156040"/>
              <a:ext cx="761760" cy="10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600" spc="-1" strike="noStrike" baseline="-25000">
                  <a:solidFill>
                    <a:srgbClr val="2a1500"/>
                  </a:solidFill>
                  <a:latin typeface="Calibri"/>
                </a:rPr>
                <a:t>当</a:t>
              </a:r>
              <a:endParaRPr b="0" lang="en-US" sz="5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Picture 4" descr="G:\DURING\坐着大妞.png"/>
            <p:cNvPicPr/>
            <p:nvPr/>
          </p:nvPicPr>
          <p:blipFill>
            <a:blip r:embed="rId2"/>
            <a:stretch/>
          </p:blipFill>
          <p:spPr>
            <a:xfrm>
              <a:off x="10147320" y="4030920"/>
              <a:ext cx="1066680" cy="19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组合 30"/>
          <p:cNvGrpSpPr/>
          <p:nvPr/>
        </p:nvGrpSpPr>
        <p:grpSpPr>
          <a:xfrm>
            <a:off x="-609840" y="-476280"/>
            <a:ext cx="10147680" cy="2967120"/>
            <a:chOff x="-609840" y="-476280"/>
            <a:chExt cx="10147680" cy="2967120"/>
          </a:xfrm>
        </p:grpSpPr>
        <p:pic>
          <p:nvPicPr>
            <p:cNvPr id="94" name="Picture 5" descr="C:\Users\lenovo\Desktop\M1.gif"/>
            <p:cNvPicPr/>
            <p:nvPr/>
          </p:nvPicPr>
          <p:blipFill>
            <a:blip r:embed="rId3"/>
            <a:stretch/>
          </p:blipFill>
          <p:spPr>
            <a:xfrm flipH="1">
              <a:off x="-609840" y="-476280"/>
              <a:ext cx="5410440" cy="29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直接连接符 19"/>
            <p:cNvSpPr/>
            <p:nvPr/>
          </p:nvSpPr>
          <p:spPr>
            <a:xfrm>
              <a:off x="2743200" y="560160"/>
              <a:ext cx="0" cy="1443240"/>
            </a:xfrm>
            <a:prstGeom prst="line">
              <a:avLst/>
            </a:prstGeom>
            <a:ln w="28440">
              <a:solidFill>
                <a:srgbClr val="96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组合 28"/>
            <p:cNvGrpSpPr/>
            <p:nvPr/>
          </p:nvGrpSpPr>
          <p:grpSpPr>
            <a:xfrm>
              <a:off x="2743200" y="1065240"/>
              <a:ext cx="6794640" cy="1014120"/>
              <a:chOff x="2743200" y="1065240"/>
              <a:chExt cx="6794640" cy="1014120"/>
            </a:xfrm>
          </p:grpSpPr>
          <p:sp>
            <p:nvSpPr>
              <p:cNvPr id="97" name="TextBox 26"/>
              <p:cNvSpPr/>
              <p:nvPr/>
            </p:nvSpPr>
            <p:spPr>
              <a:xfrm>
                <a:off x="2743200" y="1065240"/>
                <a:ext cx="3505320" cy="10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我们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       </a:t>
                </a:r>
                <a:r>
                  <a:rPr b="0" lang="ja-JP" sz="3700" spc="-1" strike="noStrike">
                    <a:solidFill>
                      <a:srgbClr val="2a1500"/>
                    </a:solidFill>
                    <a:latin typeface="方正艺黑简体"/>
                    <a:ea typeface="方正艺黑简体"/>
                  </a:rPr>
                  <a:t>の</a:t>
                </a: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梦想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TextBox 27"/>
              <p:cNvSpPr/>
              <p:nvPr/>
            </p:nvSpPr>
            <p:spPr>
              <a:xfrm>
                <a:off x="2819160" y="1423080"/>
                <a:ext cx="67186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960000"/>
                    </a:solidFill>
                    <a:latin typeface="Kozuka Mincho Pro B"/>
                    <a:ea typeface="Kozuka Mincho Pro B"/>
                  </a:rPr>
                  <a:t>mèng</a:t>
                </a: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9" name="组合 20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00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34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95320" y="285084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谢谢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9"/>
          <p:cNvGrpSpPr/>
          <p:nvPr/>
        </p:nvGrpSpPr>
        <p:grpSpPr>
          <a:xfrm>
            <a:off x="609480" y="1335240"/>
            <a:ext cx="3810240" cy="3754440"/>
            <a:chOff x="609480" y="1335240"/>
            <a:chExt cx="3810240" cy="3754440"/>
          </a:xfrm>
        </p:grpSpPr>
        <p:pic>
          <p:nvPicPr>
            <p:cNvPr id="109" name="Picture 6" descr="C:\Users\lenovo\Desktop\M2.gif"/>
            <p:cNvPicPr/>
            <p:nvPr/>
          </p:nvPicPr>
          <p:blipFill>
            <a:blip r:embed="rId2"/>
            <a:srcRect l="4646" t="21858" r="62824" b="9275"/>
            <a:stretch/>
          </p:blipFill>
          <p:spPr>
            <a:xfrm>
              <a:off x="609480" y="1335240"/>
              <a:ext cx="3734280" cy="37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直接连接符 18"/>
            <p:cNvSpPr/>
            <p:nvPr/>
          </p:nvSpPr>
          <p:spPr>
            <a:xfrm>
              <a:off x="4419720" y="1623960"/>
              <a:ext cx="0" cy="324972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16"/>
          <p:cNvSpPr/>
          <p:nvPr/>
        </p:nvSpPr>
        <p:spPr>
          <a:xfrm>
            <a:off x="5016600" y="2228760"/>
            <a:ext cx="6718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60000"/>
                </a:solidFill>
                <a:latin typeface="Kozuka Mincho Pro B"/>
                <a:ea typeface="Kozuka Mincho Pro B"/>
              </a:rPr>
              <a:t>Thanks 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1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28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pptbz.com</dc:creator>
  <dc:description/>
  <dc:language>en-US</dc:language>
  <cp:lastModifiedBy>Administrator</cp:lastModifiedBy>
  <dcterms:modified xsi:type="dcterms:W3CDTF">2016-01-07T07:39:4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